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E3D2-2EE7-4F1D-B8FC-2D6F684EA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046C-13D4-4068-A79B-120354323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A5CD-D622-4543-A753-535EF4191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157E-6898-4946-BCE5-D78B52EC1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A6B33-3685-4246-A761-3B2BED551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2CD04-BDCA-44CD-8D40-21B76E7DD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E97A0-2A68-4492-90AE-E8EFC47A9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5FE2E-1BFE-4205-BD1B-41FCBDE12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41584-CE10-47CC-B7BD-62ACC42D1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A392E-54FA-4270-A566-B701B4B17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05A51-DCFB-4E44-9856-ACDBFF688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A266-B874-4B2F-B23D-08509BB1E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F14CE-59E3-4848-93FF-EC7604E1B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EA9EB-22C4-4B14-B552-0A2DA7795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19662-B61E-4800-9E7F-3A6969914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1B2F6-AEE9-46F7-9521-1BCACC30E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52964-5D94-4A46-BC69-423506E74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FB1A-BD18-4311-874F-782E97FC8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84B6-3E74-48A6-8AD3-EA476CF27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8933-E58F-4980-99FE-69779B366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A53E-D656-4AEC-ACE8-7BCB1A47F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0F67-1F34-4006-9E7B-EFB1C9074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272D-D582-4499-BC9D-54DA6FA0C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6C1F-377E-48F6-B6BE-816BD4A08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FF813-4A70-4198-A9A7-9A098FB2516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D7898-ECAC-41B2-A423-12525FCFD17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2a31"/>
            </a:gs>
            <a:gs pos="50000">
              <a:srgbClr val="5a5c6c"/>
            </a:gs>
            <a:gs pos="100000">
              <a:srgbClr val="292a3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755640" y="2349360"/>
            <a:ext cx="79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cc"/>
                </a:solidFill>
                <a:latin typeface="Arial"/>
              </a:rPr>
              <a:t>Электронный учебник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cc"/>
                </a:solidFill>
                <a:latin typeface="Arial"/>
              </a:rPr>
              <a:t>по Электростатик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В настройках предлагается выбрать цвет поля, где находиться теоретический материал, Настроить его можно по палитре </a:t>
            </a: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RGB</a:t>
            </a: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. Также есть встроенный проигрыватель, через который можно прослушивать не выходя из программы </a:t>
            </a: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любую музыку.  </a:t>
            </a:r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0" y="4797360"/>
            <a:ext cx="2556000" cy="22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ример справк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2620800" y="3076560"/>
            <a:ext cx="6523200" cy="378144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2"/>
          <a:stretch/>
        </p:blipFill>
        <p:spPr>
          <a:xfrm>
            <a:off x="0" y="1125360"/>
            <a:ext cx="4086360" cy="34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Итог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78920" y="3573360"/>
            <a:ext cx="8541000" cy="19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Здесь представлена альфа-версия учебника,     далее он будет обновляться и расширятс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ак же будет больше уделено внимание на дизайн и удобство обращени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"/>
          <p:cNvSpPr/>
          <p:nvPr/>
        </p:nvSpPr>
        <p:spPr>
          <a:xfrm>
            <a:off x="250920" y="1413000"/>
            <a:ext cx="854064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анный учебник направлен на самостоятельное обучение предмета, но так же может использоваться и учебных учреждения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743280" y="649116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езентацию подготовил Слободенюк Валер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Авторы работы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Слободенюк Валер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Миронов Вади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Боровых Михаи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"/>
          <p:cNvSpPr/>
          <p:nvPr/>
        </p:nvSpPr>
        <p:spPr>
          <a:xfrm>
            <a:off x="2414520" y="3860640"/>
            <a:ext cx="440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Научный руководитель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24000" y="4581360"/>
            <a:ext cx="84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Шевкунова Любовь Яковлев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Цели работы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854064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fa9b7"/>
                </a:solidFill>
                <a:latin typeface="Tahoma"/>
              </a:rPr>
              <a:t>Создание удобного в использовании электронного учебника по физике, с помощью, которого можно будет легко подготовиться к экзамену и повторить пройдённый материа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fa9b7"/>
                </a:solidFill>
                <a:latin typeface="Tahoma"/>
              </a:rPr>
              <a:t>Закрепление и расширение знаний полученных на уроках информатики в среде </a:t>
            </a:r>
            <a:r>
              <a:rPr b="0" lang="en-US" sz="2400" spc="-1" strike="noStrike">
                <a:solidFill>
                  <a:srgbClr val="6fa9b7"/>
                </a:solidFill>
                <a:latin typeface="Tahoma"/>
              </a:rPr>
              <a:t>Visual Basic 6.0</a:t>
            </a:r>
            <a:r>
              <a:rPr b="0" lang="ru-RU" sz="2400" spc="-1" strike="noStrike">
                <a:solidFill>
                  <a:srgbClr val="6fa9b7"/>
                </a:solidFill>
                <a:latin typeface="Tahoma"/>
              </a:rPr>
              <a:t>, физики теоретической и практической ча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fa9b7"/>
                </a:solidFill>
                <a:latin typeface="Tahoma"/>
              </a:rPr>
              <a:t>Закрепление знаний в программной среде </a:t>
            </a:r>
            <a:r>
              <a:rPr b="0" lang="en-US" sz="2400" spc="-1" strike="noStrike">
                <a:solidFill>
                  <a:srgbClr val="6fa9b7"/>
                </a:solidFill>
                <a:latin typeface="Tahoma"/>
              </a:rPr>
              <a:t>PowerPoint</a:t>
            </a:r>
            <a:r>
              <a:rPr b="0" lang="ru-RU" sz="2400" spc="-1" strike="noStrike">
                <a:solidFill>
                  <a:srgbClr val="6fa9b7"/>
                </a:solidFill>
                <a:latin typeface="Tahoma"/>
              </a:rPr>
              <a:t>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Tahoma"/>
              </a:rPr>
              <a:t>Актуальность работы и возможность практического применения: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fa9b7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6fa9b7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6fa9b7"/>
                </a:solidFill>
                <a:latin typeface="Tahoma"/>
              </a:rPr>
              <a:t>При создании учебника были использованы достаточно современные компьютерные программы и технологии. При помощи этих технологии мы смогли в небольшом объеме уместить довольно большой материал для повторения и углубленного изучения. Мы  решили использовать эти программы  для одного из школьных предметов – физика(Раздел «Электростатика»). В нашей программе содержатся  различные рисунки, таблицы - которые более понятно смогут отобразить материал учебника и понять его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Были использованы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fa9b7"/>
                </a:solidFill>
                <a:latin typeface="Tahoma"/>
              </a:rPr>
              <a:t>Visual Basic 6.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fa9b7"/>
                </a:solidFill>
                <a:latin typeface="Tahoma"/>
              </a:rPr>
              <a:t>PowerPoi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fa9b7"/>
                </a:solidFill>
                <a:latin typeface="Tahoma"/>
              </a:rPr>
              <a:t>FL Studio 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fa9b7"/>
                </a:solidFill>
                <a:latin typeface="Tahoma"/>
              </a:rPr>
              <a:t>PhotoStudio 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fa9b7"/>
                </a:solidFill>
                <a:latin typeface="Tahoma"/>
              </a:rPr>
              <a:t>Различная справочна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fa9b7"/>
                </a:solidFill>
                <a:latin typeface="Tahoma"/>
              </a:rPr>
              <a:t>литерату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-396720" y="-243000"/>
            <a:ext cx="9751680" cy="731376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250920" y="765000"/>
            <a:ext cx="5689440" cy="503280"/>
          </a:xfrm>
          <a:prstGeom prst="rightArrow">
            <a:avLst>
              <a:gd name="adj1" fmla="val 50000"/>
              <a:gd name="adj2" fmla="val 282618"/>
            </a:avLst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Tahoma"/>
              </a:rPr>
              <a:t>Здесь находиться теоретический материал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50920" y="1341360"/>
            <a:ext cx="5689440" cy="503280"/>
          </a:xfrm>
          <a:prstGeom prst="rightArrow">
            <a:avLst>
              <a:gd name="adj1" fmla="val 50000"/>
              <a:gd name="adj2" fmla="val 282618"/>
            </a:avLst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Tahoma"/>
              </a:rPr>
              <a:t>Здесь тест на каждую из тем, для проверки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50920" y="1916280"/>
            <a:ext cx="5689440" cy="502920"/>
          </a:xfrm>
          <a:prstGeom prst="rightArrow">
            <a:avLst>
              <a:gd name="adj1" fmla="val 50000"/>
              <a:gd name="adj2" fmla="val 282820"/>
            </a:avLst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Tahoma"/>
              </a:rPr>
              <a:t>Ответы на тест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50920" y="2565360"/>
            <a:ext cx="5616360" cy="50328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Tahoma"/>
              </a:rPr>
              <a:t>Ответы появляются только в том случае, если тест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Tahoma"/>
              </a:rPr>
              <a:t>был  пройден не менее чем на оценку 3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50920" y="3141720"/>
            <a:ext cx="5689440" cy="503280"/>
          </a:xfrm>
          <a:prstGeom prst="rightArrow">
            <a:avLst>
              <a:gd name="adj1" fmla="val 50000"/>
              <a:gd name="adj2" fmla="val 282618"/>
            </a:avLst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Tahoma"/>
              </a:rPr>
              <a:t>Итоговый тест и различные данные в виде таблиц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3860640"/>
            <a:ext cx="5689440" cy="503280"/>
          </a:xfrm>
          <a:prstGeom prst="rightArrow">
            <a:avLst>
              <a:gd name="adj1" fmla="val 50000"/>
              <a:gd name="adj2" fmla="val 282618"/>
            </a:avLst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Tahoma"/>
              </a:rPr>
              <a:t>Авторы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50920" y="4437000"/>
            <a:ext cx="5689440" cy="503280"/>
          </a:xfrm>
          <a:prstGeom prst="rightArrow">
            <a:avLst>
              <a:gd name="adj1" fmla="val 50000"/>
              <a:gd name="adj2" fmla="val 282618"/>
            </a:avLst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Tahoma"/>
              </a:rPr>
              <a:t>Справка о том, как пользоваться учебнико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50920" y="5084640"/>
            <a:ext cx="5689440" cy="503280"/>
          </a:xfrm>
          <a:prstGeom prst="rightArrow">
            <a:avLst>
              <a:gd name="adj1" fmla="val 50000"/>
              <a:gd name="adj2" fmla="val 282618"/>
            </a:avLst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Tahoma"/>
              </a:rPr>
              <a:t>Настройка учебник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4572000" y="-360"/>
            <a:ext cx="457200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ри нажатии кнопки теоретический материал, появляется окно, где нужно выбрать тему, после чего, Появляется нужное окно с информацие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1744560" y="2048040"/>
            <a:ext cx="7399440" cy="480996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2"/>
          <a:stretch/>
        </p:blipFill>
        <p:spPr>
          <a:xfrm>
            <a:off x="-396720" y="581040"/>
            <a:ext cx="5209920" cy="627696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250920" y="1341360"/>
            <a:ext cx="388944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067280" y="1484280"/>
            <a:ext cx="865080" cy="72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78920" y="-360"/>
            <a:ext cx="85410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При нажатии кнопки тесты, появляется окно с тестом, когда тес пройден, то </a:t>
            </a:r>
            <a:br>
              <a:rPr sz="1800"/>
            </a:b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выводиться оценка и если она выше 3, то и пароль на верные ответы. </a:t>
            </a:r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1906560" y="765000"/>
            <a:ext cx="7237440" cy="514836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2"/>
          <a:stretch/>
        </p:blipFill>
        <p:spPr>
          <a:xfrm>
            <a:off x="0" y="765000"/>
            <a:ext cx="3108240" cy="595008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3"/>
          <a:stretch/>
        </p:blipFill>
        <p:spPr>
          <a:xfrm>
            <a:off x="3132000" y="4210200"/>
            <a:ext cx="4762800" cy="264780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3132000" y="4149720"/>
            <a:ext cx="4753080" cy="2708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2916360" cy="19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В дополнениях к примеру, находится 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итоговый тест по всему материалу учебника. 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2971800" cy="89532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2987640" y="404640"/>
            <a:ext cx="3467160" cy="254340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3"/>
          <a:stretch/>
        </p:blipFill>
        <p:spPr>
          <a:xfrm>
            <a:off x="0" y="3009960"/>
            <a:ext cx="6564240" cy="384804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6588000" y="2997360"/>
            <a:ext cx="2556000" cy="38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В справке подробно описывается, как 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Необходимо пользоваться различными 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Частями учебник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5T12:29:07Z</dcterms:created>
  <dc:creator>Валерий</dc:creator>
  <dc:description/>
  <dc:language>en-US</dc:language>
  <cp:lastModifiedBy>Пользователь</cp:lastModifiedBy>
  <dcterms:modified xsi:type="dcterms:W3CDTF">2003-01-24T09:01:37Z</dcterms:modified>
  <cp:revision>9</cp:revision>
  <dc:subject/>
  <dc:title>Слайд 1</dc:title>
</cp:coreProperties>
</file>