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B0E-BC63-45AF-8B9C-051CECFA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738-C77F-42B0-B709-D015384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137-72DE-4E5B-B79F-61355CD6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A77-7A8C-4AC3-B16B-66703819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1DD-C7F5-408E-A673-4656FD5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AE4-1615-4F82-AD3F-6FB0A6C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4A4-498D-4C8A-91FB-7F673A01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88B-120B-426B-B64C-9E8D5C9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425-02CD-4430-B77F-92F4E5D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D45-8958-4D50-8DD3-609A548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448-6075-4859-BCFE-C3AC100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79D-A937-4435-AF21-4A327D0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3D0-475B-45C5-82C7-C87E672DDC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ТЕОРИЯ БОЛЬШОГО ВЗРЫ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292640"/>
            <a:ext cx="6913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Проект по физи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Месяца Алексея,  Лебедева Андре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Гойхбурга Дениса, Бабаева Алекс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и Николая Фро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Москва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Гамов Георгий Антонович</a:t>
            </a:r>
            <a:br>
              <a:rPr sz="3000"/>
            </a:b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1904-1968</a:t>
            </a:r>
            <a:br>
              <a:rPr sz="3000"/>
            </a:b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Гамов доказал, папа-атом не просто вдруг начал расширяться во всю Вселенную (так называемая "холодная модель"), он должен был взорваться. Модель эту он называет "</a:t>
            </a: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Big Bang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' ом" (очень простонародное по тому времени отношении к иностранному языку), Большим Взрывом, и излагает ее сначала в заметке 1946 года, а потом статье 1948 года "Происхождение химических элементов", написанной вместе с учеником Ральфом Альфе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2549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Главный вопрос  в теориях Гамова был следующий: если такой взрыв имел место быть, то уже на довольно ранних стадиях должно было возникнуть пронизывающее весь мир электромагнитное излучение, распределение которого должно было соответствовать температуре в момент излучения (многие миллиарды градусов). Но по мере расширения Вселенной частоты этого первичного (его назвали "реликтовым") излучения должны были вследствие эффекта Доплера убывать, и к настоящему времени, по оценкам Гамова, соответствовать температуре около трех-четырех градусов по Кельвину, т.е. быть сосредоточены в районе длин волн в несколько санти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В 1965 году А.Пензиас и Р.Вильсон, конструировавшие антенны для радиоэлектроники, обнаруживают равномерно идущее во всех направлениях электромагнитное излучение, соответствующее температуре в 3 Кельвина! Как выяснилось, это вовсе не сбой аппаратуры, а именно то излучение, о котором говорил Гамов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Но Нобелевскую премию Дали Пензиасу и Вильсону, а не Гамо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Данные от зонда </a:t>
            </a:r>
            <a:r>
              <a:rPr b="0" lang="en-US" sz="2500" spc="-1" strike="noStrike">
                <a:solidFill>
                  <a:srgbClr val="ffff00"/>
                </a:solidFill>
                <a:latin typeface="Impact"/>
              </a:rPr>
              <a:t>NASA</a:t>
            </a: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 - </a:t>
            </a:r>
            <a:r>
              <a:rPr b="0" lang="en-US" sz="2500" spc="-1" strike="noStrike">
                <a:solidFill>
                  <a:srgbClr val="ffff00"/>
                </a:solidFill>
                <a:latin typeface="Impact"/>
              </a:rPr>
              <a:t>WMAP</a:t>
            </a: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, который завис в точке Лагранжа (точке гравитационного равновесия Солнца и Земли) на расстоянии 1,5 млн. км от нас. Полученная "картинка" фактически представляет собой снимок послесвечения  Большого взрыва, образованный распределением температуры космического микроволнового фон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692280"/>
          <a:ext cx="77724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7724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724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Хоукинг Стивен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р.1942</a:t>
            </a:r>
            <a:br>
              <a:rPr sz="4000"/>
            </a:b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На сегодняшний день теория в последствии была много раз интерпретирована, переложена и дополнена многими учеными. Основной вклад в решении проблем Теории Большого Взрыва внес Стивен Хоукинг, причем вклад не теоретический, а весьма практический – более двух тысяч страниц вычислений и уравнений, посвященных описанию появления частиц и галактик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981000"/>
          <a:ext cx="31226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3122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ЧАСТЬ </a:t>
            </a: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Теория Большого Взры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Теория большого взры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4292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Время – 13-20 млрд. лет наза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Изначальная плотность -10 </a:t>
            </a:r>
            <a:r>
              <a:rPr b="0" lang="ru-RU" sz="3200" spc="-1" strike="noStrike" baseline="30000">
                <a:solidFill>
                  <a:srgbClr val="ffff00"/>
                </a:solidFill>
                <a:latin typeface="Impact"/>
              </a:rPr>
              <a:t>97</a:t>
            </a: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 кг/м </a:t>
            </a:r>
            <a:r>
              <a:rPr b="0" lang="ru-RU" sz="3200" spc="-1" strike="noStrike" baseline="30000">
                <a:solidFill>
                  <a:srgbClr val="ffff00"/>
                </a:solidFill>
                <a:latin typeface="Impact"/>
              </a:rPr>
              <a:t>3</a:t>
            </a: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Объем «папы-атома» был бесконечно м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496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Понижение температуры </a:t>
            </a: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T </a:t>
            </a: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 в зависимости от времени </a:t>
            </a: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t</a:t>
            </a:r>
            <a:r>
              <a:rPr b="0" lang="ru-RU" sz="2400" spc="-1" strike="noStrike">
                <a:solidFill>
                  <a:srgbClr val="ffff00"/>
                </a:solidFill>
                <a:latin typeface="Impact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2421000"/>
            <a:ext cx="5040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Для того чтобы фотон превратился (материализовался) в частицу и античастицу с массой m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Impact"/>
              </a:rPr>
              <a:t>o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 и энергией покоя m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Impact"/>
              </a:rPr>
              <a:t>o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c</a:t>
            </a:r>
            <a:r>
              <a:rPr b="0" lang="ru-RU" sz="2000" spc="-1" strike="noStrike" baseline="30000">
                <a:solidFill>
                  <a:srgbClr val="ffff00"/>
                </a:solidFill>
                <a:latin typeface="Impact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,  ему необходимо обладать энергией 2 m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Impact"/>
              </a:rPr>
              <a:t>o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c</a:t>
            </a:r>
            <a:r>
              <a:rPr b="0" lang="ru-RU" sz="2000" spc="-1" strike="noStrike" baseline="30000">
                <a:solidFill>
                  <a:srgbClr val="ffff00"/>
                </a:solidFill>
                <a:latin typeface="Impact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292720" y="260280"/>
                <a:ext cx="3527280" cy="19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508720" y="2421000"/>
                <a:ext cx="32400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v</m:t>
                    </m:r>
                    <m:r>
                      <m:t xml:space="preserve">≥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4365720"/>
            <a:ext cx="504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В предыдущем соотношении можно заменить энергию фотонов hn кинетической энергией частиц 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Impact"/>
              </a:rPr>
              <a:t>Ил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932360" y="3573360"/>
                <a:ext cx="36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≥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932360" y="4437000"/>
                <a:ext cx="38163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ервы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728720" cy="70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76720" y="1989000"/>
            <a:ext cx="1942920" cy="6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2664000" cy="86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2735280" cy="601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500720" y="3284640"/>
            <a:ext cx="381636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427640" y="4581360"/>
            <a:ext cx="381636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826920" y="4581360"/>
            <a:ext cx="3313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Развитие Вселенной</a:t>
            </a:r>
            <a:r>
              <a:rPr b="0" lang="en-US" sz="3000" spc="-1" strike="noStrike">
                <a:solidFill>
                  <a:srgbClr val="ffff00"/>
                </a:solidFill>
                <a:latin typeface="Impact"/>
              </a:rPr>
              <a:t>: </a:t>
            </a: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догалактический перио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981000"/>
          <a:ext cx="8569080" cy="5616720"/>
        </p:xfrm>
        <a:graphic>
          <a:graphicData uri="http://schemas.openxmlformats.org/drawingml/2006/table">
            <a:tbl>
              <a:tblPr/>
              <a:tblGrid>
                <a:gridCol w="2041200"/>
                <a:gridCol w="1436760"/>
                <a:gridCol w="1401840"/>
                <a:gridCol w="36892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 после Большого Взр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арактерные температуры (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арактерные расстояния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тап/ Собы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3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gt;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вантовый хаос. Суперсимметрия (объединение всех взаимодействи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3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ланковский момент. Отделение гравитационного взаимо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3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6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3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еликое объединение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электрослабого и сильного взаимодействи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6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онец Великого объединения. Разделение сильного и электро-слабого взаимодейств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6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9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нфляция. Возникновение асимметрии между веществом и антивеществ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онец электрослабого объедин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варк-адронный фазовый перех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68360" y="1916280"/>
          <a:ext cx="8351280" cy="4681080"/>
        </p:xfrm>
        <a:graphic>
          <a:graphicData uri="http://schemas.openxmlformats.org/drawingml/2006/table">
            <a:tbl>
              <a:tblPr/>
              <a:tblGrid>
                <a:gridCol w="1990080"/>
                <a:gridCol w="1398600"/>
                <a:gridCol w="1368000"/>
                <a:gridCol w="35946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дронная эра. Рождение и аннигиляция адронов и лепт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10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ептонная эра. Рождение и аннигиляция лепт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.1 - 1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·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тделение нейтрино. Вселенная становится прозрачной для нейтрино (антинейтрин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~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звездный синтез гел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 с 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диационная эра. Доминирование излучения над веществ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чало эры Вещества. Вещество начинает доминировать над излуч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0 00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·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деление вещества и излучения. Вселенная становится прозрачной для излу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84360" y="765000"/>
          <a:ext cx="7775280" cy="968400"/>
        </p:xfrm>
        <a:graphic>
          <a:graphicData uri="http://schemas.openxmlformats.org/drawingml/2006/table">
            <a:tbl>
              <a:tblPr/>
              <a:tblGrid>
                <a:gridCol w="1871640"/>
                <a:gridCol w="1295280"/>
                <a:gridCol w="1257120"/>
                <a:gridCol w="335124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 после Большого Взр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арактерные температуры (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арактерные расстояния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тап/ Собы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РО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ЧАСТЬ </a:t>
            </a: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роблемы Теории Большого Взры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Проблемы Теории Большого Взрыв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Отсутствие решения вопроса сингуляр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781360"/>
            <a:ext cx="84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Отсутствие объяснения образования планетарных систем и галакт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16280"/>
            <a:ext cx="7772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005360"/>
            <a:ext cx="842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Проблема «недостающей масс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653000"/>
            <a:ext cx="820404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Необъективность квантовой физики при рассмотрения вселенских процес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Современная космология имеет три пути решения проблем Теории Большого Взрыв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Полностью отказаться от Теории Большого Взры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Использовать для развития Теории огромное количество человеческих, машинных и денежных ресур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Найти принципиально новую (и достоверную) альтернативу, представляющую собой измененный вариант Теории Большого Взры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ЧАСТЬ </a:t>
            </a: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Дальнейшее развитие Вселен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    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0" lang="ru-RU" sz="1700" spc="-1" strike="noStrike">
                <a:solidFill>
                  <a:srgbClr val="ffff00"/>
                </a:solidFill>
                <a:latin typeface="Impact"/>
              </a:rPr>
              <a:t>Можно указать три разные модели, для которых выполняются оба фундаментальных предположения Фридмана. В модели первого типа (открытой самим Фридманом) Вселенная расширяется достаточно медленно для того, чтобы в силу гравитационного притяжения между различными галактиками расширение Вселенной замедлялось и в конце концов прекращалось. После этого галактики начинают приближаться друг к другу, и Вселенная начинает сжиматься. На рис. 1 показано, как меняется со временем расстояние между двумя соседними галактиками. Оно возрастает от нуля до некоего максимума, а потом опять падает до нуля. В модели второго типа расширение Вселенной происходит так быстро, что гравитационное притяжение хоть и замедляет расширение, не может его остановить. На рис. 2 показано, как изменяется в этой модели расстояние между галактиками. Кривая выходит из нуля, а в конце концов галактики удаляются друг от друга с постоянной скоростью. Есть, наконец, и модель третьего типа, в которой скорость расширения Вселенной только-только достаточна для того, чтобы избежать сжатия до нуля (коллапса). В этом случае расстояние между галактиками тоже сначала равно нулю (рис. 3), а потом все время возрастает. Правда, галактики «разбегаются» все с меньшей и меньшей скоростью, но она никогда не падает до нуля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05320" y="0"/>
            <a:ext cx="38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435280" y="189000"/>
            <a:ext cx="352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Impact"/>
              </a:rPr>
              <a:t>Сверхновые звезды, как эта в скоплении галактик в Деве, помогают измерять космическое расширение. Их наблюдаемые свойства исключают альтернативные космологические теории, в которых пространство не расширя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ipoteza" descr="Сверхновые звезды, как эта в скоплении галактик в Деве, помогают измерять космическое расширение. Их наблюдаемые свойства исключают альтернативные космологические теории, в которых пространство не расширяется."/>
          <p:cNvPicPr/>
          <p:nvPr/>
        </p:nvPicPr>
        <p:blipFill>
          <a:blip r:embed="rId1"/>
          <a:stretch/>
        </p:blipFill>
        <p:spPr>
          <a:xfrm>
            <a:off x="179280" y="790560"/>
            <a:ext cx="5470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Типы теорий дальнейшего развития Вселен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9280" y="2319480"/>
            <a:ext cx="8748360" cy="3193920"/>
            <a:chOff x="179280" y="2319480"/>
            <a:chExt cx="8748360" cy="3193920"/>
          </a:xfrm>
        </p:grpSpPr>
        <p:cxnSp>
          <p:nvCxnSpPr>
            <p:cNvPr id="113" name="_s57397"/>
            <p:cNvCxnSpPr>
              <a:stCxn id="114" idx="0"/>
              <a:endCxn id="115" idx="2"/>
            </p:cNvCxnSpPr>
            <p:nvPr/>
          </p:nvCxnSpPr>
          <p:spPr>
            <a:xfrm flipV="1">
              <a:off x="3386880" y="414756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57395"/>
            <p:cNvCxnSpPr>
              <a:stCxn id="115" idx="3"/>
              <a:endCxn id="117" idx="2"/>
            </p:cNvCxnSpPr>
            <p:nvPr/>
          </p:nvCxnSpPr>
          <p:spPr>
            <a:xfrm flipV="1">
              <a:off x="4261680" y="3462120"/>
              <a:ext cx="29196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57393"/>
            <p:cNvCxnSpPr>
              <a:stCxn id="119" idx="1"/>
              <a:endCxn id="120" idx="2"/>
            </p:cNvCxnSpPr>
            <p:nvPr/>
          </p:nvCxnSpPr>
          <p:spPr>
            <a:xfrm rot="10800000">
              <a:off x="5720040" y="4826880"/>
              <a:ext cx="29196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57383"/>
            <p:cNvCxnSpPr>
              <a:stCxn id="120" idx="0"/>
              <a:endCxn id="122" idx="2"/>
            </p:cNvCxnSpPr>
            <p:nvPr/>
          </p:nvCxnSpPr>
          <p:spPr>
            <a:xfrm flipH="1" flipV="1" rot="5400000">
              <a:off x="6188760" y="3678840"/>
              <a:ext cx="229320" cy="116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57381"/>
            <p:cNvCxnSpPr>
              <a:stCxn id="122" idx="3"/>
              <a:endCxn id="124" idx="2"/>
            </p:cNvCxnSpPr>
            <p:nvPr/>
          </p:nvCxnSpPr>
          <p:spPr>
            <a:xfrm flipV="1">
              <a:off x="7761240" y="3462120"/>
              <a:ext cx="29196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57377"/>
            <p:cNvCxnSpPr>
              <a:stCxn id="126" idx="0"/>
              <a:endCxn id="127" idx="2"/>
            </p:cNvCxnSpPr>
            <p:nvPr/>
          </p:nvCxnSpPr>
          <p:spPr>
            <a:xfrm flipV="1">
              <a:off x="1054080" y="414756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57373"/>
            <p:cNvCxnSpPr>
              <a:stCxn id="127" idx="3"/>
              <a:endCxn id="129" idx="2"/>
            </p:cNvCxnSpPr>
            <p:nvPr/>
          </p:nvCxnSpPr>
          <p:spPr>
            <a:xfrm flipV="1">
              <a:off x="1928880" y="3462120"/>
              <a:ext cx="29196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57357"/>
            <p:cNvCxnSpPr>
              <a:stCxn id="124" idx="0"/>
              <a:endCxn id="131" idx="2"/>
            </p:cNvCxnSpPr>
            <p:nvPr/>
          </p:nvCxnSpPr>
          <p:spPr>
            <a:xfrm flipV="1" rot="16200000">
              <a:off x="6188040" y="1140480"/>
              <a:ext cx="229320" cy="349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57356"/>
            <p:cNvCxnSpPr>
              <a:stCxn id="117" idx="0"/>
              <a:endCxn id="131" idx="2"/>
            </p:cNvCxnSpPr>
            <p:nvPr/>
          </p:nvCxnSpPr>
          <p:spPr>
            <a:xfrm flipV="1">
              <a:off x="4553280" y="277596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57355"/>
            <p:cNvCxnSpPr>
              <a:stCxn id="129" idx="0"/>
              <a:endCxn id="131" idx="2"/>
            </p:cNvCxnSpPr>
            <p:nvPr/>
          </p:nvCxnSpPr>
          <p:spPr>
            <a:xfrm flipH="1" flipV="1" rot="5400000">
              <a:off x="3272400" y="1724040"/>
              <a:ext cx="229320" cy="233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57351"/>
            <p:cNvSpPr/>
            <p:nvPr/>
          </p:nvSpPr>
          <p:spPr>
            <a:xfrm>
              <a:off x="3678480" y="23194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се теори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57352"/>
            <p:cNvSpPr/>
            <p:nvPr/>
          </p:nvSpPr>
          <p:spPr>
            <a:xfrm>
              <a:off x="1345680" y="30052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лассическ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57353"/>
            <p:cNvSpPr/>
            <p:nvPr/>
          </p:nvSpPr>
          <p:spPr>
            <a:xfrm>
              <a:off x="3678480" y="30052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00"/>
                  </a:solidFill>
                  <a:latin typeface="Times New Roman"/>
                </a:rPr>
                <a:t>Инновацион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57354"/>
            <p:cNvSpPr/>
            <p:nvPr/>
          </p:nvSpPr>
          <p:spPr>
            <a:xfrm>
              <a:off x="7178040" y="30052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cc33"/>
                  </a:solidFill>
                  <a:latin typeface="Times New Roman"/>
                </a:rPr>
                <a:t>Альтернатив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57372"/>
            <p:cNvSpPr/>
            <p:nvPr/>
          </p:nvSpPr>
          <p:spPr>
            <a:xfrm>
              <a:off x="179280" y="36910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рактическ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57376"/>
            <p:cNvSpPr/>
            <p:nvPr/>
          </p:nvSpPr>
          <p:spPr>
            <a:xfrm>
              <a:off x="179280" y="4376880"/>
              <a:ext cx="1749600" cy="4507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еоретическ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57380"/>
            <p:cNvSpPr/>
            <p:nvPr/>
          </p:nvSpPr>
          <p:spPr>
            <a:xfrm>
              <a:off x="6011640" y="36910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cc33"/>
                  </a:solidFill>
                  <a:latin typeface="Times New Roman"/>
                </a:rPr>
                <a:t>Религиоз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57382"/>
            <p:cNvSpPr/>
            <p:nvPr/>
          </p:nvSpPr>
          <p:spPr>
            <a:xfrm>
              <a:off x="4844880" y="4376880"/>
              <a:ext cx="1749600" cy="450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cc33"/>
                  </a:solidFill>
                  <a:latin typeface="Times New Roman"/>
                </a:rPr>
                <a:t>Мистические, эзотерическ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57392"/>
            <p:cNvSpPr/>
            <p:nvPr/>
          </p:nvSpPr>
          <p:spPr>
            <a:xfrm>
              <a:off x="6011640" y="5056200"/>
              <a:ext cx="17478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cc33"/>
                  </a:solidFill>
                  <a:latin typeface="Times New Roman"/>
                </a:rPr>
                <a:t>Псевдонауч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57394"/>
            <p:cNvSpPr/>
            <p:nvPr/>
          </p:nvSpPr>
          <p:spPr>
            <a:xfrm>
              <a:off x="2512080" y="3691080"/>
              <a:ext cx="174960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00"/>
                  </a:solidFill>
                  <a:latin typeface="Times New Roman"/>
                </a:rPr>
                <a:t>На основе других теори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57396"/>
            <p:cNvSpPr/>
            <p:nvPr/>
          </p:nvSpPr>
          <p:spPr>
            <a:xfrm>
              <a:off x="2512080" y="4376880"/>
              <a:ext cx="1749600" cy="45072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00"/>
                  </a:solidFill>
                  <a:latin typeface="Times New Roman"/>
                </a:rPr>
                <a:t>Полностью оригиналь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ЭПИ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Факты, твердо и навсегда установленные и доказанные Теорией Большого Взрыв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В момент "рождения" вся материя вселенной была сконцентрирована в одной точке, которая имела бесконечной большую массу и бесконечно малый объ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В результате расширения (или взрыва) этой точки начали образовываться сначала элементарные частицы, а потом – первые материальные макрот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Факты, доказывающие Теорию Большого Взрыва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Удаление друг от друга галактик, со скоростями все большими, чем дальше они друг от друга отстоят, которое открыл Хабб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Реликтовое излучение, открытое Пензиасом и Вильсон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Математические расчеты формирования веществ, выведенные С. Хоукингом и другими математик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Общая теория относительности Эйнштей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1483920"/>
            <a:ext cx="799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"Мы надеемся уложить все мироздание в простую и короткую формулу, которую можно будет печатать на майках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Impact"/>
              </a:rPr>
              <a:t>Л.Лердм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Основные задачи космологии можно сформулировать как ответы на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742840"/>
            <a:ext cx="77724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Что было, когда Вселенная рождала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Как давно это было и как происходил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Рождалась ли Вселенная вообще или она глобально стационар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Все попытки создать физическую модель происхождения Вселенной основаны на трех постулатах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Все явления природы могут быть исчерпывающе описаны физическими законами, выраженными в математической форм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Эти физические законы универсальны и не зависят от времени и ме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Impact"/>
              </a:rPr>
              <a:t>Все основные законы природы прост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ЧАСТЬ </a:t>
            </a: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Создание Теории Большого Взры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Фридман Александр Александрович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Impact"/>
              </a:rPr>
              <a:t>1888-1925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Impact"/>
              </a:rPr>
              <a:t>Фридман в 1922-1924 и Жорж Леметр в 1927 г. сумели доказать, что уравнения Эйнштейна допускают и такое решение: первоначально вся Вселенная была сосредоточенна в одной точке, (названной условно "папой-атомом") а затем начинает расширяться, и так появляются галактики и звезды в ни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2473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6012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Хаббл Эдвин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Impact"/>
              </a:rPr>
              <a:t>1899-1853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В 1929 году сумел подтвердить на практике теории Фридмана и Леметра.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Impact"/>
              </a:rPr>
              <a:t>Однако это удалось сделать в 1929 году выдающемуся астроному Эдвину Хабблу. Своими тщательными измерениями он доказал, что давно известные туманности, ранее считавшиеся всего лишь облаками газа, на самом деле являются галактиками. И что самое интересное, эти галактики движутся, удаляясь от нас со скоростями, тем большими, чем дальше они отстоят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76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1640" y="836280"/>
            <a:ext cx="4389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Impact"/>
              </a:rPr>
              <a:t>Неправильная галактика Сигара в созвездии Большая Медведица (M82) (наверху) и спиральная галактика в созвездии Треугольник (M33) (внизу), которые ошибочно принимали за туманности в начале ХХ века до того, как Хаббла доказал, что на самомо деле это галктики. (фото сделано позднее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809880" cy="237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38098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 Месяц</cp:lastModifiedBy>
  <dcterms:modified xsi:type="dcterms:W3CDTF">2006-01-28T19:55:54Z</dcterms:modified>
  <cp:revision>42</cp:revision>
  <dc:subject/>
  <dc:title>PowerPoint Presentation</dc:title>
</cp:coreProperties>
</file>