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97DE3-D344-43FD-9AD4-1E08C8146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D83DA-E751-4634-8967-EE59CBF56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820BE-0B6C-4D62-B66C-51505C061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108E1-7580-4448-80ED-BED11E4F0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C933B-A42B-4A75-9635-BFD68D479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A6D1A-E3D0-4C0D-8EF2-E837075AA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D34F7-182A-436E-BA3C-0B5620D68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35D0D-8D7F-4D36-8878-71320DFF7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379F6-783D-41E4-A04E-A2831B832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D015B-CA38-4C3D-8EED-1318F6C37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6DFB6-8AB4-4405-AB21-4A7F960EE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CA440-1A9E-4CAE-88B5-3A8BB59F5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E2D11-397B-4B2A-B1D7-B9358BEE7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849FD-0A95-45C1-B8A8-DC51EA682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2D90D-1B8F-40E2-871A-AE4B2F4AF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8A982-0515-4F83-AB50-6EB3A3739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81BEDB-1071-4475-832F-F0A57935E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484FB-F5BC-401F-B299-974FC80BA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BA6EB-3636-43E7-BAC5-7DD536DE7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C225A-4746-4788-8900-C54147B0B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00DFF-355B-4EEB-A9C1-8294A57D4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DC20A-8569-4D09-8C4E-2B69122E3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1A456-1CE6-4351-A442-2A1D39364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1B65C-50F6-449D-9092-0A5DFBAD0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39D8-8B22-4A16-B33B-45713906A20E}"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93E2-0DF2-4B6B-ADE2-86B3C3653BF6}"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277560"/>
            <a:ext cx="8893080" cy="639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витие личности средствами технического творчества в условиях сельской местности.</a:t>
            </a:r>
            <a:r>
              <a:rPr b="0" lang="ru-RU" sz="4000" spc="-1" strike="noStrike">
                <a:solidFill>
                  <a:srgbClr val="000000"/>
                </a:solidFill>
                <a:latin typeface="Arial"/>
              </a:rPr>
              <a:t> </a:t>
            </a:r>
            <a:br>
              <a:rPr sz="4000"/>
            </a:br>
            <a:br>
              <a:rPr sz="4000"/>
            </a:br>
            <a:r>
              <a:rPr b="0" lang="ru-RU" sz="2800" spc="-1" strike="noStrike">
                <a:solidFill>
                  <a:srgbClr val="000000"/>
                </a:solidFill>
                <a:latin typeface="Arial"/>
              </a:rPr>
              <a:t>Работа учащихся радиокружка Байкало-Кударинского Дома творчества</a:t>
            </a:r>
            <a:endParaRPr b="0" lang="en-US" sz="2800" spc="-1" strike="noStrike">
              <a:solidFill>
                <a:srgbClr val="c4c3a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0" y="0"/>
            <a:ext cx="896472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На такой станций для электропитания её приборов используют солнечную энергию. Преобразования солнечной энергий в электрическую может осуществляться при помощи тонких пластин кремния, применяемых в так называемых солнечных элементах.</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 военной технике. В наш век ракет, искусственных спутников и ядерного оружия для военной техники создаются сложнейшие радиоэлектронные приборы и системы. Большее значения для обороны страны имеют сети радиолокационных станций дальнего обнаружения, а также различные системы радиолокаций, радиосвязи, гидролокаций, телевидения и телефонной связи, позволяющие военному командованию следить за попадающими в зону наблюдения кораблями, ракетами и самолётами. Обслуживание всех этих устройств и систем невозможно без знания основных законов электро- и радиотехни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	</a:t>
            </a:r>
            <a:r>
              <a:rPr b="0" i="1" lang="ru-RU" sz="1800" spc="-1" strike="noStrike">
                <a:solidFill>
                  <a:srgbClr val="ffffff"/>
                </a:solidFill>
                <a:latin typeface="Verdana"/>
              </a:rPr>
              <a:t>2.ЭЛЕКТРО - И РАДИОТЕХНИКА БУДУЩЕГО</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 вашем доме. Что можно ожидать от электро - радиотехники в будущем? Ведь в лабораториях и на заводах уже в наши дни могут сделать почти любой прибор, придуманный конструктором. Исследовательские лабораторий непрерывно работают над созданием экономичных осветительных ламп. Уже в недалёком будущем мы будем иметь действительно «холодный» электрический свет. Этот вид освещения уже разработан.</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0" y="-171720"/>
            <a:ext cx="8964720" cy="68403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Электро и радиотехника в скором времени будут широко применяться на кухнях наших домов. Поскольку большинство операций по приготовлению пищи может быть выполнено электрическими приборами, домашняя хозяйка сможет заранее «запрограммировать» процесс приготовления обеда. Пища будет приготовлена, посуда вымыта, полы, подметённые и натёрты – и для всего этого нужно будет лишь нажать соответствующие кнопки на пульте управлен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Пришло время, когда мы можем посмотреть телепередачу с плоского экрана величиной с всю стенку комнаты. Создания таких экранов стало возможным благодаря разработке усилителей света, и, по-видимому, уже осталось немного ждать того момента, когда начнётся промышленное производство таких плоских телевизоров. В нашу жизнь вошли видеомагнитофоны, которые позволяют нам записывать на магнитную плёнку интересные телевизионные программы. Видеомагнитофон может записать телевизионную программу, когда нас нет дома. Воспроизведение записанных на магнитной плёнке телевизионных программ мало, чем отличаются от воспроизведения радиопрограмм при помощи обычного магнитофон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идеотелефон, разговаривая по которому можно видеть своего собеседника, разработан и уже применяетс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a:t>
            </a:r>
            <a:r>
              <a:rPr b="1" lang="ru-RU" sz="1800" spc="-1" strike="noStrike">
                <a:solidFill>
                  <a:srgbClr val="ffffff"/>
                </a:solidFill>
                <a:latin typeface="Verdana"/>
              </a:rPr>
              <a:t>	</a:t>
            </a:r>
            <a:r>
              <a:rPr b="1" lang="ru-RU" sz="1800" spc="-1" strike="noStrike">
                <a:solidFill>
                  <a:srgbClr val="ffffff"/>
                </a:solidFill>
                <a:latin typeface="Verdana"/>
              </a:rPr>
              <a:t> </a:t>
            </a:r>
            <a:r>
              <a:rPr b="1" lang="ru-RU" sz="1800" spc="-1" strike="noStrike">
                <a:solidFill>
                  <a:srgbClr val="ffffff"/>
                </a:solidFill>
                <a:latin typeface="Verdana"/>
              </a:rPr>
              <a:t>В промышленности.</a:t>
            </a:r>
            <a:r>
              <a:rPr b="0" lang="ru-RU" sz="1800" spc="-1" strike="noStrike">
                <a:solidFill>
                  <a:srgbClr val="ffffff"/>
                </a:solidFill>
                <a:latin typeface="Verdana"/>
              </a:rPr>
              <a:t> Здесь мы станем свидетелями все более автоматизаций производства. Вполне возможно, что с помощью управляемых машин и механизмов будут полностью автоматизированы технологические процессы от момента подачи сырья до выпуска готового изделия. Участие человека потребуется при этом только для наблюдения за правильностью режимов работы и проведения обслуживания.</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0" y="0"/>
            <a:ext cx="896472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Многие новые разработки основаны на использований радиолокаций. Одна из них – автоматическое управление движением автомобилей на автострадах. Скоро мы увидим, как по дорогам пойдут автомобили, управление которыми будет полностью (с соблюдением правил безопасности) доверено радиолокатору. Результаты аналогичных разработок будут пригодны для управления движения самолётов. Без помощи человека радиолокаторы будут управлять полётом самолёта с момента взлёта и до посадки в аэропорту назначения.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В энергетике всё большее значения будут приобретать атомные электростанций.</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	</a:t>
            </a:r>
            <a:r>
              <a:rPr b="1" lang="en-US" sz="1800" spc="-1" strike="noStrike">
                <a:solidFill>
                  <a:srgbClr val="ffffff"/>
                </a:solidFill>
                <a:latin typeface="Verdana"/>
              </a:rPr>
              <a:t>В медицине. </a:t>
            </a:r>
            <a:r>
              <a:rPr b="0" lang="en-US" sz="1800" spc="-1" strike="noStrike">
                <a:solidFill>
                  <a:srgbClr val="ffffff"/>
                </a:solidFill>
                <a:latin typeface="Verdana"/>
              </a:rPr>
              <a:t>Утверждают, что</a:t>
            </a:r>
            <a:r>
              <a:rPr b="1" lang="en-US" sz="1800" spc="-1" strike="noStrike">
                <a:solidFill>
                  <a:srgbClr val="ffffff"/>
                </a:solidFill>
                <a:latin typeface="Verdana"/>
              </a:rPr>
              <a:t> </a:t>
            </a:r>
            <a:r>
              <a:rPr b="0" lang="en-US" sz="1800" spc="-1" strike="noStrike">
                <a:solidFill>
                  <a:srgbClr val="ffffff"/>
                </a:solidFill>
                <a:latin typeface="Verdana"/>
              </a:rPr>
              <a:t>ещё древние римляне использовали электрических угрей для лечения болезней зубо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В наше время применяется электра - и радиотехники в медицинских исследованиях и при лечений болезней даёт значительный вклад в улучшение медицинского обслуживания. Одним из намечаемых усовершенствований современных рентгенодиагностических аппаратов будет цветная рентгеноскопия, которая облегчит диагностику многих заболеваний. Сейчас проектируется и вскоре начнётся производство электронных приборов, которые будут измерять, и записывать давление крови, пульс, температуру и другие показатели состояния больного. Уже разработана «радиопилюля», которая содержит миниатюрную электронную схему и может передавать информацию о состояние внутренних органов больного.</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 предстоящих космических полётах космонавтам придётся длительное время оставаться в стеснённом положений. Для проверки состояния космонавтов можно использовать электроды, присоединённые к мышцам тела и связанные с соответствующими электронными приборами. Разработка лазера – прибора, создающее интенсивный пучок когерентного света и представляющего значительный интерес для промышленности, - открывает путь к новым методам хирургий. Этот прибор уже используется в тонких глазных операциях и, как ожидается, будет иметь большое значения в лечений опухолей и других болезней.</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	</a:t>
            </a:r>
            <a:r>
              <a:rPr b="0" i="1" lang="ru-RU" sz="1800" spc="-1" strike="noStrike">
                <a:solidFill>
                  <a:srgbClr val="ffffff"/>
                </a:solidFill>
                <a:latin typeface="Verdana"/>
              </a:rPr>
              <a:t>3.КЕМ МОЖНО РАБОТАТЬ В ОБЛАСТИ ЭЛЕКТРО - И РАДИОТЕХНИ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a:t>
            </a:r>
            <a:r>
              <a:rPr b="1" lang="ru-RU" sz="1800" spc="-1" strike="noStrike">
                <a:solidFill>
                  <a:srgbClr val="ffffff"/>
                </a:solidFill>
                <a:latin typeface="Verdana"/>
              </a:rPr>
              <a:t>	</a:t>
            </a:r>
            <a:r>
              <a:rPr b="1" lang="ru-RU" sz="1800" spc="-1" strike="noStrike">
                <a:solidFill>
                  <a:srgbClr val="ffffff"/>
                </a:solidFill>
                <a:latin typeface="Verdana"/>
              </a:rPr>
              <a:t>Электро и радиотехника как «профессия». </a:t>
            </a:r>
            <a:r>
              <a:rPr b="0" lang="ru-RU" sz="1800" spc="-1" strike="noStrike">
                <a:solidFill>
                  <a:srgbClr val="ffffff"/>
                </a:solidFill>
                <a:latin typeface="Verdana"/>
              </a:rPr>
              <a:t>Вероятно, нигде сейчас не требуются специалисты, как в области применения электро- и радиотехники. Почти каждый день создают новые электронные приборы, и каждый из них открывает новое поле деятельности. Колоссальное увеличения числа таких приборов означает рост потребности в специалистах по их конструированию, установке и ремонту.</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се основные работы по электра - и радиотехнике можно разделить на ряд групп, каждой из которых соответствует своя специализация и уровень подготовки: монтаж приборов и аппаратуры, сооружения сетей и систем, эксплуатация и ремонт, связь. Большое значение при выполнений этих работ имеет труд инженера и техника.</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360" y="0"/>
            <a:ext cx="897588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a:t>
            </a:r>
            <a:r>
              <a:rPr b="1" lang="ru-RU" sz="1800" spc="-1" strike="noStrike">
                <a:solidFill>
                  <a:srgbClr val="ffffff"/>
                </a:solidFill>
                <a:latin typeface="Verdana"/>
              </a:rPr>
              <a:t>	</a:t>
            </a:r>
            <a:r>
              <a:rPr b="1" lang="ru-RU" sz="1800" spc="-1" strike="noStrike">
                <a:solidFill>
                  <a:srgbClr val="ffffff"/>
                </a:solidFill>
                <a:latin typeface="Verdana"/>
              </a:rPr>
              <a:t>Монтаж приборов и аппаратуры. </a:t>
            </a:r>
            <a:r>
              <a:rPr b="0" lang="ru-RU" sz="1800" spc="-1" strike="noStrike">
                <a:solidFill>
                  <a:srgbClr val="ffffff"/>
                </a:solidFill>
                <a:latin typeface="Verdana"/>
              </a:rPr>
              <a:t>Монтажники есть на любом предприятий, изготовляющем электротехническую или электронную аппаратуру или детали для неё. На радиозаводе монтажник занимается сборкой радиосхемы на шасси; на заводе, выпускающем электродетали, он наматывает обмотки; на авиационном заводе он занимается монтажом электро - и радиопроводки в самолётах. Для выполнения каждой из этих операций требуется подготовка. Относительно более сложную работу выполняют радиомонтажники при сборке деталей печатных схем, например, телевизоро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 большинстве случаев монтажник должен обладать ловкими пальцами, способностью точно выполнять инструкций, умением пользоваться ручными инструментами и понимать чертежи, необходимые при выполнений данной операций. Многим монтажникам необходимо также уметь пользоваться определёнными контрольно-измерительными приборами, позволяющими проверить качество изготовления готового издел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a:t>
            </a:r>
            <a:r>
              <a:rPr b="1" lang="ru-RU" sz="1800" spc="-1" strike="noStrike">
                <a:solidFill>
                  <a:srgbClr val="ffffff"/>
                </a:solidFill>
                <a:latin typeface="Verdana"/>
              </a:rPr>
              <a:t>	</a:t>
            </a:r>
            <a:r>
              <a:rPr b="1" lang="ru-RU" sz="1800" spc="-1" strike="noStrike">
                <a:solidFill>
                  <a:srgbClr val="ffffff"/>
                </a:solidFill>
                <a:latin typeface="Verdana"/>
              </a:rPr>
              <a:t>Сооружение сетей и систем. </a:t>
            </a:r>
            <a:r>
              <a:rPr b="0" lang="ru-RU" sz="1800" spc="-1" strike="noStrike">
                <a:solidFill>
                  <a:srgbClr val="ffffff"/>
                </a:solidFill>
                <a:latin typeface="Verdana"/>
              </a:rPr>
              <a:t>Электрики-строители выполняют электротехнические работы при строительстве самых различных зданий. Они устанавливают электроарматуру и нагревательные приборы, монтируют электропроводку и другие виды электрооборудования. Для выполнения этих работ важно уметь читать чертежи и пользоваться различными инструментам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Аналогичной работой занимаются электрики по монтажу электропроводки и электрооборудования на судах, телефонисты, прокладывающие телефонные линий для жилых домов и предприятий, а также электрики сцены, обслуживающие электропроводку и систему освещения в театрах, в павильонах киностудий и т. п.</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0" y="0"/>
            <a:ext cx="896472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Все производимые работы должны полностью соответствовать определённым правилам и нормам. Каждому электромонтёру важно уметь читать электрические схемы и пользоваться расчётными формулам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Одним из лучших путей освоения профессий электромонтёра является специальный курс обучения, который состоит из выполнения ряда работ по определённой программе под наблюдением достаточно опытного руководителя и при соответствующем инструктаже. Для прохождения курсов обучения желательно иметь среднее образовани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	</a:t>
            </a:r>
            <a:r>
              <a:rPr b="1" lang="en-US" sz="1800" spc="-1" strike="noStrike">
                <a:solidFill>
                  <a:srgbClr val="ffffff"/>
                </a:solidFill>
                <a:latin typeface="Verdana"/>
              </a:rPr>
              <a:t>Эксплуатация и ремонт. </a:t>
            </a:r>
            <a:r>
              <a:rPr b="0" lang="en-US" sz="1800" spc="-1" strike="noStrike">
                <a:solidFill>
                  <a:srgbClr val="ffffff"/>
                </a:solidFill>
                <a:latin typeface="Verdana"/>
              </a:rPr>
              <a:t>Эксплуатацией и ремонтом оборудования, выпускаемого электротехнической и радиоэлектронной промышленностью, занято относительно большее число людей, чем в любой другой отрасли. Электромонтёры, занимающиеся эксплуатацией, отвечают за поддержание в хорошем состояний всего колоссального парка систем и устройств электрооборудования жилых домов, учреждений и предприятий. В этой области техники трудятся опытные рабочие, обеспечивающие необходимый контроль, обслуживание и ремонт электропроводок, электродвигателей, генераторов, трансформаторов и многих других видов электрооборудования. Большой объём работы приходится на долю мастеров, обслуживающих бытовые электромашины. Каждый вид работ по обслуживанию, электроприборов требует наличия специальной подготовки, опыта обращения с инструментами и знаний основ электротехники.</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0" y="0"/>
            <a:ext cx="896472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Всем известна обширная область ремонтных работ по обслуживанию радиоприёмников и телевизоров. В данном случае необходима специальная подготовка. Ремонт вышедших из строя слуховых аппаратов, вычислительных машин, радиопередатчиков, контрольно-измерительных приборов и стереофонических усилителей приходится вести под наблюдением опытных специалистов. Они должны обладать хорошими теоретическими знаниями и уметь обращаться с различными контрольно-измерительными приборам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Подготовка специалистов по обслуживанию и ремонту электрического и электронного оборудования может производиться в специальных технических школах.</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	</a:t>
            </a:r>
            <a:r>
              <a:rPr b="1" lang="en-US" sz="1800" spc="-1" strike="noStrike">
                <a:solidFill>
                  <a:srgbClr val="ffffff"/>
                </a:solidFill>
                <a:latin typeface="Verdana"/>
              </a:rPr>
              <a:t>Связь. </a:t>
            </a:r>
            <a:r>
              <a:rPr b="0" lang="en-US" sz="1800" spc="-1" strike="noStrike">
                <a:solidFill>
                  <a:srgbClr val="ffffff"/>
                </a:solidFill>
                <a:latin typeface="Verdana"/>
              </a:rPr>
              <a:t>По-видимому, наиболее известным применением радиотехники является техника связи, которая охватывает радио, телевидение, радиорелейные линий, телефонную и фототелеграфную связь. Связь с помощи радиоэлектронной аппаратуры играет важную роль для обеспечения безопасности в авиаций, в службах охраны и других специальных службах. В каждой области связи имеется много специальностей связанных с применением радиоэлектроники. Так, например, на телецентре имеются операторы по обслуживанию и ремонту передатчика; для управления сигналами звука и изображения; операторы, работающие с передающей камерой, а также на проекторе для показания кинофильмов и операторы, занятые регулированием освещения. Все они должны обладать большим опытом и координировано действовать при передаче телевизионной программы.</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0" y="0"/>
            <a:ext cx="896472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Работа радиооператора часто бывает такой же, как работа техника. Во многих случаях оператор, работающий на конкретном виде радиооборудования, одновременно является техником по конструированию и ремонту оборудования. Расширение областей применения различных средств связи привело к росту потребностей в соответствующих специалистах. Каждому такому специалисту необходимо знание математики ,физики и электроники в объёме программы средней школы. Ценный опыт можно приобрести и при занятиях радиолюбительством.</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	</a:t>
            </a:r>
            <a:r>
              <a:rPr b="1" lang="en-US" sz="1800" spc="-1" strike="noStrike">
                <a:solidFill>
                  <a:srgbClr val="ffffff"/>
                </a:solidFill>
                <a:latin typeface="Verdana"/>
              </a:rPr>
              <a:t>Работа техника. </a:t>
            </a:r>
            <a:r>
              <a:rPr b="0" lang="en-US" sz="1800" spc="-1" strike="noStrike">
                <a:solidFill>
                  <a:srgbClr val="ffffff"/>
                </a:solidFill>
                <a:latin typeface="Verdana"/>
              </a:rPr>
              <a:t>Техник выполняет работу, для которой нужна техническая и специальная подготовка, и является непосредственным помощником инженера или научного работника в их деятельности. Он участвует в исследованиях, проектирований и разработке электрических и электронных схем. Испытания и усовершенствования экспериментальных электронных приборов часто также проводятся техниками.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Кроме работы на всех видах связного оборудования техник может специализироваться, например, в таких областях, как измерительная техника, контрольные, индикаторные и регистрирующие приборы, навигационное оборудование, управление ракетами и космическими кораблями, электронными вычислительными машинами и многие другие типы оборудования со схемами на электронных лампах и полупроводниковых приборах.</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Техники могут занимать самые различные должности, например: техник по электронным вычислительным машинам, техник по электронным схемам, техник по электронным измерительным приборам, техник-исследователь и техник-испытатель систем.</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0"/>
            <a:ext cx="896472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В промышленности техники занимаются проведением испытаний, непосредственной сборкой и монтажом установок, экспериментальной работой и эксплуатацией электрического и электронного оборудования. Так, например, техник, работающий над новой печатной схемой, должен сначала провести ряд экспериментов с расположением деталей и соединительных проводов и добиться нужных характеристик, Он намечает методику испытаний изделия с помощью контрольно-измерительных приборов и меняет расположение деталей так, чтобы прибор работал, как полагается. Чтобы справиться со всем этим, ему нужно знать теоретические основы электроники и уметь производить математические расчёты и испытания схем.</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Техники обычно имеют более высокую подготовку, чем даёт средняя школа. Обучение их производятся в техникумах, профессиональных училищах, специальных курсах на предприятиях и т. п. Основными обучаемыми предметами являются основы электротехники и электроники, математика, физика и черчени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	</a:t>
            </a:r>
            <a:r>
              <a:rPr b="1" lang="en-US" sz="1800" spc="-1" strike="noStrike">
                <a:solidFill>
                  <a:srgbClr val="ffffff"/>
                </a:solidFill>
                <a:latin typeface="Verdana"/>
              </a:rPr>
              <a:t>Работа инженеров. </a:t>
            </a:r>
            <a:r>
              <a:rPr b="0" lang="en-US" sz="1800" spc="-1" strike="noStrike">
                <a:solidFill>
                  <a:srgbClr val="ffffff"/>
                </a:solidFill>
                <a:latin typeface="Verdana"/>
              </a:rPr>
              <a:t>Инженер отвечает за проведение исследований, проектирования и эксперимента, а также за воплощение новых идей в создаваемых им электрических и электронных устройствах. Электротехника и радиоэлектроника относятся к наиболее быстроразвивающимся отраслям техники, и поэтому успехи промышленности и расширения областей применения электроники сопровождаются постоянным увеличениям спроса на инженеров-электриков.</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0" y="0"/>
            <a:ext cx="896472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Основными сферами деятельности для инженера в этих областях техники являются производство электрических и электронных машин и оборудования, телефонная и телеграфная связь, энергосистемы, системы освещения, транспорт и радиосвязь. Много инженеров-электриков требуется для работы в таких областях, как атомная техника, системы управления ракетами, следящие системы, вычислительная техника и автоматизац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Профессия инженера-электрика требует большой аккуратности и точности, ему необходимо научится работать как в одиночку, так и в составе группы. Значительная часть его времени расходуется на разработку новых идей, схем, проведения математических расчётов, написания отчётов и составление технических условий. Чтобы стать хорошим инженером, надо обладать способностями значительно выше среднего уровня и добиться успехов при изучений математики и других наук.</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В рассматриваемой области имеется много узких специальностей, которые могут быть привлекательными для людей с особыми интересами. Так, например, инженер-светотехник, обладающий хорошим художественным вкусом, может найти своё призвание в кинопромышленности или в театре, а для инженера-электрика с хорошим музыкальным слухом наилучшей может оказаться работа, связанная с получением высококачественной записи и воспроизведения музыкальных программ.</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Тем, кто хочет стать инженером, нужно ещё в средней школе заложить хороший фундамент знаний по математике и естественным наукам. Большинство инженеров-электриков имеет законченное высшее образование. Для инженеров, обладающих способностями, в области техники открываются неограниченные возможности.</a:t>
            </a:r>
            <a:endParaRPr b="0" lang="en-US" sz="1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79280" y="189000"/>
            <a:ext cx="3672000" cy="624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Руководитель радиокружка </a:t>
            </a:r>
            <a:br>
              <a:rPr sz="4000"/>
            </a:br>
            <a:br>
              <a:rPr sz="4000"/>
            </a:br>
            <a:br>
              <a:rPr sz="4000"/>
            </a:br>
            <a:br>
              <a:rPr sz="4000"/>
            </a:br>
            <a:r>
              <a:rPr b="0" lang="en-US" sz="4400" spc="-1" strike="noStrike">
                <a:solidFill>
                  <a:srgbClr val="c4c3aa"/>
                </a:solidFill>
                <a:latin typeface="Arial"/>
              </a:rPr>
              <a:t>Ерофеев Владимир Иванович</a:t>
            </a:r>
            <a:endParaRPr b="0" lang="en-US" sz="4400" spc="-1" strike="noStrike">
              <a:solidFill>
                <a:srgbClr val="c4c3aa"/>
              </a:solidFill>
              <a:latin typeface="Arial"/>
            </a:endParaRPr>
          </a:p>
        </p:txBody>
      </p:sp>
      <p:pic>
        <p:nvPicPr>
          <p:cNvPr id="331" name="" descr=""/>
          <p:cNvPicPr/>
          <p:nvPr/>
        </p:nvPicPr>
        <p:blipFill>
          <a:blip r:embed="rId1"/>
          <a:stretch/>
        </p:blipFill>
        <p:spPr>
          <a:xfrm>
            <a:off x="3924360" y="189000"/>
            <a:ext cx="5059440" cy="6122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4c3aa"/>
                </a:solidFill>
                <a:latin typeface="Arial"/>
              </a:rPr>
              <a:t>3. Материально-техническое и кадровое</a:t>
            </a:r>
            <a:br>
              <a:rPr sz="2800"/>
            </a:br>
            <a:r>
              <a:rPr b="1" i="1" lang="en-US" sz="2800" spc="-1" strike="noStrike">
                <a:solidFill>
                  <a:srgbClr val="c4c3aa"/>
                </a:solidFill>
                <a:latin typeface="Arial"/>
              </a:rPr>
              <a:t>          обеспечение.</a:t>
            </a:r>
            <a:br>
              <a:rPr sz="2800"/>
            </a:br>
            <a:endParaRPr b="0" lang="en-US" sz="2800" spc="-1" strike="noStrike">
              <a:solidFill>
                <a:srgbClr val="c4c3aa"/>
              </a:solidFill>
              <a:latin typeface="Arial"/>
            </a:endParaRPr>
          </a:p>
        </p:txBody>
      </p:sp>
      <p:sp>
        <p:nvSpPr>
          <p:cNvPr id="357" name="PlaceHolder 2"/>
          <p:cNvSpPr>
            <a:spLocks noGrp="1"/>
          </p:cNvSpPr>
          <p:nvPr>
            <p:ph/>
          </p:nvPr>
        </p:nvSpPr>
        <p:spPr>
          <a:xfrm>
            <a:off x="179280" y="1267920"/>
            <a:ext cx="8785440" cy="5589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Одним из эффективных средств развития личности является техническое творчество. Это и понятно. Ведь каждый шаг ребёнка неотделим от творчества. А для многих мальчишек -  от технического творчеств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Техническое творчество детей –деятельность в процессе которой создаются новые и совершенствуются старые техника и технологии, обладающие субъективной значимостью. Однако техническое творчество детей является весьма специфичным и имеет ряд проблем в сельской местност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Материально-техническая и кадровое обеспечение является самым ресурсоёмким направлением, требующим значительных капиталовложений на содержание и тем более на развити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Личность преподавателя кружка технического творчества, особенно в сельской местности, играет величайшую роль в образовательном процессе. Во-первых: поскольку творца может воспитать только творец – он сам должен быть творческой личностью, стремиться к поиску нового и к усовершенствованию имеющегося. Во- вторых: быть уважаемым у односельчан, ведь в небольшом селе все друг друга все хорошо знают от мала до велика.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c3aa"/>
                </a:solidFill>
                <a:latin typeface="Arial"/>
              </a:rPr>
              <a:t>4.Комплектование учебных групп</a:t>
            </a:r>
            <a:endParaRPr b="0" lang="en-US" sz="2800" spc="-1" strike="noStrike">
              <a:solidFill>
                <a:srgbClr val="c4c3aa"/>
              </a:solidFill>
              <a:latin typeface="Arial"/>
            </a:endParaRPr>
          </a:p>
        </p:txBody>
      </p:sp>
      <p:sp>
        <p:nvSpPr>
          <p:cNvPr id="359" name="PlaceHolder 2"/>
          <p:cNvSpPr>
            <a:spLocks noGrp="1"/>
          </p:cNvSpPr>
          <p:nvPr>
            <p:ph/>
          </p:nvPr>
        </p:nvSpPr>
        <p:spPr>
          <a:xfrm>
            <a:off x="0" y="620640"/>
            <a:ext cx="8964720" cy="62373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	</a:t>
            </a:r>
            <a:r>
              <a:rPr b="1" lang="en-US" sz="1800" spc="-1" strike="noStrike">
                <a:solidFill>
                  <a:srgbClr val="ffffff"/>
                </a:solidFill>
                <a:latin typeface="Verdana"/>
              </a:rPr>
              <a:t>Организация кружковой работы.</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По сложности кружок радиоэлектроники занимает одно из первых мест среди кружков технического творчества детей. При изготовлении моделей здесь применяется много разнообразных материалов и деталей. В процессе занятий кружковцам приходится вычерчивать достаточно сложные схемы. Постройка даже относительно несложных конструкций требует теоретических знаний, умение и выдумки. Из числа ребят, желающих заниматься в кружке, далеко не всем удается легко выполнить требования, предъявляемые к кружковцам. Однако принимать в кружок рекомендуется всех желающих. Интерес к радиотехнике, желание работать творчески следует поддержать и развивать всеми способами.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При планирование работы программа радиокружка может в какой-то степени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прогонять» к индивидуальным запросам кружковцев, их возрасту и опыту радиоэлектрони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Эти изменения могут затрагивать время, отводимое для теоретических занятий и практических работ, объем учебного материала отдельных тем программы, сам набор изучаемых схем. При этом необходимо учитывать, что кружковцы посещают занятия добровольно, из особого интереса, вызываемого радиоэлектроникой. Этот интерес следует всеми мерами поддерживать, укреплять, развивать. Для этого, составляя план работы кружка, нужно выяснить у ребят: над какими конструкциями они хотят работать, какие знания и практические навыки работ уже имеют.</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360" y="188640"/>
            <a:ext cx="8893080" cy="6669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Следует быть твердо уверенным, что первая конструкция начинающего юного радиолюбителя обязано заработает сразу после сборки. Иначе интерес к технике может пропасть. После того как будет намечен список планируемых конструкций, уточняется состав необходимых деталей и материало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a:t>
            </a:r>
            <a:r>
              <a:rPr b="1" lang="ru-RU" sz="1800" spc="-1" strike="noStrike">
                <a:solidFill>
                  <a:srgbClr val="ffffff"/>
                </a:solidFill>
                <a:latin typeface="Verdana"/>
              </a:rPr>
              <a:t>	</a:t>
            </a:r>
            <a:r>
              <a:rPr b="1" lang="ru-RU" sz="1800" spc="-1" strike="noStrike">
                <a:solidFill>
                  <a:srgbClr val="ffffff"/>
                </a:solidFill>
                <a:latin typeface="Verdana"/>
              </a:rPr>
              <a:t>Состав кружка. Регламент и тематика его работы.</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 организации работы кружка немалое значение имеет его состав. Первые годы существование кружок радиоэлектроники комплектовался ребятами старшего возраста. Однако по мере совершенствования материальной базы в кружок стали принимать ребят всех возрастов, включая учеников 2-3-х классо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Для самых младших мы всегда находили работу полегче, в частности, не связанную непосредственно с электроникой – например, выпиливание и выжигание. При этом младшие кружковцы чувствуют себя причастными к сложной работе старших. Од руководством преподавателя и с помощью старших ребят (авторитет их, как известно, для малышей непрерикаем) они постепенно учатся владеть инструментом, приборами, приобретают элементарные теоретические знания. Позже ребята овладевают приемами изготовления простейших. А затем и более сложных моделей.</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 свою очередь, и самых старших ребят, видящих такое отношение к себе со стороны младших, присутствие младшей заставляет относиться к своей работе с большей ответственностью.</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Не менее важным, чем взаимоотношения старших и младших кружковцев, является вопрос о совместной работе в кружке радиоэлектронике мальчиков и девочек.</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395280" y="2852640"/>
            <a:ext cx="5065560" cy="3389400"/>
          </a:xfrm>
          <a:prstGeom prst="rect">
            <a:avLst/>
          </a:prstGeom>
          <a:ln w="0">
            <a:noFill/>
          </a:ln>
        </p:spPr>
      </p:pic>
      <p:pic>
        <p:nvPicPr>
          <p:cNvPr id="362" name="" descr=""/>
          <p:cNvPicPr/>
          <p:nvPr/>
        </p:nvPicPr>
        <p:blipFill>
          <a:blip r:embed="rId2"/>
          <a:stretch/>
        </p:blipFill>
        <p:spPr>
          <a:xfrm>
            <a:off x="4067280" y="549360"/>
            <a:ext cx="4608360" cy="309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0" y="0"/>
            <a:ext cx="896472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 настоящее время в радиотехнической промышленности занято много женщин. Кроме того, работницам нерадиотехнических и даже вовсе нетехнических профессий неминуемо приходится иметь дело с радиоэлектронным оборудованием самого различного назначения. В частности,  в современной медицине не обойтись без электроники. Можно смело утверждать: девочки не менее способны к технике, чем мальчики, просто «техническое чутье», подкрепляемое каким-либо практическим увлечением, пробуждается у мальчиков раньш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Девочек, работающих в кружке радиоэлектроники, следует окружать особым вниманием, оказывать им помочь в работах, требующих значительных физических усилий. В то же время ни в коем случае нельзя допускать со стороны мальчиков-кружковчев иронические замечания в их адрес или высокомерно-снисходительное отношение. При внимательном и тактичном отношении к себе девочки, как правило, быстро приобретают определенный опыт и навыки в изготовлении радиоэлектронных устройств, чувствуют себя каждым занятием все увереннее и своим усидчивым трудом заслуживают уважение ребят.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 последние годы руководителям приходится считаться с появлением в кружке радиоэлектроники отдельных «самородков» из учеников 6-7-х классов, самостоятельно освоивших микроэлектронную технику. Некоторые из них настолько преуспевают в знании микросхем, что иногда своими вопросами ставят в тупик руководителя кружка. Эти ребята назубок помнят параметры микросхем серий и зачастую имеют незаурядный опыт конструирования. Таких кружковцев необходимо с первого дня занятий заинтриговать по-настоящему интересной нелегкой работой и в дальнейшем стараться воспитать из них квалифицированных помощников.</a:t>
            </a:r>
            <a:endParaRPr b="0" lang="en-US" sz="1800" spc="-1" strike="noStrike">
              <a:solidFill>
                <a:srgbClr val="ffffff"/>
              </a:solidFill>
              <a:latin typeface="Verdana"/>
            </a:endParaRPr>
          </a:p>
          <a:p>
            <a:pPr marL="343080" indent="-343080" algn="just">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0"/>
            <a:ext cx="8964720" cy="68580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Несколько слов о регламенте занятий кружка радиоэлектроники. Длительность одного занятия следует установить такой, чтобы у кружковцев на всем его протяжении не ослабевал интерес к работе и чтобы они не слишком уставали. Это максимум 2…2,5 часа. Кроме того, надо иметь в виду, что часть времени (10…15 мин) уходит на подготовку рабочего места, подбор инструментов, материалов и деталей. Еще 10…15 мин требуется на уборку рабочего места после работы, приведением в порядок материалов, деталей и изготавливаемых конструкций (уборка помещения кружка производится дежурными после ухода остальных кружковцев). Улучшая организацию труда ребят и укрепляя дисциплину, можно сократить затраты времени на различного рода непроизводительных операции до минимума.                                                                               </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Руководитель кружка должен уделять постоянное  внимание теоретической  подготовке кружковцев. Изучение современной техники невозможно  без большого труда  и умственного напряжения. Об этой простой  истине часто забывают, считая, что занятия в кружке- нечто вроде отдыха от настоящих занятий, этакий полезный досуг, в часы которого школьник занимается техническим творчеством и изобретательством. Однако творчество и изобретательство в любой области человеческой деятельности основано на широких и глубоких знаниях, на большом опыте практической работы. Поэтому нельзя говорить о каком- либо техническом творчестве ребят в кружках, не дающих  серьезной теоретической подготовки. В  лучшем случае это будет всего лишь добросовестное механическое использование  указаний руководителя или воспроизведение уже кем-то собранных конструкций. Технический кружок- это не забава, не игра в технику, а первая школа, в которой коллектив увлеченных ребят всерьез стремится к приобретению знаний и навыков в полюбившейся области науки и техники.</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181440" y="0"/>
            <a:ext cx="9325080" cy="68580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Не случайно работа в кружке радиоэлектроники часто заражает детей на всю жизнь неистощимым желанием творческой работы, предопределяя их будущую профессиональную судьбу.           </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	</a:t>
            </a:r>
            <a:r>
              <a:rPr b="1" lang="en-US" sz="1700" spc="-1" strike="noStrike">
                <a:solidFill>
                  <a:srgbClr val="ffffff"/>
                </a:solidFill>
                <a:latin typeface="Verdana"/>
              </a:rPr>
              <a:t>	</a:t>
            </a:r>
            <a:r>
              <a:rPr b="1" lang="en-US" sz="1700" spc="-1" strike="noStrike">
                <a:solidFill>
                  <a:srgbClr val="ffffff"/>
                </a:solidFill>
                <a:latin typeface="Verdana"/>
              </a:rPr>
              <a:t>Воспитательная работа в кружке радиоэлектроники.</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Работа школьников в кружке радиоэлектроники пионерлагере открывает широкие возможности воспитательного воздействия на них. Этому способствуют многие особенности и черты кружковой работы, в корне отличающие кружок от школьного класса. Из них наиболее важны следующие:</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добровольность работы;</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возможность удовлетворения интереса и реализации способностей детей в                области техники;                           </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значительная доля самостоятельности и творчества в работе кружковцев;</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гармоническое сочетание умственного и физического труда;</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практическая направленность работы членов технических кружков и общественная полезность их труда;</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коллективность труда;</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общность интересов членов кружка;</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совместная работа кружковцев старшего и младшего возраста;</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непосредственное участие школьников в создании и улучшении условий их учебы и труда в технических кружках;</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влияние работы в кружке на выбор будущей профессии.</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Воспитание школьников в кружке неразрывно связано и с их практической работой, и с теоретической подготовкой. Чем лучше будет продумана система обучения и труда школьников в кружке радиоэлектроники, чем лучше будет организован их общественно полезный труд, чем больше интереса и инициативы он будет вызывать у кружковцев, тем эффективнее будет решаться главные задачи воспитания учащихся.</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Однако перечисленные преимущества кружка не «срабатывают» сами по себе. Кружок предъявляет совершенно особые требования к личности и подготовке педагога, а его профессиональному мастерству.</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Принцип добровольной работы школьников, традиционный в кружковой работе, создает благоприятную почву для воспитания у школьников инициативного и принципиального отношения к труду, к получаемым знаниям. Этот трудовой энтузиазм надо стремиться распространить на поступки детей, на их взаимоотношения между собой. Путем личного примера и поощряя лучших кружковцев, руководитель кружка воспитывает у школьников уважение к товарищам, добровольно берущимся за трудное дело,  добровольно, а не по просьбе руководителя, ставящим себя в худшие условия ради помощи более слабым или менее опытным  кружковцам.</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Ребятам надо приводить примеры  из исторического прошлого нашего народа и его современных будней, показывающие , что добровольцы всегда были впереди, всегда были там, где труднее и опаснее, первыми принимая на себя тяготы новых неизведанных путей. Честное  и благородное имя «доброволец» должно быть высоко поднято в сознании кружковцев. Но в то же, чтобы отдельные члены кружка не злоупотребляли доверием, инициативой и трудолюбием своих товарищей, не стремились проехаться за чужой счет. Это будет способствовать созданию в кружке сплоченного, дружного и трудолюбивого коллектива, способного решать большие и трудные задачи.</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Большое значение в воспитании кружковцев имеет их заинтересованность и увлеченность техникой. Но руководитель не должен забывать, что зачастую этот интерес школьников вызван внешними, наиболее эффектными проявлениями техники. Внутреннее  же ее содержание, связанное с необходимостью упорного и настойчивого, порой неблагодарного и неприятного труда, обычно им неизвестно. Отсюда вытекает еще одна важная задача руководителя кружка: привить ребятам уважение к «рутинной» стороне технического труда, понимание ее необходимости.</a:t>
            </a:r>
            <a:endParaRPr b="0" lang="en-US" sz="1700" spc="-1" strike="noStrike">
              <a:solidFill>
                <a:srgbClr val="ffffff"/>
              </a:solidFill>
              <a:latin typeface="Verdana"/>
            </a:endParaRPr>
          </a:p>
          <a:p>
            <a:pPr marL="343080" indent="-343080" algn="just">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Учащихся следует с самого начала работы в техническом кружке не просто знакомить с достижениями старших и опытных кружковцев, но и подробно рассказывать им, каким упорным, тяжелым и длительным трудом достигались эти результаты. Демонстрируя работу изготовленного в кружке радиоэлектронного устройства, надо кратко рассказать кружковцам о технологии его изготовления, особенно выделяя наиболее трудоемкие и «неинтересные» работы и операции, подчеркивая в то же время их необходимость. Кроме того, следует указывать ребятам и на длительную экспериментальную работу, предшествовавшую сборке данного устройства, на допущенные поначалу ошибки и трудности, рассказывать о том, как они были преодолены. Таким образом, заранее внутренне подготавливая школьников, можно помочь им в дальнейшем избегать разочарования и  малодушия, помочь сохранить уважение к себе даже после явных неудач. </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Работа кружка дает возможность удовлетворить различные способности и наклонности детей. В этом, как уже отмечалось ранее, одно из преимуществ кружковой работы перед обычными занятиями в школе. Разнообразие устройств, конструируемых в кружке, их различный уровень сложности и трудоемкости, необходимость самых различных теоретических и практических знаний позволяют путем продуманного подбора тем удовлетворить интерес всех членов технического кружка, независимо от их знаний, опыта и способностей. От руководителя кружка требуется хорошее знание возможностей и стремлений отдельных кружковцев. Необходимо, чтобы каждый был загружен практической работой, соответствующей его сегодняшнему уровню. Это, с одной стороны, обеспечит в кружке обстановку серьезной и вдумчивой работы, а с другой будет препятствовать возникновению у отдельных кружковцев легкомысленного отношения к кружку, которое весьма заразительно. Именно в таких условиях будут оптимально проявляться творческие способности детей.</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r>
              <a:rPr b="0" lang="ru-RU" sz="1700" spc="-1" strike="noStrike">
                <a:solidFill>
                  <a:srgbClr val="ffffff"/>
                </a:solidFill>
                <a:latin typeface="Verdana"/>
              </a:rPr>
              <a:t>	</a:t>
            </a:r>
            <a:r>
              <a:rPr b="0" lang="ru-RU" sz="1700" spc="-1" strike="noStrike">
                <a:solidFill>
                  <a:srgbClr val="ffffff"/>
                </a:solidFill>
                <a:latin typeface="Verdana"/>
              </a:rPr>
              <a:t>Даже самое отдаленное приближение технических устройств, изготовляемых школьниками в технических кружках, к современным образцам промышленной продукции потребует от руководителя решения целого комплекса задач как материально-технических, так и учебно-воспитательных. </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r>
              <a:rPr b="0" lang="ru-RU" sz="1700" spc="-1" strike="noStrike">
                <a:solidFill>
                  <a:srgbClr val="ffffff"/>
                </a:solidFill>
                <a:latin typeface="Verdana"/>
              </a:rPr>
              <a:t>	</a:t>
            </a:r>
            <a:r>
              <a:rPr b="0" lang="ru-RU" sz="1700" spc="-1" strike="noStrike">
                <a:solidFill>
                  <a:srgbClr val="ffffff"/>
                </a:solidFill>
                <a:latin typeface="Verdana"/>
              </a:rPr>
              <a:t>Высокое качество технических условий, включающее в себя точность и надежность в работе, удобство в эксплуатации и эстетичное внешнее оформление, требует не только вдумчивое и сосредоточенной работы руководителя и кружковцев. Если ваш кружок поднялся до решения таких серьезных задач, это обязывает внимательно планировать и рассчитывать предстоящие операции, тщательно подбирать инструменты и способы отборки материалов, следить за чистотой рабочего места и порядком в помещение. Эстетичность в оформлении технических устройств потребует у кружковцев приобретения навыков в эскизировании, техническом рисунке и развитии художественного вкуса. </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r>
              <a:rPr b="0" lang="ru-RU" sz="1700" spc="-1" strike="noStrike">
                <a:solidFill>
                  <a:srgbClr val="ffffff"/>
                </a:solidFill>
                <a:latin typeface="Verdana"/>
              </a:rPr>
              <a:t>	</a:t>
            </a:r>
            <a:r>
              <a:rPr b="0" lang="ru-RU" sz="1700" spc="-1" strike="noStrike">
                <a:solidFill>
                  <a:srgbClr val="ffffff"/>
                </a:solidFill>
                <a:latin typeface="Verdana"/>
              </a:rPr>
              <a:t> </a:t>
            </a:r>
            <a:r>
              <a:rPr b="0" lang="ru-RU" sz="1700" spc="-1" strike="noStrike">
                <a:solidFill>
                  <a:srgbClr val="ffffff"/>
                </a:solidFill>
                <a:latin typeface="Verdana"/>
              </a:rPr>
              <a:t>Грубейшую ошибку допускает руководитель, «распускающий вожжи» в кружке по мере того, как его подопечные набираются опыта и приобретают способность работать самостоятельно. Ошибка также – делать дисциплинарный поблажки «избранным». В кружке все должны быть равны.</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r>
              <a:rPr b="0" lang="ru-RU" sz="1700" spc="-1" strike="noStrike">
                <a:solidFill>
                  <a:srgbClr val="ffffff"/>
                </a:solidFill>
                <a:latin typeface="Verdana"/>
              </a:rPr>
              <a:t>	</a:t>
            </a:r>
            <a:r>
              <a:rPr b="0" lang="ru-RU" sz="1700" spc="-1" strike="noStrike">
                <a:solidFill>
                  <a:srgbClr val="ffffff"/>
                </a:solidFill>
                <a:latin typeface="Verdana"/>
              </a:rPr>
              <a:t>Руководитель технического кружка должен всячески поощрять любые действия         кружковцев, направленные на учебные качества практических работ, одновременно указывая школьникам, как невнимательность и небрежность в работе, отсутствие хорошо продуманного плана работы, неудачный выбор инструментов и т. п. приводят к неудачам.</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r>
              <a:rPr b="0" lang="ru-RU" sz="1700" spc="-1" strike="noStrike">
                <a:solidFill>
                  <a:srgbClr val="ffffff"/>
                </a:solidFill>
                <a:latin typeface="Verdana"/>
              </a:rPr>
              <a:t>	</a:t>
            </a:r>
            <a:r>
              <a:rPr b="0" lang="ru-RU" sz="1700" spc="-1" strike="noStrike">
                <a:solidFill>
                  <a:srgbClr val="ffffff"/>
                </a:solidFill>
                <a:latin typeface="Verdana"/>
              </a:rPr>
              <a:t>Практика кружковой работы показывает, что с ростом сложности и качества изделий растет дисциплинированность школьников, их уважение к труду, умение квалифицированно оценить объем труда, вкладываемого в создание тех или иных устройств и машин как самодельных, так и промышленного производства.                 </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7920"/>
            <a:ext cx="8218440" cy="25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c4c3aa"/>
                </a:solidFill>
                <a:latin typeface="Arial"/>
              </a:rPr>
              <a:t>Коллектив учащихся работающих над данной работой.   </a:t>
            </a:r>
            <a:br>
              <a:rPr sz="4000"/>
            </a:br>
            <a:endParaRPr b="0" lang="en-US" sz="4000" spc="-1" strike="noStrike">
              <a:solidFill>
                <a:srgbClr val="c4c3aa"/>
              </a:solidFill>
              <a:latin typeface="Arial"/>
            </a:endParaRPr>
          </a:p>
        </p:txBody>
      </p:sp>
      <p:pic>
        <p:nvPicPr>
          <p:cNvPr id="333" name="" descr=""/>
          <p:cNvPicPr/>
          <p:nvPr/>
        </p:nvPicPr>
        <p:blipFill>
          <a:blip r:embed="rId1"/>
          <a:stretch/>
        </p:blipFill>
        <p:spPr>
          <a:xfrm>
            <a:off x="179280" y="3429000"/>
            <a:ext cx="2159280" cy="3168720"/>
          </a:xfrm>
          <a:prstGeom prst="rect">
            <a:avLst/>
          </a:prstGeom>
          <a:ln w="0">
            <a:noFill/>
          </a:ln>
        </p:spPr>
      </p:pic>
      <p:pic>
        <p:nvPicPr>
          <p:cNvPr id="334" name="" descr=""/>
          <p:cNvPicPr/>
          <p:nvPr/>
        </p:nvPicPr>
        <p:blipFill>
          <a:blip r:embed="rId2"/>
          <a:stretch/>
        </p:blipFill>
        <p:spPr>
          <a:xfrm>
            <a:off x="6902280" y="3414600"/>
            <a:ext cx="2154240" cy="3168720"/>
          </a:xfrm>
          <a:prstGeom prst="rect">
            <a:avLst/>
          </a:prstGeom>
          <a:ln w="0">
            <a:noFill/>
          </a:ln>
        </p:spPr>
      </p:pic>
      <p:pic>
        <p:nvPicPr>
          <p:cNvPr id="335" name="" descr=""/>
          <p:cNvPicPr/>
          <p:nvPr/>
        </p:nvPicPr>
        <p:blipFill>
          <a:blip r:embed="rId3"/>
          <a:stretch/>
        </p:blipFill>
        <p:spPr>
          <a:xfrm>
            <a:off x="4643280" y="3429000"/>
            <a:ext cx="2129040" cy="3160800"/>
          </a:xfrm>
          <a:prstGeom prst="rect">
            <a:avLst/>
          </a:prstGeom>
          <a:ln w="0">
            <a:noFill/>
          </a:ln>
        </p:spPr>
      </p:pic>
      <p:pic>
        <p:nvPicPr>
          <p:cNvPr id="336" name="" descr=""/>
          <p:cNvPicPr/>
          <p:nvPr/>
        </p:nvPicPr>
        <p:blipFill>
          <a:blip r:embed="rId4"/>
          <a:stretch/>
        </p:blipFill>
        <p:spPr>
          <a:xfrm>
            <a:off x="2440080" y="3429000"/>
            <a:ext cx="2119320" cy="3168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Очень важно, чтобы самому школьнику нравились результаты его собственного труда. Можно привести  многочисленные примеры, когда кружковцев, заинтересовавшись и увлекшись конструированием какого- либо технического устройства, после ряда неудачных конструктивных  решений или недостаточно тщательного изготовления отдельных частей  устройства терял к нему интерес и кое- как  доводил его до конца или же вовсе бросал работу. В таких случаях  руководитель кружка должен вовремя прийти на помощь школьнику, предложить ему переделать отдельные части изготовляемого устройства. Иногда руководителю надо проявить в этом деле настойчивость, которая в дальнейшем окупится сохранением интереса кружковца к работе, а может быть, и к своей будущей профессии. Особенно стараются  учащиеся, когда видят, что изготавливаемое их руками  нравится товарищам.</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Руководитель кружка должен ценить и уважать тот большой труд и энтузиазм, который вкладывают ребята в свои изделия. Однако это возможно лишь в том случае, когда технические устройства, изготовляемые в кружке, будут обладать высокими качествами и смогут служить предметом гордости кружковцев за свой труд. Можно смело утверждать, что в тех кружках, в которых школьники изготовляют небрежные и непродуманные технические устройства, не имеющие достаточного практического применения, руководители не ценят  и не уважают труд ребят. И кружковцам такая работа не приносит ни удовлетворения, ни сколько-нибудь  значительной пользы. Наверняка рано или поздно школьники, занимавшиеся в таких кружках, будут жалеть о затраченных впустую силах и времени.</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Значительная доля самостоятельности и творчества в работе членов технического кружка облегчает воспитание у них критического отношения  к своим действиям, самоанализа и самоконтроля. Без этих  ценных качеств, вырабатываемых долго и с немалым трудом, невозможно успешное развитие творческих способностей школьников. Здесь основной  задачей  руководителя является создание условий, облегчающих и ускоряющих приобретение этих полезных привычек. </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r>
              <a:rPr b="0" lang="ru-RU" sz="1700" spc="-1" strike="noStrike">
                <a:solidFill>
                  <a:srgbClr val="ffffff"/>
                </a:solidFill>
                <a:latin typeface="Verdana"/>
              </a:rPr>
              <a:t>	</a:t>
            </a:r>
            <a:r>
              <a:rPr b="0" lang="ru-RU" sz="1700" spc="-1" strike="noStrike">
                <a:solidFill>
                  <a:srgbClr val="ffffff"/>
                </a:solidFill>
                <a:latin typeface="Verdana"/>
              </a:rPr>
              <a:t>Некоторые руководители технических кружков, стремясь увеличить долю самостоятельности и творчества в работе кружковцев, часто предоставляют им неограниченную свободу действий. Не обладая необходимыми навыками в конструировании, не владея в достаточной степени инструментами, способами обработки материалов и приемами труда, ребята приступают к изготовлению малопродуманных технических устройств. Впоследствии бывает, что они кое-как дотягивают изделия до конца или же, видя несовершенство и низкое качество своей работы, теряют к ней всякий интерес. Вряд ли члены кружка получают пользу от такого «творчества». Скорее всего, наоборот, оно принесет им вред: именно так кружковцы привыкают к безответственной и небрежной работе. Особенно это относится к начинающим. Рекомендация здесь можно быть такой: самостоятельность кружковцев может возрастать не иначе как прямо пропорционально знаниям и умению. Подчеркиваем: самостоятельность - но не отсутствие дисциплины!</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r>
              <a:rPr b="0" lang="ru-RU" sz="1700" spc="-1" strike="noStrike">
                <a:solidFill>
                  <a:srgbClr val="ffffff"/>
                </a:solidFill>
                <a:latin typeface="Verdana"/>
              </a:rPr>
              <a:t>	</a:t>
            </a:r>
            <a:r>
              <a:rPr b="0" lang="ru-RU" sz="1700" spc="-1" strike="noStrike">
                <a:solidFill>
                  <a:srgbClr val="ffffff"/>
                </a:solidFill>
                <a:latin typeface="Verdana"/>
              </a:rPr>
              <a:t>Большое воспитательное значение в работе школьников в технических кружках имеет сочетание умственного и физического труда. Очень важно, чтобы все «технические» мысли, желания и стремления подростка  находили свое материальное воплощение вначале в виде рисунков и  простейших самоделок,  а в дальнейшем в виде эскизов, чертежей, схем и конструкций неуклонно усложняющихся технических  устройств. Это будет  укреплять материальную основу технической мысли школьника, учить его конкретизировать и детализировать ее, воплощать в реальность.</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Verdana"/>
              </a:rPr>
              <a:t>	</a:t>
            </a:r>
            <a:r>
              <a:rPr b="0" lang="ru-RU" sz="1700" spc="-1" strike="noStrike">
                <a:solidFill>
                  <a:srgbClr val="ffffff"/>
                </a:solidFill>
                <a:latin typeface="Verdana"/>
              </a:rPr>
              <a:t>	</a:t>
            </a:r>
            <a:r>
              <a:rPr b="0" lang="ru-RU" sz="1700" spc="-1" strike="noStrike">
                <a:solidFill>
                  <a:srgbClr val="ffffff"/>
                </a:solidFill>
                <a:latin typeface="Verdana"/>
              </a:rPr>
              <a:t>Хорошо известно, как быстро пропадает интерес  у многих школьников к таким техническим кружкам, в которых в основном проводится теоретическое обучение и  реферативная работа (доклады, лекции, беседы, выпуски различного рода бюллетеней, газет,  изготовление стендов и т.д.). Конечно, все это полезно, но в обязательной  совокупности с живой практической работой в области техники, с физической работой. </a:t>
            </a: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Физический труд, не говоря о других его положительных результатах (укрепление физического состояния организма школьника, приобретение навыков приспособляемости и выносливости организма к разным условиям), оказывает значительное моральное воздействие на ребят. Он является надежным средством  практической  проверки мыслей и стремлений учащихся, показывая им правильность или ошибочность их проектов, планов и расчетов. Школьнику очень важно видеть и осязать результаты своего труда, которые дает ему возможность поверить в свои силы, заражают жаждой созидательной деятельности.</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Ошибочна тенденция некоторых руководителей  технических кружков и отдельных кружковцев любой ценой избегать «лишнего» физического труда. Как правило, они уменьшают трудоемкость или  сложность практических работ, подбирая и комбинируя детали и узлы  устаревших промышленных устройств, что ведет к снижению качества и эстетичности изделий. Надо не уменьшать объем физического труда школьников, а рационализировать и облегчать его, поднимать производительность и эффективность физического труда, повышать его качество путем механизации наиболее трудоемких процессов, разработки и применения различных технических приспособлений, внедрения в работу кружка новых, более совершенных способов обработки материалов.</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Кружковцам надо показывать красоту физического труда, увлекать их точностью выполнения работ, искусством обработки материалов и отличным владением инструментами. При этом, конечно, большое внимание должно уделяться состоянию и развитию инструментальной базы технического кружка. Лучшие достижения кружковцев в практической работе (образцово выполненные технические устройства в целом, высококачественно изготовленные отдельные детали и узлы конструкций, прекрасно выполненные отделочные работы и т.д.) надо делать предметом гордости кружка.</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179280" y="0"/>
            <a:ext cx="8785440" cy="68580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Руководитель кружка должен уважать и ценить физический труд кружковцев не на словах, а на деле, создавая в кружке условия для его развития и совершенствования. Надо воспитывать в школьниках отношение к физическому  труду не как к простой бездумной механической работе – своего рода тяжкой необходимостью, - а как к труду, требующему такого же понимания, подготовки и мобилизации способностей человека, как труд умственный. Школьников надо учить творческому подходу к физическому труду, приучать их постоянно думать о его совершенствовании. И каждый, пусть малый и незначительный, шаг того или иного кружковца, направленный на повышение качества, увеличение производительности или облегчение физического труда, следует всемерно поощрять. </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Значительное воспитательное влияние оказывает на школьников практическая направленность и общественная полезность их работы. Переход учащихся от детских игр и забав к непосредственному созданию материально-духовных ценностей очень важен в их жизни. Именно в этот период формируется их общественное лицо. Это требует от руководителя кружка тщательного продумывания тематики практических работ кружковцев и правильной организации их труда. В техническом кружке школьник, может быть, впервые в своей жизни собственным трудом создает что-то, имеющее практическую ценность не только для него, но и для других, - в данном случае для пионерлагеря. Недаром ребята, выполняя свои первые работы, очень волнуются. Они чувствуют, что их труд, их знания и изобретательность уже нужны обществу. Это понимание своей общественной роли воодушевляет ребят, они становятся требовательнее к себе, к своей работе. С ростом практической направленности работ кружковцев и общественной полезности их труда возрастает интерес ребят к своему труду, растет ответственность за порученное дело. </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Любое техническое устройство, изготовленное в кружке, каким бы простым и незначительным оно ни было, должно иметь практическую ценность и применятся в работе лагеря или в пропагандистской деятельности кружка. При этом на изготовленных кружковцами устройствах и конструкциях, которые остаются и используются в кружковой работе или в лагере, желательно прикрепить небольшие ярлычки с указание имен авторов, года и места изготовления. Учащиеся должны видеть, что результаты их труда ценят и берегут. Это будит в детях здоровое честолюбие, вызывает желание трудиться с еще большим старанием.    </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Коллективность труда ребят, общность их интересов создают исключительно благоприятные условия для образования дружного, целеустремленного и работоспособного коллектива. Однако не следует думать, что это придет само по себе, автоматически. Руководитель кружка должен проводить значительную воспитательную работу: постоянно и внимательно вникать во взаимоотношения между кружковцами и своевременно, тактично, используя свое педагогическое мастерство, авторитет и уважение школьников, оказывать соответствующее влияние на них. </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Прежде всего, это относится к взаимоотношениям между старшими, опытными членами кружка, с одной стороны, и новичками, с другой. Часто конструирование сложных и трудоемких устройств осуществляется не отдельными ребятами, а группами по нескольку человек. Конечно, во главе такой группы обычно стоит наиболее знающий и опытный кружковец. Очень важно влияние, которое оказывает старший член кружка на своих маленьких товарищей по работе: ведь они совсем неладно пришли в кружок, у них еще нет никаких знаний, опыта, навыков. Резкость и прямолинейность в суждениях, часто свойственные юношескому возрасту, отсутствие терпеливого и всестороннего изучения ошибок в работе начинающих кружковцев и причин, их вызывающих, нередко приводят к порче отношений между членами кружка. </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0" y="0"/>
            <a:ext cx="8964720" cy="68580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Руководитель не должен пускать это дело на самотек. Юному наставнику нужно объяснить, что прежде чем делать выводы о работе своих товарищей, следует вникнуть в причины их ошибок. Он должен самокритично оценить свое руководство ребятами – все ли им сделано в обучении и инструктировании доверенных ему кружковцев, чтобы избежать недостатков в работе новичков. Ему надо помочь выяснить причину плохой работы. Может быть (да и почти наверняка), она вызвана не халатностью и безответственностью младших кружковцев, а их незнанием и недостаточным умением. Впрочем, вредна и другая крайность – нетребовательность к работе товарищей, беспринципность или, наконец, порочное стремление некоторых старших кружковцев «лучше сделать самому». Высокая требовательность и, вместе с тем, доброжелательность и справедливость, готовность оказать посильную помощь и поделиться своими знаниями и опытом – лучшая основа для создания прочных товарищеских отношений в кружке.</a:t>
            </a:r>
            <a:endParaRPr b="0" lang="en-US" sz="1700" spc="-1" strike="noStrike">
              <a:solidFill>
                <a:srgbClr val="ffffff"/>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	</a:t>
            </a:r>
            <a:r>
              <a:rPr b="0" lang="en-US" sz="1700" spc="-1" strike="noStrike">
                <a:solidFill>
                  <a:srgbClr val="ffffff"/>
                </a:solidFill>
                <a:latin typeface="Verdana"/>
              </a:rPr>
              <a:t>	</a:t>
            </a:r>
            <a:r>
              <a:rPr b="0" lang="en-US" sz="1700" spc="-1" strike="noStrike">
                <a:solidFill>
                  <a:srgbClr val="ffffff"/>
                </a:solidFill>
                <a:latin typeface="Verdana"/>
              </a:rPr>
              <a:t>Проводя воспитательную работу со старшими и  опытными ребятами, руководитель не может не оказывать непосредственного влияния и на младших кружковцев. Рассказывая  о достижениях старших членов кружка, надо воспитывать у новичков гордость за своих товарищей, вложивших большой труд в развитии кружка. Руководителю технического кружка необходимо настойчиво, со всей строгостью бороться с проявлениями и безответственного и небрежного отношения к работе, ленью и недисциплинированностью. При этом , резко осуждая провинившихся ребят в глазах коллектива кружка, руководитель должен дать возможность этим кружковцам загладить свою вину, честным и настойчивым трудом заслужить уважение товарищей. Исключение из кружка против воли самого учащегося – из ряда вон выходящая мера. Крайне трудно представить себе обстоятельства, при которых она могла бы быть оправдана.</a:t>
            </a: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179280" y="3429000"/>
            <a:ext cx="4038840" cy="2649600"/>
          </a:xfrm>
          <a:prstGeom prst="rect">
            <a:avLst/>
          </a:prstGeom>
          <a:ln w="0">
            <a:noFill/>
          </a:ln>
        </p:spPr>
      </p:pic>
      <p:sp>
        <p:nvSpPr>
          <p:cNvPr id="376" name="PlaceHolder 1"/>
          <p:cNvSpPr>
            <a:spLocks noGrp="1"/>
          </p:cNvSpPr>
          <p:nvPr>
            <p:ph/>
          </p:nvPr>
        </p:nvSpPr>
        <p:spPr>
          <a:xfrm>
            <a:off x="3995280" y="404280"/>
            <a:ext cx="4969080" cy="6264360"/>
          </a:xfrm>
          <a:prstGeom prst="rect">
            <a:avLst/>
          </a:prstGeom>
          <a:noFill/>
          <a:ln w="0">
            <a:noFill/>
          </a:ln>
        </p:spPr>
        <p:txBody>
          <a:bodyPr lIns="90000" rIns="90000" tIns="46800" bIns="46800" anchor="t">
            <a:normAutofit/>
          </a:bodyPr>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	</a:t>
            </a:r>
            <a:r>
              <a:rPr b="1" lang="ru-RU" sz="1200" spc="-1" strike="noStrike">
                <a:solidFill>
                  <a:srgbClr val="ffffff"/>
                </a:solidFill>
                <a:latin typeface="Verdana"/>
              </a:rPr>
              <a:t>	</a:t>
            </a:r>
            <a:endParaRPr b="0" lang="en-US" sz="12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a:t>
            </a:r>
            <a:r>
              <a:rPr b="1" lang="ru-RU" sz="1800" spc="-1" strike="noStrike">
                <a:solidFill>
                  <a:srgbClr val="ffffff"/>
                </a:solidFill>
                <a:latin typeface="Verdana"/>
              </a:rPr>
              <a:t>	</a:t>
            </a:r>
            <a:r>
              <a:rPr b="1" lang="ru-RU" sz="1800" spc="-1" strike="noStrike">
                <a:solidFill>
                  <a:srgbClr val="ffffff"/>
                </a:solidFill>
                <a:latin typeface="Verdana"/>
              </a:rPr>
              <a:t>Изучение теоретических основ   радиоэлектронике в кружк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Многие юные радиолюбители, еще только начавшие знакомиться с азами техники, жалуются своим руководителям на то, что уж очень мало сходства между принципиальной схемой любого радиоустройства и его же монтажной схемой. Иными словами, в глазах начинающих зачастую слишком велик разрыв между теорией и практикой электрони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Окончательно преодолеть этот разрыв можно, разумеется, только упорной и систематической работой. Несколько сгладить переход учеников от теории к практике, сделать его более постепенным и естественным помогут радиокуби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377" name="" descr=""/>
          <p:cNvPicPr/>
          <p:nvPr/>
        </p:nvPicPr>
        <p:blipFill>
          <a:blip r:embed="rId2"/>
          <a:stretch/>
        </p:blipFill>
        <p:spPr>
          <a:xfrm>
            <a:off x="179280" y="476280"/>
            <a:ext cx="4032360" cy="2687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539280" y="0"/>
            <a:ext cx="7993080" cy="652464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Verdana"/>
              </a:rPr>
              <a:t>	</a:t>
            </a:r>
            <a:r>
              <a:rPr b="0" lang="ru-RU" sz="4000" spc="-1" strike="noStrike">
                <a:solidFill>
                  <a:srgbClr val="ffffff"/>
                </a:solidFill>
                <a:latin typeface="Verdana"/>
              </a:rPr>
              <a:t>	</a:t>
            </a:r>
            <a:r>
              <a:rPr b="0" lang="ru-RU" sz="1800" spc="-1" strike="noStrike">
                <a:solidFill>
                  <a:srgbClr val="ffffff"/>
                </a:solidFill>
                <a:latin typeface="Verdana"/>
              </a:rPr>
              <a:t>Что же это тако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Радиокубики – это пластмассовые коробочки, в которые вмонтированы различные радиодетали и магниты, притягивающие кубики друг к другу и соединяющие их в работающее устройство на каждом кубике  изображено условное обозначение находящихся в нем деталей. Имея достаточный набор кубиков, можно в считанные минуты собрать из нихсамые различные устройства – от простейшего детекторного до громкоговорящего приемника и даже узлов электронной вычислительной машины (ЭВМ). Устройства собираются на металлической пластине являющейся одновременно общей «массой». Источником питания служат «Крона»,  две батарейки 3336Л или выпрямитель.</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 конструкции радиокубиков минимум дефицитных деталей. Так, вместо динамических головок используется простейший телефон марки ТМ – 2А, громкость звучания которого вполне достаточна для занятий радиоэлектроникой.</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При экспериментах с кубиками не нужны кусачки, плоскогубцы, паяльники, провода. Для начала потребуются  10 кубиков и металлическая плата, к которой притягиваются кубики и на которой производится сборка.</a:t>
            </a:r>
            <a:r>
              <a:rPr b="0" lang="ru-RU"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c3aa"/>
                </a:solidFill>
                <a:latin typeface="Arial"/>
              </a:rPr>
              <a:t>4. Программа курса.</a:t>
            </a:r>
            <a:endParaRPr b="0" lang="en-US" sz="2800" spc="-1" strike="noStrike">
              <a:solidFill>
                <a:srgbClr val="c4c3aa"/>
              </a:solidFill>
              <a:latin typeface="Arial"/>
            </a:endParaRPr>
          </a:p>
        </p:txBody>
      </p:sp>
      <p:sp>
        <p:nvSpPr>
          <p:cNvPr id="380" name="PlaceHolder 2"/>
          <p:cNvSpPr>
            <a:spLocks noGrp="1"/>
          </p:cNvSpPr>
          <p:nvPr>
            <p:ph/>
          </p:nvPr>
        </p:nvSpPr>
        <p:spPr>
          <a:xfrm>
            <a:off x="0" y="907560"/>
            <a:ext cx="9144000" cy="5689800"/>
          </a:xfrm>
          <a:prstGeom prst="rect">
            <a:avLst/>
          </a:prstGeom>
          <a:noFill/>
          <a:ln w="0">
            <a:noFill/>
          </a:ln>
        </p:spPr>
        <p:txBody>
          <a:bodyPr lIns="90000" rIns="90000" tIns="46800" bIns="46800" anchor="t">
            <a:normAutofit fontScale="97000"/>
          </a:bodyPr>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a:t>
            </a:r>
            <a:r>
              <a:rPr b="1" lang="ru-RU" sz="1800" spc="-1" strike="noStrike">
                <a:solidFill>
                  <a:srgbClr val="ffffff"/>
                </a:solidFill>
                <a:latin typeface="Verdana"/>
              </a:rPr>
              <a:t>Пояснительная записка</a:t>
            </a:r>
            <a:endParaRPr b="0" lang="en-US" sz="1800" spc="-1" strike="noStrike">
              <a:solidFill>
                <a:srgbClr val="ffffff"/>
              </a:solidFill>
              <a:latin typeface="Verdana"/>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Данная программа составлена на основе программы по курсу «радиотехническое конструирование», апробированной автором на радиотехническом кружке.</a:t>
            </a:r>
            <a:endParaRPr b="0" lang="en-US" sz="1800" spc="-1" strike="noStrike">
              <a:solidFill>
                <a:srgbClr val="ffffff"/>
              </a:solidFill>
              <a:latin typeface="Verdana"/>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1" i="1" lang="ru-RU" sz="1800" spc="-1" strike="noStrike">
                <a:solidFill>
                  <a:srgbClr val="ffffff"/>
                </a:solidFill>
                <a:latin typeface="Verdana"/>
              </a:rPr>
              <a:t>Цели и задачи.</a:t>
            </a:r>
            <a:endParaRPr b="0" lang="en-US" sz="1800" spc="-1" strike="noStrike">
              <a:solidFill>
                <a:srgbClr val="ffffff"/>
              </a:solidFill>
              <a:latin typeface="Verdana"/>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Целью  данной программы  является обучение воспитанников основам радиоэлектроники с  ориентацией их на получение радиотехнических и радиоинженерных специальностей в колледжах, вузах.</a:t>
            </a:r>
            <a:endParaRPr b="0" lang="en-US" sz="1800" spc="-1" strike="noStrike">
              <a:solidFill>
                <a:srgbClr val="ffffff"/>
              </a:solidFill>
              <a:latin typeface="Verdana"/>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 основу образования по данной программе положен принцип интеграции теоретического обучения с процессом практической исследовательской, самостоятельной научной  деятельности воспитанников и технико-технологического  конструирования, который  определяет задач:</a:t>
            </a:r>
            <a:endParaRPr b="0" lang="en-US" sz="1800" spc="-1" strike="noStrike">
              <a:solidFill>
                <a:srgbClr val="ffffff"/>
              </a:solidFill>
              <a:latin typeface="Verdana"/>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формирование творческой  личности с активной позицией к самообразованию и творчеству;</a:t>
            </a:r>
            <a:endParaRPr b="0" lang="en-US" sz="1800" spc="-1" strike="noStrike">
              <a:solidFill>
                <a:srgbClr val="ffffff"/>
              </a:solidFill>
              <a:latin typeface="Verdana"/>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ранняя ориентация на новейшие технологии и методы организации  практической деятельности в сфере радиоэлектроники;</a:t>
            </a:r>
            <a:endParaRPr b="0" lang="en-US" sz="1800" spc="-1" strike="noStrike">
              <a:solidFill>
                <a:srgbClr val="ffffff"/>
              </a:solidFill>
              <a:latin typeface="Verdana"/>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формирование навыков современного организационно-экономического мышления, обеспечивающих социальную адаптацию в условиях современных рыночных отношений;</a:t>
            </a:r>
            <a:endParaRPr b="0" lang="en-US" sz="1800" spc="-1" strike="noStrike">
              <a:solidFill>
                <a:srgbClr val="ffffff"/>
              </a:solidFill>
              <a:latin typeface="Verdana"/>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приобретение навыков коллективного труда;</a:t>
            </a:r>
            <a:endParaRPr b="0" lang="en-US" sz="1800" spc="-1" strike="noStrike">
              <a:solidFill>
                <a:srgbClr val="ffffff"/>
              </a:solidFill>
              <a:latin typeface="Verdana"/>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организация разработок технико-технологических проектов. </a:t>
            </a:r>
            <a:endParaRPr b="0" lang="en-US" sz="1800" spc="-1" strike="noStrike">
              <a:solidFill>
                <a:srgbClr val="ffffff"/>
              </a:solidFill>
              <a:latin typeface="Verdana"/>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0" y="0"/>
            <a:ext cx="8964720" cy="6858000"/>
          </a:xfrm>
          <a:prstGeom prst="rect">
            <a:avLst/>
          </a:prstGeom>
          <a:noFill/>
          <a:ln w="0">
            <a:noFill/>
          </a:ln>
        </p:spPr>
        <p:txBody>
          <a:bodyPr lIns="90000" rIns="90000" tIns="46800" bIns="46800" anchor="t">
            <a:normAutofit fontScale="97000"/>
          </a:bodyPr>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Особенности программы</a:t>
            </a:r>
            <a:endParaRPr b="0" lang="en-US" sz="1800" spc="-1" strike="noStrike">
              <a:solidFill>
                <a:srgbClr val="ffffff"/>
              </a:solidFill>
              <a:latin typeface="Verdana"/>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Программа рассчитана на 3 года  обучения  для 6-11 классов: первый год обучения – 144 часа, второй и третий – 216 часов. Количество обучаемых в группе 8-10 человек. </a:t>
            </a:r>
            <a:endParaRPr b="0" lang="en-US" sz="1800" spc="-1" strike="noStrike">
              <a:solidFill>
                <a:srgbClr val="ffffff"/>
              </a:solidFill>
              <a:latin typeface="Verdana"/>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По сложности радиотехническое конструирование занимает одно из первых  мест в техническом творчестве, поэтому не все желающие могут освоить этот курс, но на первый год  обучения  рекомендуется  принимать всех, кто проявил интерес, построить занятия так, чтобы заинтересовать всех ребят,  найти каждому из них дело по душе.</a:t>
            </a:r>
            <a:endParaRPr b="0" lang="en-US" sz="1800" spc="-1" strike="noStrike">
              <a:solidFill>
                <a:srgbClr val="ffffff"/>
              </a:solidFill>
              <a:latin typeface="Verdana"/>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Содержание программы разработано на основе  системного анализа технических средств  радио электроники  и принципа типичности. Сущность  этого принципа  состоит в том ,  что вместо изучения всех разновидностей электрорадиоэлементов электронной аппаратуры ,  приборов, схем и систем определённого класса рассматривают лишь типичные, в которых  раскрываются характерные и наиболее устойчивыепризнаки всего класса.  Одновременно уделяется внимание и тем принципиальным теоретическим положениям, которые лежат в основе работы ведущих групп радиоэлектронных элементов, схем и систем. Такой подход позволяет рассчитывать на сознательное и творческое усвоение закономерностей радиоэлектроники с возможностью их реализации в изменившихся условиях, а также в продуктивном использовании в практической и опытно-конструкторско деятельности.</a:t>
            </a:r>
            <a:endParaRPr b="0" lang="en-US" sz="1800" spc="-1" strike="noStrike">
              <a:solidFill>
                <a:srgbClr val="ffffff"/>
              </a:solidFill>
              <a:latin typeface="Verdana"/>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 процессе теоретического  обучения воспитанники знакомятся с назначением, структурой и устройством электрорадиоэлементов и схем, с технологическими основами сборки и монтажа радиоаппаратуры, основами полупроводниковой электроники, полупроводниковыми приборами, импульсной и телевизионной техники, средствами отображения информации, историей  и перспективами развития радиотехники и электроники.</a:t>
            </a:r>
            <a:endParaRPr b="0" lang="en-US" sz="1800" spc="-1" strike="noStrike">
              <a:solidFill>
                <a:srgbClr val="ffffff"/>
              </a:solidFill>
              <a:latin typeface="Verdana"/>
            </a:endParaRPr>
          </a:p>
          <a:p>
            <a:pPr marL="332640" indent="-332640" algn="just">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Оглавление.</a:t>
            </a:r>
            <a:endParaRPr b="0" lang="en-US" sz="4400" spc="-1" strike="noStrike">
              <a:solidFill>
                <a:srgbClr val="c4c3aa"/>
              </a:solidFill>
              <a:latin typeface="Arial"/>
            </a:endParaRPr>
          </a:p>
        </p:txBody>
      </p:sp>
      <p:sp>
        <p:nvSpPr>
          <p:cNvPr id="338" name="PlaceHolder 2"/>
          <p:cNvSpPr>
            <a:spLocks noGrp="1"/>
          </p:cNvSpPr>
          <p:nvPr>
            <p:ph/>
          </p:nvPr>
        </p:nvSpPr>
        <p:spPr>
          <a:xfrm>
            <a:off x="179280" y="1599840"/>
            <a:ext cx="8785440" cy="4530600"/>
          </a:xfrm>
          <a:prstGeom prst="rect">
            <a:avLst/>
          </a:prstGeom>
          <a:noFill/>
          <a:ln w="0">
            <a:noFill/>
          </a:ln>
        </p:spPr>
        <p:txBody>
          <a:bodyPr lIns="90000" rIns="90000" tIns="46800" bIns="46800" anchor="t">
            <a:normAutofit/>
          </a:bodyPr>
          <a:p>
            <a:pPr marL="609480" indent="-609480">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редисловие.</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ек электротехники и радиоэлектроники.</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Материально-техническое и кадровое обеспечение.</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Комплектование учебных групп.</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рограмма курса. </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Результативность.</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0" y="0"/>
            <a:ext cx="8964720" cy="6858000"/>
          </a:xfrm>
          <a:prstGeom prst="rect">
            <a:avLst/>
          </a:prstGeom>
          <a:noFill/>
          <a:ln w="0">
            <a:noFill/>
          </a:ln>
        </p:spPr>
        <p:txBody>
          <a:bodyPr lIns="90000" rIns="90000" tIns="46800" bIns="46800" anchor="t">
            <a:normAutofit fontScale="99000"/>
          </a:bodyPr>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На основе  длительной экспериментальной проверки содержания программы сделана доработка её с учётом включения тем, удовлетворяющих современным интересам, увлечениям учащихся как в теоретическом материале, так и для самостоятельного конструирования и моделирования разнообразных средств электронной автоматики.</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На практических занятиях воспитанники изучают техническую документацию, материалы, инструменты, которые используются при сборочных и монтажных работах, технологическую последовательность подготовки к монтажу и пайке электрорадиоэлементов РЭА и изготовления схем, узлов и блоков радиоаппаратуры, требования, предъявляемые к качеству готовой продукции. Основными методами изложения теоретических сведений на практических занятиях являются лекция и рассказ.</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Программой предусмотрено проведение практикума начинающего радиолюбителя, который включает проведение лабораторно-практических, исследовательских работ. Выполняя специальные задания, воспитанники приобретают общетрудовые, специальные и профессиональные умения и навыки, необходимые  для монтажа и сборки радиоэлектронной аппаратуры, которые закрепляются в дальнейшем в процессе разработки проекта. Содержание практических работ и виды проектируемых объектов могут уточняться в зависимости от желания учащихся, наличия материалов, средств и др. На третьем году обучения практикум и проект являются основными в процессе конструирования.</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С целью воспитания у школьников интереса к профессиональной деятельности, направлениям развития и перспективам радиоэлектроники в программу введены сведения по истории становления современной радиотехники и электроники, о ведущих учёных и инженерах в этой области и их открытиях.</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На учебных занятиях следует обращять особое внимание на соблюдение учащимися правил безопасности труда,  противопожарных мероприятий, санитарии и личной гигиены, на выполнение эколого-гигиенитических требований при работе с радиоэлектронной техникой, при монтаже и пайке РЭ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Содержание программы реализуется во взаимосвязи с изучением наук в школе. Теоретические знания значительно углубят знания учащихся по физик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a:t>
            </a:r>
            <a:r>
              <a:rPr b="1" lang="ru-RU" sz="1800" spc="-1" strike="noStrike">
                <a:solidFill>
                  <a:srgbClr val="ffffff"/>
                </a:solidFill>
                <a:latin typeface="Verdana"/>
              </a:rPr>
              <a:t>Моя программа курс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a:t>
            </a:r>
            <a:r>
              <a:rPr b="1" lang="ru-RU" sz="1800" spc="-1" strike="noStrike">
                <a:solidFill>
                  <a:srgbClr val="ffffff"/>
                </a:solidFill>
                <a:latin typeface="Verdana"/>
              </a:rPr>
              <a:t>« радиотехническое конструировани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        </a:t>
            </a:r>
            <a:r>
              <a:rPr b="1" i="1" lang="ru-RU" sz="1800" spc="-1" strike="noStrike">
                <a:solidFill>
                  <a:srgbClr val="ffffff"/>
                </a:solidFill>
                <a:latin typeface="Verdana"/>
              </a:rPr>
              <a:t>1 год обучен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        </a:t>
            </a:r>
            <a:r>
              <a:rPr b="1" i="1" lang="ru-RU" sz="1800" spc="-1" strike="noStrike">
                <a:solidFill>
                  <a:srgbClr val="ffffff"/>
                </a:solidFill>
                <a:latin typeface="Verdana"/>
              </a:rPr>
              <a:t>Тема 1. Введени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Предмет и содержание курса. Значение теоретического и практического материала программы.</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Обсуждение тематики занятий, порядок работы лаборатори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водный инструктаж по технике безопасности при работе с электроинструментами и приборами, питающимися от сети переменного ток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Значение радиоэлектроники для современного обществ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Исторические сведен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Учебные пособия и литература, рекомендованные для освоения курса и самостоятельного изучения.</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Тема 2. Элементы электротехни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Электрический ток и его свойств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Гальванический элемент и батарея элементов – источники постоянного ток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Проводники, полупроводники и непроводники, их свойства и применени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Основные электрические величины (напряжение, сила тока, сопротивлени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Приборы для их измерения: вольтметр, амперметр, омметр.</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Учёные </a:t>
            </a:r>
            <a:r>
              <a:rPr b="0" lang="en-US" sz="1800" spc="-1" strike="noStrike">
                <a:solidFill>
                  <a:srgbClr val="ffffff"/>
                </a:solidFill>
                <a:latin typeface="Verdana"/>
              </a:rPr>
              <a:t>XIX</a:t>
            </a:r>
            <a:r>
              <a:rPr b="0" lang="ru-RU" sz="1800" spc="-1" strike="noStrike">
                <a:solidFill>
                  <a:srgbClr val="ffffff"/>
                </a:solidFill>
                <a:latin typeface="Verdana"/>
              </a:rPr>
              <a:t> ВЕКА: Ампер, Вольт, Ом, Герц, Фарадей.</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Закон Ома и его практическое применение для участка цеп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Понятие о переменном токе и его основных параметрах (период, частота, амплитуд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Авометр – первый измерительный прибор. Назначение и использование авометра в радиолюбительской практике. Правила обращения с ним при измерении напряжения тока и сопротивлен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i="1" lang="ru-RU" sz="1800" spc="-1" strike="noStrike">
                <a:solidFill>
                  <a:srgbClr val="ffffff"/>
                </a:solidFill>
                <a:latin typeface="Verdana"/>
              </a:rPr>
              <a:t>Практическая работ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Ознакомление с устройством гальванических элементо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Изменение тока в цепи, падения напряжения на участках цепи, расчёт сопротивления участка цеп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ыполнение графических электроэлементов с помощью линейки, трафаретов и от ру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Демонтаж радиоаппаратуры. Пайка соединений.</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0" y="0"/>
            <a:ext cx="868680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	</a:t>
            </a:r>
            <a:r>
              <a:rPr b="1" i="1" lang="en-US" sz="1800" spc="-1" strike="noStrike">
                <a:solidFill>
                  <a:srgbClr val="ffffff"/>
                </a:solidFill>
                <a:latin typeface="Verdana"/>
              </a:rPr>
              <a:t>Тема 3.Элементы радиотехни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История возникновения радиотехники. А.С. Попов, русский учёный, изобретатель радио.</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Устройство, электрические свойства и назначение резисторов, конденсатора, катушки индуктивност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Устройство микрофона, головных телефонов, динамической голов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Знакомство с трансформатором, электромагнитным рел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Элементы индикации и сигнализации: газоразрядные индикаторы, полупроводниковые излучающие приборы, знаковые и цифровые индикаторы.</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Кнопки, переключатели. Типы, назначение, характеристики и применени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Условные графические обозначения радиотехнических элементов на схемах, практика черчен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i="1" lang="en-US" sz="1800" spc="-1" strike="noStrike">
                <a:solidFill>
                  <a:srgbClr val="ffffff"/>
                </a:solidFill>
                <a:latin typeface="Verdana"/>
              </a:rPr>
              <a:t>Практическая работ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Измерение сопротивления  резисторов с помощью авометра (омметра). Демонтаж радиоаппаратуры (при наличии). Отработка приёмов пай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Расчёт суммарных сопротивлений и ёмкостей последовательно и параллельно соединенных резисторов, конденсаторо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Сборка и проверка работы простейшего устройства для двусторонней связ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Выполнение графических изображений радиотехнических элементов с помощью линейки, трафаретов и от ру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Тема 4. детекторный радиоприёмник</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История возникновения радиотехники. А.С Попов  русский  ученый, изобретатель радио.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Принципы радиосвязи. Колебательный контур, резонанс и его использование при приеме сигналов радиостанций. Катушки индуктивности, их разновидности и способы изготовления.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	</a:t>
            </a:r>
            <a:r>
              <a:rPr b="0" i="1"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Марки обмоточных проводов.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	</a:t>
            </a:r>
            <a:r>
              <a:rPr b="0" i="1" lang="ru-RU" sz="1800" spc="-1" strike="noStrike">
                <a:solidFill>
                  <a:srgbClr val="ffffff"/>
                </a:solidFill>
                <a:latin typeface="Verdana"/>
              </a:rPr>
              <a:t>Практическая работ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Изготовления нескольких разновидностей детекторных приемников, опыты с ним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       </a:t>
            </a:r>
            <a:r>
              <a:rPr b="1" i="1" lang="ru-RU" sz="1800" spc="-1" strike="noStrike">
                <a:solidFill>
                  <a:srgbClr val="ffffff"/>
                </a:solidFill>
                <a:latin typeface="Verdana"/>
              </a:rPr>
              <a:t>Тема 5.Антенна и заземление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Электромагнитное поле. Длина волны и ее зависимость от частоты колебаний переменного пол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       </a:t>
            </a:r>
            <a:r>
              <a:rPr b="0" lang="ru-RU" sz="1800" spc="-1" strike="noStrike">
                <a:solidFill>
                  <a:srgbClr val="ffffff"/>
                </a:solidFill>
                <a:latin typeface="Verdana"/>
              </a:rPr>
              <a:t>Частоты, на которых ведется радиовещание в диапазонах длинных, средних, коротких, ультракоротких волн. Максвелл, Фарадей, их роль в развитии радиотехники. Назначение антенны и заземлен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Примеры основных типов антенн: штырьевых, ферритовых, комнатных, наружных. Достоинства их и недостатки. Применение их в зависимости от условий радиоприема.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	</a:t>
            </a:r>
            <a:r>
              <a:rPr b="0" i="1" lang="ru-RU" sz="1800" spc="-1" strike="noStrike">
                <a:solidFill>
                  <a:srgbClr val="ffffff"/>
                </a:solidFill>
                <a:latin typeface="Verdana"/>
              </a:rPr>
              <a:t>       </a:t>
            </a:r>
            <a:r>
              <a:rPr b="0" i="1" lang="ru-RU" sz="1800" spc="-1" strike="noStrike">
                <a:solidFill>
                  <a:srgbClr val="ffffff"/>
                </a:solidFill>
                <a:latin typeface="Verdana"/>
              </a:rPr>
              <a:t>Практическая работ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	</a:t>
            </a:r>
            <a:r>
              <a:rPr b="0" i="1" lang="ru-RU" sz="1800" spc="-1" strike="noStrike">
                <a:solidFill>
                  <a:srgbClr val="ffffff"/>
                </a:solidFill>
                <a:latin typeface="Verdana"/>
              </a:rPr>
              <a:t>       </a:t>
            </a:r>
            <a:r>
              <a:rPr b="0" lang="ru-RU" sz="1800" spc="-1" strike="noStrike">
                <a:solidFill>
                  <a:srgbClr val="ffffff"/>
                </a:solidFill>
                <a:latin typeface="Verdana"/>
              </a:rPr>
              <a:t>Изготовление комнатной антенны ,проверка ее эффективност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Изготовление наружной антенны. Заменитель внешней антенны - металлическая труба системы отоплен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Тема 6 .Полупроводниковые приборы.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Полупроводниковые материалы и их свойства. Применение их в радиоэлектронике. Современные направления радиоэлектроники. Электропроводимость «р» и «</a:t>
            </a:r>
            <a:r>
              <a:rPr b="0" lang="en-US" sz="1800" spc="-1" strike="noStrike">
                <a:solidFill>
                  <a:srgbClr val="ffffff"/>
                </a:solidFill>
                <a:latin typeface="Verdana"/>
              </a:rPr>
              <a:t>n</a:t>
            </a:r>
            <a:r>
              <a:rPr b="0" lang="ru-RU" sz="1800" spc="-1" strike="noStrike">
                <a:solidFill>
                  <a:srgbClr val="ffffff"/>
                </a:solidFill>
                <a:latin typeface="Verdana"/>
              </a:rPr>
              <a:t>» типов. Понятие о «</a:t>
            </a:r>
            <a:r>
              <a:rPr b="0" lang="en-US" sz="1800" spc="-1" strike="noStrike">
                <a:solidFill>
                  <a:srgbClr val="ffffff"/>
                </a:solidFill>
                <a:latin typeface="Verdana"/>
              </a:rPr>
              <a:t>p</a:t>
            </a:r>
            <a:r>
              <a:rPr b="0" lang="ru-RU" sz="1800" spc="-1" strike="noStrike">
                <a:solidFill>
                  <a:srgbClr val="ffffff"/>
                </a:solidFill>
                <a:latin typeface="Verdana"/>
              </a:rPr>
              <a:t>-</a:t>
            </a:r>
            <a:r>
              <a:rPr b="0" lang="en-US" sz="1800" spc="-1" strike="noStrike">
                <a:solidFill>
                  <a:srgbClr val="ffffff"/>
                </a:solidFill>
                <a:latin typeface="Verdana"/>
              </a:rPr>
              <a:t>n</a:t>
            </a:r>
            <a:r>
              <a:rPr b="0" lang="ru-RU" sz="1800" spc="-1" strike="noStrike">
                <a:solidFill>
                  <a:srgbClr val="ffffff"/>
                </a:solidFill>
                <a:latin typeface="Verdana"/>
              </a:rPr>
              <a:t>» переход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Диод – односторонний проводник тока. Схематическое устройство и принцип действия точечного и сплавного диод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Маркировка, основные параметры и применение полупроводниковых диодов в радиоаппаратуре. Стабилизатор: назначение, принцип работы. Светодиоды.</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Транзистор – трёхэлектродный полупроводниковый прибор, его назначение. Схематическое устройство и принцип работы биполярных транзисторов структур «</a:t>
            </a:r>
            <a:r>
              <a:rPr b="0" lang="en-US" sz="1800" spc="-1" strike="noStrike">
                <a:solidFill>
                  <a:srgbClr val="ffffff"/>
                </a:solidFill>
                <a:latin typeface="Verdana"/>
              </a:rPr>
              <a:t>n</a:t>
            </a:r>
            <a:r>
              <a:rPr b="0" lang="ru-RU" sz="1800" spc="-1" strike="noStrike">
                <a:solidFill>
                  <a:srgbClr val="ffffff"/>
                </a:solidFill>
                <a:latin typeface="Verdana"/>
              </a:rPr>
              <a:t>-</a:t>
            </a:r>
            <a:r>
              <a:rPr b="0" lang="en-US" sz="1800" spc="-1" strike="noStrike">
                <a:solidFill>
                  <a:srgbClr val="ffffff"/>
                </a:solidFill>
                <a:latin typeface="Verdana"/>
              </a:rPr>
              <a:t>p</a:t>
            </a:r>
            <a:r>
              <a:rPr b="0" lang="ru-RU" sz="1800" spc="-1" strike="noStrike">
                <a:solidFill>
                  <a:srgbClr val="ffffff"/>
                </a:solidFill>
                <a:latin typeface="Verdana"/>
              </a:rPr>
              <a:t>-</a:t>
            </a:r>
            <a:r>
              <a:rPr b="0" lang="en-US" sz="1800" spc="-1" strike="noStrike">
                <a:solidFill>
                  <a:srgbClr val="ffffff"/>
                </a:solidFill>
                <a:latin typeface="Verdana"/>
              </a:rPr>
              <a:t>n</a:t>
            </a:r>
            <a:r>
              <a:rPr b="0" lang="ru-RU" sz="1800" spc="-1" strike="noStrike">
                <a:solidFill>
                  <a:srgbClr val="ffffff"/>
                </a:solidFill>
                <a:latin typeface="Verdana"/>
              </a:rPr>
              <a:t>» и  «</a:t>
            </a:r>
            <a:r>
              <a:rPr b="0" lang="en-US" sz="1800" spc="-1" strike="noStrike">
                <a:solidFill>
                  <a:srgbClr val="ffffff"/>
                </a:solidFill>
                <a:latin typeface="Verdana"/>
              </a:rPr>
              <a:t>p</a:t>
            </a:r>
            <a:r>
              <a:rPr b="0" lang="ru-RU" sz="1800" spc="-1" strike="noStrike">
                <a:solidFill>
                  <a:srgbClr val="ffffff"/>
                </a:solidFill>
                <a:latin typeface="Verdana"/>
              </a:rPr>
              <a:t>-</a:t>
            </a:r>
            <a:r>
              <a:rPr b="0" lang="en-US" sz="1800" spc="-1" strike="noStrike">
                <a:solidFill>
                  <a:srgbClr val="ffffff"/>
                </a:solidFill>
                <a:latin typeface="Verdana"/>
              </a:rPr>
              <a:t>n</a:t>
            </a:r>
            <a:r>
              <a:rPr b="0" lang="ru-RU" sz="1800" spc="-1" strike="noStrike">
                <a:solidFill>
                  <a:srgbClr val="ffffff"/>
                </a:solidFill>
                <a:latin typeface="Verdana"/>
              </a:rPr>
              <a:t>-</a:t>
            </a:r>
            <a:r>
              <a:rPr b="0" lang="en-US" sz="1800" spc="-1" strike="noStrike">
                <a:solidFill>
                  <a:srgbClr val="ffffff"/>
                </a:solidFill>
                <a:latin typeface="Verdana"/>
              </a:rPr>
              <a:t>p</a:t>
            </a:r>
            <a:r>
              <a:rPr b="0" lang="ru-RU" sz="1800" spc="-1" strike="noStrike">
                <a:solidFill>
                  <a:srgbClr val="ffffff"/>
                </a:solidFill>
                <a:latin typeface="Verdana"/>
              </a:rPr>
              <a:t>» типо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Графическое изображение транзисторов разных структур на принципиальных схемах.</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Полярность подключения источников питания. Способы включения биполярных транзисторов в каскадах радиотехнических устройств: по схеме с общим эмиттером (ОЭ), по схеме с общим коллектором (ОК), по схеме с общей базой (ОБ). Понятие о входном и выходном сопротивление транзисторного каскада. Работа транзистора в режиме усиления и переключен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Классификация и маркировка биполярных транзисторов широкого применения. Полевой транзистор: схематическое устройство, принцип действия, обозначение на схемах. Применение полевых транзисторо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i="1" lang="ru-RU" sz="1800" spc="-1" strike="noStrike">
                <a:solidFill>
                  <a:srgbClr val="ffffff"/>
                </a:solidFill>
                <a:latin typeface="Verdana"/>
              </a:rPr>
              <a:t>Практическая работ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	</a:t>
            </a:r>
            <a:r>
              <a:rPr b="0" i="1" lang="ru-RU" sz="1800" spc="-1" strike="noStrike">
                <a:solidFill>
                  <a:srgbClr val="ffffff"/>
                </a:solidFill>
                <a:latin typeface="Verdana"/>
              </a:rPr>
              <a:t>      </a:t>
            </a:r>
            <a:r>
              <a:rPr b="0" lang="ru-RU" sz="1800" spc="-1" strike="noStrike">
                <a:solidFill>
                  <a:srgbClr val="ffffff"/>
                </a:solidFill>
                <a:latin typeface="Verdana"/>
              </a:rPr>
              <a:t>Знакомство с различными конструкциями диодов, транзисторов.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Опыт, иллюстрирующие свойства диодов, работу биполярного транзистора в режиме усиления и переключения. Измерение прямого и обратного сопротивления диода омметром. Проверка работоспособности транзисторов с помощью авометра. Изготовление транзисторного пробник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1" i="1" lang="en-US" sz="1800" spc="-1" strike="noStrike">
                <a:solidFill>
                  <a:srgbClr val="ffffff"/>
                </a:solidFill>
                <a:latin typeface="Verdana"/>
              </a:rPr>
              <a:t>Тема 7. Простые транзисторные усилител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Усилитель звуковой частоты (ЗЧ) составная часть  радиоприемника, телевизора, магнитофона и других устройств.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Назначение элементов в   одно-, двух-, и трехкаскадное усилителях ЗЧ.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Усилитель напряжения и усилитель мощности. Принцип действия двухтактного усилителя мощности.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Основные характеристики УЗЧ: выходная мощность, сопротивление нагрузки усилителя, чувствительность, полярность источника питан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Практическая работа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Техника монтажа, методы проверки и налаживания усилителей.</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Изготовления простейшего усилителя звуковой частоты на транзисторах. Поиск неисправностей в УЗЧ.</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Изготовления двустороннего телефон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	</a:t>
            </a:r>
            <a:r>
              <a:rPr b="1" i="1" lang="en-US" sz="1800" spc="-1" strike="noStrike">
                <a:solidFill>
                  <a:srgbClr val="ffffff"/>
                </a:solidFill>
                <a:latin typeface="Verdana"/>
              </a:rPr>
              <a:t>Тема 8 .Простейшие транзисторные приемни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Принцип работы приемника прямого усиления. Усилительные каскады высокой частоты (УВЧ).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Усилительные каскады звуковой частоты (УЗЧ).  Работа амплитудного детектора. Полоса пропускания приемника.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Практическая работа</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Изготовление приемников прямого усиления на одном, двух и трех транзисторах, а также с использованием полевого транзистора. Вычерчивание принципиальных схем. Макетирование.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	</a:t>
            </a:r>
            <a:r>
              <a:rPr b="1" i="1" lang="en-US" sz="1800" spc="-1" strike="noStrike">
                <a:solidFill>
                  <a:srgbClr val="ffffff"/>
                </a:solidFill>
                <a:latin typeface="Verdana"/>
              </a:rPr>
              <a:t>Тема 9. Понятие об интегральных схемах и их применени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Интегральные микросхемы – миниатюрно е  электронное устройство. Их применение в современной радиоэлектронике. Знакомство с аналоговыми и цифровыми микросхемами широкого применения. Использования в любительских радиотехнических устройствах.</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i="1" lang="en-US" sz="1800" spc="-1" strike="noStrike">
                <a:solidFill>
                  <a:srgbClr val="ffffff"/>
                </a:solidFill>
                <a:latin typeface="Verdana"/>
              </a:rPr>
              <a:t>Практическая работ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Демонтаж учебных плат. Чтение и изображение микросхем на принципиальных схемах.</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	</a:t>
            </a:r>
            <a:r>
              <a:rPr b="1" i="1" lang="en-US" sz="1800" spc="-1" strike="noStrike">
                <a:solidFill>
                  <a:srgbClr val="ffffff"/>
                </a:solidFill>
                <a:latin typeface="Verdana"/>
              </a:rPr>
              <a:t>      </a:t>
            </a:r>
            <a:r>
              <a:rPr b="1" i="1" lang="en-US" sz="1800" spc="-1" strike="noStrike">
                <a:solidFill>
                  <a:srgbClr val="ffffff"/>
                </a:solidFill>
                <a:latin typeface="Verdana"/>
              </a:rPr>
              <a:t>Тема  10 . Практикум начинающего радиолюбител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Изготовление конструкций, доступных по уровню сложности воспитанникам первого года обучения и расширяющих их познания в области радиоэлектрони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Работа с источником технической информации. Выбор схемы радиотехнического устройства, планируемого для конструирования. Возможные изменения и дополнен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Выбор способа монтажа. Компоновка и монтаж деталей на   плат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Настройка и регулирование радиотехнического устройства, с помощью измерительных приборов. Внешний вид и конструкция футляра (корпуса) будущего прибора или устройства, удобство пользования им.</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0" y="0"/>
            <a:ext cx="9144000" cy="6130800"/>
          </a:xfrm>
          <a:prstGeom prst="rect">
            <a:avLst/>
          </a:prstGeom>
          <a:noFill/>
          <a:ln w="0">
            <a:noFill/>
          </a:ln>
        </p:spPr>
        <p:txBody>
          <a:bodyPr lIns="90000" rIns="90000" tIns="46800" bIns="46800" anchor="t">
            <a:normAutofit fontScale="99000"/>
          </a:bodyPr>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	</a:t>
            </a:r>
            <a:r>
              <a:rPr b="1" i="1" lang="en-US" sz="1800" spc="-1" strike="noStrike">
                <a:solidFill>
                  <a:srgbClr val="ffffff"/>
                </a:solidFill>
                <a:latin typeface="Verdana"/>
              </a:rPr>
              <a:t>Тема 11. Подведение итогов.</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Выставка конструкций, их авторская демонстрация. Защита проектов. Поощрение наиболее активных воспитанников.</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Примерная тематика рефератов, докладов, проектов.</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1" i="1" lang="en-US" sz="1800" spc="-1" strike="noStrike">
                <a:solidFill>
                  <a:srgbClr val="ffffff"/>
                </a:solidFill>
                <a:latin typeface="Verdana"/>
              </a:rPr>
              <a:t>Воспитанники 1 года обучения должны знать:</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меры безопасности при работе в лаборатории;</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основные электрические величины;</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закон Ома и его практическое применение для участка цепи;</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сведения о переменном токе и его основных параметров (период, частота, амплитуда);</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частотный диапазон радиовещания;</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роль учёных Максвелла, Фарадея, Ома, Герца, Попова  в развитии радиоэлектроники;</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устройство полупроводниковых приборов;</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принцип работы приёмника прямого усиления;</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назначение интегральных микросхем, их использование в радиолюбительских устройствах.</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	</a:t>
            </a:r>
            <a:r>
              <a:rPr b="1" i="1" lang="en-US" sz="1800" spc="-1" strike="noStrike">
                <a:solidFill>
                  <a:srgbClr val="ffffff"/>
                </a:solidFill>
                <a:latin typeface="Verdana"/>
              </a:rPr>
              <a:t>        </a:t>
            </a:r>
            <a:r>
              <a:rPr b="1" i="1" lang="en-US" sz="1800" spc="-1" strike="noStrike">
                <a:solidFill>
                  <a:srgbClr val="ffffff"/>
                </a:solidFill>
                <a:latin typeface="Verdana"/>
              </a:rPr>
              <a:t>Уметь:</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качественно и правильно производить пайку и монтаж радиоэлементов;</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читать простейшие принципиальные схемы радиоустройств;</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разрабатывать и изготовлять печатные платы простейших РЭУ;</a:t>
            </a:r>
            <a:endParaRPr b="0" lang="en-US" sz="1800" spc="-1" strike="noStrike">
              <a:solidFill>
                <a:srgbClr val="ffffff"/>
              </a:solidFill>
              <a:latin typeface="Verdana"/>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пользоваться справочной литературой.</a:t>
            </a:r>
            <a:endParaRPr b="0" lang="en-US" sz="1800" spc="-1" strike="noStrike">
              <a:solidFill>
                <a:srgbClr val="ffffff"/>
              </a:solidFill>
              <a:latin typeface="Verdana"/>
            </a:endParaRPr>
          </a:p>
          <a:p>
            <a:pPr marL="339480" indent="-339480" algn="just">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	</a:t>
            </a:r>
            <a:r>
              <a:rPr b="1" i="1" lang="ru-RU" sz="1800" spc="-1" strike="noStrike">
                <a:solidFill>
                  <a:srgbClr val="ffffff"/>
                </a:solidFill>
                <a:latin typeface="Verdana"/>
              </a:rPr>
              <a:t>2 год обучен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Тема 1. Введени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Общие вопросы организаций работы. Правила безопасности при пользований электросетью, измерительной аппаратурой, станочным оборудованием, слесарным и монтажным инструментом.</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	</a:t>
            </a:r>
            <a:r>
              <a:rPr b="0" i="1" lang="ru-RU" sz="1800" spc="-1" strike="noStrike">
                <a:solidFill>
                  <a:srgbClr val="ffffff"/>
                </a:solidFill>
                <a:latin typeface="Verdana"/>
              </a:rPr>
              <a:t>Практическая работа</a:t>
            </a:r>
            <a:r>
              <a:rPr b="0" lang="ru-RU" sz="1800" spc="-1" strike="noStrike">
                <a:solidFill>
                  <a:srgbClr val="ffffff"/>
                </a:solidFill>
                <a:latin typeface="Verdana"/>
              </a:rPr>
              <a:t>.</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Тема 2.Усилительные каскады радиотехнического устройств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Монофонические усилители. Параметры усилителей: входное сопротивление, чувствительность, выходная мощность, амплитудно-частотная характеристика, коэффициент нелинейных искажений.</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Стереофоническое звуковоспроизведение. Громкоговорители для стереоусилителей. Двухтактный усилитель мощности. Дифференциальный усилитель. Обратные связи в усилителях. Интегральные усилители. Каскад усиления радиочастоты.</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	</a:t>
            </a:r>
            <a:r>
              <a:rPr b="0" i="1" lang="ru-RU" sz="1800" spc="-1" strike="noStrike">
                <a:solidFill>
                  <a:srgbClr val="ffffff"/>
                </a:solidFill>
                <a:latin typeface="Verdana"/>
              </a:rPr>
              <a:t>Практическая работ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Изготовление указанных звуковоспроизводящих устройст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Тема 3. Приёмники прямого усилен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Структурная схема приёмника прямого усиления, его особенности, преимущества и недостат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Понятие о каскадах приёмников (входная цепь, усилитель радиочастоты, детектор, усилитель звуковой частоты). Повышение входной мощности приёмника. Магнитная антенна. Техника монтажа и налаживания приёмников различной сложности.</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68360" y="-243000"/>
            <a:ext cx="8229600" cy="11397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c4c3aa"/>
                </a:solidFill>
                <a:latin typeface="Arial"/>
              </a:rPr>
              <a:t>1. Предисловие.</a:t>
            </a:r>
            <a:br>
              <a:rPr sz="3600"/>
            </a:br>
            <a:endParaRPr b="0" lang="en-US" sz="2800" spc="-1" strike="noStrike">
              <a:solidFill>
                <a:srgbClr val="c4c3aa"/>
              </a:solidFill>
              <a:latin typeface="Arial"/>
            </a:endParaRPr>
          </a:p>
        </p:txBody>
      </p:sp>
      <p:sp>
        <p:nvSpPr>
          <p:cNvPr id="340" name="PlaceHolder 2"/>
          <p:cNvSpPr>
            <a:spLocks noGrp="1"/>
          </p:cNvSpPr>
          <p:nvPr>
            <p:ph/>
          </p:nvPr>
        </p:nvSpPr>
        <p:spPr>
          <a:xfrm>
            <a:off x="0" y="620640"/>
            <a:ext cx="8964720" cy="62373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en-US" sz="1800" spc="-1" strike="noStrike">
                <a:solidFill>
                  <a:srgbClr val="ffffff"/>
                </a:solidFill>
                <a:latin typeface="Verdana"/>
              </a:rPr>
              <a:t>XXI </a:t>
            </a:r>
            <a:r>
              <a:rPr b="0" lang="ru-RU" sz="1800" spc="-1" strike="noStrike">
                <a:solidFill>
                  <a:srgbClr val="ffffff"/>
                </a:solidFill>
                <a:latin typeface="Verdana"/>
              </a:rPr>
              <a:t>на пороге, которого мы стоим станет веком глобального информационного общества. Нетрудно догадаться об предстоящем в ближайшем будущем ещё более интенсивном внедрение электроники в нашу жизнь.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Успехи электро- и радиотехники во многом способствовали прогрессу в различных областях науки и техники, а также помогли внедрению многочисленных изобретений облегчающих повседневную жизнь людей. Электрическое освещение, автомобиль, телефон, радио и телевидение сопровождают нас почти на каждом шагу. Поэтому каждый кто хочет, хорошо ориентироваться в мире современной техники, должен быть знаком с основами электро- и радиотехни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Представить сегодняшнюю жизнь без радиоэлектроники довольно трудно. Она вошла в наш быт и стала его неотемлемой составляющей. Проявить интерес к радиоэлектроники и сделать первые самостоятельные практические шаги в этой области поможет посещение радиокружко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Именно здесь учащаяся молодёжь приобщается к знаниям в области радиотехники и электроники без них сегодня цивилизованному просто не обойтись. Ведь в быту нас окружают самые разнообразные радиотехнические устройства: радиоприёмники и телевизоры, магнитофоны и видиомагнитофоны, радиотелефоны и личные радиостанции, многочисленные бытовые приборы, которые буквально напичканы электроникой. И во всём этом нужно уметь грамотно разбираться, чтобы правильно с ними обращаться, а при необходимости найти и устранить неисправность.</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0" y="189000"/>
            <a:ext cx="9144000" cy="61927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	</a:t>
            </a:r>
            <a:r>
              <a:rPr b="0" i="1" lang="ru-RU" sz="1800" spc="-1" strike="noStrike">
                <a:solidFill>
                  <a:srgbClr val="ffffff"/>
                </a:solidFill>
                <a:latin typeface="Verdana"/>
              </a:rPr>
              <a:t>Практическая работ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Изготовление приёмников прямого усиления типа 1 – </a:t>
            </a:r>
            <a:r>
              <a:rPr b="0" lang="en-US" sz="1800" spc="-1" strike="noStrike">
                <a:solidFill>
                  <a:srgbClr val="ffffff"/>
                </a:solidFill>
                <a:latin typeface="Verdana"/>
              </a:rPr>
              <a:t>V</a:t>
            </a:r>
            <a:r>
              <a:rPr b="0" lang="ru-RU" sz="1800" spc="-1" strike="noStrike">
                <a:solidFill>
                  <a:srgbClr val="ffffff"/>
                </a:solidFill>
                <a:latin typeface="Verdana"/>
              </a:rPr>
              <a:t> – 1, 1 – </a:t>
            </a:r>
            <a:r>
              <a:rPr b="0" lang="en-US" sz="1800" spc="-1" strike="noStrike">
                <a:solidFill>
                  <a:srgbClr val="ffffff"/>
                </a:solidFill>
                <a:latin typeface="Verdana"/>
              </a:rPr>
              <a:t>V</a:t>
            </a:r>
            <a:r>
              <a:rPr b="0" lang="ru-RU" sz="1800" spc="-1" strike="noStrike">
                <a:solidFill>
                  <a:srgbClr val="ffffff"/>
                </a:solidFill>
                <a:latin typeface="Verdana"/>
              </a:rPr>
              <a:t> – 2, 2 – </a:t>
            </a:r>
            <a:r>
              <a:rPr b="0" lang="en-US" sz="1800" spc="-1" strike="noStrike">
                <a:solidFill>
                  <a:srgbClr val="ffffff"/>
                </a:solidFill>
                <a:latin typeface="Verdana"/>
              </a:rPr>
              <a:t>V</a:t>
            </a:r>
            <a:r>
              <a:rPr b="0" lang="ru-RU" sz="1800" spc="-1" strike="noStrike">
                <a:solidFill>
                  <a:srgbClr val="ffffff"/>
                </a:solidFill>
                <a:latin typeface="Verdana"/>
              </a:rPr>
              <a:t> 2. Способ изготовления высококачественного трансформатора на ферритовых кольцах. Рефлексный приёмник на трёх транзисторах. Рефлексный приёмник с низковольтным питанием. Рефлексный приёмник на одном транзисторе, его особенности. Рефлексный приёмник на микросхеме К118УН1Б. Использование ИМСК174ХА32.</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Тема 4.</a:t>
            </a:r>
            <a:r>
              <a:rPr b="0" lang="ru-RU" sz="1800" spc="-1" strike="noStrike">
                <a:solidFill>
                  <a:srgbClr val="ffffff"/>
                </a:solidFill>
                <a:latin typeface="Verdana"/>
              </a:rPr>
              <a:t> </a:t>
            </a:r>
            <a:r>
              <a:rPr b="1" i="1" lang="ru-RU" sz="1800" spc="-1" strike="noStrike">
                <a:solidFill>
                  <a:srgbClr val="ffffff"/>
                </a:solidFill>
                <a:latin typeface="Verdana"/>
              </a:rPr>
              <a:t>Генерирование электрических колебаний.</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Общие сведения о генераторах электрических колебаний. Условия получения электрических колебаний. Отрицательная обратная связь (ООС). Положительная обратная связь (ПОС).</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Генераторы гармонических колебаний. </a:t>
            </a:r>
            <a:r>
              <a:rPr b="0" lang="en-US" sz="1800" spc="-1" strike="noStrike">
                <a:solidFill>
                  <a:srgbClr val="ffffff"/>
                </a:solidFill>
                <a:latin typeface="Verdana"/>
              </a:rPr>
              <a:t>RC</a:t>
            </a:r>
            <a:r>
              <a:rPr b="0" lang="ru-RU" sz="1800" spc="-1" strike="noStrike">
                <a:solidFill>
                  <a:srgbClr val="ffffff"/>
                </a:solidFill>
                <a:latin typeface="Verdana"/>
              </a:rPr>
              <a:t> – генераторы, </a:t>
            </a:r>
            <a:r>
              <a:rPr b="0" lang="en-US" sz="1800" spc="-1" strike="noStrike">
                <a:solidFill>
                  <a:srgbClr val="ffffff"/>
                </a:solidFill>
                <a:latin typeface="Verdana"/>
              </a:rPr>
              <a:t>LC</a:t>
            </a:r>
            <a:r>
              <a:rPr b="0" lang="ru-RU" sz="1800" spc="-1" strike="noStrike">
                <a:solidFill>
                  <a:srgbClr val="ffffff"/>
                </a:solidFill>
                <a:latin typeface="Verdana"/>
              </a:rPr>
              <a:t> – генераторы (с трансформаторной обратной связью, по трёхточечной схеме).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Генераторы импульсных напряжений прямоугольной формы. Превращение усилителя в генератор.</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Автоколебательный и ждущий мультивибраторы. Триггер.</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	</a:t>
            </a:r>
            <a:r>
              <a:rPr b="0" i="1" lang="ru-RU" sz="1800" spc="-1" strike="noStrike">
                <a:solidFill>
                  <a:srgbClr val="ffffff"/>
                </a:solidFill>
                <a:latin typeface="Verdana"/>
              </a:rPr>
              <a:t>Практическая работ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Изготовление простого генератора звуковой частоты. Мультивибратор на двух логических элементах, на двух транзисторах, на основе оперативного усилителя.  Изготовление двухтактной сирены. Изготовление имитатора синусоидальных колебаний на операционном усилителе.</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Тема 5. Питание радиоэлектронных устройств от сети переменного ток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Принцип преобразования переменного напряжения в постоянное. Однополупериодный выпрямитель. Двухполупериодный выпрямитель. Конструкция силовых трансформаторо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Стабилизация выпрямлённого напряжения. Параметрический стабилизатор. Компенсационный стабилизатор.</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Сглаживающие </a:t>
            </a:r>
            <a:r>
              <a:rPr b="0" lang="en-US" sz="1800" spc="-1" strike="noStrike">
                <a:solidFill>
                  <a:srgbClr val="ffffff"/>
                </a:solidFill>
                <a:latin typeface="Verdana"/>
              </a:rPr>
              <a:t>RC</a:t>
            </a:r>
            <a:r>
              <a:rPr b="0" lang="ru-RU" sz="1800" spc="-1" strike="noStrike">
                <a:solidFill>
                  <a:srgbClr val="ffffff"/>
                </a:solidFill>
                <a:latin typeface="Verdana"/>
              </a:rPr>
              <a:t>- фильтры, </a:t>
            </a:r>
            <a:r>
              <a:rPr b="0" lang="en-US" sz="1800" spc="-1" strike="noStrike">
                <a:solidFill>
                  <a:srgbClr val="ffffff"/>
                </a:solidFill>
                <a:latin typeface="Verdana"/>
              </a:rPr>
              <a:t>LC</a:t>
            </a:r>
            <a:r>
              <a:rPr b="0" lang="ru-RU" sz="1800" spc="-1" strike="noStrike">
                <a:solidFill>
                  <a:srgbClr val="ffffff"/>
                </a:solidFill>
                <a:latin typeface="Verdana"/>
              </a:rPr>
              <a:t>- фильтры, выбор конденсаторов Сглаживающих фильтров. Стабилизаторы на основе микросхем.</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	</a:t>
            </a:r>
            <a:r>
              <a:rPr b="0" i="1" lang="ru-RU" sz="1800" spc="-1" strike="noStrike">
                <a:solidFill>
                  <a:srgbClr val="ffffff"/>
                </a:solidFill>
                <a:latin typeface="Verdana"/>
              </a:rPr>
              <a:t>Практическая работ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Изготовление блока питания с регулирующим выходом напряжения. Защита от перегрузки.  Изготовление блока питания на микросхемах КР142ЕН5, КР142ЕН8.</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Тема 6. Электро- и радиоизмерительные приборы лабораторий. Устройство и работа на них.</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Генератор сигналов низкой частоты. Генератор сигналов высокой частоты. Частотомер. Электронные приборы для измерения напряжения, силы тока, сопротивления, ёмкости, индуктивност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	</a:t>
            </a:r>
            <a:r>
              <a:rPr b="0" i="1" lang="ru-RU" sz="1800" spc="-1" strike="noStrike">
                <a:solidFill>
                  <a:srgbClr val="ffffff"/>
                </a:solidFill>
                <a:latin typeface="Verdana"/>
              </a:rPr>
              <a:t>Практическая работ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 </a:t>
            </a:r>
            <a:r>
              <a:rPr b="0" lang="ru-RU" sz="1800" spc="-1" strike="noStrike">
                <a:solidFill>
                  <a:srgbClr val="ffffff"/>
                </a:solidFill>
                <a:latin typeface="Verdana"/>
              </a:rPr>
              <a:t>Практика пользования авометром, универсальным вольтметром.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Исследование сигналов генераторов, при помощи осциллографа, частотомер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Изготовление простейших приборов.</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179280" y="0"/>
            <a:ext cx="896472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Тема 7.Полупроводниковые приборы.</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Устройство и принцип действия триггера, симистора, динистора, варистора, фотодиода, светодиода, варикап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	</a:t>
            </a:r>
            <a:r>
              <a:rPr b="0" i="1" lang="ru-RU" sz="1800" spc="-1" strike="noStrike">
                <a:solidFill>
                  <a:srgbClr val="ffffff"/>
                </a:solidFill>
                <a:latin typeface="Verdana"/>
              </a:rPr>
              <a:t>Практическая работ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Verdana"/>
              </a:rPr>
              <a:t>	</a:t>
            </a:r>
            <a:r>
              <a:rPr b="0" i="1"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Изготовление различных конструкций с применением полупроводниковых приборо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Тема 8. Практикум радиолюбител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Изготовление конструкций, доступных по уровню сложности обучаемым второго года обучен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Конструирование как один из видов технического творчеств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Элементы технической эстети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Работа с источниками технической информаций. Выбор схемы радиотехнического устройства, планируемого для конструирования в лабораторий.</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Разбор по принципиальной схеме работы устройства, возможные упрощения, изменения, дополнен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Изготовление самодельных деталей.</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Компоновка и монтаж деталей на плат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Настройка и регулировка изготовленных радиотехнических устройст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Внешний вид и конструкция футляра (корпуса) будущего прибор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Вычёркивание принципиальных схем с обозначением номиналов радиодеталей, режимов работы активных элементо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Подбор, изготовление деталей, их предварительная проверк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Разметка монтажной платы и монтаж.</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Изменение режимов работы устройства, налаживание и испытани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Составление технической документаций на законченные работы.</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Тема 9. Подведение итогов работы.</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Защита индивидуальных и коллективных проекто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Демонстрация законченных конструкций. Отбор лучших устройств на выставку технического творчества. Выставк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Воспитанники 2 года обучения должны знать:</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правила и меры безопасности, при работе с электроинструментами;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основные характеристики УЗЧ;</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выходную мощность, сопротивление нагрузки усилителя, чувствительность, степень нелинейных искажений;</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общие устройства и принцип работы основных микросхем серий К155, К176, К561 (логика, счётчик, триггеры, дешифраторы, мультиплексоры);</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общие сведения о генераторах электрических колебаний, принципы их работы;</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порядок отыскания неисправностей в различной аппаратур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методику проверки работоспособности отдельных деталей.</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Уметь:</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самостоятельно разрабатывать и изготовлять печатные платы для монтажа радиоаппаратуры средней сложност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пользоваться промышленными электро- и радиоизмерительными приборам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изготовлять самодельные радиоустройства.</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0" y="-360"/>
            <a:ext cx="9144000" cy="6093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	</a:t>
            </a:r>
            <a:r>
              <a:rPr b="1" i="1" lang="en-US" sz="1800" spc="-1" strike="noStrike">
                <a:solidFill>
                  <a:srgbClr val="ffffff"/>
                </a:solidFill>
                <a:latin typeface="Verdana"/>
              </a:rPr>
              <a:t>3-й год обучения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Обучение в группе третьего года индивидуальное. Тематический план обучения составляется воспитанником, при помощи педагога с учётом мотива, увлечений, теоретических и практических знаний и умений, накопленных за предыдущие годы, а также материально-технической базы лабораторий.</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В список приборов и устройств, планируемых для изготовления, включаются изделия повышенной сложности: сетевые блоки питания индивидуального и коллективного пользования, приёмопередатчики, стереофонические усилители для высококачественного воспроизведения звука и др.</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Предпочтение следует отдавать групповой работе, когда знания одних воспитанников дополняются смекалкой других, опытом выполнения монтажа третьих.</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Педагог выполняет роль главного технического конструктора, руководителя проекта, старшего товарища и воспитател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	</a:t>
            </a:r>
            <a:r>
              <a:rPr b="1" i="1" lang="en-US" sz="1800" spc="-1" strike="noStrike">
                <a:solidFill>
                  <a:srgbClr val="ffffff"/>
                </a:solidFill>
                <a:latin typeface="Verdana"/>
              </a:rPr>
              <a:t>Воспитанники 3 года обучения должны знать:</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правила и меры безопасности, при работе с электроинструментам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методы налаживания, испытания смонтированных устройст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элементы технической эстети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основные понятия о системах автоматического регулирования и управления.</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324000" y="333360"/>
            <a:ext cx="8362800" cy="579744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Уметь:</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 самостоятельно разрабатывать печатные платы для монтажа радиоэлектронных устройств средней и повышенной сложност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разрабатывать и изготовлять различные электронные устройства с применением цифровых и аналоговых микросхем;</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грамотно применять электро- и  радиоизмерительные приборы для наладки изготовленных радиоустройст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разрабатывать и конструировать учебно-демонстрационные пособия по радиотехник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Примерная тематика работ.</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Разработка, конструирование и изготовление электронных конструкций с применением цифровых микросхем.</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Сетевые блоки питания с электронной защитой от перегрузок, измерительные генераторы, радиовещательные приёмники на интегральных микросхемах.</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Миниатюрные приёмо-передатчик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Усилители ЗЧ разной степени сложности и назначен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Конструирование светодинамических установок.</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Разработка и конструирование учебно-демонстрационных пособий по радиотехник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Изготовление автоматических устройств, электронных игр.</a:t>
            </a:r>
            <a:endParaRPr b="0" lang="en-US" sz="1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ПРИМЕРНЫЙ ТЕМАТИЧЕСКИЕ ПЛАНЫ</a:t>
            </a:r>
            <a:br>
              <a:rPr sz="2800"/>
            </a:br>
            <a:r>
              <a:rPr b="1" lang="en-US" sz="2800" spc="-1" strike="noStrike">
                <a:solidFill>
                  <a:srgbClr val="c4c3aa"/>
                </a:solidFill>
                <a:latin typeface="Arial"/>
              </a:rPr>
              <a:t>Учебно-тематический план для учащиеся </a:t>
            </a:r>
            <a:br>
              <a:rPr sz="2800"/>
            </a:br>
            <a:r>
              <a:rPr b="1" lang="en-US" sz="2800" spc="-1" strike="noStrike">
                <a:solidFill>
                  <a:srgbClr val="c4c3aa"/>
                </a:solidFill>
                <a:latin typeface="Arial"/>
              </a:rPr>
              <a:t>4-го класса.</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99" name=""/>
          <p:cNvSpPr/>
          <p:nvPr/>
        </p:nvSpPr>
        <p:spPr>
          <a:xfrm>
            <a:off x="3740040" y="9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400" name=""/>
          <p:cNvGraphicFramePr/>
          <p:nvPr/>
        </p:nvGraphicFramePr>
        <p:xfrm>
          <a:off x="0" y="1536840"/>
          <a:ext cx="9144000" cy="5321160"/>
        </p:xfrm>
        <a:graphic>
          <a:graphicData uri="http://schemas.openxmlformats.org/drawingml/2006/table">
            <a:tbl>
              <a:tblPr/>
              <a:tblGrid>
                <a:gridCol w="468360"/>
                <a:gridCol w="1571400"/>
                <a:gridCol w="587520"/>
                <a:gridCol w="649440"/>
                <a:gridCol w="2519280"/>
                <a:gridCol w="647640"/>
                <a:gridCol w="270036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п/п</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Наименование темы</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Всего часов</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Теоретическая часть</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рактическая часть</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Часы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рограмма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Часы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рограмма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Вводное занятие</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Задачи и примерная программа кружка. Общие вопросы организации кружка. Повторение правил безопасности труда на кружковых занятиях. Посещение выставки технического творчества. Демонстрация экспонатов выставки с кратким объяснением принципа их действия  и рассказом об их создателях.</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лектрическая цепь и ее элементы</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Условное графическое обозначение элементов электрической цепи. Проводники и изоляторы, их свойства и применение. Качественный вывод закона Ома. Способы соединения элементов электрической цепи. Действие электрического тока. Требования безопасности при работе с бытовыми электрическими приборами. Опасность короткого замыкания источника тока при сборке электрических цепей.</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Вычерчивание условных графических обозначений элементов электрической цепи. Демонстрация проводимости водного раствора соли, влажной почвы. Сборка электрических цепей  с последовательным, параллельным и смешанным соединениями ламп, переменного резистора, выключателя и источника тока, в результате которого делают качественный вывод закона Ома. Сборка электрических цепей различной сложности.</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graphicFrame>
        <p:nvGraphicFramePr>
          <p:cNvPr id="401" name=""/>
          <p:cNvGraphicFramePr/>
          <p:nvPr/>
        </p:nvGraphicFramePr>
        <p:xfrm>
          <a:off x="0" y="44280"/>
          <a:ext cx="9109080" cy="6813720"/>
        </p:xfrm>
        <a:graphic>
          <a:graphicData uri="http://schemas.openxmlformats.org/drawingml/2006/table">
            <a:tbl>
              <a:tblPr/>
              <a:tblGrid>
                <a:gridCol w="395280"/>
                <a:gridCol w="1440000"/>
                <a:gridCol w="652320"/>
                <a:gridCol w="550800"/>
                <a:gridCol w="2152800"/>
                <a:gridCol w="590400"/>
                <a:gridCol w="3327480"/>
              </a:tblGrid>
              <a:tr h="246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Ознакомлени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с электротехническими элементами и радиодета-лями.</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Тумблерные и кнопочные переключатели, электромагнитное реле. Резисторы и их сопротивления. Конденсаторы и их емкости. Отличия полупроводников от проводников и изоляторов. Диоды, транзисторы и их устройство. Условные и графические обозначения и маркировка радиодеталей.</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борка электрических цепей с использованием ламп, кнопочного переключателя, электромагнита и электромагнитного реле. Сборка электрических цепей с последовательным, параллельным и смешанным соединением резисторов. Параллельное и последовательное соединение конденсаторов. Сборка электрических цепей с применением диодов, резисторов, ламп. Проверка односторонней проводимости переходов транзистора. Проверка работы усилителя в режиме переключателя.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638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Звук и усилитель звуковой частоты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Колеблющиеся тела – источник звука. Амплитуда и частота. Единица частоты. Понятия о постоянном и переменном токе. Микрофон – преобразователь электрических колебаний в звуковые. Устройство телефонного капсюля и его применение. Работа транзистора в режиме усиления. Усилитель частоты на одном транзисторе, на двух транзисторах.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Демонстрация возникновения звуковых волн при колебании тел. Опыты, позволяющие установить зависимость громкости звука от амплитуды и высоты звука от частоты колебаний тел. Сборка различных вариантов однокаскадного и двухкаскадного УВ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810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ереговорные устройства</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ринцип действия переговорных устройств. Варианты переговорных устройств на базе однокаскадного и двухкаскадного усилителей звуковой частоты.</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борка и испытание конструкций переговорных устройств на одном и  двух транзисторах и объяснение роли всех применяемых деталей. Организация игр с использованием переговорных устройств.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graphicFrame>
        <p:nvGraphicFramePr>
          <p:cNvPr id="402" name=""/>
          <p:cNvGraphicFramePr/>
          <p:nvPr/>
        </p:nvGraphicFramePr>
        <p:xfrm>
          <a:off x="34920" y="0"/>
          <a:ext cx="9109080" cy="6858000"/>
        </p:xfrm>
        <a:graphic>
          <a:graphicData uri="http://schemas.openxmlformats.org/drawingml/2006/table">
            <a:tbl>
              <a:tblPr/>
              <a:tblGrid>
                <a:gridCol w="360360"/>
                <a:gridCol w="1438200"/>
                <a:gridCol w="650880"/>
                <a:gridCol w="588960"/>
                <a:gridCol w="2867040"/>
                <a:gridCol w="611280"/>
                <a:gridCol w="2592360"/>
              </a:tblGrid>
              <a:tr h="22860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Мультивибраторы и автоматические устройства.</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ринцип работы симметричного мультивибратора. Зависимость частоты генерации мультивибратора от емкости конденсаторов и сопротивления резисторов. Мультивибратор с усилителем мощности. Мультивибратор в качестве электронных сирен, “мигалок” и переключателей. Принцип работы реле времени. Фоторезистор, работа фотореле.</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борка и испытание мультивибратора в качестве генератора различных звуковых частот. Сборка усилителя мощности для мультивибратора. Сборка на базе мультивибратора электронных сирен (генератор звука переменной частоты), электронных “мигалок” и электронных переключателей ламп. Сборка и испытание реле времени и фотореле.</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0876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Телеграфное устройство. Телефонное устройство с вызовом абонента.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5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Роль телеграфной и телефонной связи в нашей жизни. Работа телеграфного устройства на базе мультивибратора. Работа телефонного устройства на базе двухкаскадного усилителя звуковой частоты. Превращение усилителей звуковой частоты. Превращение усилителей звуковой частоты в мультивибратор для вызова абонента.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5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борка и испытание телеграфного устройства и различных вариантов телефонного устройства с вызовом абонента на связь. Организация игр с применением телеграфного и телефонного устройств.</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843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лектромагнитные волны звуковой частоты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5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онятия об электрических и магнитных полях. Электромагнитное поле и его распространение. Катушка с железным сердечником на выходе усилителя мощности мультивибратора звуковой частоты- источник электромагнитных волн звуковой частоты. Катушка с железным сердечником на входе однокаскадного УЗЧ – приемник электромагнитных  волн звуковой частоты.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5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Сборка передатчика электромагнитных волн звуковой частоты на базе мультивибратора с усилителем мощности и приемника на базе одно-транзисторного УЗЧ. Демонстрация передачи сигнала на расстоянии.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graphicFrame>
        <p:nvGraphicFramePr>
          <p:cNvPr id="403" name=""/>
          <p:cNvGraphicFramePr/>
          <p:nvPr/>
        </p:nvGraphicFramePr>
        <p:xfrm>
          <a:off x="-36360" y="-27000"/>
          <a:ext cx="9145440" cy="6885000"/>
        </p:xfrm>
        <a:graphic>
          <a:graphicData uri="http://schemas.openxmlformats.org/drawingml/2006/table">
            <a:tbl>
              <a:tblPr/>
              <a:tblGrid>
                <a:gridCol w="431640"/>
                <a:gridCol w="2228760"/>
                <a:gridCol w="611280"/>
                <a:gridCol w="488880"/>
                <a:gridCol w="1909800"/>
                <a:gridCol w="523800"/>
                <a:gridCol w="2951280"/>
              </a:tblGrid>
              <a:tr h="44467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Радиоприемник прямого усиления</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Роль радио в нашей жизни. Наша страна – родина радио. Русский ученый А.С. Попов – изобретатель радио. Элементарные сведения о принципах радиосвязи. Радиопередатчики и радиоприемники – непременные элементы в радиосвязи. Устройство, основные элементы и принцип работы приемника прямого усиления.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борка радиоприемника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У-1 на монтажной плате. Подключение внешней антенны и заземление.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382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Заключительное занятие</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5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одведение итогов работы за учебный год. Повторение условных, графических обозначений изученных элементов. Поощрение учащихся, проявивших активность и усердие на занятиях.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5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оревнования по скоростной сборке одной из изученных радиоэлектронных конструкций.</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c3aa"/>
                </a:solidFill>
                <a:latin typeface="Arial"/>
              </a:rPr>
              <a:t>2. Век электротехники и радиоэлектроники.</a:t>
            </a:r>
            <a:br>
              <a:rPr sz="2800"/>
            </a:br>
            <a:endParaRPr b="0" lang="en-US" sz="2800" spc="-1" strike="noStrike">
              <a:solidFill>
                <a:srgbClr val="c4c3aa"/>
              </a:solidFill>
              <a:latin typeface="Arial"/>
            </a:endParaRPr>
          </a:p>
        </p:txBody>
      </p:sp>
      <p:sp>
        <p:nvSpPr>
          <p:cNvPr id="342" name="PlaceHolder 2"/>
          <p:cNvSpPr>
            <a:spLocks noGrp="1"/>
          </p:cNvSpPr>
          <p:nvPr>
            <p:ph/>
          </p:nvPr>
        </p:nvSpPr>
        <p:spPr>
          <a:xfrm>
            <a:off x="0" y="836280"/>
            <a:ext cx="8964720" cy="55818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1.ГДЕ ПРИМЕНЯЕТСЯ ЭЛЕКТРОТЕХНИК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Электротехника и радиоэлектроника</a:t>
            </a:r>
            <a:r>
              <a:rPr b="0" i="1" lang="en-US" sz="1800" spc="-1" strike="noStrike">
                <a:solidFill>
                  <a:srgbClr val="ffffff"/>
                </a:solidFill>
                <a:latin typeface="Verdana"/>
              </a:rPr>
              <a:t>. </a:t>
            </a:r>
            <a:r>
              <a:rPr b="0" lang="en-US" sz="1800" spc="-1" strike="noStrike">
                <a:solidFill>
                  <a:srgbClr val="ffffff"/>
                </a:solidFill>
                <a:latin typeface="Verdana"/>
              </a:rPr>
              <a:t>Разделить значения этих двух слов не просто. Когда говорят об электротехнике, то обычно под этим подразумевают область техники, связанную с применением электромагнитов, генераторов, двигателей, электроосветительных и нагревательных приборов. К радиоэлектронике относят обычно все, касающееся радиотехнических. Телевизионных и других устройств, работающих на электронных лампах и транзисторах.</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У себя дома.</a:t>
            </a:r>
            <a:r>
              <a:rPr b="0" lang="en-US" sz="1800" spc="-1" strike="noStrike">
                <a:solidFill>
                  <a:srgbClr val="ffffff"/>
                </a:solidFill>
                <a:latin typeface="Verdana"/>
              </a:rPr>
              <a:t> Когда мы зажигаем свет щелчком выключателя, мы не задумываемся над тем, что относится к системе электрического освещения. А ведь в ней много интересных устройств, название которых для большинства из нас неизвестны. По мере изучения электротехники мы познакомимся со специальными терминами, аппаратами и оборудованием, к которому они относятся, и узнаем какую роль играет то или иное устройство в системе электрического освещения наших домов.</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В системах электрического освещения современного дома широко применяются обычные или люминесцентные лампы. Кварцевые электрические лампы дают излучения, близкое по спектральному составу к солнечному. Оно способно убить вредные микроорганизмы в воздухе комнаты. Электрические лампы инфракрасного излучения обеспечивают нас лучистой тепловой энергией.</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36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c3aa"/>
                </a:solidFill>
                <a:latin typeface="Arial"/>
              </a:rPr>
              <a:t>Первый год обучения.</a:t>
            </a:r>
            <a:r>
              <a:rPr b="0" lang="en-US" sz="4000" spc="-1" strike="noStrike">
                <a:solidFill>
                  <a:srgbClr val="c4c3aa"/>
                </a:solidFill>
                <a:latin typeface="Arial"/>
              </a:rPr>
              <a:t> </a:t>
            </a:r>
            <a:endParaRPr b="0" lang="en-US" sz="4000" spc="-1" strike="noStrike">
              <a:solidFill>
                <a:srgbClr val="c4c3aa"/>
              </a:solidFill>
              <a:latin typeface="Arial"/>
            </a:endParaRPr>
          </a:p>
        </p:txBody>
      </p:sp>
      <p:graphicFrame>
        <p:nvGraphicFramePr>
          <p:cNvPr id="405" name=""/>
          <p:cNvGraphicFramePr/>
          <p:nvPr/>
        </p:nvGraphicFramePr>
        <p:xfrm>
          <a:off x="0" y="981000"/>
          <a:ext cx="9144000" cy="5877000"/>
        </p:xfrm>
        <a:graphic>
          <a:graphicData uri="http://schemas.openxmlformats.org/drawingml/2006/table">
            <a:tbl>
              <a:tblPr/>
              <a:tblGrid>
                <a:gridCol w="468360"/>
                <a:gridCol w="1590480"/>
                <a:gridCol w="511200"/>
                <a:gridCol w="676440"/>
                <a:gridCol w="2695680"/>
                <a:gridCol w="676080"/>
                <a:gridCol w="2525760"/>
              </a:tblGrid>
              <a:tr h="293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Вводное занятие</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Условное графическое обозначение радиодеталей и элементов электрической цепи.</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борка электрической цепи.</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619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лектрическая пайка и приемы монтажа</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5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Устройство электрического паяльника, потребляемая мощность и рабочее напряжение.  Припои и флюсы. Навесной и печатный монтаж радиодеталей. Технология изготовления печатных плат. Макетная плата. Правила безопасности труда при радиомонтажных работах.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5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Изготовление монтажных плат для макетирования радиоэлектронных конструкций. Подготовка электропаяльника к работе. Залуживание опорных площадок макетной платы и приобретение навыков пайки проводников и радиодеталей.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369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Измерительные приборы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5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Вольтметр – прибор для измерение электрического напряжения. Устройство вольтметра и его включение в электрическую цепь. Амперметр – прибор для измерения силы электрического тока. Устройство амперметра и его включение в электрическую цепь. Омметр – прибор для измерения сопротивления проводников. Простые самодельные пробники для проверки электрических контактов, обмоток катушек. Определение цены деления измерительных приборов.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5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борка простейших электрических цепей, измерение силы тока и напряжения на различных участках. Использование омметра для проверки целостности проводников катушек и определения сопротивления резисторов. Изготовление простейшего пробника их лампы с батареей и из телефонного капсюля с батареей.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graphicFrame>
        <p:nvGraphicFramePr>
          <p:cNvPr id="406" name=""/>
          <p:cNvGraphicFramePr/>
          <p:nvPr/>
        </p:nvGraphicFramePr>
        <p:xfrm>
          <a:off x="1440" y="0"/>
          <a:ext cx="9142560" cy="6858000"/>
        </p:xfrm>
        <a:graphic>
          <a:graphicData uri="http://schemas.openxmlformats.org/drawingml/2006/table">
            <a:tbl>
              <a:tblPr/>
              <a:tblGrid>
                <a:gridCol w="249480"/>
                <a:gridCol w="1081080"/>
                <a:gridCol w="503280"/>
                <a:gridCol w="433080"/>
                <a:gridCol w="3527640"/>
                <a:gridCol w="431640"/>
                <a:gridCol w="2916360"/>
              </a:tblGrid>
              <a:tr h="23162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лементы</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лектротехники</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остоянных электрический ток. Переменный электрический ток. Источники электрического тока: гальванические элементы, аккумуляторы, генераторы транспортных средств, электростанции. Электродвижущая сила источника тока, падение напряжения. Зависимость силы тока от напряжения и сопротивления. Тепловое, химическое и магнитное действие электрического тока. Элементарные понятия об электромагнетизме. Электромагнит. Электромагнитное реле.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оставление электрических цепей из ламп, переменных резисторов и батарей гальванических элементов. Измерение силы тока и напряжения на различных участках цепи. Качественная проверка закона Ома. Сборка цепи с последовательным и параллельным соединением потребителей электрического тока. Испытание электромагнита и электромагнитного реле. Испытание двигателя постоянного тока.</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417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лементы</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лектроники.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Резистор – прибор для регулирования силы тока и напряжения в электрических цепях. Сопротивление и мощность резистора. Типы резисторов и их маркировка. Условные графические обозначения резисторов. Конденсатор – накопитель электрических зарядов. Емкость конденсатора. Единица емкости. Типы конденсаторов. Конденсаторы переменной емкости и построечные конденсаторы. Маркировка и условные графические обозначения конденсаторов. Полупроводниковые приборы. Диоды и их устройство. Понятие о р-</a:t>
                      </a:r>
                      <a:r>
                        <a:rPr b="0" lang="en-US" sz="1200" spc="-1" strike="noStrike">
                          <a:solidFill>
                            <a:srgbClr val="ffffff"/>
                          </a:solidFill>
                          <a:latin typeface="Times New Roman"/>
                          <a:ea typeface="Times New Roman"/>
                        </a:rPr>
                        <a:t>n</a:t>
                      </a:r>
                      <a:r>
                        <a:rPr b="0" lang="ru-RU" sz="1200" spc="-1" strike="noStrike">
                          <a:solidFill>
                            <a:srgbClr val="ffffff"/>
                          </a:solidFill>
                          <a:latin typeface="Times New Roman"/>
                          <a:ea typeface="Times New Roman"/>
                        </a:rPr>
                        <a:t> переходе. Выпрямительные свойства диода. Маркировка основные параметры и условное графическое  обозначение диода. Транзисторы. Биполярные транзисторы </a:t>
                      </a:r>
                      <a:r>
                        <a:rPr b="0" lang="en-US" sz="1200" spc="-1" strike="noStrike">
                          <a:solidFill>
                            <a:srgbClr val="ffffff"/>
                          </a:solidFill>
                          <a:latin typeface="Times New Roman"/>
                          <a:ea typeface="Times New Roman"/>
                        </a:rPr>
                        <a:t>p</a:t>
                      </a:r>
                      <a:r>
                        <a:rPr b="0" lang="ru-RU" sz="1200" spc="-1" strike="noStrike">
                          <a:solidFill>
                            <a:srgbClr val="ffffff"/>
                          </a:solidFill>
                          <a:latin typeface="Times New Roman"/>
                          <a:ea typeface="Times New Roman"/>
                        </a:rPr>
                        <a:t>-</a:t>
                      </a:r>
                      <a:r>
                        <a:rPr b="0" lang="en-US" sz="1200" spc="-1" strike="noStrike">
                          <a:solidFill>
                            <a:srgbClr val="ffffff"/>
                          </a:solidFill>
                          <a:latin typeface="Times New Roman"/>
                          <a:ea typeface="Times New Roman"/>
                        </a:rPr>
                        <a:t>n</a:t>
                      </a:r>
                      <a:r>
                        <a:rPr b="0" lang="ru-RU" sz="1200" spc="-1" strike="noStrike">
                          <a:solidFill>
                            <a:srgbClr val="ffffff"/>
                          </a:solidFill>
                          <a:latin typeface="Times New Roman"/>
                          <a:ea typeface="Times New Roman"/>
                        </a:rPr>
                        <a:t>-</a:t>
                      </a:r>
                      <a:r>
                        <a:rPr b="0" lang="en-US" sz="1200" spc="-1" strike="noStrike">
                          <a:solidFill>
                            <a:srgbClr val="ffffff"/>
                          </a:solidFill>
                          <a:latin typeface="Times New Roman"/>
                          <a:ea typeface="Times New Roman"/>
                        </a:rPr>
                        <a:t>p</a:t>
                      </a:r>
                      <a:r>
                        <a:rPr b="0" lang="ru-RU" sz="1200" spc="-1" strike="noStrike">
                          <a:solidFill>
                            <a:srgbClr val="ffffff"/>
                          </a:solidFill>
                          <a:latin typeface="Times New Roman"/>
                          <a:ea typeface="Times New Roman"/>
                        </a:rPr>
                        <a:t> и </a:t>
                      </a:r>
                      <a:r>
                        <a:rPr b="0" lang="en-US" sz="1200" spc="-1" strike="noStrike">
                          <a:solidFill>
                            <a:srgbClr val="ffffff"/>
                          </a:solidFill>
                          <a:latin typeface="Times New Roman"/>
                          <a:ea typeface="Times New Roman"/>
                        </a:rPr>
                        <a:t>n</a:t>
                      </a:r>
                      <a:r>
                        <a:rPr b="0" lang="ru-RU" sz="1200" spc="-1" strike="noStrike">
                          <a:solidFill>
                            <a:srgbClr val="ffffff"/>
                          </a:solidFill>
                          <a:latin typeface="Times New Roman"/>
                          <a:ea typeface="Times New Roman"/>
                        </a:rPr>
                        <a:t>-</a:t>
                      </a:r>
                      <a:r>
                        <a:rPr b="0" lang="en-US" sz="1200" spc="-1" strike="noStrike">
                          <a:solidFill>
                            <a:srgbClr val="ffffff"/>
                          </a:solidFill>
                          <a:latin typeface="Times New Roman"/>
                          <a:ea typeface="Times New Roman"/>
                        </a:rPr>
                        <a:t>p</a:t>
                      </a:r>
                      <a:r>
                        <a:rPr b="0" lang="ru-RU" sz="1200" spc="-1" strike="noStrike">
                          <a:solidFill>
                            <a:srgbClr val="ffffff"/>
                          </a:solidFill>
                          <a:latin typeface="Times New Roman"/>
                          <a:ea typeface="Times New Roman"/>
                        </a:rPr>
                        <a:t>-</a:t>
                      </a:r>
                      <a:r>
                        <a:rPr b="0" lang="en-US" sz="1200" spc="-1" strike="noStrike">
                          <a:solidFill>
                            <a:srgbClr val="ffffff"/>
                          </a:solidFill>
                          <a:latin typeface="Times New Roman"/>
                          <a:ea typeface="Times New Roman"/>
                        </a:rPr>
                        <a:t>n</a:t>
                      </a:r>
                      <a:r>
                        <a:rPr b="0" lang="ru-RU" sz="1200" spc="-1" strike="noStrike">
                          <a:solidFill>
                            <a:srgbClr val="ffffff"/>
                          </a:solidFill>
                          <a:latin typeface="Times New Roman"/>
                          <a:ea typeface="Times New Roman"/>
                        </a:rPr>
                        <a:t> – структур, их устройство, условные графическое обозначение, подключения источников питания. Работа транзистора в режиме усиления и переключения. Коэффициент усиления и обратный ток коллектора. Одно- и двухкаскадные УЗЧ. Транзистор в качестве электронного ключа.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Ознакомление с различными типами резисторов, конденсаторов, диодов и транзисторов. Сборка конструкций с ламповыми индикаторами с использованием резисторов, конденсаторов, помогающих объяснить их роль в электрических цепях. Сборка одно- и двухкаскадных УЗЧ. Изготовление переговорных устройств различных конструкций на базе одно и двухкаскадного УЗЧ. Сборка электронного ключа на одном транзисторе с лампой или реле на выходе. Сборка двухпроводного телеграфного устройства на двух мультивибраторах.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graphicFrame>
        <p:nvGraphicFramePr>
          <p:cNvPr id="407" name=""/>
          <p:cNvGraphicFramePr/>
          <p:nvPr/>
        </p:nvGraphicFramePr>
        <p:xfrm>
          <a:off x="0" y="-12600"/>
          <a:ext cx="9144000" cy="6870600"/>
        </p:xfrm>
        <a:graphic>
          <a:graphicData uri="http://schemas.openxmlformats.org/drawingml/2006/table">
            <a:tbl>
              <a:tblPr/>
              <a:tblGrid>
                <a:gridCol w="395280"/>
                <a:gridCol w="1152360"/>
                <a:gridCol w="503280"/>
                <a:gridCol w="505080"/>
                <a:gridCol w="3240000"/>
                <a:gridCol w="504720"/>
                <a:gridCol w="2843280"/>
              </a:tblGrid>
              <a:tr h="22842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лементы электронной автоматики.</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лектроника – основа современной автоматики. Применение автоматических устройств. Понятие и телемеханике. Датчики – электронные “органы чувств” автоматических устройств. Механические тепловые, электрические, оптические, акустические датчики. Электронный сигнализатор разрыва контактов. Принцип работы электронного реле времени и его применение. Работа акустического реле и его применение.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Изготовление электронного сигнализатора разрыва контактов, электронной “мигалки” на базе мультивибратора. Сборка и испытание реле времени, акустического реле, фотореле, срабатывающего при освещении или затемнении фоторезистора. Испытание совместной работы фотореле и реле времени. Разработка проектов возможного применения изученных автоматических устройств.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7366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лементы радиотехники.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Роль радио в современной жизни. Принципы радиосвязи. Звуковая частота и разночастота. Принцип модуляции и демодуляции. принципиальная схема детекторного приемника. Антенна и заземление. Роль колебательного контура в избирательном приеме радиоволн. Приемники прямого усиления: 0-У-1, 1-У-1, 2-У-0, 2-У-1.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Сборка и испытание совместного действия электронной “клада” и “кладоискателя”, представляющего собой излучатель электромагнитных волн звуковой частоты, изготовленный на базе однотранзисторного УЗЧ. Сборка и испытание детекторного приемника и различных вариантов приемников прямого усиления.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124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Изготовление приёмника прямого усиления.</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ринцип работы приемника прямого усиления: 2-У-2. Фиксированная настройка колебательного контура антенны на местную радиостанцию. Повторение изготовления печатной платы.</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6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борка радиоприемника на макетной плате и фиксированная настройка на несущую частоту радиостанции.</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кскурсия на радиоузел.</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кскурсия кружковцев на местный радиоузел с целью ознакомления с системой радиовещания населённого пункта.</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48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Заключительное занятие.</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одведение итогов работы за учебный год. Повторение основных разделов изученной программы.</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роведение соревнований по скоростной пайке радиоэлектронной конструкции / мультивибратора / на макетной плате. Награждение победителей соревнования.</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c3aa"/>
                </a:solidFill>
                <a:latin typeface="Arial"/>
              </a:rPr>
              <a:t>Второй год обучения </a:t>
            </a:r>
            <a:endParaRPr b="0" lang="en-US" sz="2800" spc="-1" strike="noStrike">
              <a:solidFill>
                <a:srgbClr val="c4c3aa"/>
              </a:solidFill>
              <a:latin typeface="Arial"/>
            </a:endParaRPr>
          </a:p>
        </p:txBody>
      </p:sp>
      <p:graphicFrame>
        <p:nvGraphicFramePr>
          <p:cNvPr id="409" name=""/>
          <p:cNvGraphicFramePr/>
          <p:nvPr/>
        </p:nvGraphicFramePr>
        <p:xfrm>
          <a:off x="0" y="836640"/>
          <a:ext cx="9144000" cy="6021360"/>
        </p:xfrm>
        <a:graphic>
          <a:graphicData uri="http://schemas.openxmlformats.org/drawingml/2006/table">
            <a:tbl>
              <a:tblPr/>
              <a:tblGrid>
                <a:gridCol w="560520"/>
                <a:gridCol w="1241280"/>
                <a:gridCol w="642960"/>
                <a:gridCol w="641520"/>
                <a:gridCol w="2566800"/>
                <a:gridCol w="641520"/>
                <a:gridCol w="2849400"/>
              </a:tblGrid>
              <a:tr h="24303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Вводное занятие.</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онятие о микроэлектронике. Цифровая техника - перспективное направление в современной радиоэлектронике, её роль в научно-техническом прогрессе. Правило безопасного труда в кабинете технического творчества. План работы кружка на год. Организационные вопросы.</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0084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лектроизмерительные приборы.</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Устройство и работа  амперметра, вольтметра  омметра. Авометр - комбинированный измерительный прибор. Устройство и принцип работы осциллографа.</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Измерение силы тока и напряжение в простых электрических цепях. Измерение сопротивлений  резисторов омметром. Измерение напряжения силы тока и сопротивления авометром. Демонстрация электрических колебаний звуковой частоты на экране осциллографа.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5825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Логические элементы.</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онятие об интервальной микросхеме как миниатюрном электронном блоке. Двоичная система счисления - основа логики действия цифровых микросхем. Логика действия элементов. И, ИЛИ, НЕ, И-НЕ.</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Тренировочные упражнения с применением двоичной системы счисления. Изучение логики действия элементов. И, ИЛИ, НЕ, И-НЕ при помощи самодельных электронных блоков.</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graphicFrame>
        <p:nvGraphicFramePr>
          <p:cNvPr id="410" name=""/>
          <p:cNvGraphicFramePr/>
          <p:nvPr/>
        </p:nvGraphicFramePr>
        <p:xfrm>
          <a:off x="0" y="0"/>
          <a:ext cx="9144000" cy="6858000"/>
        </p:xfrm>
        <a:graphic>
          <a:graphicData uri="http://schemas.openxmlformats.org/drawingml/2006/table">
            <a:tbl>
              <a:tblPr/>
              <a:tblGrid>
                <a:gridCol w="590400"/>
                <a:gridCol w="1303560"/>
                <a:gridCol w="517320"/>
                <a:gridCol w="505080"/>
                <a:gridCol w="2016000"/>
                <a:gridCol w="431640"/>
                <a:gridCol w="3780000"/>
              </a:tblGrid>
              <a:tr h="20289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Микросхемы серииК-15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Конструктивные особенности изготовления микросхем. Напряжение питания и логические уровни микросхем серии К-155. устройство и условное графическое обозначение микросхемы К155ЛАЗ схема её логических элементов.</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Установка микросхемы на макетную плату и проверка ее работоспособности измерением напряжения на входных и выходных выводах элементов. Опытная проверка логики действия элемента 2И-НЕ при включении его как элемента НЕ. Индицирование логических уровней сигналов вольтметром, светодиодом, и лампой накаливания.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37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Мультивибраторы</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Автоколебательный симметричный мультивибратор на двух логических элементах 2И-НЕ, микросхемы К155ЛА3. различные варианты мультивибраторов на двух, трех, четырех логических элементах 2И-НЕ.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борка конструкций симметричного мультивибратора на макетной плате и исследование зависимости частоты генерации от сопротивления резисторов и емкости конденсаторов. Индикация уровней выходных сигналов вольтметром головными телефонами и осциллографом. Сборка и испытание мультивибраторов различных конструкций на двух, трех и четырех логических элементах 2И-НЕ. Сборка звуковых генераторов непрерывного и прерывистого звуковых сигналов, электронных “мигалок”, переключателей на базе автоколебательного мультивибратора с использованием микросхем К155ЛА3, К155ЛА1, К155ЛА2, К155ЛА4, К155ЛА6. Изготовление печатных плат и монтажа на них электронных конструкций на базе мультивибраторов.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352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Ждущие мультивибраторы.</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Устройство и принцип действия ждущего мультивибратора.</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борка конструкций ждущего мультивибратора не двух логических элементах 2И-НЕ и испытание ее при различных значениях сопротивлений резисторов и емкостей конденсаторов. Конструирование различных вариантов ждущих мультивибраторов. Практическое применение ждущих мультивибраторов в качестве реле времени и различных игровых автоматов. Монтаж на печатной плате электронной конструкции на базе ждущего мультивибратора.</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graphicFrame>
        <p:nvGraphicFramePr>
          <p:cNvPr id="411" name=""/>
          <p:cNvGraphicFramePr/>
          <p:nvPr/>
        </p:nvGraphicFramePr>
        <p:xfrm>
          <a:off x="0" y="0"/>
          <a:ext cx="9144000" cy="6858000"/>
        </p:xfrm>
        <a:graphic>
          <a:graphicData uri="http://schemas.openxmlformats.org/drawingml/2006/table">
            <a:tbl>
              <a:tblPr/>
              <a:tblGrid>
                <a:gridCol w="590400"/>
                <a:gridCol w="1303560"/>
                <a:gridCol w="676080"/>
                <a:gridCol w="676440"/>
                <a:gridCol w="2697120"/>
                <a:gridCol w="674640"/>
                <a:gridCol w="2525760"/>
              </a:tblGrid>
              <a:tr h="28353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Триггеры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6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Понятие о триггере как электронном устройстве с двумя устойчивыми электрическими состояниями. Принцип </a:t>
                      </a:r>
                      <a:r>
                        <a:rPr b="0" lang="en-US" sz="1200" spc="-1" strike="noStrike">
                          <a:solidFill>
                            <a:srgbClr val="ffffff"/>
                          </a:solidFill>
                          <a:latin typeface="Times New Roman"/>
                          <a:ea typeface="Times New Roman"/>
                        </a:rPr>
                        <a:t>RS</a:t>
                      </a:r>
                      <a:r>
                        <a:rPr b="0" lang="ru-RU"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D</a:t>
                      </a:r>
                      <a:r>
                        <a:rPr b="0" lang="ru-RU"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JK</a:t>
                      </a:r>
                      <a:r>
                        <a:rPr b="0" lang="ru-RU" sz="1200" spc="-1" strike="noStrike">
                          <a:solidFill>
                            <a:srgbClr val="ffffff"/>
                          </a:solidFill>
                          <a:latin typeface="Times New Roman"/>
                          <a:ea typeface="Times New Roman"/>
                        </a:rPr>
                        <a:t>- триггеров. Использование триггеров в ключевых и счетных устройствах.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Сборка конструкций </a:t>
                      </a:r>
                      <a:r>
                        <a:rPr b="0" lang="en-US" sz="1200" spc="-1" strike="noStrike">
                          <a:solidFill>
                            <a:srgbClr val="ffffff"/>
                          </a:solidFill>
                          <a:latin typeface="Times New Roman"/>
                          <a:ea typeface="Times New Roman"/>
                        </a:rPr>
                        <a:t>RS</a:t>
                      </a:r>
                      <a:r>
                        <a:rPr b="0" lang="ru-RU" sz="1200" spc="-1" strike="noStrike">
                          <a:solidFill>
                            <a:srgbClr val="ffffff"/>
                          </a:solidFill>
                          <a:latin typeface="Times New Roman"/>
                          <a:ea typeface="Times New Roman"/>
                        </a:rPr>
                        <a:t>- триггера на двух элементах 2И-НЕ микросхемы К155ЛА3 на макетной плате и испытание ее в работе. Составление и изготовление печатной платы и монтаж на ней электронной конструкции на базе одного из видов триггеров.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38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Изготовление устройств с применением цифровых микросхем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3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Изучение принципов работы различных электронных конструкций с применением цифровых микросхем. Конструирование радиоэлектронных устройств на микросхемах.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1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Разработка, конструирование и изготовление различных учебно-наглядных пособий, автоматических устройств, электронных игр с использованием микросхем серии К155.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463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кскурсия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кскурсия на радио узел.</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38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Заключительное занятие.</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 ч.</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Краткое повторение основных теоретических сведений.</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c3aa"/>
                </a:solidFill>
                <a:latin typeface="Arial"/>
              </a:rPr>
              <a:t>Литература</a:t>
            </a:r>
            <a:endParaRPr b="0" lang="en-US" sz="2800" spc="-1" strike="noStrike">
              <a:solidFill>
                <a:srgbClr val="c4c3aa"/>
              </a:solidFill>
              <a:latin typeface="Arial"/>
            </a:endParaRPr>
          </a:p>
        </p:txBody>
      </p:sp>
      <p:sp>
        <p:nvSpPr>
          <p:cNvPr id="413"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Головин П.П. “Учимся радиоэлектронике”, Ульяновск, РНЦ “Реклама”, 1999г.</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Богатырев А.Н. “Радиоэлектроника, автоматика и элементы ЭВМ” М. , “Просвещение” 1990г.</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Борисов В.Г. “Кружок радиотехнического конструирования” М., “Просвещение” 1990г.</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Борисов В.Г. “Практикум начинающего радиолюбителя” М., Издательство ДОСААФ, 1975г.</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Комаров Е.Ф. “Учебное пособие радиотелемастера” М., Издательство ДОСААФ, 1975г.</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Ковалев В.Г., Леменин В.Ф. “Радиолюбителю о микросхемах” М., Издательство ДОСААФ, 1975г. </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Бодиловский В.Г., Смирнова М.А. “Справочник молодого радиста” М., Издательство “Высшая школа”, 1975г.</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Толкачев Г.Б., Ковалев В.Н., “Радиоэлектроника” М., “Высшая школа”, 1975г.</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Фролов В.В. “Язык радиосхем”, М., “Радио и связь”, 1998г.</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c3aa"/>
                </a:solidFill>
                <a:latin typeface="Arial"/>
              </a:rPr>
              <a:t>СПИСОК ЛИТЕРАТУРЫ ДЛЯ ДЕТЕЙ.</a:t>
            </a:r>
            <a:endParaRPr b="0" lang="en-US" sz="2800" spc="-1" strike="noStrike">
              <a:solidFill>
                <a:srgbClr val="c4c3aa"/>
              </a:solidFill>
              <a:latin typeface="Arial"/>
            </a:endParaRPr>
          </a:p>
        </p:txBody>
      </p:sp>
      <p:sp>
        <p:nvSpPr>
          <p:cNvPr id="415" name="PlaceHolder 2"/>
          <p:cNvSpPr>
            <a:spLocks noGrp="1"/>
          </p:cNvSpPr>
          <p:nvPr>
            <p:ph/>
          </p:nvPr>
        </p:nvSpPr>
        <p:spPr>
          <a:xfrm>
            <a:off x="0" y="1052280"/>
            <a:ext cx="9144000" cy="4392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П.П. Головин: Учимся радиоэлектронике.</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Ульяновск       РИЦ “Реклама” 1999г.</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В.Г. Борисов: Юный радиолюбитель.</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Москва</a:t>
            </a:r>
            <a:r>
              <a:rPr b="0" lang="ru-RU" sz="1800" spc="-1" strike="noStrike">
                <a:solidFill>
                  <a:srgbClr val="ffffff"/>
                </a:solidFill>
                <a:latin typeface="Verdana"/>
              </a:rPr>
              <a:t>	</a:t>
            </a:r>
            <a:r>
              <a:rPr b="0" lang="ru-RU" sz="1800" spc="-1" strike="noStrike">
                <a:solidFill>
                  <a:srgbClr val="ffffff"/>
                </a:solidFill>
                <a:latin typeface="Verdana"/>
              </a:rPr>
              <a:t>“Радио и связь” 1986г.</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А.Н. Богатырев: Радиоэлектроника, автоматика и элементы ЭВМ.</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В.Л. Шило: Популярные цифровые микросхемы.</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Москва</a:t>
            </a:r>
            <a:r>
              <a:rPr b="0" lang="ru-RU" sz="1800" spc="-1" strike="noStrike">
                <a:solidFill>
                  <a:srgbClr val="ffffff"/>
                </a:solidFill>
                <a:latin typeface="Verdana"/>
              </a:rPr>
              <a:t>	</a:t>
            </a:r>
            <a:r>
              <a:rPr b="0" lang="ru-RU" sz="1800" spc="-1" strike="noStrike">
                <a:solidFill>
                  <a:srgbClr val="ffffff"/>
                </a:solidFill>
                <a:latin typeface="Verdana"/>
              </a:rPr>
              <a:t>“Металлургия”, 1988г.</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И.И. Нестеренко: Цветовая и кодовая маркировка радиоэлектронных компонентов.</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a:t>
            </a:r>
            <a:r>
              <a:rPr b="0" lang="ru-RU" sz="1800" spc="-1" strike="noStrike">
                <a:solidFill>
                  <a:srgbClr val="ffffff"/>
                </a:solidFill>
                <a:latin typeface="Verdana"/>
              </a:rPr>
              <a:t>Солон – Р”</a:t>
            </a:r>
            <a:r>
              <a:rPr b="0" lang="ru-RU" sz="1800" spc="-1" strike="noStrike">
                <a:solidFill>
                  <a:srgbClr val="ffffff"/>
                </a:solidFill>
                <a:latin typeface="Verdana"/>
              </a:rPr>
              <a:t>	</a:t>
            </a:r>
            <a:r>
              <a:rPr b="0" lang="ru-RU" sz="1800" spc="-1" strike="noStrike">
                <a:solidFill>
                  <a:srgbClr val="ffffff"/>
                </a:solidFill>
                <a:latin typeface="Verdana"/>
              </a:rPr>
              <a:t>Москва     2001г.</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В.В. Фролов: Язык радиосхем.</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Москва</a:t>
            </a:r>
            <a:r>
              <a:rPr b="0" lang="ru-RU" sz="1800" spc="-1" strike="noStrike">
                <a:solidFill>
                  <a:srgbClr val="ffffff"/>
                </a:solidFill>
                <a:latin typeface="Verdana"/>
              </a:rPr>
              <a:t>	</a:t>
            </a:r>
            <a:r>
              <a:rPr b="0" lang="ru-RU" sz="1800" spc="-1" strike="noStrike">
                <a:solidFill>
                  <a:srgbClr val="ffffff"/>
                </a:solidFill>
                <a:latin typeface="Verdana"/>
              </a:rPr>
              <a:t>“Энергия” 1974г.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Справочник: Полупроводниковые приборы.</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Москва</a:t>
            </a:r>
            <a:r>
              <a:rPr b="0" lang="ru-RU" sz="1800" spc="-1" strike="noStrike">
                <a:solidFill>
                  <a:srgbClr val="ffffff"/>
                </a:solidFill>
                <a:latin typeface="Verdana"/>
              </a:rPr>
              <a:t>	</a:t>
            </a:r>
            <a:r>
              <a:rPr b="0" lang="ru-RU" sz="1800" spc="-1" strike="noStrike">
                <a:solidFill>
                  <a:srgbClr val="ffffff"/>
                </a:solidFill>
                <a:latin typeface="Verdana"/>
              </a:rPr>
              <a:t>“Радио и связь”  “Клуб – а” 1994г.</a:t>
            </a:r>
            <a:r>
              <a:rPr b="0" lang="ru-RU" sz="1800" spc="-1" strike="noStrike">
                <a:solidFill>
                  <a:srgbClr val="ffffff"/>
                </a:solidFill>
                <a:latin typeface="Verdana"/>
              </a:rPr>
              <a:t>	</a:t>
            </a: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24000" y="-360"/>
            <a:ext cx="84960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c3aa"/>
                </a:solidFill>
                <a:latin typeface="Arial"/>
              </a:rPr>
              <a:t>НЕКОТОРЫЕ ВОПРОСЫ БЕЗОПАСНОСТИ ТРУДА</a:t>
            </a:r>
            <a:endParaRPr b="0" lang="en-US" sz="2800" spc="-1" strike="noStrike">
              <a:solidFill>
                <a:srgbClr val="c4c3aa"/>
              </a:solidFill>
              <a:latin typeface="Arial"/>
            </a:endParaRPr>
          </a:p>
        </p:txBody>
      </p:sp>
      <p:sp>
        <p:nvSpPr>
          <p:cNvPr id="417"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Обеспечение безопасности труда учащихся в процессе освоения ими приемов обработки материалов, электро-и радиомонтажных работ, конструирования аппаратуры – важнейшая задача, стоящая перед руководителем кружка.</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Уже на первом организационном занятии ребят необходимо познакомить с электрооборудованием помещения, рабочих мест, с инструментами общего и индивидуального пользования, а в ходе выполнения практических работ постоянно обращать их внимание на то, как правильно использовать материально – техническую базу кружка.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Причинами травм нередко бывают неисправные слесарные или столярные инструменты. Сработавшееся полотно ножовки, например,  “прыгая” по металлу может поранить палец, удерживающий заготовку детали, соскочивший с рукоятки молоток может больно ударить по руке. Необходимо постоянно следить за исправностью инструмента, своевременно ремонтировать его, заменять непригодный для дальнейшего пользования. Значительную помощь в этом деле руководителю могут оказывать сами кружковцы.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 мастерских, учебных кабинетах и лабораториях школ и внешкольных учреждений для освещения рабочих мест, выполнения электромонтажных работ различных контрольных проверок исправности электрических цепей должно использоваться напряжение до 36 В.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Но по ряду причин радиолюбителям приходится иметь дело с электроосветительной сетью напряжением 127 или 220 В. Например, на такие напряжения рассчитаны электропаяльники, электродрели, сверлильные станки, которыми ребята пользуются на занятиях кружка. Поэтому необходимо, чтобы учащиеся хорошо знали правила электробезопасности и неукоснительно соблюдали их.</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от некоторые из основных правил электробезопасности:</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пользуясь электрооборудованием, быть особенно внимательным и дисциплинированным,</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не касаться токонесущих частей электрооборудования, находящихся под напряжением,</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без разрешения руководителя кружка не включать источники питания электро-и радиоаппаратуры,</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ремонт радиоаппаратуры, питающейся от сети переменного тока, замену деталей в ней производить только при отключенном напряжении,</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при измерении напряжении в цепях питающегося от сети устройства один из щупов измерительного прибора подключать к общему проводу до подачи напряжения сети.</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Все штепсельные розетки в радиолаборатории должны быть закрытого типа и конечно исправными, а общий электрораспределительный щит оборудован выключателями мгновенного действия.  Руководитель должен следить за состоянием изоляции проводов питания электротехнического оборудования, надежностью штепсельных вилок и разъемов, не допускать замены плавких предохранителей самодельными.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179280" y="188640"/>
            <a:ext cx="8785440" cy="6669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Сколько электродвигателей работает в вашем доме? Если вы поторопитесь с ответом, не произведя предварительного подсчета, ваш ответ может оказаться далеко не точным. Электродвигатели работают в стиральных машинах, холодильниках, вентиляторах, электробритвах, магнитофонах, радиолах и различных электроинструментах. Широко используются и электрические нагревательные приборы, например, в кухонных плитах, электровафельницах, водонагревателях, кофеварках, утюгах, сушилках для одежды, электроодеялах и т. п.</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a:t>
            </a:r>
            <a:r>
              <a:rPr b="1" lang="ru-RU" sz="1800" spc="-1" strike="noStrike">
                <a:solidFill>
                  <a:srgbClr val="ffffff"/>
                </a:solidFill>
                <a:latin typeface="Verdana"/>
              </a:rPr>
              <a:t>	</a:t>
            </a:r>
            <a:r>
              <a:rPr b="1" lang="ru-RU" sz="1800" spc="-1" strike="noStrike">
                <a:solidFill>
                  <a:srgbClr val="ffffff"/>
                </a:solidFill>
                <a:latin typeface="Verdana"/>
              </a:rPr>
              <a:t>В сельском хозяйстве</a:t>
            </a:r>
            <a:r>
              <a:rPr b="0" lang="ru-RU" sz="1800" spc="-1" strike="noStrike">
                <a:solidFill>
                  <a:srgbClr val="ffffff"/>
                </a:solidFill>
                <a:latin typeface="Verdana"/>
              </a:rPr>
              <a:t>. В деревне много трудоемких работ, которые теперь очень быстро выполняются при помощи электротехнических аппаратов: электронасосов, электродоилок и др.</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a:t>
            </a:r>
            <a:r>
              <a:rPr b="1" lang="ru-RU" sz="1800" spc="-1" strike="noStrike">
                <a:solidFill>
                  <a:srgbClr val="ffffff"/>
                </a:solidFill>
                <a:latin typeface="Verdana"/>
              </a:rPr>
              <a:t>	</a:t>
            </a:r>
            <a:r>
              <a:rPr b="1" lang="ru-RU" sz="1800" spc="-1" strike="noStrike">
                <a:solidFill>
                  <a:srgbClr val="ffffff"/>
                </a:solidFill>
                <a:latin typeface="Verdana"/>
              </a:rPr>
              <a:t>На предприятиях и в учреждениях</a:t>
            </a:r>
            <a:r>
              <a:rPr b="0" lang="ru-RU" sz="1800" spc="-1" strike="noStrike">
                <a:solidFill>
                  <a:srgbClr val="ffffff"/>
                </a:solidFill>
                <a:latin typeface="Verdana"/>
              </a:rPr>
              <a:t>. Говоря о применениях электротехники в быту, нельзя не вспомнить о её роль в промышленности. Обычно только одна треть вырабатываемой электрической энергий расходуется в быту. Остальные две трети идут на нужды промышленных и торговых предприятий. Современное производственное предприятие средних размеров расходует свыше 10 000 киловатт-часов электроэнергий в год.</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a:t>
            </a:r>
            <a:r>
              <a:rPr b="0" lang="ru-RU" sz="1800" spc="-1" strike="noStrike">
                <a:solidFill>
                  <a:srgbClr val="ffffff"/>
                </a:solidFill>
                <a:latin typeface="Verdana"/>
              </a:rPr>
              <a:t>В промышленности чёрной металлургий электротехнические  устройства используются почти при всех технологических процессах, начиная от выемки сырой железной руды и до отправки готовых стальных листов на различные производственные предприятия. Руду добывают электроэкскаваторами, грузят в вагоны или суда электрическими кранами и после разгрузки на сталелитейном заводе по электрическому конвейеру подают в домны, где она превращается в чугун. Прокатные станы, в которых из болванок делают стальные листы,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c3aa"/>
                </a:solidFill>
                <a:latin typeface="Arial"/>
              </a:rPr>
              <a:t>ТЕХНИКА БЕЗОПАСНОСТИ ТРУДА</a:t>
            </a:r>
            <a:br>
              <a:rPr sz="2800"/>
            </a:br>
            <a:endParaRPr b="0" lang="en-US" sz="2800" spc="-1" strike="noStrike">
              <a:solidFill>
                <a:srgbClr val="c4c3aa"/>
              </a:solidFill>
              <a:latin typeface="Arial"/>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1.Пользуясь электрооборудованием, быть особенно внимательным и     дисциплинированны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2.Не касаться токонесущих частей электрооборудования, находящихся под напряжение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3.Без разрешения руководителя кружка не включать источники питания электро- и радиоаппаратуры.</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4.Ремонт радиоаппаратуры, питающейся от сети переменного тока замену деталей в ней производить только при отключенном напряжени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5.При изменении напряжений в цепях питающегося от сети устройств один из щупов измерительного прибора подключать к общему проводу до подачи напряжения сети. </a:t>
            </a:r>
            <a:endParaRPr b="0" lang="en-US" sz="20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c3aa"/>
                </a:solidFill>
                <a:latin typeface="Arial"/>
              </a:rPr>
              <a:t>6. Результативность.</a:t>
            </a:r>
            <a:endParaRPr b="0" lang="en-US" sz="2800" spc="-1" strike="noStrike">
              <a:solidFill>
                <a:srgbClr val="c4c3aa"/>
              </a:solidFill>
              <a:latin typeface="Arial"/>
            </a:endParaRPr>
          </a:p>
        </p:txBody>
      </p:sp>
      <p:sp>
        <p:nvSpPr>
          <p:cNvPr id="422" name="PlaceHolder 2"/>
          <p:cNvSpPr>
            <a:spLocks noGrp="1"/>
          </p:cNvSpPr>
          <p:nvPr>
            <p:ph/>
          </p:nvPr>
        </p:nvSpPr>
        <p:spPr>
          <a:xfrm>
            <a:off x="179280" y="620640"/>
            <a:ext cx="8507520" cy="5510160"/>
          </a:xfrm>
          <a:prstGeom prst="rect">
            <a:avLst/>
          </a:prstGeom>
          <a:noFill/>
          <a:ln w="0">
            <a:noFill/>
          </a:ln>
        </p:spPr>
        <p:txBody>
          <a:bodyPr lIns="90000" rIns="90000" tIns="46800" bIns="46800" anchor="t">
            <a:normAutofit/>
          </a:bodyPr>
          <a:p>
            <a:pPr marL="343080" indent="-34308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Хотя непосредственным образовательный процесс технического творчества детей, на наш ВЗГЛЯД, ИМЕЕТ ПЕРВОСТЕПЕННОЕ педагогическое значение, он на прямую связан с получаемым результатом. </a:t>
            </a:r>
            <a:endParaRPr b="0" lang="en-US" sz="1800" spc="-1" strike="noStrike">
              <a:solidFill>
                <a:srgbClr val="ffffff"/>
              </a:solidFill>
              <a:latin typeface="Verdana"/>
            </a:endParaRPr>
          </a:p>
          <a:p>
            <a:pPr marL="343080" indent="-34308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Работы его учащихся занимают все призовые места на республиканском конкурсе технического творчества детей в г. Улан-Удэ.</a:t>
            </a:r>
            <a:endParaRPr b="0" lang="en-US" sz="1800" spc="-1" strike="noStrike">
              <a:solidFill>
                <a:srgbClr val="ffffff"/>
              </a:solidFill>
              <a:latin typeface="Verdana"/>
            </a:endParaRPr>
          </a:p>
          <a:p>
            <a:pPr marL="343080" indent="-34308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частвуем в демонстрациях радиомоделей в селах нашего района. На республиканских выставках технического творчества.</a:t>
            </a:r>
            <a:endParaRPr b="0" lang="en-US" sz="1800" spc="-1" strike="noStrike">
              <a:solidFill>
                <a:srgbClr val="ffffff"/>
              </a:solidFill>
              <a:latin typeface="Verdana"/>
            </a:endParaRPr>
          </a:p>
        </p:txBody>
      </p:sp>
      <p:pic>
        <p:nvPicPr>
          <p:cNvPr id="423" name="" descr=""/>
          <p:cNvPicPr/>
          <p:nvPr/>
        </p:nvPicPr>
        <p:blipFill>
          <a:blip r:embed="rId1"/>
          <a:stretch/>
        </p:blipFill>
        <p:spPr>
          <a:xfrm>
            <a:off x="147600" y="3708360"/>
            <a:ext cx="4321080" cy="2900520"/>
          </a:xfrm>
          <a:prstGeom prst="rect">
            <a:avLst/>
          </a:prstGeom>
          <a:ln w="0">
            <a:noFill/>
          </a:ln>
        </p:spPr>
      </p:pic>
      <p:pic>
        <p:nvPicPr>
          <p:cNvPr id="424" name="" descr=""/>
          <p:cNvPicPr/>
          <p:nvPr/>
        </p:nvPicPr>
        <p:blipFill>
          <a:blip r:embed="rId2"/>
          <a:stretch/>
        </p:blipFill>
        <p:spPr>
          <a:xfrm>
            <a:off x="4643280" y="3716280"/>
            <a:ext cx="4321440" cy="28893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c3aa"/>
                </a:solidFill>
                <a:latin typeface="Arial"/>
              </a:rPr>
              <a:t>Видеосюжет показа моделей</a:t>
            </a:r>
            <a:endParaRPr b="0" lang="en-US" sz="2800" spc="-1" strike="noStrike">
              <a:solidFill>
                <a:srgbClr val="c4c3aa"/>
              </a:solidFill>
              <a:latin typeface="Arial"/>
            </a:endParaRPr>
          </a:p>
        </p:txBody>
      </p:sp>
      <p:pic>
        <p:nvPicPr>
          <p:cNvPr id="426" name="" descr=""/>
          <p:cNvPicPr/>
          <p:nvPr/>
        </p:nvPicPr>
        <p:blipFill>
          <a:blip r:embed="rId1"/>
          <a:stretch/>
        </p:blipFill>
        <p:spPr>
          <a:xfrm>
            <a:off x="1476360" y="1542960"/>
            <a:ext cx="6191280" cy="464508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426"/>
                    </p:tgtEl>
                  </p:cond>
                </p:stCondLst>
                <p:childTnLst>
                  <p:par>
                    <p:cTn id="3" fill="hold">
                      <p:stCondLst>
                        <p:cond evt="onClick">
                          <p:tgtEl>
                            <p:spTgt spid="42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c3aa"/>
                </a:solidFill>
                <a:latin typeface="Arial"/>
              </a:rPr>
              <a:t>Наши достижения</a:t>
            </a:r>
            <a:endParaRPr b="0" lang="en-US" sz="2800" spc="-1" strike="noStrike">
              <a:solidFill>
                <a:srgbClr val="c4c3aa"/>
              </a:solidFill>
              <a:latin typeface="Arial"/>
            </a:endParaRPr>
          </a:p>
        </p:txBody>
      </p:sp>
      <p:pic>
        <p:nvPicPr>
          <p:cNvPr id="428" name="" descr=""/>
          <p:cNvPicPr/>
          <p:nvPr/>
        </p:nvPicPr>
        <p:blipFill>
          <a:blip r:embed="rId1"/>
          <a:stretch/>
        </p:blipFill>
        <p:spPr>
          <a:xfrm>
            <a:off x="106200" y="620640"/>
            <a:ext cx="4206960" cy="6110280"/>
          </a:xfrm>
          <a:prstGeom prst="rect">
            <a:avLst/>
          </a:prstGeom>
          <a:ln w="0">
            <a:noFill/>
          </a:ln>
        </p:spPr>
      </p:pic>
      <p:pic>
        <p:nvPicPr>
          <p:cNvPr id="429" name="" descr=""/>
          <p:cNvPicPr/>
          <p:nvPr/>
        </p:nvPicPr>
        <p:blipFill>
          <a:blip r:embed="rId2"/>
          <a:stretch/>
        </p:blipFill>
        <p:spPr>
          <a:xfrm>
            <a:off x="4487760" y="620640"/>
            <a:ext cx="4538880" cy="61102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208080" y="404640"/>
            <a:ext cx="4349520" cy="6226200"/>
          </a:xfrm>
          <a:prstGeom prst="rect">
            <a:avLst/>
          </a:prstGeom>
          <a:ln w="0">
            <a:noFill/>
          </a:ln>
        </p:spPr>
      </p:pic>
      <p:pic>
        <p:nvPicPr>
          <p:cNvPr id="431" name="" descr=""/>
          <p:cNvPicPr/>
          <p:nvPr/>
        </p:nvPicPr>
        <p:blipFill>
          <a:blip r:embed="rId2"/>
          <a:stretch/>
        </p:blipFill>
        <p:spPr>
          <a:xfrm>
            <a:off x="4692600" y="398520"/>
            <a:ext cx="4272120" cy="6211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250920" y="550800"/>
            <a:ext cx="4306680" cy="6116760"/>
          </a:xfrm>
          <a:prstGeom prst="rect">
            <a:avLst/>
          </a:prstGeom>
          <a:ln w="0">
            <a:noFill/>
          </a:ln>
        </p:spPr>
      </p:pic>
      <p:pic>
        <p:nvPicPr>
          <p:cNvPr id="433" name="" descr=""/>
          <p:cNvPicPr/>
          <p:nvPr/>
        </p:nvPicPr>
        <p:blipFill>
          <a:blip r:embed="rId2"/>
          <a:stretch/>
        </p:blipFill>
        <p:spPr>
          <a:xfrm>
            <a:off x="4797360" y="533520"/>
            <a:ext cx="4199040" cy="61214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115920" y="476280"/>
            <a:ext cx="4352760" cy="6235560"/>
          </a:xfrm>
          <a:prstGeom prst="rect">
            <a:avLst/>
          </a:prstGeom>
          <a:ln w="0">
            <a:noFill/>
          </a:ln>
        </p:spPr>
      </p:pic>
      <p:pic>
        <p:nvPicPr>
          <p:cNvPr id="435" name="" descr=""/>
          <p:cNvPicPr/>
          <p:nvPr/>
        </p:nvPicPr>
        <p:blipFill>
          <a:blip r:embed="rId2"/>
          <a:stretch/>
        </p:blipFill>
        <p:spPr>
          <a:xfrm>
            <a:off x="4621320" y="404640"/>
            <a:ext cx="4378320" cy="6270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c3aa"/>
                </a:solidFill>
                <a:latin typeface="Arial"/>
              </a:rPr>
              <a:t>Мнение ребят о кружке</a:t>
            </a:r>
            <a:endParaRPr b="0" lang="en-US" sz="2800" spc="-1" strike="noStrike">
              <a:solidFill>
                <a:srgbClr val="c4c3aa"/>
              </a:solidFill>
              <a:latin typeface="Arial"/>
            </a:endParaRPr>
          </a:p>
        </p:txBody>
      </p:sp>
      <p:sp>
        <p:nvSpPr>
          <p:cNvPr id="437" name="PlaceHolder 2"/>
          <p:cNvSpPr>
            <a:spLocks noGrp="1"/>
          </p:cNvSpPr>
          <p:nvPr>
            <p:ph/>
          </p:nvPr>
        </p:nvSpPr>
        <p:spPr>
          <a:xfrm>
            <a:off x="3780000" y="1052640"/>
            <a:ext cx="5184720" cy="6192720"/>
          </a:xfrm>
          <a:prstGeom prst="rect">
            <a:avLst/>
          </a:prstGeom>
          <a:noFill/>
          <a:ln w="0">
            <a:noFill/>
          </a:ln>
        </p:spPr>
        <p:txBody>
          <a:bodyPr lIns="90000" rIns="90000" tIns="46800" bIns="46800" anchor="t">
            <a:normAutofit/>
          </a:bodyPr>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Телешев Иван</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a:t>
            </a:r>
            <a:r>
              <a:rPr b="0" lang="en-US" sz="1800" spc="-1" strike="noStrike">
                <a:solidFill>
                  <a:srgbClr val="ffffff"/>
                </a:solidFill>
                <a:latin typeface="Verdana"/>
              </a:rPr>
              <a:t>Для меня интерес в занятий радиоэлектроникой состоит в том, что здесь можно наблюдать интересные явления и реакций, на основе которых мы выводим закономерности, предусмотренные радиоэлектроникой. Также мы конструируем очень занимательные электронные игрушки проводим опыты и в дальнейшем применяем их на практике. Я считаю, что самым интересным в радиокружке является наблюдение за работой сконструированной собственными руками игрушки и объяснение законов радиотехники, которые отразили в ней и нашли своё подтверждение. Также мне очень нравятся соревнования, которые регулярно проводятся в кружке нашего села и в других районах и городах, на соревнованиях мы выясняем свой знания, полученные в ходе учебного года. </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438" name="" descr=""/>
          <p:cNvPicPr/>
          <p:nvPr/>
        </p:nvPicPr>
        <p:blipFill>
          <a:blip r:embed="rId1"/>
          <a:stretch/>
        </p:blipFill>
        <p:spPr>
          <a:xfrm>
            <a:off x="250920" y="1125360"/>
            <a:ext cx="3692520" cy="55198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4140360" y="549360"/>
            <a:ext cx="4752720" cy="6308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Мякотин Алексей</a:t>
            </a:r>
            <a:r>
              <a:rPr b="1" i="1" lang="ru-RU"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Я думаю, что радиокружок хорошая идея нашего руководителя Ерофеева Владимира Ивановича. К нему на кружок приходят ребята желающие заниматься радиоделом, в том числе и я. Нам нравится характер нашего руководителя: веселый, умный, отзывчивый и все это притягивает на его кружок и хочется идти поскорее еще раз и еще раз.</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На радиокружке это  не только знания по радиоэлектронике, но и общение. В нашей группе семь человек, трое моих одноклассников, двое старше меня, а один на два года младше, но мы никогда не соримся, а наоборот помогаем друг другу. </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Мне интересно узнавать новое в радиоэлектронике. Хорошие познания я получил, когда самостоятельно собирал игрушку «Кряканье утки»</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В младшей группе мы начинали с кубиков. Затем мы учились паять это был демонтаж схем то есть со старых устройств отпаивали детали ,которые затем нам понадобятся для пайки схем.</a:t>
            </a:r>
            <a:endParaRPr b="0" lang="en-US" sz="1600" spc="-1" strike="noStrike">
              <a:solidFill>
                <a:srgbClr val="ffffff"/>
              </a:solidFill>
              <a:latin typeface="Verdana"/>
            </a:endParaRPr>
          </a:p>
        </p:txBody>
      </p:sp>
      <p:pic>
        <p:nvPicPr>
          <p:cNvPr id="440" name="" descr=""/>
          <p:cNvPicPr/>
          <p:nvPr/>
        </p:nvPicPr>
        <p:blipFill>
          <a:blip r:embed="rId1"/>
          <a:stretch/>
        </p:blipFill>
        <p:spPr>
          <a:xfrm>
            <a:off x="250920" y="981000"/>
            <a:ext cx="3841560" cy="54864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0" y="188640"/>
            <a:ext cx="4711680" cy="666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Барышников Женя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1000" spc="-1" strike="noStrike">
                <a:solidFill>
                  <a:srgbClr val="ffffff"/>
                </a:solidFill>
                <a:latin typeface="Verdana"/>
              </a:rPr>
              <a:t>      </a:t>
            </a:r>
            <a:r>
              <a:rPr b="0" lang="en-US" sz="1400" spc="-1" strike="noStrike">
                <a:solidFill>
                  <a:srgbClr val="ffffff"/>
                </a:solidFill>
                <a:latin typeface="Verdana"/>
              </a:rPr>
              <a:t>Радиокружок – это важный предмет в жизни каждого мальчика. Радиокружок даёт важные навыки, которые могут пригодиться человеку на протяжении всей жизни: знания об электричестве, об деталях – это не только физические величины, но и интересные познания в мире электроники. Мир электроники велик. Познавая маленькими шагами этот мир нам будет легче в будущем, как в работе по профессии, так и в быту. Электрические приборы очень хорошие вещи, но нужно знать из чего они состоят.</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Радиокружок, как и другие кружки, даёт большое развитие человеку, это место, где можно порадоваться за свои успехи в области электроники или сделав какую-либо игрушку.</a:t>
            </a:r>
            <a:endParaRPr b="0" lang="en-US" sz="1400" spc="-1" strike="noStrike">
              <a:solidFill>
                <a:srgbClr val="ffffff"/>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На радиокружке всегда бывает что-нибудь интересное. Лично мне нравится познавать что-то новое, паять, проводить опыты, создавать игрушки. Игрушка – это радость, а радость сделанная своими руками вдвойне интересней, как подарок. Собирая детали, тебе кажется, что всё это монотонно, но когда ты видишь, как работают эти «кусочки железа» забываешь обо всём и тебе хочется создавать что-то новое. И только после отключения паяльника и закрытия тетради, ты начинаешь осознавать реальный мир, но ощущение электронного мира ещё долго не отпускает тебя, и ты сам хочешь остаться и позаниматься ещё, даже просто  поискать книги, которые у нас имеются для своего удовольствия. </a:t>
            </a:r>
            <a:endParaRPr b="0" lang="en-US" sz="1400" spc="-1" strike="noStrike">
              <a:solidFill>
                <a:srgbClr val="ffffff"/>
              </a:solidFill>
              <a:latin typeface="Verdana"/>
            </a:endParaRPr>
          </a:p>
        </p:txBody>
      </p:sp>
      <p:pic>
        <p:nvPicPr>
          <p:cNvPr id="442" name="" descr=""/>
          <p:cNvPicPr/>
          <p:nvPr/>
        </p:nvPicPr>
        <p:blipFill>
          <a:blip r:embed="rId1"/>
          <a:stretch/>
        </p:blipFill>
        <p:spPr>
          <a:xfrm>
            <a:off x="4788000" y="620640"/>
            <a:ext cx="4192560" cy="570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0" y="188640"/>
            <a:ext cx="8964720" cy="6669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также приводятся в действие электродвигателями. Когда стальной лист попадает на металлообрабатывающие заводы, электрические двигатели приводят в действие станки, на которых изготовляют различные изделия, например шасси радиоприёмников и телевизоров и многие другие приборы бытового назначен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	</a:t>
            </a:r>
            <a:r>
              <a:rPr b="1" lang="en-US" sz="1800" spc="-1" strike="noStrike">
                <a:solidFill>
                  <a:srgbClr val="ffffff"/>
                </a:solidFill>
                <a:latin typeface="Verdana"/>
              </a:rPr>
              <a:t>Для техники связи. </a:t>
            </a:r>
            <a:r>
              <a:rPr b="0" lang="en-US" sz="1800" spc="-1" strike="noStrike">
                <a:solidFill>
                  <a:srgbClr val="ffffff"/>
                </a:solidFill>
                <a:latin typeface="Verdana"/>
              </a:rPr>
              <a:t>Первобытный человек посылал сообщения своему соседу дымовыми или звуковыми сигналами. Современному человеку для этого достаточно всего лишь поднять трубку телефонного аппарата и набрать соответствующий номер. Его голос будет передан даже в самую отдалённую точку страны. Несколько дополнительных усилий – и он сможет говорить с абонентом другой страны или связаться с пассажиром корабля, находящегося в сотнях миль от берега.</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Радиостанций, устанавливаемые на автомобилях или самолётах, и карманные транзисторные приёмопередатчики используются для связи в службах охраны общественного порядка, в авиаций, промышленности и военном деле.</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	</a:t>
            </a:r>
            <a:r>
              <a:rPr b="1" lang="en-US" sz="1800" spc="-1" strike="noStrike">
                <a:solidFill>
                  <a:srgbClr val="ffffff"/>
                </a:solidFill>
                <a:latin typeface="Verdana"/>
              </a:rPr>
              <a:t>Для освещения. </a:t>
            </a:r>
            <a:r>
              <a:rPr b="0" lang="en-US" sz="1800" spc="-1" strike="noStrike">
                <a:solidFill>
                  <a:srgbClr val="ffffff"/>
                </a:solidFill>
                <a:latin typeface="Verdana"/>
              </a:rPr>
              <a:t>Ещё совсем недавно человек мог работать</a:t>
            </a:r>
            <a:r>
              <a:rPr b="1" lang="en-US" sz="1800" spc="-1" strike="noStrike">
                <a:solidFill>
                  <a:srgbClr val="ffffff"/>
                </a:solidFill>
                <a:latin typeface="Verdana"/>
              </a:rPr>
              <a:t> </a:t>
            </a:r>
            <a:r>
              <a:rPr b="0" lang="en-US" sz="1800" spc="-1" strike="noStrike">
                <a:solidFill>
                  <a:srgbClr val="ffffff"/>
                </a:solidFill>
                <a:latin typeface="Verdana"/>
              </a:rPr>
              <a:t>и развлекаться лишь в светлое время дня. В наше время многие предприятия работают по 24 часа в сутки. Это стало возможным благодаря хорошему электрическому освещению. В домах для освещения редко используются лампочки мощностью более нескольких сотен ватт, в промышленности осветительных ламп изменяется тысячами ватт.</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В городах электричество освещает улицы и площади и приводит в действие множество сигналов системы регулирования уличного движения.</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4140360" y="1386000"/>
            <a:ext cx="4752720" cy="5472000"/>
          </a:xfrm>
          <a:prstGeom prst="rect">
            <a:avLst/>
          </a:prstGeom>
          <a:noFill/>
          <a:ln w="0">
            <a:noFill/>
          </a:ln>
        </p:spPr>
        <p:txBody>
          <a:bodyPr lIns="90000" rIns="90000" tIns="46800" bIns="46800" anchor="t">
            <a:normAutofit/>
          </a:bodyPr>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Барышников Денис</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Заканчивая 11класс ,невольно думаешь о будущей профессии. Я хотел бы, чтобы она была связана с электрооборудованием так, как профессии этой области востребованы в настоящее время. Посещая данный кружок, пройдя все его этапы, я постепенно вник в суть этой специальности. За все годы посещения я научился работать с паяльником, читать схемы. Надеюсь, что всё это пригодится мне в будущем.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Желаю успехов радиокружку, энергии руководителю и будущим учащимся связать свою жизнь с кружком.</a:t>
            </a:r>
            <a:endParaRPr b="0" lang="en-US" sz="1800" spc="-1" strike="noStrike">
              <a:solidFill>
                <a:srgbClr val="ffffff"/>
              </a:solidFill>
              <a:latin typeface="Verdana"/>
            </a:endParaRPr>
          </a:p>
        </p:txBody>
      </p:sp>
      <p:pic>
        <p:nvPicPr>
          <p:cNvPr id="444" name="" descr=""/>
          <p:cNvPicPr/>
          <p:nvPr/>
        </p:nvPicPr>
        <p:blipFill>
          <a:blip r:embed="rId1"/>
          <a:stretch/>
        </p:blipFill>
        <p:spPr>
          <a:xfrm>
            <a:off x="395280" y="1052640"/>
            <a:ext cx="3511440" cy="521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8964720" cy="6669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	</a:t>
            </a:r>
            <a:r>
              <a:rPr b="1" lang="en-US" sz="1800" spc="-1" strike="noStrike">
                <a:solidFill>
                  <a:srgbClr val="ffffff"/>
                </a:solidFill>
                <a:latin typeface="Verdana"/>
              </a:rPr>
              <a:t>На транспорте. </a:t>
            </a:r>
            <a:r>
              <a:rPr b="0" lang="en-US" sz="1800" spc="-1" strike="noStrike">
                <a:solidFill>
                  <a:srgbClr val="ffffff"/>
                </a:solidFill>
                <a:latin typeface="Verdana"/>
              </a:rPr>
              <a:t>Электрические машины заменяют на транспорте двигатели, работавшие ранее на угле и бензине; электровозы уже вытеснили паровозы, а все троллейбусы и поезда метро проводятся в движений только электрическими двигателями.</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В наши дни едва ли найдётся вид транспорта, работа которого не зависит от электроэнергий. Она необходима и для реактивного лайнера ,и для океанского корабля ,и для легкового автомобил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	</a:t>
            </a:r>
            <a:r>
              <a:rPr b="1" lang="en-US" sz="1800" spc="-1" strike="noStrike">
                <a:solidFill>
                  <a:srgbClr val="ffffff"/>
                </a:solidFill>
                <a:latin typeface="Verdana"/>
              </a:rPr>
              <a:t>Для автоматизаций.</a:t>
            </a:r>
            <a:r>
              <a:rPr b="0" lang="en-US" sz="1800" spc="-1" strike="noStrike">
                <a:solidFill>
                  <a:srgbClr val="ffffff"/>
                </a:solidFill>
                <a:latin typeface="Verdana"/>
              </a:rPr>
              <a:t> К слову «автоматизация» в промышленности уже привыкли. Некоторые производственные процессы с начала и до конца выполняются автоматически. Многие процессы, ранее производившееся в ручную, теперь выполняют автоматы, приводимые в действие электрическими двигателями. На многих промышленных предприятиях по утрам до прихода рабочих при помощи автоматических устройств осуществляются необходимые подготовительные мероприятия.</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	</a:t>
            </a:r>
            <a:r>
              <a:rPr b="1" lang="en-US" sz="1800" spc="-1" strike="noStrike">
                <a:solidFill>
                  <a:srgbClr val="ffffff"/>
                </a:solidFill>
                <a:latin typeface="Verdana"/>
              </a:rPr>
              <a:t>В исследованиях. </a:t>
            </a:r>
            <a:r>
              <a:rPr b="0" lang="en-US" sz="1800" spc="-1" strike="noStrike">
                <a:solidFill>
                  <a:srgbClr val="ffffff"/>
                </a:solidFill>
                <a:latin typeface="Verdana"/>
              </a:rPr>
              <a:t>В современной исследовательской лабораторий невозможно обойтись без электрических устройств. Почти все измерительные приборы ,использовавшиеся в исследованиях, связанных с применением атомной энергий ,были электрическими. Газоразрядные счётчики Гейгера, обнаруживающие присутствия урана, питаются от электрических батарей. Без электричества не могут работать медицинские и промышленные рентгеновские и другие установки.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После того как космические полёты стали реальностью, учёные подготовили полёт людей на Луну, который был неоднократно совершён. Но прежде чем отправить людей в такое путешествие, нужно было собрать много данных о Луне. Для сбора этих данных на Луну отправлялись автоматические станций с приборами.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9T17:16:23Z</dcterms:created>
  <dc:creator>Evgeniy</dc:creator>
  <dc:description/>
  <dc:language>en-US</dc:language>
  <cp:lastModifiedBy>Evgeniy</cp:lastModifiedBy>
  <dcterms:modified xsi:type="dcterms:W3CDTF">2006-02-05T12:40:16Z</dcterms:modified>
  <cp:revision>4</cp:revision>
  <dc:subject/>
  <dc:title>Развитие личности средствами технического творчества в условиях сельской местности.   Работа учащихся радиокружка Байкало-Кударинского Дома творчества</dc:title>
</cp:coreProperties>
</file>