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B1964-16D4-4E52-80AF-4745FCE3B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78657-CE64-4B48-987E-EB94D9ED0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7150E-62C9-4671-96DB-EB22F2D1D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46A58-FC7B-421E-A653-B6128C209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FCE02F-6A1D-49C8-B403-7A9E5C0F6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29140-463D-4061-9B58-74B8BC3CB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E1B99-AF35-4114-8072-130D5134F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D8E0A-94A6-49A4-A095-919867470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C3CCF-FF93-4486-AF2E-52C88B88F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E42FF-5300-41A3-9CE8-41D949879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99FE4-68DE-413E-BEDB-DCF61FF9B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9A171-5751-4046-BCAF-0446AC646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3251B-56FA-4A00-A852-6FAE0708D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6014A-BBD2-48E0-A891-D5A10F31E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00238-DF1D-426A-8AC2-9A7F857E6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0B88B-7C1B-44E5-B4B8-6455C0A988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27CDC9-61BE-441D-9796-BFA28564C0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C0F03-2B9E-439B-8367-404A64361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E1181-F100-4D8D-AE8D-FA91C4A6C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367B6-C3A2-4EE7-BA27-F62DA905C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EDF52-3E5F-4A41-BFFE-95A846E51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4506B-A29C-4D7C-9591-DCB79F0FD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14CEC-2F0B-41E8-90C2-18888A0FA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B2DFE-CA4B-4436-8803-242A343E3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5204-E5D9-49D0-A4DC-6796EF80FD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4B03-BB82-4B50-B50C-ADC3D8FCF6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765000"/>
            <a:ext cx="77724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Black"/>
              </a:rPr>
              <a:t>Дерево в школьном дворе</a:t>
            </a:r>
            <a:r>
              <a:rPr b="1" lang="en-US" sz="4800" spc="-1" strike="noStrike">
                <a:solidFill>
                  <a:srgbClr val="ffffb7"/>
                </a:solidFill>
                <a:latin typeface="Arial Black"/>
              </a:rPr>
              <a:t> </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2123640" y="4149720"/>
            <a:ext cx="678204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ыполнила ученица 6 «а» класса</a:t>
            </a:r>
            <a:endParaRPr b="0" lang="en-US" sz="32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ОСШ №2  </a:t>
            </a:r>
            <a:endParaRPr b="0" lang="en-US" sz="3200" spc="-1" strike="noStrike">
              <a:solidFill>
                <a:srgbClr val="ffffff"/>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ябло Алин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Black"/>
              </a:rPr>
              <a:t>Народное дерево</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11" name="PlaceHolder 2"/>
          <p:cNvSpPr>
            <a:spLocks noGrp="1"/>
          </p:cNvSpPr>
          <p:nvPr>
            <p:ph/>
          </p:nvPr>
        </p:nvSpPr>
        <p:spPr>
          <a:xfrm>
            <a:off x="684000" y="1904760"/>
            <a:ext cx="4824360" cy="4476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НАРОДНОЕ ДЕРЕВО. </a:t>
            </a:r>
            <a:r>
              <a:rPr b="0" lang="en-US" sz="1600" spc="-1" strike="noStrike">
                <a:solidFill>
                  <a:srgbClr val="ffffff"/>
                </a:solidFill>
                <a:latin typeface="Arial"/>
              </a:rPr>
              <a:t>Почему-то так уж издавна сложилось: одни растения пользовались всеобщим уважением (ду­бу даже поклонялись), на другие вни­мания почти не обращали. Например, на </a:t>
            </a:r>
            <a:r>
              <a:rPr b="1" lang="en-US" sz="1600" spc="-1" strike="noStrike">
                <a:solidFill>
                  <a:srgbClr val="ffffff"/>
                </a:solidFill>
                <a:latin typeface="Arial"/>
              </a:rPr>
              <a:t>тополь. </a:t>
            </a:r>
            <a:r>
              <a:rPr b="0" lang="en-US" sz="1600" spc="-1" strike="noStrike">
                <a:solidFill>
                  <a:srgbClr val="ffffff"/>
                </a:solidFill>
                <a:latin typeface="Arial"/>
              </a:rPr>
              <a:t>Хотя вроде и было за что его похвалить. Например, за быстроту, с ко­торой он растет,— до шести сантимет­ров в сутки вырастают некоторые то­поля.</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В нашей стране около пятидесяти ви­дов тополей, но наиболее распространен </a:t>
            </a:r>
            <a:r>
              <a:rPr b="1" lang="en-US" sz="1600" spc="-1" strike="noStrike">
                <a:solidFill>
                  <a:srgbClr val="ffffff"/>
                </a:solidFill>
                <a:latin typeface="Arial"/>
              </a:rPr>
              <a:t>черный тополь, </a:t>
            </a:r>
            <a:r>
              <a:rPr b="0" lang="en-US" sz="1600" spc="-1" strike="noStrike">
                <a:solidFill>
                  <a:srgbClr val="ffffff"/>
                </a:solidFill>
                <a:latin typeface="Arial"/>
              </a:rPr>
              <a:t>или </a:t>
            </a:r>
            <a:r>
              <a:rPr b="1" lang="en-US" sz="1600" spc="-1" strike="noStrike">
                <a:solidFill>
                  <a:srgbClr val="ffffff"/>
                </a:solidFill>
                <a:latin typeface="Arial"/>
              </a:rPr>
              <a:t>осокорь. </a:t>
            </a:r>
            <a:r>
              <a:rPr b="0" lang="en-US" sz="1600" spc="-1" strike="noStrike">
                <a:solidFill>
                  <a:srgbClr val="ffffff"/>
                </a:solidFill>
                <a:latin typeface="Arial"/>
              </a:rPr>
              <a:t>Чаще всего он встречается по берегам рек и озер, на заливных лугах. Но хорошо себя чув­ствует осокорь не только в сырых ме­стах. Недаром же люди взяли его в союзники для борьбы с наступающими песками.</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Неподалеку от линии наступающих песков высаживают молодые тополя. Ими как бы огораживают плодородные земли. </a:t>
            </a:r>
            <a:endParaRPr b="0" lang="en-US" sz="1600" spc="-1" strike="noStrike">
              <a:solidFill>
                <a:srgbClr val="ffffff"/>
              </a:solidFill>
              <a:latin typeface="Arial"/>
            </a:endParaRPr>
          </a:p>
        </p:txBody>
      </p:sp>
      <p:pic>
        <p:nvPicPr>
          <p:cNvPr id="112" name="" descr=""/>
          <p:cNvPicPr/>
          <p:nvPr/>
        </p:nvPicPr>
        <p:blipFill>
          <a:blip r:embed="rId1"/>
          <a:stretch/>
        </p:blipFill>
        <p:spPr>
          <a:xfrm>
            <a:off x="6156360" y="1341360"/>
            <a:ext cx="298764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68360" y="764640"/>
            <a:ext cx="8377200" cy="5759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выручку тополю пришли и лесоводы. Они вывели новые сорта дерева, отличающиеся лучшей древесиной.</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менилось отношение к тополю. Теперь он уже не сам по себе растет, о нем заботятся, его пестуют. И все чаще говорят уже не о его недостатках, а о достоинствах.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ейчас   тополеводство   стало   делом мирового   масштаба:   с   1947   года   при ООН   работает   специальная   тополевая комиссия.   Конечно,   занимаются  люди не только осокорем, существует много видов этого дерева. И у каждого вида есть свои недостатки  и  свои достоинства. Об этом знали еще древние греки и ценили тополь. Недаром назвали его «популюс», что значит — народное.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Black"/>
              </a:rPr>
              <a:t>Роль дерева в духовной жизни славян.</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смотришь на березу весной, на ее зеркальное белостволье и оно покажется то колышущимся пламенем свечей, то белоснежной стаей плавно шествующих по лужайке лебедушек, а то и хороводом юных девушек, — столь дивно, чисто и лелейно ее очарование.</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ля российского человека нет дерева роднее, чем береза. С самых давних времен поют о ней на Руси песни, складывают сказки, сочиняют стихи.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0" y="404640"/>
            <a:ext cx="5580000" cy="4608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 стародавние времена березу называли деревом четырех дел: «Первое дело — мир освещать, второе дело — крик утишать</a:t>
            </a:r>
            <a:r>
              <a:rPr b="1" lang="en-US" sz="1800" spc="-1" strike="noStrike">
                <a:solidFill>
                  <a:srgbClr val="ffffff"/>
                </a:solidFill>
                <a:latin typeface="Arial"/>
              </a:rPr>
              <a:t>, </a:t>
            </a:r>
            <a:r>
              <a:rPr b="0" lang="en-US" sz="1800" spc="-1" strike="noStrike">
                <a:solidFill>
                  <a:srgbClr val="ffffff"/>
                </a:solidFill>
                <a:latin typeface="Arial"/>
              </a:rPr>
              <a:t>третье дело — больных исцелять, четвертое дело — чистоту соблюдать».</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И действительно, в древности лучина-лучинушка являлась единственным источником света в долгие темные ночи. «Крик» же в деревне от скрипа всевозможных колес утишался в свое время березовым дегтем. Но две профессии березы — чистоту соблюдать и больных исцелять у дерева остались. И сегодня каждый год заготавливают в лесах березовые метлы и веники. В соблюдении чистоты такой веник и душистый, и гибкий. Но самое главное, он вне всякой конкуренции в русской бане, где не столько страж чистоты, сколько сильное и многостороннее лекарственное средство. </a:t>
            </a:r>
            <a:endParaRPr b="0" lang="en-US" sz="1800" spc="-1" strike="noStrike">
              <a:solidFill>
                <a:srgbClr val="ffffff"/>
              </a:solidFill>
              <a:latin typeface="Arial"/>
            </a:endParaRPr>
          </a:p>
        </p:txBody>
      </p:sp>
      <p:pic>
        <p:nvPicPr>
          <p:cNvPr id="117" name="" descr=""/>
          <p:cNvPicPr/>
          <p:nvPr/>
        </p:nvPicPr>
        <p:blipFill>
          <a:blip r:embed="rId1"/>
          <a:stretch/>
        </p:blipFill>
        <p:spPr>
          <a:xfrm>
            <a:off x="5651640" y="981000"/>
            <a:ext cx="3492360" cy="309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68360" y="549360"/>
            <a:ext cx="8424720" cy="5975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ереза является универсальным лекарем. Не только народная, но и научная литература обращается к ней за помощью. Для излечения разных заболеваний издавна используются чуть ли не все части дерева: и</a:t>
            </a:r>
            <a:r>
              <a:rPr b="1" lang="ru-RU" sz="2400" spc="-1" strike="noStrike">
                <a:solidFill>
                  <a:srgbClr val="ffffff"/>
                </a:solidFill>
                <a:latin typeface="Arial"/>
              </a:rPr>
              <a:t> </a:t>
            </a:r>
            <a:r>
              <a:rPr b="0" lang="ru-RU" sz="2400" spc="-1" strike="noStrike">
                <a:solidFill>
                  <a:srgbClr val="ffffff"/>
                </a:solidFill>
                <a:latin typeface="Arial"/>
              </a:rPr>
              <a:t>нераскрывшиеся почки, и молодые листья, и наросты чаги-гриба на стволе, и добываемый из бересты сильный антисептик — березовый деготь. В последнее время из отходов березой древесины стали получать ценный заменитель сахара для больных диабетом, так называемый ксилит. Пьют, считая целебным, и березовый сок, который содержит яблочную.</a:t>
            </a:r>
            <a:endParaRPr b="0" lang="en-US" sz="2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 времена древнего язычества славяне считали</a:t>
            </a:r>
            <a:r>
              <a:rPr b="1" lang="ru-RU" sz="2400" spc="-1" strike="noStrike">
                <a:solidFill>
                  <a:srgbClr val="ffffff"/>
                </a:solidFill>
                <a:latin typeface="Arial"/>
              </a:rPr>
              <a:t> </a:t>
            </a:r>
            <a:r>
              <a:rPr b="0" lang="ru-RU" sz="2400" spc="-1" strike="noStrike">
                <a:solidFill>
                  <a:srgbClr val="ffffff"/>
                </a:solidFill>
                <a:latin typeface="Arial"/>
              </a:rPr>
              <a:t>березу своим тотемом, родоначальницей и покровительницей. Ей поклонялись, полагая, что после смерти в березу переселяется душа человека. Места поклонения носили названия священных рощ. Их старательно оберегали и при входе в белоколонные залы старались думать только о добром и прекрасном, оставляя мрачные мысли далеко за опушко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50920" y="333360"/>
            <a:ext cx="3457440" cy="5851440"/>
          </a:xfrm>
          <a:prstGeom prst="rect">
            <a:avLst/>
          </a:prstGeom>
          <a:ln w="0">
            <a:noFill/>
          </a:ln>
        </p:spPr>
      </p:pic>
      <p:sp>
        <p:nvSpPr>
          <p:cNvPr id="120" name=""/>
          <p:cNvSpPr/>
          <p:nvPr/>
        </p:nvSpPr>
        <p:spPr>
          <a:xfrm>
            <a:off x="3995640" y="930600"/>
            <a:ext cx="4897440" cy="4717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разднику «Русская береза» в двадцатые годы нашего столетия предшествовал  «Праздник русского леса», который преследовал две цели. С одной стороны, он старался привлечь людей к сохранению лесов, озеленению городов и </a:t>
            </a:r>
            <a:r>
              <a:rPr b="0" i="1" lang="en-US" sz="1600" spc="-1" strike="noStrike">
                <a:solidFill>
                  <a:srgbClr val="ffffff"/>
                </a:solidFill>
                <a:latin typeface="Arial"/>
              </a:rPr>
              <a:t> </a:t>
            </a:r>
            <a:r>
              <a:rPr b="0" lang="en-US" sz="1600" spc="-1" strike="noStrike">
                <a:solidFill>
                  <a:srgbClr val="ffffff"/>
                </a:solidFill>
                <a:latin typeface="Arial"/>
              </a:rPr>
              <a:t>поселков; а с другой, пытался противостоять христианскому празднику Троица. В первой части ему способствовал успех, что же касается противостояния  Троице, здесь у зачинщиков противостояния ничего не вышло.</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Праздник Троица был введен в культовую практику православной церкви политическим и церковным деятелем Русскою государства Сергием Радонежским. По времени празднование Троицы совпадало с древними славянскими празднествами, которые укрепились в народном сознании многовековой практикой.</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94920" y="475920"/>
            <a:ext cx="8497800" cy="5977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 древним славянским верованиям считалось, что на ветвях березы обитают русалки — добрые и мстительные олицетворения растительного, которых, с одной стороны, требовалось добрых зазывать на заколосившиеся</a:t>
            </a:r>
            <a:r>
              <a:rPr b="0" i="1" lang="ru-RU" sz="2400" spc="-1" strike="noStrike">
                <a:solidFill>
                  <a:srgbClr val="ffffff"/>
                </a:solidFill>
                <a:latin typeface="Arial"/>
              </a:rPr>
              <a:t> </a:t>
            </a:r>
            <a:r>
              <a:rPr b="0" lang="ru-RU" sz="2400" spc="-1" strike="noStrike">
                <a:solidFill>
                  <a:srgbClr val="ffffff"/>
                </a:solidFill>
                <a:latin typeface="Arial"/>
              </a:rPr>
              <a:t>поля, с другой — всячески противодействовать появлению на них мстительных существ. Роль оберега возлагалась тогда и на саму берегиню - березу.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ереза встречает россиянина при рождении, качает его в своей колыбели, шепчет молитвы, рассказывает сказки, поет песни, оберегает от бед, согревает в холод, излечивает от болезни и провожает в последний путь.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изко склоним перед ней свои головы и тихо прошепчем: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Аллилуя, Богиня-Берегиня! Спасибо за то, что ты есть, что сопровож­даешь нас по жизни от рассвета до заката. Пусть обойдут тебя и злой глаз, и коварная сталь, и огонь, и засуха.</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ллилуя, белый пояс! Аллилуя, березонька!</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24000" y="476280"/>
            <a:ext cx="8424720" cy="61214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Всегда на новом месте.</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Есть на Крайнем Севере невидимая, но очень важная пограничная линия. Бюджет климата здесь таков, что для леса жизнь севернее этой черты — дело немыслимое. Влияет многое: сильные ветры, мерзлота в почве, но главное — общий недостаток тепла. Холод и ветер тополям страшны не меньше, чем ивам, их собратьям по семейству ивовых. И столь смелое продвижение тополевого авангарда в глубь тундры не случайно. Тополь — житель речных пойм. Он растет по островам и низким берегам рек. Северные реки несут с юга массу тепла. Этого тепла тополям хватает, чтобы продвинуться в тундру. Но только вдоль русла реки. Ни на шаг в сторону на морозную, продуваемую ветрами равнин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е все тополя идут так далеко на север. Только душистый тополь. Он истинный «забайкалец, сибиряк, но в облике дерева есть что-то южное, что-то тропическое. Лист его не ромбический, как у обычных тополей, а овальный. Не мягкий, не нежный, а жесткий, кожистый, сверху темный, глянцевый, снизу сизоватый, бледный. Такой лист выдержит и шквальные тропические ливни. Это проверено на Байкал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4920" y="691920"/>
            <a:ext cx="8497800" cy="5832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300 лет стволы начинают рушиться один за дру­гим. К этому времени они уже изрядно прогнили изнутри. Сломанный бурей ствол пуст, как труба. На месте упавшего дерева в каждом нормальном лесу селится молодняк. В тополевом этого никогда не случается.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днако топольник не исчезает. Через несколько лет наступает паводок, река намывает новую песчаную отмель, наносит гальку. На ней, пользуясь случаем, и поселяется тополевый молодняк, пока не успели захватить удобное место лесные и сорные травы. Молодняк густой: семян тополь дает много, с запа­сом. Пройдут годы, молодняк превратится во взрослый лес. Но и этот лес на песчаной косе будет жить тоже один только раз, пока не достигнет 300-летнего возраста и буря не переломает его прогнившие стволы. Дважды на одном месте душистый тополь не растет никогд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залось бы, природа не рассчитала, и тополевые семена могут пропасть без пользы, потому что должны прорастать только в пойме реки. На   самом   деле   предусмотрено   все   до   мелоч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Black"/>
              </a:rPr>
              <a:t>Куль дерева в культуре бурят</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25" name="PlaceHolder 2"/>
          <p:cNvSpPr>
            <a:spLocks noGrp="1"/>
          </p:cNvSpPr>
          <p:nvPr>
            <p:ph/>
          </p:nvPr>
        </p:nvSpPr>
        <p:spPr>
          <a:xfrm>
            <a:off x="468360" y="1700280"/>
            <a:ext cx="8377200" cy="4897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урятия богата лесами: кедрачи, сосна, ель, береза, которые под­разделяются на хвойные и лиственные. Хотя все деревья объединя­ют присущие им общие свойства, каждое из них в то же время име­ет свои неповторимые особенност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ще одно дерево, которое часто встречается на территории Бурятии – это береза, она занимает 9,3% всей площади лесов республики. Береза – национальное дерево русского народа. На Руси не встретишь другого такого дерева, о котором бы слагалось   столько пословиц и поговорок, пелось столько песен. В старину у березы был свой праздник </a:t>
            </a:r>
            <a:r>
              <a:rPr b="1" lang="ru-RU" sz="2000" spc="-1" strike="noStrike">
                <a:solidFill>
                  <a:srgbClr val="ffffff"/>
                </a:solidFill>
                <a:latin typeface="Arial"/>
              </a:rPr>
              <a:t>- </a:t>
            </a:r>
            <a:r>
              <a:rPr b="0" lang="ru-RU" sz="2000" spc="-1" strike="noStrike">
                <a:solidFill>
                  <a:srgbClr val="ffffff"/>
                </a:solidFill>
                <a:latin typeface="Arial"/>
              </a:rPr>
              <a:t>семик.</a:t>
            </a:r>
            <a:r>
              <a:rPr b="1" i="1" lang="ru-RU" sz="2000" spc="-1" strike="noStrike">
                <a:solidFill>
                  <a:srgbClr val="ffffff"/>
                </a:solidFill>
                <a:latin typeface="Arial"/>
              </a:rPr>
              <a:t> </a:t>
            </a:r>
            <a:r>
              <a:rPr b="0" lang="ru-RU" sz="2000" spc="-1" strike="noStrike">
                <a:solidFill>
                  <a:srgbClr val="ffffff"/>
                </a:solidFill>
                <a:latin typeface="Arial"/>
              </a:rPr>
              <a:t>В эти праздничные дни де­вушки водили хороводы вокруг молодых березок, гадали, вили венки из березовых ветвей, ветками украшали красный угол в избе. Буряты также почитали березу, используя ее во время свадебных обрядов, такой сакральный предмет, как коновязь </a:t>
            </a:r>
            <a:r>
              <a:rPr b="0" i="1" lang="ru-RU" sz="2000" spc="-1" strike="noStrike">
                <a:solidFill>
                  <a:srgbClr val="ffffff"/>
                </a:solidFill>
                <a:latin typeface="Arial"/>
              </a:rPr>
              <a:t>(езргэ) </a:t>
            </a:r>
            <a:r>
              <a:rPr b="0" lang="ru-RU" sz="2000" spc="-1" strike="noStrike">
                <a:solidFill>
                  <a:srgbClr val="ffffff"/>
                </a:solidFill>
                <a:latin typeface="Arial"/>
              </a:rPr>
              <a:t>изготав­ливался из древесины березы. У бурят существует изречение: </a:t>
            </a:r>
            <a:r>
              <a:rPr b="1" i="1" lang="ru-RU" sz="2000" spc="-1" strike="noStrike">
                <a:solidFill>
                  <a:srgbClr val="ffffff"/>
                </a:solidFill>
                <a:latin typeface="Arial"/>
              </a:rPr>
              <a:t>«Хун </a:t>
            </a:r>
            <a:r>
              <a:rPr b="0" i="1" lang="ru-RU" sz="2000" spc="-1" strike="noStrike">
                <a:solidFill>
                  <a:srgbClr val="ffffff"/>
                </a:solidFill>
                <a:latin typeface="Arial"/>
              </a:rPr>
              <a:t>шубуун гарбсытап, </a:t>
            </a:r>
            <a:r>
              <a:rPr b="0" i="1" lang="en-US" sz="2000" spc="-1" strike="noStrike">
                <a:solidFill>
                  <a:srgbClr val="ffffff"/>
                </a:solidFill>
                <a:latin typeface="Arial"/>
              </a:rPr>
              <a:t>xyhan</a:t>
            </a:r>
            <a:r>
              <a:rPr b="0" i="1" lang="ru-RU" sz="2000" spc="-1" strike="noStrike">
                <a:solidFill>
                  <a:srgbClr val="ffffff"/>
                </a:solidFill>
                <a:latin typeface="Arial"/>
              </a:rPr>
              <a:t> модон сэргэтэй» </a:t>
            </a:r>
            <a:r>
              <a:rPr b="0" lang="ru-RU" sz="2000" spc="-1" strike="noStrike">
                <a:solidFill>
                  <a:srgbClr val="ffffff"/>
                </a:solidFill>
                <a:latin typeface="Arial"/>
              </a:rPr>
              <a:t>(прародительница наша - птица лебедь, коновязь наша - белая берез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475920"/>
            <a:ext cx="8377200" cy="5977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Задача:</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Изучение  роли  дерева  в  жизни   славян  и  бурятов.</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ульт  дерева  с  древних  времен.</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Рассмотреть  условия  строительства  дома;</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есто, выбранное  для строительства  дома;</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Определить, согласно  классификации  место  и  условия  роста  дерева около  ТОСШ № 2.</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Исследовать  объекты  окружающей  среды, изучить  роль  основных  видов, выросших  в  школьном  дворе(береза, тополь) с  научной  точки  зрения,  с точки  зрения  устного- народного  творчества , народной  этики, обрядов  и  обычаев.</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Творчески   осмыслить    особенности дерева, украсившего  школьный  двор.</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Определить  воздействие  природы  на  окружающую  среду,  березы и  тополя  на  человека.</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68360" y="549000"/>
            <a:ext cx="8377200" cy="5832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Большой научный интерес представляет </a:t>
            </a:r>
            <a:r>
              <a:rPr b="1" lang="en-US" sz="2000" spc="-1" strike="noStrike">
                <a:solidFill>
                  <a:srgbClr val="ffffff"/>
                </a:solidFill>
                <a:latin typeface="Arial"/>
              </a:rPr>
              <a:t>культ деревьев, </a:t>
            </a:r>
            <a:r>
              <a:rPr b="0" lang="en-US" sz="2000" spc="-1" strike="noStrike">
                <a:solidFill>
                  <a:srgbClr val="ffffff"/>
                </a:solidFill>
                <a:latin typeface="Arial"/>
              </a:rPr>
              <a:t>рас­пространенный у многих народов земного шара. В нем нашли от­ражение различные стадии в развитии народного мировоззрения -от самых архаических представлений до сложных философских воззрений. В науке долгое время существовала попытка весь сложный, многообразный культ дерева свести к одному фактору, обычно к анимизм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Так, у славянских народов береза выступала как символ бо­гини-матери, ее семантическое тождество.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Культ дерева как один из элементов культа природы и стихи не может быть понят в отрыве от мировоззрения народа в целом.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С древних времен дерево выступает как один из пяти первоэлементов (дерево, огонь, земля, метол, вода). У многих народов укрепилось представление о том, что дерево порождает огонь, огонь – землю, земля – металл, металл – воду, а вода – дерево. Понятие «дерево порождает огонь» основано на наблюдениях над явлениями природы и опыте добывания огня путем трения деревянных палочек или загорания деревьев от молнии.  Почитание деревьев было широко распространено у народов Сибири.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68000" y="620280"/>
            <a:ext cx="8280360" cy="597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всей территории Бурятии на каждом значительном перевале всегда есть деревья, на ветках которых развешаны ленты, лоскутки новых тканей. Одиноко стоящие в степи деревья, по воззрениям бурят, также являются сакральным объектом, проезжая мимо которого обязательно делается остановка, совершается ритуал подношения даров в виде всевозможных кушаний, молочных продуктов, водки, денег, разноцветных полос тканей. В том случае, если с собой не было ничего из вышеназванного, то привязывали несколько волос из хвоста или гривы своего коня. Такие деревья нельзя было ломать, тем более рубить. У бурят бытует поверие, что дух, хозяин леса, живет в самых крайних деревьях леса и их тоже нельзя рубить. Для этой цели необходимо углубится подальше в лес и там подыскать   подходящее для рубки деревья. Старые деревья, насчитывавшие не одну сотню лет, символизировали непрерывность жизни, цикличность смены поколений и их связь.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Культ деревьев и вся сопровождающая его культовая практика должны были обеспечить естественный ход событий, гармонию в природе и жизни людей, они играли важную роль в магико-религиозных обрядах, обеспечивающих увеличение жизненной силы животных, людей.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94920" y="549360"/>
            <a:ext cx="8450280" cy="5759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Деревья в бурятских обрядах и верованиях, как объекты культового и мифологического почитания, выступают в следующих аспектах: носители жизненной силы; воплощение древесного духа, его обиталище; путь, дорога, по которой осуществляется магическая связь человека с потусторонним миром; символ круговорота времени, знак смены сезонов года; один из пяти элементов мироздания.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аши предки умели мудро пользоваться</a:t>
            </a:r>
            <a:r>
              <a:rPr b="1" lang="en-US" sz="2000" spc="-1" strike="noStrike">
                <a:solidFill>
                  <a:srgbClr val="ffffff"/>
                </a:solidFill>
                <a:latin typeface="Arial"/>
              </a:rPr>
              <a:t> </a:t>
            </a:r>
            <a:r>
              <a:rPr b="0" lang="en-US" sz="2000" spc="-1" strike="noStrike">
                <a:solidFill>
                  <a:srgbClr val="ffffff"/>
                </a:solidFill>
                <a:latin typeface="Arial"/>
              </a:rPr>
              <a:t>природными богат­ствами. Природа была не только домом и кровом, а основой и ус­ловием благополучия, богатства, радости, здоровья. Считая себя частицей единой и неделимой природы, человек никогда не старал­ся подчинить ее себе. Ребенок с малых</a:t>
            </a:r>
            <a:r>
              <a:rPr b="1" lang="en-US" sz="2000" spc="-1" strike="noStrike">
                <a:solidFill>
                  <a:srgbClr val="ffffff"/>
                </a:solidFill>
                <a:latin typeface="Arial"/>
              </a:rPr>
              <a:t> </a:t>
            </a:r>
            <a:r>
              <a:rPr b="0" lang="en-US" sz="2000" spc="-1" strike="noStrike">
                <a:solidFill>
                  <a:srgbClr val="ffffff"/>
                </a:solidFill>
                <a:latin typeface="Arial"/>
              </a:rPr>
              <a:t>лет учился любить, почитать, охранять ее, не только слушая наставления и назидания, но и наблюдая личный пример старших.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Главный виновник</a:t>
            </a:r>
            <a:r>
              <a:rPr b="1" lang="en-US" sz="2000" spc="-1" strike="noStrike">
                <a:solidFill>
                  <a:srgbClr val="ffffff"/>
                </a:solidFill>
                <a:latin typeface="Arial"/>
              </a:rPr>
              <a:t> </a:t>
            </a:r>
            <a:r>
              <a:rPr b="0" lang="en-US" sz="2000" spc="-1" strike="noStrike">
                <a:solidFill>
                  <a:srgbClr val="ffffff"/>
                </a:solidFill>
                <a:latin typeface="Arial"/>
              </a:rPr>
              <a:t>современных экологических проблем</a:t>
            </a:r>
            <a:r>
              <a:rPr b="1" lang="en-US" sz="2000" spc="-1" strike="noStrike">
                <a:solidFill>
                  <a:srgbClr val="ffffff"/>
                </a:solidFill>
                <a:latin typeface="Arial"/>
              </a:rPr>
              <a:t> </a:t>
            </a:r>
            <a:r>
              <a:rPr b="0" lang="en-US" sz="2000" spc="-1" strike="noStrike">
                <a:solidFill>
                  <a:srgbClr val="ffffff"/>
                </a:solidFill>
                <a:latin typeface="Arial"/>
              </a:rPr>
              <a:t>и бед - сам</a:t>
            </a:r>
            <a:r>
              <a:rPr b="1" lang="en-US" sz="2000" spc="-1" strike="noStrike">
                <a:solidFill>
                  <a:srgbClr val="ffffff"/>
                </a:solidFill>
                <a:latin typeface="Arial"/>
              </a:rPr>
              <a:t> </a:t>
            </a:r>
            <a:r>
              <a:rPr b="0" lang="en-US" sz="2000" spc="-1" strike="noStrike">
                <a:solidFill>
                  <a:srgbClr val="ffffff"/>
                </a:solidFill>
                <a:latin typeface="Arial"/>
              </a:rPr>
              <a:t>человек, его потребительское</a:t>
            </a:r>
            <a:r>
              <a:rPr b="1" lang="en-US" sz="2000" spc="-1" strike="noStrike">
                <a:solidFill>
                  <a:srgbClr val="ffffff"/>
                </a:solidFill>
                <a:latin typeface="Arial"/>
              </a:rPr>
              <a:t> </a:t>
            </a:r>
            <a:r>
              <a:rPr b="0" lang="en-US" sz="2000" spc="-1" strike="noStrike">
                <a:solidFill>
                  <a:srgbClr val="ffffff"/>
                </a:solidFill>
                <a:latin typeface="Arial"/>
              </a:rPr>
              <a:t>отношение к окружающей среде. Чтобы сохранить то, что даровано нам Небом, приумножить наследованные</a:t>
            </a:r>
            <a:r>
              <a:rPr b="1" lang="en-US" sz="2000" spc="-1" strike="noStrike">
                <a:solidFill>
                  <a:srgbClr val="ffffff"/>
                </a:solidFill>
                <a:latin typeface="Arial"/>
              </a:rPr>
              <a:t> </a:t>
            </a:r>
            <a:r>
              <a:rPr b="0" lang="en-US" sz="2000" spc="-1" strike="noStrike">
                <a:solidFill>
                  <a:srgbClr val="ffffff"/>
                </a:solidFill>
                <a:latin typeface="Arial"/>
              </a:rPr>
              <a:t>нами богатства наших предков и передать детям и внукам, мы должны использовать многовековой опыт народа, его нравственную</a:t>
            </a:r>
            <a:r>
              <a:rPr b="1" lang="en-US" sz="2000" spc="-1" strike="noStrike">
                <a:solidFill>
                  <a:srgbClr val="ffffff"/>
                </a:solidFill>
                <a:latin typeface="Arial"/>
              </a:rPr>
              <a:t> </a:t>
            </a:r>
            <a:r>
              <a:rPr b="0" lang="en-US" sz="2000" spc="-1" strike="noStrike">
                <a:solidFill>
                  <a:srgbClr val="ffffff"/>
                </a:solidFill>
                <a:latin typeface="Arial"/>
              </a:rPr>
              <a:t>культуру, экологические</a:t>
            </a:r>
            <a:r>
              <a:rPr b="1" lang="en-US" sz="2000" spc="-1" strike="noStrike">
                <a:solidFill>
                  <a:srgbClr val="ffffff"/>
                </a:solidFill>
                <a:latin typeface="Arial"/>
              </a:rPr>
              <a:t> </a:t>
            </a:r>
            <a:r>
              <a:rPr b="0" lang="en-US" sz="2000" spc="-1" strike="noStrike">
                <a:solidFill>
                  <a:srgbClr val="ffffff"/>
                </a:solidFill>
                <a:latin typeface="Arial"/>
              </a:rPr>
              <a:t>традиции. В культуре</a:t>
            </a:r>
            <a:r>
              <a:rPr b="1" lang="en-US" sz="2000" spc="-1" strike="noStrike">
                <a:solidFill>
                  <a:srgbClr val="ffffff"/>
                </a:solidFill>
                <a:latin typeface="Arial"/>
              </a:rPr>
              <a:t> </a:t>
            </a:r>
            <a:r>
              <a:rPr b="0" lang="en-US" sz="2000" spc="-1" strike="noStrike">
                <a:solidFill>
                  <a:srgbClr val="ffffff"/>
                </a:solidFill>
                <a:latin typeface="Arial"/>
              </a:rPr>
              <a:t>бурятского наро­да</a:t>
            </a:r>
            <a:r>
              <a:rPr b="1" lang="en-US" sz="2000" spc="-1" strike="noStrike">
                <a:solidFill>
                  <a:srgbClr val="ffffff"/>
                </a:solidFill>
                <a:latin typeface="Arial"/>
              </a:rPr>
              <a:t> </a:t>
            </a:r>
            <a:r>
              <a:rPr b="0" lang="en-US" sz="2000" spc="-1" strike="noStrike">
                <a:solidFill>
                  <a:srgbClr val="ffffff"/>
                </a:solidFill>
                <a:latin typeface="Arial"/>
              </a:rPr>
              <a:t>был  и, думаю, останется самый древний</a:t>
            </a:r>
            <a:r>
              <a:rPr b="1" lang="en-US" sz="2000" spc="-1" strike="noStrike">
                <a:solidFill>
                  <a:srgbClr val="ffffff"/>
                </a:solidFill>
                <a:latin typeface="Arial"/>
              </a:rPr>
              <a:t> </a:t>
            </a:r>
            <a:r>
              <a:rPr b="0" lang="en-US" sz="2000" spc="-1" strike="noStrike">
                <a:solidFill>
                  <a:srgbClr val="ffffff"/>
                </a:solidFill>
                <a:latin typeface="Arial"/>
              </a:rPr>
              <a:t>культ - культ природы.</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Black"/>
              </a:rPr>
              <a:t>Роль дерева в условиях </a:t>
            </a:r>
            <a:br>
              <a:rPr sz="2800"/>
            </a:br>
            <a:r>
              <a:rPr b="1" lang="en-US" sz="2800" spc="-1" strike="noStrike">
                <a:solidFill>
                  <a:srgbClr val="cc3300"/>
                </a:solidFill>
                <a:latin typeface="Arial Black"/>
              </a:rPr>
              <a:t>Таксимовской общеобразовательной средней школы №2</a:t>
            </a:r>
            <a:endParaRPr b="1" lang="en-US" sz="2800" spc="-1" strike="noStrike">
              <a:solidFill>
                <a:srgbClr val="ffffb7"/>
              </a:solidFill>
              <a:latin typeface="Arial Black"/>
            </a:endParaRPr>
          </a:p>
        </p:txBody>
      </p:sp>
      <p:sp>
        <p:nvSpPr>
          <p:cNvPr id="130" name="PlaceHolder 2"/>
          <p:cNvSpPr>
            <a:spLocks noGrp="1"/>
          </p:cNvSpPr>
          <p:nvPr>
            <p:ph/>
          </p:nvPr>
        </p:nvSpPr>
        <p:spPr>
          <a:xfrm>
            <a:off x="323640" y="1905120"/>
            <a:ext cx="8521560" cy="45482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Местность, вид, окрестность вместе со  всею  землею, водою и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ебом  называют  в  народе  общим  словом -</a:t>
            </a:r>
            <a:r>
              <a:rPr b="1" lang="en-US" sz="2000" spc="-1" strike="noStrike">
                <a:solidFill>
                  <a:srgbClr val="ffffff"/>
                </a:solidFill>
                <a:latin typeface="Arial"/>
              </a:rPr>
              <a:t>природа</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иродная  красота  и   эстетические   природные   ценности  наверняка  влияли  на   обычные  чувства  людей.</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Береза </a:t>
            </a:r>
            <a:r>
              <a:rPr b="0" lang="en-US" sz="2000" spc="-1" strike="noStrike">
                <a:solidFill>
                  <a:srgbClr val="ffffff"/>
                </a:solidFill>
                <a:latin typeface="Arial"/>
              </a:rPr>
              <a:t>(по  словарю   Ожегова)-лиственное  дерево   с  белой (реже  темной ) корой  и  сердцевидными  листочкам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поль</a:t>
            </a:r>
            <a:r>
              <a:rPr b="0" lang="en-US" sz="2000" spc="-1" strike="noStrike">
                <a:solidFill>
                  <a:srgbClr val="ffffff"/>
                </a:solidFill>
                <a:latin typeface="Arial"/>
              </a:rPr>
              <a:t>- дерево  семейства  ивовых  с высоким и прямым  стволом.</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Неизвестно, какие причины побудили  поставить здание Таксимовской средней школы №2  именно на этом месте, но  тем не менее место  определенно неплохо. К тому же тот факт, что у здания  выросли  и укрепились березки  говорит, о многом.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братите внимание, что в нашем школьном дворе кроме березы растет и тополь, то есть согласно русским верованиям это деревья, которые являются и «доброжелательными» и «погаными», но все-таки они воздействуют на биоэнергетику школьного дома, на учащихся и учителей благоприятно.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539640" y="549360"/>
            <a:ext cx="8305920" cy="57592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Пословицы  русского  народ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Дерево  дереву  рознь.</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ет  такого  дерева, чтоб на  него  птица  не  садилась.</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  на  дереве  лист  на  лист не  приходитс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то срубил  дерево- того проклянут дети,  кто  посадит  дерево, того  похвалят  внуки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тарое  дерево  скрипит  да  живет.</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ломить  дерево  - секунда, а вырастить  -годы.</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е  беречь  поросль -не  видать и  дерев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то  деревце  посадит ,тот  человеку  и  друг.</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е  от  добра  дерево  листья  роняет.</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начала  дерево  корни  пускает, а  потом  уже  начинает  расти  вверх.</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Без  догляда  и  дерево  не   поднимаетс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ыбери    хорошее  дерево, будешь  под  тенью  сидеть.</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ямое  дерево  ветра  не  боитс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ак  дерево  не  гни,  оно  вверх  растет.</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з  источников  народной  мудрости  мы  знаем, что  к березке  отношение  особо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8000" y="691920"/>
            <a:ext cx="3816360" cy="554508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3300"/>
                </a:solidFill>
                <a:latin typeface="Arial"/>
              </a:rPr>
              <a:t>Стихи</a:t>
            </a:r>
            <a:r>
              <a:rPr b="1" lang="ru-RU" sz="2000" spc="-1" strike="noStrike">
                <a:solidFill>
                  <a:srgbClr val="cc3300"/>
                </a:solidFill>
                <a:latin typeface="Arial"/>
              </a:rPr>
              <a:t> </a:t>
            </a:r>
            <a:r>
              <a:rPr b="0" lang="ru-RU" sz="2000" spc="-1" strike="noStrike">
                <a:solidFill>
                  <a:srgbClr val="cc3300"/>
                </a:solidFill>
                <a:latin typeface="Arial"/>
              </a:rPr>
              <a:t>Дябло  Алины.</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3300"/>
                </a:solidFill>
                <a:latin typeface="Arial"/>
              </a:rPr>
              <a:t>« Березонька.»</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Березонька  пристроилась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  моего  окошка.</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у  что  же ты, березонька,</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рустна, невесела,</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ыть  может, что   случилося,</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альчишка  ветвь  сломал?</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Листок  сорвал, обидил  ли?</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едь  жизнь  так  непроста.</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едь  ты  у нас  красавица!</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лесу  стоишь  качаешься,</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  ветви, словно рученьки,</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тягиваешь  мне.</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едь  в  жизни  у  березоньки</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ак  много  счастья, радости,</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Любуются  березонькой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  радуешь  ты  всех.</a:t>
            </a:r>
            <a:endParaRPr b="0" lang="en-US" sz="2000" spc="-1" strike="noStrike">
              <a:solidFill>
                <a:srgbClr val="ffffff"/>
              </a:solidFill>
              <a:latin typeface="Arial"/>
            </a:endParaRPr>
          </a:p>
        </p:txBody>
      </p:sp>
      <p:sp>
        <p:nvSpPr>
          <p:cNvPr id="133" name=""/>
          <p:cNvSpPr/>
          <p:nvPr/>
        </p:nvSpPr>
        <p:spPr>
          <a:xfrm>
            <a:off x="4788000" y="1469880"/>
            <a:ext cx="4032000" cy="4972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Есть  дерево  осина,</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Есть дерево  береза.</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Береза, ты  прекрасна</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 радуешь  ты  глаз.</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Ты  лучше  всех  на  свете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ак  солнца греешь  лучик,</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ияешь, словно  ясный  день,</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 утра  манишь к  себе.</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ак  славно, если  раненько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Тебе  в  окошко  веточкой</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Березонька  зеленая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  любовью  постучи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тоишь  ты  кучерявая,</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тоишь  ты  светлоокая,</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Березонька  кудрявая,</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Тебя  любить я   рад</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250920" y="907920"/>
            <a:ext cx="3960720" cy="4191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Пышная береза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У школы растет,</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Защищает, украшает,</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Школьный двор родной.</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ридает она нам силу,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Бодрость всем ребятам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И спасибо говорим мы,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Береза дорогая!</a:t>
            </a:r>
            <a:endParaRPr b="0" lang="en-US" sz="2400" spc="-1" strike="noStrike">
              <a:solidFill>
                <a:srgbClr val="ffffff"/>
              </a:solidFill>
              <a:latin typeface="Arial"/>
            </a:endParaRPr>
          </a:p>
        </p:txBody>
      </p:sp>
      <p:sp>
        <p:nvSpPr>
          <p:cNvPr id="135" name=""/>
          <p:cNvSpPr/>
          <p:nvPr/>
        </p:nvSpPr>
        <p:spPr>
          <a:xfrm>
            <a:off x="4572000" y="1710000"/>
            <a:ext cx="401652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Тополь сильный и красивый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Духов отгоняет злых.</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Ты прекрасен своей силой</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 шелестом листв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Будем мы дружить с  тобою –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лавный богатырь.</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94920" y="259920"/>
            <a:ext cx="8450280" cy="626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Актуальность:</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Экологическая  зашита  школьного  дома  в  условиях  современной  жизн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пределить  роль  «дома»  в  обществе,  согласно  экскурсу  в  народно-культурный пласт (от  язычества до  современност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Отметить  значение  культа  дерева   у  славян  и  бурят; сопоставить    данное  исследование  применительно  к  нашей  местност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Цель:</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Изучить  источники  по  истории  русского  и бурятского  народ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Изучить  особенности  дерева , отношение  народа  к  дереву (культ  дерев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Исследовать  значение  «дома» (  от  язычества  до  наших  дней).</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Определить    роль  школьного « дома»  в  условиях   нашей  местност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Создать  творческое  произведение (стихи  о  дереве  в  школьном  дворе).</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Сделать  экологическую карту  местности (территория  школьного   двора).</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
          <p:cNvSpPr/>
          <p:nvPr/>
        </p:nvSpPr>
        <p:spPr>
          <a:xfrm>
            <a:off x="250920" y="557640"/>
            <a:ext cx="8567640" cy="53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ПЛАН:</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Дерево  в жизни  славя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Строительство.</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Русские  народные  обряды и  обычаи  при  строительств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Место  доброе и  недобро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Деревья  «почитаемы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Поганые»  издревле  пород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Биологические  особенности  роста  дерев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 Особенности  берез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2.Особенности  топол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Народно-культурный  пласт. Народно-поэтическое творчество.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Роль  березки  в  жизни  славя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Роль  тополя  в жизни  славян.</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Культ  дерева  у  бурятов</a:t>
            </a:r>
            <a:r>
              <a:rPr b="1"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Дерево  и  его  влияние  на  жизнь  школьного  дом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Условия  среды  обитания  дерева  в  школьном  дворе Таксимовской  средней школы №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Творческое  «обозрение»  автора  работ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68000" y="907920"/>
            <a:ext cx="8351640" cy="5400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ДЕРЕВО В ТАКСИМО</a:t>
            </a:r>
            <a:r>
              <a:rPr b="0" lang="en-US" sz="2800" spc="-1" strike="noStrike">
                <a:solidFill>
                  <a:srgbClr val="cc3300"/>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Я знаю, что деревьям, а не нам</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Дано величье  совершенной  жизни,-</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Николай Гумилев.</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Хорошо известно, что  для  древних  славян  деревья  были не просто  строительным  материалом.  Наши  языческие  пращуры видели  в таких же как и они   сами, детей  Земли и Неба, притом  обладающих  ничуть не меньшим  правом на  жизнь,- «свободные, зеленые народы», как  говорится  в  том же стихотворении Николая  Гумилева.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95280" y="549360"/>
            <a:ext cx="8353440" cy="547200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уществует  </a:t>
            </a:r>
            <a:r>
              <a:rPr b="1" lang="ru-RU" sz="2400" spc="-1" strike="noStrike">
                <a:solidFill>
                  <a:srgbClr val="cc3300"/>
                </a:solidFill>
                <a:latin typeface="Arial"/>
              </a:rPr>
              <a:t>представление  о</a:t>
            </a:r>
            <a:r>
              <a:rPr b="1" lang="ru-RU" sz="2400" spc="-1" strike="noStrike">
                <a:solidFill>
                  <a:srgbClr val="ffffff"/>
                </a:solidFill>
                <a:latin typeface="Arial"/>
              </a:rPr>
              <a:t> </a:t>
            </a:r>
            <a:r>
              <a:rPr b="1" lang="ru-RU" sz="2400" spc="-1" strike="noStrike">
                <a:solidFill>
                  <a:srgbClr val="cc3300"/>
                </a:solidFill>
                <a:latin typeface="Arial"/>
              </a:rPr>
              <a:t>месте добром и недобром</a:t>
            </a:r>
            <a:r>
              <a:rPr b="1" lang="ru-RU" sz="2400" spc="-1" strike="noStrike">
                <a:solidFill>
                  <a:srgbClr val="ffffff"/>
                </a:solidFill>
                <a:latin typeface="Arial"/>
              </a:rPr>
              <a:t>.</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временные   научные  изыскания  подтверждают: на земле действительно  есть места  благополучные и неблагополучные  для жизни и деятельности  человека. Это связано с расположением  силовых линий некоторых энергетических полей  нашей планеты, а также  с факторами «местного  значения» (например, родник под землей). В наше время на подобные обстоятельства долго вообще не обращали внимания, предпочитая отмахиваться от «дремучих  суеверий», а уж о том, чтобы учитывать их при строительстве, и посейчас речи нет.</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динственно, что возможно в современном обществе - это освящение  святой иконой места строительства.            Считалось, что переносить «символы  обжитости» должны предпочтительнее люди, имеющие  детей или же люди молодые. Для школьного «дома» - это доброе явлени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68360" y="475920"/>
            <a:ext cx="8377200" cy="5977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cc3300"/>
                </a:solidFill>
                <a:latin typeface="Arial"/>
              </a:rPr>
              <a:t>БЕРЕЗА-  СИМВОЛ  ЧИСТОТЫ И ВЕРНОСТИ</a:t>
            </a:r>
            <a:r>
              <a:rPr b="1"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  лесу  выделялись  особые  </a:t>
            </a:r>
            <a:r>
              <a:rPr b="0" lang="en-US" sz="2000" spc="-1" strike="noStrike">
                <a:solidFill>
                  <a:srgbClr val="cc3300"/>
                </a:solidFill>
                <a:latin typeface="Arial"/>
              </a:rPr>
              <a:t>«почитаемые» деревья</a:t>
            </a:r>
            <a:r>
              <a:rPr b="0" lang="en-US" sz="2000" spc="-1" strike="noStrike">
                <a:solidFill>
                  <a:srgbClr val="ffffff"/>
                </a:solidFill>
                <a:latin typeface="Arial"/>
              </a:rPr>
              <a:t>, обычно  непомерной  высоты или  толщины, овеянные  местными  легендами.</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Предания могли, например, говорить, что на самом  деле это вовсе не дуб или вековая  сосна, а праведный  человек, живший  когда-то  давно и за беспорочную  жизнь  удостоенный  посмертной  награды – превращения  в благородное  дерево. Подобное дерево  считали  хранителем  и помощником  человеческого  селения, оно «не  пропускало» к  нему врагов - проходя  мимо, те  неминуемо должны  были ослепнуть  или, по  крайней  мере,  сбиться с дороги. Такие  деревья и по сей день,  украшают  наши леса, только теперь  их  называют  памятниками  природы.</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Современные  исследователи  пишут, что некоторые породы деревьев по своим  биоэнергетическим  особенностям  и  вправду  необычайно «доброжелательны»  к человеку, «подпитывают» его  энергией. Если  к  такому  дереву  прижаться  ладонями  и  затылком, ощущается  прилив сил, отступает плохое  настроение и физическая  слабость. Эти – то деревья и почитались в языческие  времена: береза, сосн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4360" y="475920"/>
            <a:ext cx="8007120" cy="597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А другие породы </a:t>
            </a:r>
            <a:r>
              <a:rPr b="0" lang="en-US" sz="2400" spc="-1" strike="noStrike">
                <a:solidFill>
                  <a:srgbClr val="cc3300"/>
                </a:solidFill>
                <a:latin typeface="Arial"/>
              </a:rPr>
              <a:t>(</a:t>
            </a:r>
            <a:r>
              <a:rPr b="0" lang="en-US" sz="2400" spc="-1" strike="noStrike">
                <a:solidFill>
                  <a:srgbClr val="ffffff"/>
                </a:solidFill>
                <a:latin typeface="Arial"/>
              </a:rPr>
              <a:t> </a:t>
            </a:r>
            <a:r>
              <a:rPr b="0" lang="en-US" sz="2400" spc="-1" strike="noStrike">
                <a:solidFill>
                  <a:srgbClr val="cc3300"/>
                </a:solidFill>
                <a:latin typeface="Arial"/>
              </a:rPr>
              <a:t>издревле «поганые»),</a:t>
            </a:r>
            <a:r>
              <a:rPr b="0" lang="en-US" sz="2400" spc="-1" strike="noStrike">
                <a:solidFill>
                  <a:srgbClr val="ffffff"/>
                </a:solidFill>
                <a:latin typeface="Arial"/>
              </a:rPr>
              <a:t> наоборот, ухудшают наше самочувствие и здоровье. Достаточно  хотя  бы  мысленно  представить  заболоченный черный  осинник пополам с ельником, в котором, согласно поговорке, «хоть  удавиться»… Не  случайно  гласит одна  из народных  легенд, что «на осине  Иуда  повесился, с тех пор на ней листья  дрожат, а под  корой -  красная  кровь»…</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К  «поганым» причисляют, увы, и тополь, очень распространенный у нас в городах, в поселках. Справедливости  ради  отметим, что и «поганые»  деревья  иногда помогают, « снимая» у  нас вместе с «темной»  Энергией  излишнее  напряжение, судороги, головную  бол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Black"/>
              </a:rPr>
              <a:t>Дерево и условия его роста. Особенности березы.</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pic>
        <p:nvPicPr>
          <p:cNvPr id="108" name="" descr=""/>
          <p:cNvPicPr/>
          <p:nvPr/>
        </p:nvPicPr>
        <p:blipFill>
          <a:blip r:embed="rId1"/>
          <a:stretch/>
        </p:blipFill>
        <p:spPr>
          <a:xfrm>
            <a:off x="539640" y="1844640"/>
            <a:ext cx="2376720" cy="4753080"/>
          </a:xfrm>
          <a:prstGeom prst="rect">
            <a:avLst/>
          </a:prstGeom>
          <a:ln w="0">
            <a:noFill/>
          </a:ln>
        </p:spPr>
      </p:pic>
      <p:sp>
        <p:nvSpPr>
          <p:cNvPr id="109" name=""/>
          <p:cNvSpPr/>
          <p:nvPr/>
        </p:nvSpPr>
        <p:spPr>
          <a:xfrm>
            <a:off x="3276720" y="1896840"/>
            <a:ext cx="554328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Береза неприхотлива, растет и на сухих песках, и на заболоченных почвах. Цветет береза ранней весной, как только начинают появляться первые листочки. Вот почему береза одной из первых занимает свободные участки земли. В первые годы береза растет медленно, затем ее рост усиливается. Молодые березняки обычно очень густые, но  со временем они редеют. Это связано со светолюбивостью берез. Средняя продолжительность жизни березы около 100 лет, деревья, достигшие 150-летнего возраста, встречаются крайне редко.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1T00:50:55Z</dcterms:created>
  <dc:creator>CLR USER</dc:creator>
  <dc:description/>
  <dc:language>en-US</dc:language>
  <cp:lastModifiedBy>CLR USER</cp:lastModifiedBy>
  <dcterms:modified xsi:type="dcterms:W3CDTF">2006-03-21T06:53:10Z</dcterms:modified>
  <cp:revision>16</cp:revision>
  <dc:subject/>
  <dc:title>Дерево в школьном дворе </dc:title>
</cp:coreProperties>
</file>