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253-7FC7-460F-A535-20B8763C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01C-7DF5-483A-8FC9-5F2A327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05B-4EDA-452D-96D6-D72271F7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258-8F06-462F-8888-753D021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DC16-E775-44BF-92A0-6583897A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A9ED-627E-409E-9E8E-5427048E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A54C-2626-4AB6-8340-081C35BE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948C-8FF2-4EB0-9D59-98C7F84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592-7B1C-4FDA-98EF-40B451BC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BA30-84DD-4C6A-ACC6-4B333CB1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EE0-4BA3-4D00-B18B-CB1A42A7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06E-B5CE-4BDA-9A93-912D556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3777-F3E3-4EDE-A81B-0B1D0C4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A8B-A297-4601-9994-05356573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50DF-C282-4D6D-9AB0-381A5C4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7DA-5D4C-49F5-B444-7C09216F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EC4E-2278-4589-B4FB-F9D161BA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F5C-BD68-45AF-8DC8-A8CA3541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AC2-A29B-4FEC-A5AF-BB539B0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DC0-F05F-4E4C-A651-1430D1A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BA5-339A-4BB4-B4D0-B9550529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588-00EA-4C19-95C0-3E9E5DB5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239-C6B1-4F64-8D6F-EFCB46A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1EA-EC40-4A7D-B8D1-EFD38D5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275-73D3-48AF-BD47-C1E311404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A72-4C10-4575-880D-F67EAB0A7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Интерьерное озеленение как элемент создания здоровьесберегающей среды в школе.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а класса сош № 1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тыкова Ли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снова И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Аура растений совместно с фитонцидами способна влиять на  психическое и физическое здоровье человека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5746" t="9212" r="4893" b="2629"/>
          <a:stretch/>
        </p:blipFill>
        <p:spPr>
          <a:xfrm>
            <a:off x="685800" y="17524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Лимон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3638520" cy="4419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52578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Пеларгония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356000" cy="5486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27440" y="1409760"/>
            <a:ext cx="45165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залимбарская фиалк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468520" cy="2971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845400">
            <a:off x="0" y="4343040"/>
            <a:ext cx="2666880" cy="2198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19520" y="1314360"/>
            <a:ext cx="3504960" cy="422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562720" y="2657520"/>
            <a:ext cx="35812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Хлорофитум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967800">
            <a:off x="990360" y="2285640"/>
            <a:ext cx="2898720" cy="3503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3434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ект фитодизайна школьного кабинета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Комфортная среда обитания – одно из условий сохранения здоровья человек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3639960" cy="224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367800">
            <a:off x="914400" y="4275000"/>
            <a:ext cx="3713040" cy="2583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20951400">
            <a:off x="5105160" y="2361960"/>
            <a:ext cx="3581280" cy="268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0" t="0" r="20808" b="0"/>
          <a:stretch/>
        </p:blipFill>
        <p:spPr>
          <a:xfrm>
            <a:off x="6243480" y="4092480"/>
            <a:ext cx="29005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Фитодизайн – это использование растений для улучшения среды обитания в искусственных системах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96000" y="2819520"/>
            <a:ext cx="3348000" cy="403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дачи фитодизайн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нирование помещени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чистка атмосферы помещений от вредных газов и пыл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онизация и увлажнение помещени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вукопоглоще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гащение воздуха биогенными вещества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здание эстетически приятной и комфортной обстанов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44956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Фитонц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вещества, выделяемые растениями, убивающие или подавляющие рост и развитие простейших бактерий, микроскопических грибов (от греческих слов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«фитон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растение и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«цидо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убиваю). Открыты в 1928 г. советским ученым Б.П.Токи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29200" y="1009800"/>
            <a:ext cx="38768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о фитонцидным свойствам растения делятся на: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я с антимикробной и антифунгальной деятельностью (лавр, хлорофитум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я-фитофильтры, поглощающие вредные газы и примеси (диффенбахи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ения, фитонциды которых влияют на поведенческий аспект человека (пеларгон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619200">
            <a:off x="6552720" y="1523520"/>
            <a:ext cx="2057400" cy="1697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1386000" cy="167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0902200">
            <a:off x="6552720" y="5028840"/>
            <a:ext cx="13176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Опрос учащихся 1 – 4 классов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136 человек)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9680" y="1601640"/>
          <a:ext cx="8940960" cy="518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01640"/>
                    <a:ext cx="894096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Действие фитонцидов на простейших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3360" y="1728720"/>
          <a:ext cx="902988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728720"/>
                    <a:ext cx="902988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Комнатные растения - фитофильтры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828800"/>
          <a:ext cx="8229600" cy="432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1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грязняющ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к загряз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ологические очисти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ись углер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томобильный транспо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ффенбах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7-12-25T11:03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