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43E-2026-4456-847E-9EE179B6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F148-ACCF-4542-828A-52038366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646B-340C-4D45-A35F-02A0040C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1B98-E7E0-4DBC-BCFF-8B7C42CE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FC8F-F0F6-4A53-8231-C701A252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6187-359B-417D-ABC2-2147F458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F5E2-3F68-40C7-B032-D4F56640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6EBE-188D-41FD-B5E4-A40CCB28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8DDF-2630-4791-9E33-52800787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9945-EEC3-454A-9E8F-4790A7E5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38AD-1FBD-44F6-B11F-FAF8C04C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2D9-75CF-4F3A-BC62-96F36C32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EB67-421E-4C1D-B562-FEF88FF2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477B-28ED-4FD2-836E-7216F9CA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C4F5-4E72-4D68-8471-4892A0FC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8A9B-993B-4CA9-9B57-3222DD36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D197-13CD-4D32-B2C6-5AA4ABBD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74EE-198B-400F-855E-EE7F6AF1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B54-C78C-4181-BB9B-B20198E4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74D7-7C7F-410A-928D-9D130728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3C5-99A0-4DD1-89BD-22EA33E0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8EB-B196-4223-9D53-6ECF8845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964-5822-440F-946E-6CC023D6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90D-360F-4403-9FE5-34A50DCC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0B1E-796D-4A89-B4B9-4E9EF7B5A2D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1F02-EAF2-4F28-B6B5-99608B4DEE1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СЛАВЯНСКИЕ ЯЗЫКИ – САМОСТОЯТЕЛЬНЫЕ ЯЗЫКИ ИЛИ ДИАЛЕКТЫ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-360" y="34290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сполнитель: Овсянникова Ири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ченица 11 «В» класс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МОУ СОШ №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Руководитель: Буторина В.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чите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русского язык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 литерату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ервоуральск, 2007г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3657600" cy="358128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Три важных понят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-русски: 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мать     дом     г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- польски: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матка   дом     г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- чешски: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матка   дум     х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-болгарски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майка  дом     г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486400" y="4414680"/>
            <a:ext cx="3352680" cy="212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ff"/>
                </a:solidFill>
                <a:uFillTx/>
                <a:latin typeface="Tahoma"/>
              </a:rPr>
              <a:t>ЯЗЫКОВЫЕ  СЕМЬ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93116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емья языков 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овокупность генетически родственных язы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3429000"/>
            <a:ext cx="8610480" cy="3156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68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68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ahoma"/>
              </a:rPr>
              <a:t>Языки славянских народов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80920" y="152388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-русски –     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челов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-украински –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чолов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-польски –   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члов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-болгарски –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чов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-чешски -     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члов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2971800" cy="2827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Романская языковая семья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-французски –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х) ом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-латыни – 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хом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-испански –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х) омбр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-итальянски –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у) ом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-румынски -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477120" y="4965840"/>
            <a:ext cx="2438280" cy="1625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1640" y="304920"/>
            <a:ext cx="4419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иалект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 греч.- говор, наречие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разновидность данного языка, употребляемая в качестве средства общения лицами, связанными тесной территорией, профессией, социальной общност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26676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ahoma"/>
              </a:rPr>
              <a:t>Критерии разграничения языка </a:t>
            </a:r>
            <a:br>
              <a:rPr sz="3200"/>
            </a:br>
            <a:r>
              <a:rPr b="1" lang="en-US" sz="3200" spc="-1" strike="noStrike">
                <a:solidFill>
                  <a:srgbClr val="6699ff"/>
                </a:solidFill>
                <a:latin typeface="Tahoma"/>
              </a:rPr>
              <a:t>и диалекта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ff"/>
                </a:solidFill>
                <a:latin typeface="Tahoma"/>
              </a:rPr>
              <a:t>Лингвистические критер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руктурно-генетиче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итерий поним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ff"/>
                </a:solidFill>
                <a:latin typeface="Tahoma"/>
              </a:rPr>
              <a:t>Экстралингвистические критер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итерий подчи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торико-политиче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итерий переходных звенье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итерий воли и сознания говорящ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ункциональ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 rot="676800">
            <a:off x="6985080" y="404928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0" y="304560"/>
            <a:ext cx="4038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ahoma"/>
              </a:rPr>
              <a:t>Вывод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724280" y="114300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шский, польский, украинский, болгарский, русский языки являются отдельными язык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и же языки являю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иалектами славянского праязы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3434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 Диалект, имеющий возможность влиться в общий язык, остаётся диалектом и не может развиться в самостоятельный язык. Если же такой возможности в судьбе языка не предоставляется, то данный диалект начинает эволюционировать как независимый язык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599840" y="365724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А. Граур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 rot="1197600">
            <a:off x="6781320" y="4038480"/>
            <a:ext cx="1755720" cy="2149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572000" y="4343400"/>
            <a:ext cx="182880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2007 год –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од Русского Язы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541008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Содержани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876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ели и задачи данной раб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Языки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1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деление отдельных групп язы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2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Языковые семь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нятие « диалект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1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итерии отличия языка от диалек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Ответ на поставленный вопро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13400" y="380880"/>
            <a:ext cx="3375000" cy="615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00400" y="304560"/>
            <a:ext cx="54100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ЦЕЛЬ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8120" y="2361960"/>
            <a:ext cx="5867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роследить становление диалектов самостоятельными языками на примере славянских язы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10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ЗАДАЧИ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312372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ть, почему сформировались группы схожих и несхожих язы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яснить возникновение родственных язы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граничить понятия язык и диалек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867280" y="380880"/>
            <a:ext cx="297180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ГИПОТЕЗА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7391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, изучив и проанализировав материал, выбранный мной, мне удастся проследить становление диалектов самостоятельными языками , то мои знания приобретут не только практическую значимость, но и станут свидетельством моего духовного ро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934320" y="380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ff"/>
                </a:solidFill>
                <a:uFillTx/>
                <a:latin typeface="Tahoma"/>
              </a:rPr>
              <a:t>Отдельные</a:t>
            </a:r>
            <a:r>
              <a:rPr b="0" lang="en-US" sz="4400" spc="-1" strike="noStrike" u="sng">
                <a:solidFill>
                  <a:srgbClr val="ff66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66ff"/>
                </a:solidFill>
                <a:uFillTx/>
                <a:latin typeface="Tahoma"/>
              </a:rPr>
              <a:t>группы языко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86200" y="1904760"/>
            <a:ext cx="5029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чения совпадают, а в звуках слов нет ничего обще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усское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«кот 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французское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«ш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усское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«живой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латинское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«виву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усское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«сто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немецкое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«хундер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усское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«волк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французское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«лу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505320" cy="4495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98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98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98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блица превращений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Русско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л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6699ff"/>
                </a:solidFill>
                <a:latin typeface="Tahoma"/>
              </a:rPr>
              <a:t>Литовско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илк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Украинско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в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6699ff"/>
                </a:solidFill>
                <a:latin typeface="Tahoma"/>
              </a:rPr>
              <a:t>Древнеиндийско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к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Сербско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ук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66ff"/>
                </a:solidFill>
                <a:latin typeface="Tahoma"/>
              </a:rPr>
              <a:t>Древнегреческо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юко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Чешско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лк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66ff"/>
                </a:solidFill>
                <a:latin typeface="Tahoma"/>
              </a:rPr>
              <a:t>Латинско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упу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Болгарско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ук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66ff"/>
                </a:solidFill>
                <a:latin typeface="Tahoma"/>
              </a:rPr>
              <a:t>Итальянско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луп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ahoma"/>
              </a:rPr>
              <a:t>Немецко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льф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66ff"/>
                </a:solidFill>
                <a:latin typeface="Tahoma"/>
              </a:rPr>
              <a:t>Румынско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у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ahoma"/>
              </a:rPr>
              <a:t>Английско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вулф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66ff"/>
                </a:solidFill>
                <a:latin typeface="Tahoma"/>
              </a:rPr>
              <a:t>Французско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98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98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1-ая группа                  2-ая группа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ова содержат согласны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66ff"/>
                </a:solidFill>
                <a:latin typeface="Tahoma"/>
              </a:rPr>
              <a:t>«в», «л»(«р»), «к»            «л», «к», («п»)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лк, влк, вркас                  люкос, лупус и д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00400" y="3733920"/>
            <a:ext cx="2413080" cy="2895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GO</cp:lastModifiedBy>
  <dcterms:modified xsi:type="dcterms:W3CDTF">2008-01-23T13:01:13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