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1.gif" ContentType="image/gif"/>
  <Override PartName="/ppt/media/image6.gif" ContentType="image/gif"/>
  <Override PartName="/ppt/media/image4.gif" ContentType="image/gif"/>
  <Override PartName="/ppt/media/image12.png" ContentType="image/png"/>
  <Override PartName="/ppt/media/image20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.gif" ContentType="image/gif"/>
  <Override PartName="/ppt/media/image24.gif" ContentType="image/gi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E51-D044-4371-917E-88948239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426-EBAB-456F-B905-45A88384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60C-76A5-489F-ADC3-44F51C73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4A2-FB7D-483A-85B0-AD8778DD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737-2A2E-4ED4-8347-B64D6351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CF6-C350-4CBB-B0AC-079A05A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6EF-D9F5-46FD-AB01-52327BA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BCB-8F62-487B-9147-6F3C3F3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1F2-C19F-4870-BBCB-7430EA4F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7AA-07E5-40AD-B56A-370DBDD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471-9059-4B88-AA87-D83832B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E1D-BCDF-4F10-A6E8-E6E30FA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DC9-FD47-46C4-8B54-F049E97E70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gif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achdruk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23800" y="685800"/>
            <a:ext cx="8096400" cy="24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ществует ли связ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жду русской колядой 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ританским праздником Хэллоуин?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Animate0106" descr=""/>
          <p:cNvPicPr/>
          <p:nvPr/>
        </p:nvPicPr>
        <p:blipFill>
          <a:blip r:embed="rId2"/>
          <a:stretch/>
        </p:blipFill>
        <p:spPr>
          <a:xfrm>
            <a:off x="3206880" y="2819520"/>
            <a:ext cx="3144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ni_wallcandle" descr=""/>
          <p:cNvPicPr/>
          <p:nvPr/>
        </p:nvPicPr>
        <p:blipFill>
          <a:blip r:embed="rId1"/>
          <a:stretch/>
        </p:blipFill>
        <p:spPr>
          <a:xfrm>
            <a:off x="3422520" y="2743200"/>
            <a:ext cx="2298960" cy="387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7621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Самым плохим предзнаменованием считался упавший подсвечник. «Злые духи хотят погасить огонь в доме», — верили кель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hal13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622520"/>
          </a:xfrm>
          <a:prstGeom prst="rect">
            <a:avLst/>
          </a:prstGeom>
          <a:ln w="0">
            <a:noFill/>
          </a:ln>
        </p:spPr>
      </p:pic>
      <p:pic>
        <p:nvPicPr>
          <p:cNvPr id="86" name="hal13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1622520"/>
          </a:xfrm>
          <a:prstGeom prst="rect">
            <a:avLst/>
          </a:prstGeom>
          <a:ln w="0">
            <a:noFill/>
          </a:ln>
        </p:spPr>
      </p:pic>
      <p:pic>
        <p:nvPicPr>
          <p:cNvPr id="87" name="hal13" descr=""/>
          <p:cNvPicPr/>
          <p:nvPr/>
        </p:nvPicPr>
        <p:blipFill>
          <a:blip r:embed="rId3"/>
          <a:stretch/>
        </p:blipFill>
        <p:spPr>
          <a:xfrm>
            <a:off x="0" y="1806480"/>
            <a:ext cx="914400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19520" y="2011320"/>
            <a:ext cx="496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Сегодня от древнего языческого праздника остался набор забавных увлекательных традиций. В эту ночь принято одеваться в костюмы нечистой силы и устраивать маскарады. По-моему, нельзя упускать редкий шанс почувствовать себя ведьмой или демо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hal13" descr=""/>
          <p:cNvPicPr/>
          <p:nvPr/>
        </p:nvPicPr>
        <p:blipFill>
          <a:blip r:embed="rId4"/>
          <a:stretch/>
        </p:blipFill>
        <p:spPr>
          <a:xfrm>
            <a:off x="0" y="228600"/>
            <a:ext cx="9144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ackground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Tahoma"/>
              </a:rPr>
              <a:t>Самхэйн —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ворота в зиму. Мы до сих пор склонны воспринимать зиму с неприязнью и отвращением. Кажется, что все живое умирает. Однако приход смерти по определению есть приход жизни. Белая пустыня, где живет Самхэйн, необычайно красива. Она освобождена от всего лишнего, наносного. Его время — это время сбросить груз забот и сует, накопившихся за лето и потерявших свое значение, следуя примеру деревьев, которые освобождаются от листьев, отживших свой срок. Ведь если деревья не сбросят их, мертвые листья не дадут им возможность ожить вновь вес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pace02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fstar310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0"/>
            <a:ext cx="45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Легенда гласит, что в эту ночь Самхэйн открывает ворота в прошлое и будущее. Две стихии становятся доступны в настоящем. Это время, когда человек не ограничен клеткой своего времени и может осознать свое место в паутине веч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Однако переход в другое пространство или время обычно бывает болезненным. Ворота хорошо охраняются. Ведьмы и демоны — герои Хэллоуина — это тени хранителей ворот. С нашей стороны бытия они кажутся пугающими воплощениями зла. Но если ворота пройдены, кого увидим мы, оглянувшись?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el2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star3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04920"/>
            <a:ext cx="883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Сразу после зимнего солнцестояния у римлян идут "календы". В это же время на Руси древние славяне отмечали свой зимний многодневный праздник 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тки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 В Белоруссии и на Украине до сих пор святочную неделю называют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"Коляда".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В эти   дни идут пиршества, увеселения, гадания, хождение ряженых, колядование. Аналогичное римским "календам" русское название "колядки" происходят из общего санскритского корня, где "кол" означает солнце или круг. Известно, что "круглое" имеет в русском языке корень "кол": колесо, кольцо, колобок, колодец, колокол, коловорот (солнцеворот)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ed_Rover" descr=""/>
          <p:cNvPicPr/>
          <p:nvPr/>
        </p:nvPicPr>
        <p:blipFill>
          <a:blip r:embed="rId2"/>
          <a:stretch/>
        </p:blipFill>
        <p:spPr>
          <a:xfrm>
            <a:off x="57240" y="4835520"/>
            <a:ext cx="90867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star3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336600"/>
            <a:ext cx="83818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Святки  –  период    с    первого    дня Рождества до Крещения. В это    время    принято    ликовать   и веселиться, но с умом и польз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Святочные  гадания  пришли к нам из старых языческих традиций. </a:t>
            </a:r>
            <a:r>
              <a:rPr b="1" lang="ru-RU" sz="2000" spc="-1" strike="noStrike">
                <a:solidFill>
                  <a:srgbClr val="00ccff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ccff"/>
                </a:solidFill>
                <a:latin typeface="Arial Unicode MS"/>
                <a:ea typeface="Arial Unicode MS"/>
              </a:rPr>
              <a:t>лово «carol» означает «круговой танец», иначе говоря, танец, который исполняют кругами. Дело в том, что много веков назад коляды звучали на праздниках, где хороводы танцующих одновременно распевали незатейливые веселые песенки. Коляды в Англии появились еще в 1100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7kids" descr=""/>
          <p:cNvPicPr/>
          <p:nvPr/>
        </p:nvPicPr>
        <p:blipFill>
          <a:blip r:embed="rId2"/>
          <a:stretch/>
        </p:blipFill>
        <p:spPr>
          <a:xfrm>
            <a:off x="685800" y="3608280"/>
            <a:ext cx="77724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2120"/>
            <a:ext cx="3048120" cy="2895480"/>
          </a:xfrm>
          <a:custGeom>
            <a:avLst/>
            <a:gdLst>
              <a:gd name="textAreaLeft" fmla="*/ 695880 w 3048120"/>
              <a:gd name="textAreaRight" fmla="*/ 2352240 w 3048120"/>
              <a:gd name="textAreaTop" fmla="*/ 660960 h 2895480"/>
              <a:gd name="textAreaBottom" fmla="*/ 22345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 пожелания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хорошего 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лагополуч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1066680"/>
            <a:ext cx="3200400" cy="266724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608760 h 2667240"/>
              <a:gd name="textAreaBottom" fmla="*/ 205848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о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дом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962520"/>
            <a:ext cx="2971800" cy="266688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ереоде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3886200"/>
            <a:ext cx="3047760" cy="297180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бо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жертвовани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го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62240" y="0"/>
            <a:ext cx="2819520" cy="266688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ад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440" y="2057400"/>
            <a:ext cx="4191120" cy="3809880"/>
          </a:xfrm>
          <a:custGeom>
            <a:avLst/>
            <a:gdLst>
              <a:gd name="textAreaLeft" fmla="*/ 934200 w 4191120"/>
              <a:gd name="textAreaRight" fmla="*/ 3256920 w 4191120"/>
              <a:gd name="textAreaTop" fmla="*/ 849240 h 3809880"/>
              <a:gd name="textAreaBottom" fmla="*/ 29606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99" y="11832"/>
                </a:lnTo>
                <a:lnTo>
                  <a:pt x="368" y="13595"/>
                </a:lnTo>
                <a:lnTo>
                  <a:pt x="2952" y="13971"/>
                </a:lnTo>
                <a:lnTo>
                  <a:pt x="1447" y="16200"/>
                </a:lnTo>
                <a:lnTo>
                  <a:pt x="4040" y="15894"/>
                </a:lnTo>
                <a:lnTo>
                  <a:pt x="3163" y="18437"/>
                </a:lnTo>
                <a:lnTo>
                  <a:pt x="5589" y="17470"/>
                </a:lnTo>
                <a:lnTo>
                  <a:pt x="5400" y="20153"/>
                </a:lnTo>
                <a:lnTo>
                  <a:pt x="7493" y="18591"/>
                </a:lnTo>
                <a:lnTo>
                  <a:pt x="8005" y="21232"/>
                </a:lnTo>
                <a:lnTo>
                  <a:pt x="9622" y="19182"/>
                </a:lnTo>
                <a:lnTo>
                  <a:pt x="10800" y="21600"/>
                </a:lnTo>
                <a:lnTo>
                  <a:pt x="11832" y="19201"/>
                </a:lnTo>
                <a:lnTo>
                  <a:pt x="13595" y="21232"/>
                </a:lnTo>
                <a:lnTo>
                  <a:pt x="13971" y="18648"/>
                </a:lnTo>
                <a:lnTo>
                  <a:pt x="16200" y="20153"/>
                </a:lnTo>
                <a:lnTo>
                  <a:pt x="15894" y="17560"/>
                </a:lnTo>
                <a:lnTo>
                  <a:pt x="18437" y="18437"/>
                </a:lnTo>
                <a:lnTo>
                  <a:pt x="17470" y="16011"/>
                </a:lnTo>
                <a:lnTo>
                  <a:pt x="20153" y="16200"/>
                </a:lnTo>
                <a:lnTo>
                  <a:pt x="18591" y="14107"/>
                </a:lnTo>
                <a:lnTo>
                  <a:pt x="21232" y="13595"/>
                </a:lnTo>
                <a:lnTo>
                  <a:pt x="19182" y="11978"/>
                </a:lnTo>
                <a:lnTo>
                  <a:pt x="21600" y="10800"/>
                </a:lnTo>
                <a:lnTo>
                  <a:pt x="19201" y="9768"/>
                </a:lnTo>
                <a:lnTo>
                  <a:pt x="21232" y="8005"/>
                </a:lnTo>
                <a:lnTo>
                  <a:pt x="18648" y="7629"/>
                </a:lnTo>
                <a:lnTo>
                  <a:pt x="20153" y="5400"/>
                </a:lnTo>
                <a:lnTo>
                  <a:pt x="17560" y="5706"/>
                </a:lnTo>
                <a:lnTo>
                  <a:pt x="18437" y="3163"/>
                </a:lnTo>
                <a:lnTo>
                  <a:pt x="16011" y="4130"/>
                </a:lnTo>
                <a:lnTo>
                  <a:pt x="16200" y="1447"/>
                </a:lnTo>
                <a:lnTo>
                  <a:pt x="14107" y="3009"/>
                </a:lnTo>
                <a:lnTo>
                  <a:pt x="13595" y="368"/>
                </a:lnTo>
                <a:lnTo>
                  <a:pt x="11978" y="2418"/>
                </a:lnTo>
                <a:lnTo>
                  <a:pt x="10800" y="0"/>
                </a:lnTo>
                <a:lnTo>
                  <a:pt x="9768" y="2399"/>
                </a:lnTo>
                <a:lnTo>
                  <a:pt x="8005" y="368"/>
                </a:lnTo>
                <a:lnTo>
                  <a:pt x="7629" y="2952"/>
                </a:lnTo>
                <a:lnTo>
                  <a:pt x="5400" y="1447"/>
                </a:lnTo>
                <a:lnTo>
                  <a:pt x="5706" y="4040"/>
                </a:lnTo>
                <a:lnTo>
                  <a:pt x="3163" y="3163"/>
                </a:lnTo>
                <a:lnTo>
                  <a:pt x="4130" y="5589"/>
                </a:lnTo>
                <a:lnTo>
                  <a:pt x="1447" y="5400"/>
                </a:lnTo>
                <a:lnTo>
                  <a:pt x="3009" y="7493"/>
                </a:lnTo>
                <a:lnTo>
                  <a:pt x="368" y="8005"/>
                </a:lnTo>
                <a:lnTo>
                  <a:pt x="2418" y="962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бщие че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ус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ляды  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британс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эллоу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Британский праздник Хэллоуин и русская коляда имеют сходство, так как они имеют общее происхождение, общие языческие корни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80880"/>
            <a:ext cx="7696080" cy="990720"/>
          </a:xfrm>
          <a:custGeom>
            <a:avLst/>
            <a:gdLst>
              <a:gd name="textAreaLeft" fmla="*/ 1923840 w 7696080"/>
              <a:gd name="textAreaRight" fmla="*/ 5772240 w 769608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7575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800" y="609480"/>
            <a:ext cx="24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ывод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Animate0105" descr=""/>
          <p:cNvPicPr/>
          <p:nvPr/>
        </p:nvPicPr>
        <p:blipFill>
          <a:blip r:embed="rId3"/>
          <a:stretch/>
        </p:blipFill>
        <p:spPr>
          <a:xfrm>
            <a:off x="5535720" y="2362320"/>
            <a:ext cx="36082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star3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90512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  <a:ea typeface="Tahoma"/>
              </a:rPr>
              <a:t>Хэллоуин — один из древнейших праздников в мире. В этом странном празднике переплелись кельтская традиция </a:t>
            </a:r>
            <a:r>
              <a:rPr b="1" lang="ru-RU" sz="2800" spc="-1" strike="noStrike">
                <a:solidFill>
                  <a:srgbClr val="ccccff"/>
                </a:solidFill>
                <a:latin typeface="Tahoma"/>
              </a:rPr>
              <a:t>задабривания </a:t>
            </a:r>
            <a:r>
              <a:rPr b="1" lang="en-US" sz="2800" spc="-1" strike="noStrike">
                <a:solidFill>
                  <a:srgbClr val="ccccff"/>
                </a:solidFill>
                <a:latin typeface="Tahoma"/>
                <a:ea typeface="Tahoma"/>
              </a:rPr>
              <a:t>злых духов и христианская — поклонения всем свят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ahoma"/>
                <a:ea typeface="Tahoma"/>
              </a:rPr>
              <a:t>История праздника Хэллоуин насчитывает тысячелетия, начиная от кельтского фестиваля Самхэйн, римского Дня Помоны и христианского Дня всех свят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Animate0159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9.karv_c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8" name="z3_3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z3_3" descr=""/>
          <p:cNvPicPr/>
          <p:nvPr/>
        </p:nvPicPr>
        <p:blipFill>
          <a:blip r:embed="rId3"/>
          <a:stretch/>
        </p:blipFill>
        <p:spPr>
          <a:xfrm>
            <a:off x="7696080" y="52657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362320" y="2743200"/>
            <a:ext cx="26668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Юг Англи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5410080"/>
            <a:ext cx="38098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евер Франци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Кельт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79280"/>
            <a:ext cx="327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Tahoma"/>
              </a:rPr>
              <a:t>В начале нашей эры римляне завоевали кельтскую территорию, принеся с собой свои традиции и праздники. В ночь с 31 октября на 1 ноября они праздновали День Помоны — богини раст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omona" descr=""/>
          <p:cNvPicPr/>
          <p:nvPr/>
        </p:nvPicPr>
        <p:blipFill>
          <a:blip r:embed="rId1"/>
          <a:stretch/>
        </p:blipFill>
        <p:spPr>
          <a:xfrm>
            <a:off x="380880" y="231840"/>
            <a:ext cx="35308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ukkarav2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304920"/>
            <a:ext cx="4572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ahoma"/>
              </a:rPr>
              <a:t>В IX веке, когда христианство распространилось на территории Великобритании, эти древние традиции смешались с еще одним праздником — католическим Днем всех святых —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ll Hallows Even, или All Hallows Eve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ahoma"/>
              </a:rPr>
              <a:t>. Позже его стали называ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Hallowe’en,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ahoma"/>
              </a:rPr>
              <a:t> и в конце концов — Hallowe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ATUR11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5872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nimate0171" descr=""/>
          <p:cNvPicPr/>
          <p:nvPr/>
        </p:nvPicPr>
        <p:blipFill>
          <a:blip r:embed="rId2"/>
          <a:stretch/>
        </p:blipFill>
        <p:spPr>
          <a:xfrm>
            <a:off x="0" y="-304920"/>
            <a:ext cx="5486400" cy="4326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228600"/>
            <a:ext cx="373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ahoma"/>
                <a:ea typeface="Tahoma"/>
              </a:rPr>
              <a:t>Кельты делили год на две части — зимнюю и летнюю. В течение всей зимы бог Солнца находился в плену у Самхэйна, властелина мертвых и князя тьм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star3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60880" y="0"/>
            <a:ext cx="5883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ahoma"/>
                <a:ea typeface="Tahoma"/>
              </a:rPr>
              <a:t>Неотъемлемый символ Хэллоуина — тыквенная голова. Из тыквы удаляется внутренность, вырезается лицо и внутрь вставляется свеча. Тыква символизирует одновременно окончание сбора урожая, злобного духа и огонь, отпугивающий его. Так странно концентрируются древние поверья в одном предмете. В эту ночь дети стучатся в дома с криками: «Treat or trick!» — «Угощай или пожалеешь!». Если вы не принесете жертву, эти маленькие злые демоны могут жестоко пошутить над вами, например, вымазать сажей ручки двери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nimate0158" descr=""/>
          <p:cNvPicPr/>
          <p:nvPr/>
        </p:nvPicPr>
        <p:blipFill>
          <a:blip r:embed="rId2"/>
          <a:stretch/>
        </p:blipFill>
        <p:spPr>
          <a:xfrm>
            <a:off x="0" y="2209680"/>
            <a:ext cx="3014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hostbg" descr=""/>
          <p:cNvPicPr/>
          <p:nvPr/>
        </p:nvPicPr>
        <p:blipFill>
          <a:blip r:embed="rId1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ghostbg" descr=""/>
          <p:cNvPicPr/>
          <p:nvPr/>
        </p:nvPicPr>
        <p:blipFill>
          <a:blip r:embed="rId2"/>
          <a:stretch/>
        </p:blipFill>
        <p:spPr>
          <a:xfrm>
            <a:off x="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ghostbg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ghostbg" descr=""/>
          <p:cNvPicPr/>
          <p:nvPr/>
        </p:nvPicPr>
        <p:blipFill>
          <a:blip r:embed="rId4"/>
          <a:stretch/>
        </p:blipFill>
        <p:spPr>
          <a:xfrm>
            <a:off x="4572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ghostbg" descr=""/>
          <p:cNvPicPr/>
          <p:nvPr/>
        </p:nvPicPr>
        <p:blipFill>
          <a:blip r:embed="rId5"/>
          <a:stretch/>
        </p:blipFill>
        <p:spPr>
          <a:xfrm>
            <a:off x="22860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ghostbg" descr=""/>
          <p:cNvPicPr/>
          <p:nvPr/>
        </p:nvPicPr>
        <p:blipFill>
          <a:blip r:embed="rId6"/>
          <a:stretch/>
        </p:blipFill>
        <p:spPr>
          <a:xfrm>
            <a:off x="2286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ghostbg" descr=""/>
          <p:cNvPicPr/>
          <p:nvPr/>
        </p:nvPicPr>
        <p:blipFill>
          <a:blip r:embed="rId7"/>
          <a:stretch/>
        </p:blipFill>
        <p:spPr>
          <a:xfrm>
            <a:off x="152280" y="45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ghostbg" descr=""/>
          <p:cNvPicPr/>
          <p:nvPr/>
        </p:nvPicPr>
        <p:blipFill>
          <a:blip r:embed="rId8"/>
          <a:stretch/>
        </p:blipFill>
        <p:spPr>
          <a:xfrm>
            <a:off x="45720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ghostbg" descr=""/>
          <p:cNvPicPr/>
          <p:nvPr/>
        </p:nvPicPr>
        <p:blipFill>
          <a:blip r:embed="rId9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ghostbg" descr=""/>
          <p:cNvPicPr/>
          <p:nvPr/>
        </p:nvPicPr>
        <p:blipFill>
          <a:blip r:embed="rId10"/>
          <a:stretch/>
        </p:blipFill>
        <p:spPr>
          <a:xfrm>
            <a:off x="45720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ghostbg" descr=""/>
          <p:cNvPicPr/>
          <p:nvPr/>
        </p:nvPicPr>
        <p:blipFill>
          <a:blip r:embed="rId11"/>
          <a:stretch/>
        </p:blipFill>
        <p:spPr>
          <a:xfrm>
            <a:off x="152280" y="45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ghostbg" descr=""/>
          <p:cNvPicPr/>
          <p:nvPr/>
        </p:nvPicPr>
        <p:blipFill>
          <a:blip r:embed="rId12"/>
          <a:stretch/>
        </p:blipFill>
        <p:spPr>
          <a:xfrm>
            <a:off x="22860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ghostbg" descr=""/>
          <p:cNvPicPr/>
          <p:nvPr/>
        </p:nvPicPr>
        <p:blipFill>
          <a:blip r:embed="rId13"/>
          <a:stretch/>
        </p:blipFill>
        <p:spPr>
          <a:xfrm>
            <a:off x="68580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ghostbg" descr=""/>
          <p:cNvPicPr/>
          <p:nvPr/>
        </p:nvPicPr>
        <p:blipFill>
          <a:blip r:embed="rId14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708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Фестиваль Самхэйна, который праздновался 1 ноября, — это время, когда начиналась зима. В это время лето сменялось зимой, день — ночью, жизнь — смертью, и все барьеры между материальным и сверхъестественным мирами устранялись, ворота между ними открывались на одну ночь. В это время все нереализованные надежды и планы умерших вновь возвращались на землю, а их души спускались к родным очагам. Души умерших могли принимать разные обличья, злые вселялись в животных, а самые опасные — в котов. В этот день вся нечистая сила спускается на землю. Если вам очень хочется увидеть ведьму, могу порекомендовать одно верное средство — в полночь выйдите на улицу, одевшись шиворот-навыворот, и пройдите задом наперед. Приятной встреч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nimate0161" descr=""/>
          <p:cNvPicPr/>
          <p:nvPr/>
        </p:nvPicPr>
        <p:blipFill>
          <a:blip r:embed="rId15"/>
          <a:stretch/>
        </p:blipFill>
        <p:spPr>
          <a:xfrm>
            <a:off x="0" y="3429000"/>
            <a:ext cx="9144000" cy="3444840"/>
          </a:xfrm>
          <a:prstGeom prst="rect">
            <a:avLst/>
          </a:prstGeom>
          <a:ln w="0">
            <a:noFill/>
          </a:ln>
        </p:spPr>
      </p:pic>
      <p:pic>
        <p:nvPicPr>
          <p:cNvPr id="80" name="kisa6" descr=""/>
          <p:cNvPicPr/>
          <p:nvPr/>
        </p:nvPicPr>
        <p:blipFill>
          <a:blip r:embed="rId16"/>
          <a:stretch/>
        </p:blipFill>
        <p:spPr>
          <a:xfrm>
            <a:off x="7086600" y="457200"/>
            <a:ext cx="17146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nimate0129" descr=""/>
          <p:cNvPicPr/>
          <p:nvPr/>
        </p:nvPicPr>
        <p:blipFill>
          <a:blip r:embed="rId1"/>
          <a:stretch/>
        </p:blipFill>
        <p:spPr>
          <a:xfrm>
            <a:off x="3438360" y="1981080"/>
            <a:ext cx="2267280" cy="4492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76240" y="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Ночью девушки гадали. Можно бросить два каштана в костер друидов. Если плоды будут сгорать рядом, то девушка будет жить в дружбе и согласии с милым, если раскатятся в разные стороны — разойдутся их пути в разные стороны. Увидеть своего будущего мужа девушка могла, сев перед зеркалом в полночь с яблоком в ру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7-03-05T14:28:28Z</dcterms:modified>
  <cp:revision>10</cp:revision>
  <dc:subject/>
  <dc:title>PowerPoint Presentation</dc:title>
</cp:coreProperties>
</file>