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31C-ACA7-4F43-B74A-223F4FB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A41-C573-453F-96B4-77EC15F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F04-2C06-4803-B1CC-2585896C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9F7-750D-4365-B72D-5372660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8A0-AFD8-4C23-970C-FCB5AEA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C4C-A33B-4A87-9B45-8974C7A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404-8D1C-4EB1-8A5B-F5DA5B7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F02-878B-4C92-B218-2F331C8B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286-6E0D-4F17-9E11-7728D3F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038-83B3-4785-8C34-10FA44D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72F-5E85-4C39-B150-2F062E6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B99-0204-4D5E-A314-B529FCB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DE0A-7437-4990-A6EE-18C764E13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00000772" descr="Эдинбур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504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 ноября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1051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Дополнительный иллюстративный материал к урокам английского языка. Трефилова И.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0049" descr=""/>
          <p:cNvPicPr/>
          <p:nvPr/>
        </p:nvPicPr>
        <p:blipFill>
          <a:blip r:embed="rId1"/>
          <a:stretch/>
        </p:blipFill>
        <p:spPr>
          <a:xfrm>
            <a:off x="380880" y="0"/>
            <a:ext cx="3913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41432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Несколько сохранившихся судов викингов экспонируются в музеях скандинавских стран. Одно из самых известных, обнаруженное в 1880 в Гокстаде (Норвегия), относится примерно к 900 н.э. Оно достигает в длину 23,3 м и в ширину 5,3 м. Судно имело мачту и 32 весла, на нем было 32 щита. Местами сохранились нарядные резные украшения. Навигационные возможности такого судна демонстрировались в 1893, когда его точно изготовленная копия прошла под парусом из Норвегии до Ньюфаундленда за четыре недели. Эта копия теперь находится в Линкольн-Парке в Чикаго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g00000771" descr="Эдинбург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19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347_19" descr="День святого Эндрю (St. Andrew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3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Храм святого Эндр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2Uk1" descr=""/>
          <p:cNvPicPr/>
          <p:nvPr/>
        </p:nvPicPr>
        <p:blipFill>
          <a:blip r:embed="rId1"/>
          <a:stretch/>
        </p:blipFill>
        <p:spPr>
          <a:xfrm>
            <a:off x="299880" y="0"/>
            <a:ext cx="427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z3_3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5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55412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Это - День покровителя Шотландии. Суровость и упрямство шотландского характера как нельзя лучше и наглядней выражается в эмблеме национального флага Шотландии – чертополохе. Существует легенда, восходящая ко временам набегов викингов на Шотландию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1_3" descr=""/>
          <p:cNvPicPr/>
          <p:nvPr/>
        </p:nvPicPr>
        <p:blipFill>
          <a:blip r:embed="rId1"/>
          <a:stretch/>
        </p:blipFill>
        <p:spPr>
          <a:xfrm>
            <a:off x="0" y="304920"/>
            <a:ext cx="4979880" cy="6248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05520" y="0"/>
            <a:ext cx="403848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По основной легенде, Эндрю был братом Саймона Питера (</a:t>
            </a:r>
            <a:r>
              <a:rPr b="1" lang="en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imon Piter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) и был известен как "самый мягкий из всех апостолов". После смерти Иисуса Христа первые миссионеры - апостолы начали обращать язычников в христианскую веру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вестно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каким способом, но Эндрю удалось обратить в Христианство жену одного из высокопоставленных римлян. У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об измене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тот в бешенстве приказал арестовать и распять Эндрю. Приказ был приведен в исполнение. Однако, Апостол попросил распять его по диагонали, а не вертикально, т.к. считал себя недостойным умереть так же, как Иисус Христо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2_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Останки святого долго хранились в монастыре. Хранителем святых мощей Святого Эндрю был греческий монах Регулус. Как-то ночью божий глас приказал ему отправиться вместе с мощами в далекое плавание на запад. Он так и сделал и плыл до тех пор, пока его корабль не разбился о берег земли, которая теперь называется Шотландией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ot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9760" y="4022640"/>
            <a:ext cx="632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 те времена это была дикая земля, населенная жестокими неуправляемыми кельтскими племенами. Святые мощи были захоронены, а это место стало местом паломничества всех христиан, населявших Шотландию. Со временем место захоронения назвали городом Святого Эндрю, и он превратился в религиозный центр Шотландии, а сам Св. Эндрю стал святым покровителем скоттов и пи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king00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4981680" cy="661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7800" y="361800"/>
            <a:ext cx="3886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Так, в IX в. викинги высадились на восточном побережье Шотландии с намерением захватить и ограбить страну. Скотты собрали все свои боевые силы и заняли расположение за рекой Тэй. Они прибыли к вечеру и разбили лагерь, расположились на отдых, считая, что враг не станет наступать до следующего дня. Однако викинги были рядом. Не обнаружив охраны и часовых вокруг лагеря скоттов, викинги пересекли Тэй с намерением внезапно захватить скоттов и зарезать их во сне. С этой целью они разулись, чтобы как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бы как можно меньше производить шума при передвижении к лагер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94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но меньше производить шума при передвижении к лагер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24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96_small_1142951224" descr="чертополох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520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46360"/>
            <a:ext cx="358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Но вдруг один из викингов наступил на чертополох. От внезапной и острой боли он вскрикнул. Услышав крик, скотты подняли в лагере тревогу. Викинги вынуждены были отступить, а чертополох, в знак признательности за своевременную и нежданную помощь, скотты выбрали в качестве своей национальной эмблемы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p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14800" cy="4032360"/>
          </a:xfrm>
          <a:prstGeom prst="rect">
            <a:avLst/>
          </a:prstGeom>
          <a:ln w="0">
            <a:noFill/>
          </a:ln>
        </p:spPr>
      </p:pic>
      <p:pic>
        <p:nvPicPr>
          <p:cNvPr id="64" name="1p3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40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6760" y="4321080"/>
            <a:ext cx="8610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Первым материальным доказательства использования чертополоха в качестве национального символа стало его появление на серебряных монетах, выпущенных в 1470 году во времена правления Джеймса III. В 1687 году был создан первый в Шотландии рыцарский орден, самый древний и знаменитый Орден Чертополоха. Его члены носили цепь, звенья которой представляли собой чертополох и были сделаны из золота. Кроме того, рыцари и леди Ордена Чертополоха носили на груди украшение в форме звезды с изображением чертополоха и девизом, связанным с этим символом Шотландии, гласившим: «Nemo Me Impune Lacessit» («Никто не обидит меня безнаказанно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6-11-19T15:33:10Z</dcterms:modified>
  <cp:revision>5</cp:revision>
  <dc:subject/>
  <dc:title>PowerPoint Presentation</dc:title>
</cp:coreProperties>
</file>