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8.jpeg" ContentType="image/jpeg"/>
  <Override PartName="/ppt/media/image2.gif" ContentType="image/gif"/>
  <Override PartName="/ppt/media/image12.gif" ContentType="image/gif"/>
  <Override PartName="/ppt/media/image3.jpeg" ContentType="image/jpeg"/>
  <Override PartName="/ppt/media/image18.png" ContentType="image/png"/>
  <Override PartName="/ppt/media/image15.jpeg" ContentType="image/jpeg"/>
  <Override PartName="/ppt/media/image14.gif" ContentType="image/gif"/>
  <Override PartName="/ppt/media/image17.jpeg" ContentType="image/jpeg"/>
  <Override PartName="/ppt/media/image16.png" ContentType="image/png"/>
  <Override PartName="/ppt/media/image1.gif" ContentType="image/gif"/>
  <Override PartName="/ppt/media/image4.jpeg" ContentType="image/jpeg"/>
  <Override PartName="/ppt/media/image11.gif" ContentType="image/gif"/>
  <Override PartName="/ppt/media/image7.gif" ContentType="image/gif"/>
  <Override PartName="/ppt/media/image5.jpeg" ContentType="image/jpeg"/>
  <Override PartName="/ppt/media/image10.png" ContentType="image/png"/>
  <Override PartName="/ppt/media/image6.jpeg" ContentType="image/jpeg"/>
  <Override PartName="/ppt/media/image13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82A9D-8029-4DB0-B0D3-596D30EB4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64D27-837C-4B6A-A01B-2405983AF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71CC0-EC3C-440F-A116-FBAB584B4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A1F74-0939-41C5-8945-BC798E870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AB6DB-0E8D-4FA5-A95A-4191D9B86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AC33F-C66A-4485-BF7F-0E05F11F5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8EE5B-7969-449D-A730-39D8D6E88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96245-D0A3-4926-A5EB-80DE8BEB8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7B38B-6F18-49BE-BAE3-06B7BD83B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D3762-18D9-4448-B30D-89EC3570D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04F02-C71A-4EC6-8D13-1234BF7CB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D214F-C7B3-4987-9A39-D8EA307F4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83B13-DAFB-4C97-885B-022DEC26057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2.gif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1.gif"/><Relationship Id="rId3" Type="http://schemas.openxmlformats.org/officeDocument/2006/relationships/image" Target="../media/image11.gif"/><Relationship Id="rId4" Type="http://schemas.openxmlformats.org/officeDocument/2006/relationships/image" Target="../media/image11.gif"/><Relationship Id="rId5" Type="http://schemas.openxmlformats.org/officeDocument/2006/relationships/image" Target="../media/image11.gif"/><Relationship Id="rId6" Type="http://schemas.openxmlformats.org/officeDocument/2006/relationships/image" Target="../media/image11.gif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anachdruk3" descr=""/>
          <p:cNvPicPr/>
          <p:nvPr/>
        </p:nvPicPr>
        <p:blipFill>
          <a:blip r:embed="rId1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anachdruk3" descr="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Thanksgiving1" descr=""/>
          <p:cNvPicPr/>
          <p:nvPr/>
        </p:nvPicPr>
        <p:blipFill>
          <a:blip r:embed="rId3"/>
          <a:stretch/>
        </p:blipFill>
        <p:spPr>
          <a:xfrm>
            <a:off x="1409760" y="633240"/>
            <a:ext cx="6324480" cy="27957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4114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Дополнительный иллюстративный материал. Английский язык.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Учитель Трефилова И. Г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USA" descr=""/>
          <p:cNvPicPr/>
          <p:nvPr/>
        </p:nvPicPr>
        <p:blipFill>
          <a:blip r:embed="rId4"/>
          <a:stretch/>
        </p:blipFill>
        <p:spPr>
          <a:xfrm>
            <a:off x="0" y="0"/>
            <a:ext cx="142884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4600"/>
            </a:gs>
            <a:gs pos="50000">
              <a:srgbClr val="ff9900"/>
            </a:gs>
            <a:gs pos="100000">
              <a:srgbClr val="754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0" y="0"/>
            <a:ext cx="9144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уритане привнесли в этот праздник глубокий религиозный смысл - они видели в нем способ поблагодарить Всевышнего за милости. 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 Днем благодарения связан ряд традиций, которые американцы свято хранят и соблюдают. Все члены семьи обязательно должны сходить в церковь, а после службы собраться за праздничным столом. 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mmthanks" descr=""/>
          <p:cNvPicPr/>
          <p:nvPr/>
        </p:nvPicPr>
        <p:blipFill>
          <a:blip r:embed="rId1"/>
          <a:stretch/>
        </p:blipFill>
        <p:spPr>
          <a:xfrm>
            <a:off x="1447920" y="3570120"/>
            <a:ext cx="6248160" cy="328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4600"/>
            </a:gs>
            <a:gs pos="50000">
              <a:srgbClr val="ff9900"/>
            </a:gs>
            <a:gs pos="100000">
              <a:srgbClr val="754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4038480" y="685800"/>
            <a:ext cx="5105520" cy="77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торой по важности атрибут Дня благодарения - </a:t>
            </a:r>
            <a:r>
              <a:rPr b="1" lang="ru-RU" sz="24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индейка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На первом празднике колонисты и индейцы зажарили и совместно съели четырех индеек, подстреленных в ближайшем лесу. С тех пор индейка и День благодарения стали синонимами, птицеводы откармливают индеек специально к этому празднику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Третий атрибут праздника: </a:t>
            </a:r>
            <a:r>
              <a:rPr b="1" lang="ru-RU" sz="2400" spc="-1" strike="noStrike">
                <a:solidFill>
                  <a:srgbClr val="3333ff"/>
                </a:solidFill>
                <a:latin typeface="Arial"/>
                <a:ea typeface="Times New Roman"/>
              </a:rPr>
              <a:t>парады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(в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большинстве своем костюмированные - в одеждах 17 века и костюмах индейцев) и веселье. 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jturfish" descr=""/>
          <p:cNvPicPr/>
          <p:nvPr/>
        </p:nvPicPr>
        <p:blipFill>
          <a:blip r:embed="rId1"/>
          <a:stretch/>
        </p:blipFill>
        <p:spPr>
          <a:xfrm>
            <a:off x="0" y="304920"/>
            <a:ext cx="4191120" cy="380988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228600" y="3962520"/>
            <a:ext cx="35352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В преддверии Дня благодарения расцветает </a:t>
            </a:r>
            <a:r>
              <a:rPr b="1" lang="ru-RU" sz="2000" spc="-1" strike="noStrike">
                <a:solidFill>
                  <a:srgbClr val="3333ff"/>
                </a:solidFill>
                <a:latin typeface="Times New Roman"/>
                <a:ea typeface="Arial"/>
              </a:rPr>
              <a:t>благотворительность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: американцы стараются накормить и как-то порадовать своих ближних, которым не повезло в жизн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4600"/>
            </a:gs>
            <a:gs pos="50000">
              <a:srgbClr val="ff9900"/>
            </a:gs>
            <a:gs pos="100000">
              <a:srgbClr val="754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4114800" y="279360"/>
            <a:ext cx="5029200" cy="74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Как говорил незабвенный К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зьма Прутков, «отыщи всему начало, и ты многое поймешь». История «пилигримов» — это ключ к пониманию страны и народа. В то далекое время искатели свободы построили на берегах Cape Cod'а Новый Плимут — город, положивший начало колониям Новой Англии, которые стали очагами новой системы общественных и этических ценностей. «Дух колоний» с самого начала требовал свободы — а зрелость нации есть продолжение ее юност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meetinghouse" descr="Дом собраний"/>
          <p:cNvPicPr/>
          <p:nvPr/>
        </p:nvPicPr>
        <p:blipFill>
          <a:blip r:embed="rId1"/>
          <a:stretch/>
        </p:blipFill>
        <p:spPr>
          <a:xfrm>
            <a:off x="0" y="457200"/>
            <a:ext cx="4038480" cy="3287880"/>
          </a:xfrm>
          <a:prstGeom prst="rect">
            <a:avLst/>
          </a:prstGeom>
          <a:ln w="0">
            <a:noFill/>
          </a:ln>
        </p:spPr>
      </p:pic>
      <p:pic>
        <p:nvPicPr>
          <p:cNvPr id="76" name="layout_02" descr=""/>
          <p:cNvPicPr/>
          <p:nvPr/>
        </p:nvPicPr>
        <p:blipFill>
          <a:blip r:embed="rId2"/>
          <a:stretch/>
        </p:blipFill>
        <p:spPr>
          <a:xfrm>
            <a:off x="0" y="4267080"/>
            <a:ext cx="40384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5e00"/>
            </a:gs>
            <a:gs pos="50000">
              <a:srgbClr val="ffcc00"/>
            </a:gs>
            <a:gs pos="100000">
              <a:srgbClr val="755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0"/>
            <a:ext cx="6172200" cy="65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здник был назван </a:t>
            </a:r>
            <a:r>
              <a:rPr b="1" lang="ru-RU" sz="20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«День благодарения»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Не претендуя на еврейское происхождение праздника «День благодарения», интересно отметить, что слово «индюшка» на иврите «hodu» точно совпадает с написанием и произношением на иврите слова «благодарите» — тоже «hodu».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 переводе с иврита фраза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«hodu lashem ki tov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»  означает «благодарите Б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га потому, что это хорошо»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о временем он превратился в национальный праздник США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А в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1863 год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у во время кровавой гражданской войны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президент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3333ff"/>
                </a:solidFill>
                <a:latin typeface="Times New Roman"/>
              </a:rPr>
              <a:t>Абрахам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r>
              <a:rPr b="1" lang="ru-RU" sz="2000" spc="-1" strike="noStrike">
                <a:solidFill>
                  <a:srgbClr val="3333ff"/>
                </a:solidFill>
                <a:latin typeface="Times New Roman"/>
                <a:ea typeface="Arial Unicode MS"/>
              </a:rPr>
              <a:t>Линкольн</a:t>
            </a:r>
            <a:r>
              <a:rPr b="1" lang="ru-RU" sz="20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извал всех Американцев вспомнить о мире и в последний четверг ноября сесть за стол как в День Благодарения. С тех пор  этот пра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здник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стали отмечать каждый последний четверг ноября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i" descr=""/>
          <p:cNvPicPr/>
          <p:nvPr/>
        </p:nvPicPr>
        <p:blipFill>
          <a:blip r:embed="rId1"/>
          <a:stretch/>
        </p:blipFill>
        <p:spPr>
          <a:xfrm>
            <a:off x="6477120" y="2438280"/>
            <a:ext cx="2666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429000" y="270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188" descr="День благодарения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NATUR106" descr=""/>
          <p:cNvPicPr/>
          <p:nvPr/>
        </p:nvPicPr>
        <p:blipFill>
          <a:blip r:embed="rId1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NATUR106" descr="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723960" y="193680"/>
            <a:ext cx="769608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В последний четверг ноября в США отмечают День благодарения (Thanksgiving Day). Это один из самых популярных праздников в стране. 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День благодарения впервые был отпразднован в 1621 году английскими колонистами, жившими в Плимутской колонии. Предыдущая зима была очень тяжелой и голодной, новая зима также сулила колонистам мало хорошего. Тогда губернатор Уильям Брэдфорд решил поднять дух своих подчиненных и организовал первый День благодарения. Праздник совместно отметили британские колонисты и их соседи-индейцы, благодаря помощи которых Плимутская колония выжила в первую голодную зиму. 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75"/>
            </a:gs>
            <a:gs pos="50000">
              <a:srgbClr val="3333ff"/>
            </a:gs>
            <a:gs pos="100000">
              <a:srgbClr val="1717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mayflower" descr="Mayflower"/>
          <p:cNvPicPr/>
          <p:nvPr/>
        </p:nvPicPr>
        <p:blipFill>
          <a:blip r:embed="rId1"/>
          <a:stretch/>
        </p:blipFill>
        <p:spPr>
          <a:xfrm>
            <a:off x="0" y="0"/>
            <a:ext cx="4038480" cy="6858000"/>
          </a:xfrm>
          <a:prstGeom prst="rect">
            <a:avLst/>
          </a:prstGeom>
          <a:ln w="9360">
            <a:solidFill>
              <a:srgbClr val="3333ff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514440" y="1622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267080" y="304920"/>
            <a:ext cx="457200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Times New Roman"/>
                <a:ea typeface="Arial Unicode MS"/>
              </a:rPr>
              <a:t>26 декабря 1620 года после двухмесячного плавания к берегам Массачусетса к мысу Cape Cod (Мыс трески) причалил корабль Mayflower («Майский цветок»). Большинство пассажиров принадлежало к преследуемой в Англии секте пуритан. Новоявленные пилигримы пустились в столь опасное путешествие в надежде основать на «девственных» берегах землю обетованную — «Новый Ханаан» (Ханаан — древнее название Палестины.), в котором они смогут, наконец, обрести вожделенную свободу искать и находить Бога своим путем.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usa_map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3" name="z3_3" descr=""/>
          <p:cNvPicPr/>
          <p:nvPr/>
        </p:nvPicPr>
        <p:blipFill>
          <a:blip r:embed="rId2"/>
          <a:stretch/>
        </p:blipFill>
        <p:spPr>
          <a:xfrm>
            <a:off x="6095880" y="281952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thansgiving" descr="Празднование первого Дня благодарения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0" y="533520"/>
            <a:ext cx="87631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лигримов ожидали невероятные трудности. Слабая «экипировка», неизвестные местные условия, скудные запасы продовольствия привели к тому, что больше половины колонистов в первую зиму погибли от холода, голода и цинги. Казалось, колония обречена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4600"/>
            </a:gs>
            <a:gs pos="50000">
              <a:srgbClr val="ff9900"/>
            </a:gs>
            <a:gs pos="100000">
              <a:srgbClr val="754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thansgiving2" descr="День благодарения"/>
          <p:cNvPicPr/>
          <p:nvPr/>
        </p:nvPicPr>
        <p:blipFill>
          <a:blip r:embed="rId1"/>
          <a:stretch/>
        </p:blipFill>
        <p:spPr>
          <a:xfrm>
            <a:off x="1295280" y="0"/>
            <a:ext cx="5943600" cy="44226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0" y="5029200"/>
            <a:ext cx="914400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следующую весну, на помощь переселенцам пришло местное племя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индейцев Ирокезов, которые поделились своими знаниями - как выращивать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культуры, неизвестные англичанам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5e00"/>
            </a:gs>
            <a:gs pos="50000">
              <a:srgbClr val="ffcc00"/>
            </a:gs>
            <a:gs pos="100000">
              <a:srgbClr val="755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57200" y="1066680"/>
            <a:ext cx="457200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и научили поселенцев сеять маис и табак, горох и бобы, тыкву и кабачки, изготавливать кленовый сахар. Индейцы показали колонистам места рыбной ловли и охоты. Осенью был собран </a:t>
            </a:r>
            <a:r>
              <a:rPr b="1" lang="ru-RU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богатый урожай и сделаны запасы на зиму. Стало ясно — колония выжила. Пилигримы увидели в этом «перст Б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</a:t>
            </a:r>
            <a:r>
              <a:rPr b="1" lang="ru-RU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жий». В знак благодарения Вс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е</a:t>
            </a:r>
            <a:r>
              <a:rPr b="1" lang="ru-RU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вышнему был устроен грандиозный праздник–пир, на который были приглашены и близкие друзья —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ождь местного племени и 90</a:t>
            </a:r>
            <a:r>
              <a:rPr b="1" lang="ru-RU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индейц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ев</a:t>
            </a:r>
            <a:r>
              <a:rPr b="1" lang="ru-RU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horn2" descr=""/>
          <p:cNvPicPr/>
          <p:nvPr/>
        </p:nvPicPr>
        <p:blipFill>
          <a:blip r:embed="rId1"/>
          <a:stretch/>
        </p:blipFill>
        <p:spPr>
          <a:xfrm>
            <a:off x="5445000" y="1752480"/>
            <a:ext cx="369900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4600"/>
            </a:gs>
            <a:gs pos="50000">
              <a:srgbClr val="ff9900"/>
            </a:gs>
            <a:gs pos="100000">
              <a:srgbClr val="754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cornrowc" descr=""/>
          <p:cNvPicPr/>
          <p:nvPr/>
        </p:nvPicPr>
        <p:blipFill>
          <a:blip r:embed="rId1"/>
          <a:stretch/>
        </p:blipFill>
        <p:spPr>
          <a:xfrm>
            <a:off x="380880" y="2514600"/>
            <a:ext cx="2786040" cy="3429000"/>
          </a:xfrm>
          <a:prstGeom prst="rect">
            <a:avLst/>
          </a:prstGeom>
          <a:ln w="0">
            <a:noFill/>
          </a:ln>
        </p:spPr>
      </p:pic>
      <p:pic>
        <p:nvPicPr>
          <p:cNvPr id="61" name="cornrowc" descr=""/>
          <p:cNvPicPr/>
          <p:nvPr/>
        </p:nvPicPr>
        <p:blipFill>
          <a:blip r:embed="rId2"/>
          <a:stretch/>
        </p:blipFill>
        <p:spPr>
          <a:xfrm>
            <a:off x="5943600" y="2514600"/>
            <a:ext cx="2786040" cy="3429000"/>
          </a:xfrm>
          <a:prstGeom prst="rect">
            <a:avLst/>
          </a:prstGeom>
          <a:ln w="0">
            <a:noFill/>
          </a:ln>
        </p:spPr>
      </p:pic>
      <p:pic>
        <p:nvPicPr>
          <p:cNvPr id="62" name="cornrowc" descr=""/>
          <p:cNvPicPr/>
          <p:nvPr/>
        </p:nvPicPr>
        <p:blipFill>
          <a:blip r:embed="rId3"/>
          <a:stretch/>
        </p:blipFill>
        <p:spPr>
          <a:xfrm>
            <a:off x="3178080" y="2514600"/>
            <a:ext cx="2786040" cy="3429000"/>
          </a:xfrm>
          <a:prstGeom prst="rect">
            <a:avLst/>
          </a:prstGeom>
          <a:ln w="0">
            <a:noFill/>
          </a:ln>
        </p:spPr>
      </p:pic>
      <p:pic>
        <p:nvPicPr>
          <p:cNvPr id="63" name="cornrowc" descr=""/>
          <p:cNvPicPr/>
          <p:nvPr/>
        </p:nvPicPr>
        <p:blipFill>
          <a:blip r:embed="rId4"/>
          <a:stretch/>
        </p:blipFill>
        <p:spPr>
          <a:xfrm>
            <a:off x="457200" y="-533520"/>
            <a:ext cx="2786040" cy="3429000"/>
          </a:xfrm>
          <a:prstGeom prst="rect">
            <a:avLst/>
          </a:prstGeom>
          <a:ln w="0">
            <a:noFill/>
          </a:ln>
        </p:spPr>
      </p:pic>
      <p:pic>
        <p:nvPicPr>
          <p:cNvPr id="64" name="cornrowc" descr=""/>
          <p:cNvPicPr/>
          <p:nvPr/>
        </p:nvPicPr>
        <p:blipFill>
          <a:blip r:embed="rId5"/>
          <a:stretch/>
        </p:blipFill>
        <p:spPr>
          <a:xfrm>
            <a:off x="5867280" y="-533520"/>
            <a:ext cx="2786040" cy="3657600"/>
          </a:xfrm>
          <a:prstGeom prst="rect">
            <a:avLst/>
          </a:prstGeom>
          <a:ln w="0">
            <a:noFill/>
          </a:ln>
        </p:spPr>
      </p:pic>
      <p:pic>
        <p:nvPicPr>
          <p:cNvPr id="65" name="cornrowc" descr=""/>
          <p:cNvPicPr/>
          <p:nvPr/>
        </p:nvPicPr>
        <p:blipFill>
          <a:blip r:embed="rId6"/>
          <a:stretch/>
        </p:blipFill>
        <p:spPr>
          <a:xfrm>
            <a:off x="3178080" y="-457200"/>
            <a:ext cx="2786040" cy="3429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66720" y="2362320"/>
            <a:ext cx="7810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сень порадовала переселенцев богатым урожаем кукурузы, ячменя, бобов, тыквы.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селенцы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дели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ись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 своей радостью, благодари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и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 индейцев и возн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сили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 хвалу Богу за обретение новой родины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4600"/>
            </a:gs>
            <a:gs pos="50000">
              <a:srgbClr val="ff9900"/>
            </a:gs>
            <a:gs pos="100000">
              <a:srgbClr val="754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1830240"/>
            <a:ext cx="4572000" cy="35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Индейцы принесли с собой красно-коричневых индеек, которых зажарили на костре. С тех пор жареная индейка стала традиционным праздничным блюдом для Благодарения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008" descr=""/>
          <p:cNvPicPr/>
          <p:nvPr/>
        </p:nvPicPr>
        <p:blipFill>
          <a:blip r:embed="rId1"/>
          <a:stretch/>
        </p:blipFill>
        <p:spPr>
          <a:xfrm>
            <a:off x="4572000" y="762120"/>
            <a:ext cx="412920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Ирина</cp:lastModifiedBy>
  <dcterms:modified xsi:type="dcterms:W3CDTF">2006-11-16T15:54:16Z</dcterms:modified>
  <cp:revision>8</cp:revision>
  <dc:subject/>
  <dc:title>PowerPoint Presentation</dc:title>
</cp:coreProperties>
</file>