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10.wmf" ContentType="image/x-wmf"/>
  <Override PartName="/ppt/media/image4.jpeg" ContentType="image/jpeg"/>
  <Override PartName="/ppt/media/image7.jpeg" ContentType="image/jpeg"/>
  <Override PartName="/ppt/media/image18.png" ContentType="image/png"/>
  <Override PartName="/ppt/media/image6.wmf" ContentType="image/x-wmf"/>
  <Override PartName="/ppt/media/image5.jpeg" ContentType="image/jpeg"/>
  <Override PartName="/ppt/media/image8.jpeg" ContentType="image/jpeg"/>
  <Override PartName="/ppt/media/image24.jpeg" ContentType="image/jpeg"/>
  <Override PartName="/ppt/media/image19.gif" ContentType="image/gif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4.jpeg" ContentType="image/jpeg"/>
  <Override PartName="/ppt/media/image25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5D7E-8A87-4867-A7E2-5EB74923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846-6FC0-4C7C-A644-38364CF7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FAB-445F-4567-AD5F-655D9DB3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E026-2AB2-4BCB-922E-15D1EDFF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997C-8395-47F8-B9DE-2D17B66D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22F0-9819-4965-AD9F-C3B1B864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9598-EFA0-4768-AFB8-B162FBE2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9CE6-9742-4301-A8DA-A874CEB3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A065-EF4A-4AC9-B948-6202D70C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7376-328C-49E0-8B65-A6D08E64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B9CB-12E2-4D35-AD6E-0DA71821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FEE-112D-4D13-B5DF-F3B2E358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BC5C-152C-45E2-A1DE-8EAA0280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0AF7-657A-4F26-A943-A0FA3F41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FF36-D6E4-4697-8C4C-18E764BC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4E73-A098-4DDD-97F8-8B750D83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A4A5-5998-41CF-B9BF-FDC9382C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E6D1-CD73-453D-B06E-F284BCB6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874-FBD3-4E14-A931-96F63B59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1B7E-C678-46E6-9F1A-B95E1BBA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BBE-0EB5-429F-ABE5-DD1333DD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235-62AF-4BE8-8AEA-FF4260B0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C444-6E77-4181-B8B4-946152D9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1539-D05E-4ABE-88A9-7ABBC3C9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E30E-7932-4409-95FF-730F25C18018}" type="slidenum">
              <a:rPr b="0" lang="ru-RU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4F30-17A7-478C-856B-71EDADF0E8BE}" type="slidenum">
              <a:rPr b="0" lang="ru-RU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1267920"/>
            <a:ext cx="8150400" cy="17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Monotype Corsiva"/>
              </a:rPr>
              <a:t>Фестиваль исследовательских и творческих </a:t>
            </a:r>
            <a:br>
              <a:rPr sz="3200"/>
            </a:br>
            <a:r>
              <a:rPr b="1" i="1" lang="ru-RU" sz="3200" spc="-1" strike="noStrike">
                <a:solidFill>
                  <a:srgbClr val="080808"/>
                </a:solidFill>
                <a:latin typeface="Monotype Corsiva"/>
              </a:rPr>
              <a:t>работ учащихся «Портфолио»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51280" y="3284640"/>
            <a:ext cx="1949400" cy="230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Monotype Corsiva"/>
              </a:rPr>
              <a:t>ПОВОРОТ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6140160" cy="3859200"/>
          </a:xfrm>
          <a:prstGeom prst="rect">
            <a:avLst/>
          </a:prstGeom>
          <a:ln w="34920">
            <a:solidFill>
              <a:srgbClr val="800080"/>
            </a:solidFill>
            <a:miter/>
          </a:ln>
        </p:spPr>
      </p:pic>
    </p:spTree>
  </p:cSld>
  <p:transition>
    <p:dissolv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Monotype Corsiva"/>
              </a:rPr>
              <a:t>ПАРАЛЛЕЛЬНЫЙ ПЕРНОС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Tahoma"/>
              </a:rPr>
              <a:t>    </a:t>
            </a:r>
            <a:r>
              <a:rPr b="0" i="1" lang="ru-RU" sz="4000" spc="-1" strike="noStrike">
                <a:solidFill>
                  <a:srgbClr val="080808"/>
                </a:solidFill>
                <a:latin typeface="Monotype Corsiva"/>
              </a:rPr>
              <a:t>Преобразование, при котором каждая точка фигуры (тела) перемещается в одном и том же направлении на одно и то же расстояние, называется </a:t>
            </a:r>
            <a:r>
              <a:rPr b="1" i="1" lang="ru-RU" sz="4000" spc="-1" strike="noStrike">
                <a:solidFill>
                  <a:srgbClr val="660066"/>
                </a:solidFill>
                <a:latin typeface="Monotype Corsiva"/>
              </a:rPr>
              <a:t>параллельным переносом.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Monotype Corsiva"/>
              </a:rPr>
              <a:t>ПАРАЛЛЕЛЬНЫЙ ПЕРНОС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24000" y="1413000"/>
            <a:ext cx="6048360" cy="4886280"/>
          </a:xfrm>
          <a:prstGeom prst="rect">
            <a:avLst/>
          </a:prstGeom>
          <a:ln w="34920">
            <a:solidFill>
              <a:srgbClr val="800080"/>
            </a:solidFill>
            <a:miter/>
          </a:ln>
        </p:spPr>
      </p:pic>
    </p:spTree>
  </p:cSld>
  <p:transition>
    <p:dissolv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Monotype Corsiva"/>
              </a:rPr>
              <a:t>ВЕЛИКИЕ О СИММЕТРИИ…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Monotype Corsiva"/>
              </a:rPr>
              <a:t>Термин </a:t>
            </a:r>
            <a:r>
              <a:rPr b="1" lang="ru-RU" sz="2800" spc="-1" strike="noStrike">
                <a:solidFill>
                  <a:srgbClr val="660066"/>
                </a:solidFill>
                <a:latin typeface="Monotype Corsiva"/>
              </a:rPr>
              <a:t>«симметрия»</a:t>
            </a:r>
            <a:r>
              <a:rPr b="0" lang="ru-RU" sz="2800" spc="-1" strike="noStrike">
                <a:solidFill>
                  <a:srgbClr val="080808"/>
                </a:solidFill>
                <a:latin typeface="Monotype Corsiva"/>
              </a:rPr>
              <a:t> придумал скульптор </a:t>
            </a:r>
            <a:r>
              <a:rPr b="1" lang="ru-RU" sz="2800" spc="-1" strike="noStrike">
                <a:solidFill>
                  <a:srgbClr val="660066"/>
                </a:solidFill>
                <a:latin typeface="Monotype Corsiva"/>
              </a:rPr>
              <a:t>Пифагор Регийский</a:t>
            </a:r>
            <a:r>
              <a:rPr b="0" lang="ru-RU" sz="2800" spc="-1" strike="noStrike">
                <a:solidFill>
                  <a:srgbClr val="660066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Monotype Corsiva"/>
              </a:rPr>
              <a:t>Древние греки</a:t>
            </a:r>
            <a:r>
              <a:rPr b="0" lang="ru-RU" sz="2800" spc="-1" strike="noStrike">
                <a:solidFill>
                  <a:srgbClr val="080808"/>
                </a:solidFill>
                <a:latin typeface="Monotype Corsiva"/>
              </a:rPr>
              <a:t> полагали, что Вселенная симметрична просто потому, что она прекрасна.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Monotype Corsiva"/>
              </a:rPr>
              <a:t>Первую научную школу в истории человечества создал  </a:t>
            </a:r>
            <a:r>
              <a:rPr b="1" lang="ru-RU" sz="2800" spc="-1" strike="noStrike">
                <a:solidFill>
                  <a:srgbClr val="660066"/>
                </a:solidFill>
                <a:latin typeface="Monotype Corsiva"/>
              </a:rPr>
              <a:t>Пифагор Самосский</a:t>
            </a:r>
            <a:r>
              <a:rPr b="0" i="1" lang="ru-RU" sz="28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Monotype Corsiva"/>
              </a:rPr>
              <a:t>«Симметрия – это некая «средняя мера», - считал </a:t>
            </a:r>
            <a:r>
              <a:rPr b="1" lang="ru-RU" sz="2800" spc="-1" strike="noStrike">
                <a:solidFill>
                  <a:srgbClr val="660066"/>
                </a:solidFill>
                <a:latin typeface="Monotype Corsiva"/>
              </a:rPr>
              <a:t>Аристотель</a:t>
            </a:r>
            <a:r>
              <a:rPr b="0" lang="ru-RU" sz="2800" spc="-1" strike="noStrike">
                <a:solidFill>
                  <a:srgbClr val="660066"/>
                </a:solidFill>
                <a:latin typeface="Monotype Corsiva"/>
              </a:rPr>
              <a:t> 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Monotype Corsiva"/>
              </a:rPr>
              <a:t>Римский врач </a:t>
            </a:r>
            <a:r>
              <a:rPr b="1" lang="ru-RU" sz="2800" spc="-1" strike="noStrike">
                <a:solidFill>
                  <a:srgbClr val="660066"/>
                </a:solidFill>
                <a:latin typeface="Monotype Corsiva"/>
              </a:rPr>
              <a:t>Гален </a:t>
            </a:r>
            <a:r>
              <a:rPr b="0" lang="ru-RU" sz="2800" spc="-1" strike="noStrike">
                <a:solidFill>
                  <a:srgbClr val="080808"/>
                </a:solidFill>
                <a:latin typeface="Monotype Corsiva"/>
              </a:rPr>
              <a:t>(2 в. н. э.) под симметрией понимал покой души и уравновешенность.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1521000" cy="190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Monotype Corsiva"/>
              </a:rPr>
              <a:t>ВЕЛИКИЕ О СИММЕТРИИ…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Monotype Corsiva"/>
              </a:rPr>
              <a:t>Леонардо да Винчи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 считал, что главную роль в картине играют пропорциональность и гармония, под которыми он понимал симметрию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Monotype Corsiva"/>
              </a:rPr>
              <a:t>Альбрехт Дюрер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 (1471-1528 г.г.) утверждал, что каждый художник должен знать способы построения правильных симметричных фигур.</a:t>
            </a: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Monotype Corsiva"/>
              </a:rPr>
              <a:t>	</a:t>
            </a:r>
            <a:r>
              <a:rPr b="1" i="1" lang="ru-RU" sz="3200" spc="-1" strike="noStrike">
                <a:solidFill>
                  <a:srgbClr val="660066"/>
                </a:solidFill>
                <a:latin typeface="Monotype Corsiva"/>
              </a:rPr>
              <a:t>Термин «симметрия»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 (σνμμετρυα, греч.) - соразмерность, пропорциональность, одинаковость в расположении частей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520640" cy="190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Monotype Corsiva"/>
              </a:rPr>
              <a:t>ОСЕВАЯ СИММЕТРИЯ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Преобразование, при котором каждая точка А фигуры (или тела) преобразуется в симметричную ей относительно некоторой оси</a:t>
            </a:r>
            <a:r>
              <a:rPr b="1" i="1" lang="ru-RU" sz="3200" spc="-1" strike="noStrike">
                <a:solidFill>
                  <a:srgbClr val="080808"/>
                </a:solidFill>
                <a:latin typeface="Monotype Corsiva"/>
              </a:rPr>
              <a:t> </a:t>
            </a:r>
            <a:r>
              <a:rPr b="0" i="1" lang="en-US" sz="3200" spc="-1" strike="noStrike">
                <a:solidFill>
                  <a:srgbClr val="080808"/>
                </a:solidFill>
                <a:latin typeface="Monotype Corsiva"/>
              </a:rPr>
              <a:t>l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 точку А</a:t>
            </a:r>
            <a:r>
              <a:rPr b="0" i="1" lang="en-US" sz="3200" spc="-1" strike="noStrike">
                <a:solidFill>
                  <a:srgbClr val="080808"/>
                </a:solidFill>
                <a:latin typeface="Monotype Corsiva"/>
              </a:rPr>
              <a:t>'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, называется </a:t>
            </a:r>
            <a:r>
              <a:rPr b="1" i="1" lang="ru-RU" sz="3200" spc="-1" strike="noStrike">
                <a:solidFill>
                  <a:srgbClr val="660066"/>
                </a:solidFill>
                <a:latin typeface="Monotype Corsiva"/>
              </a:rPr>
              <a:t>осевой симметрией.</a:t>
            </a: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492360" y="4076640"/>
            <a:ext cx="2962440" cy="227664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  <p:transition>
    <p:dissolv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3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Monotype Corsiva"/>
              </a:rPr>
              <a:t>ЦЕНТРАЛЬНАЯ СИММЕТРИЯ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Преобразование, переводящее каждую точку А фигуры (тела) в точку А</a:t>
            </a:r>
            <a:r>
              <a:rPr b="0" i="1" lang="en-US" sz="3200" spc="-1" strike="noStrike">
                <a:solidFill>
                  <a:srgbClr val="080808"/>
                </a:solidFill>
                <a:latin typeface="Monotype Corsiva"/>
              </a:rPr>
              <a:t>'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, симметричную ей относительно центра О, называется </a:t>
            </a:r>
            <a:r>
              <a:rPr b="1" i="1" lang="ru-RU" sz="3200" spc="-1" strike="noStrike">
                <a:solidFill>
                  <a:srgbClr val="660066"/>
                </a:solidFill>
                <a:latin typeface="Monotype Corsiva"/>
              </a:rPr>
              <a:t>преобразованием центральной симметрии или просто центральной симметрией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708360" y="4221000"/>
            <a:ext cx="2808360" cy="223236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  <p:transition>
    <p:dissolv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Monotype Corsiva"/>
              </a:rPr>
              <a:t>СКОЛЬЗЯЩАЯ СИММЕТРИЯ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i="1" lang="ru-RU" sz="3200" spc="-1" strike="noStrike">
                <a:solidFill>
                  <a:srgbClr val="080808"/>
                </a:solidFill>
                <a:latin typeface="Tahoma"/>
              </a:rPr>
              <a:t>    </a:t>
            </a:r>
            <a:r>
              <a:rPr b="1" i="1" lang="ru-RU" sz="3200" spc="-1" strike="noStrike">
                <a:solidFill>
                  <a:srgbClr val="660066"/>
                </a:solidFill>
                <a:latin typeface="Monotype Corsiva"/>
              </a:rPr>
              <a:t>Скользящей симметрией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 называется такое преобразование, при котором последовательно выполняются осевая симметрия и параллельный перенос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700360" y="3500280"/>
            <a:ext cx="3429000" cy="232416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  <p:transition>
    <p:dissolv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Monotype Corsiva"/>
              </a:rPr>
              <a:t>ЗЕРКАЛЬНАЯ СИММЕТРИЯ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Если преобразование симметрии относительно плоскости переводит фигуру (тело) в себя, то фигура называется симметричной относительно плоскости, а данная плоскость – плоскостью симметрии этой фигуры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95640" y="4365720"/>
            <a:ext cx="2911680" cy="207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8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Monotype Corsiva"/>
              </a:rPr>
              <a:t>ЗЕРКАЛЬНАЯ СИММЕТРИЯ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484360" y="2060640"/>
            <a:ext cx="5462640" cy="3065400"/>
          </a:xfrm>
          <a:prstGeom prst="rect">
            <a:avLst/>
          </a:prstGeom>
          <a:ln w="41400">
            <a:solidFill>
              <a:srgbClr val="800080"/>
            </a:solidFill>
            <a:miter/>
          </a:ln>
        </p:spPr>
      </p:pic>
    </p:spTree>
  </p:cSld>
  <p:transition>
    <p:dissolve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Monotype Corsiva"/>
              </a:rPr>
              <a:t>УЧАСТНИК ПРОЕКТА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6360" y="2421000"/>
            <a:ext cx="41752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УЧЕНИЦА 8 «А»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 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МОУ СОШ № 12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г. БАЛАШОВА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АРТЁМОВА ЮЛИЯ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651640" y="1557360"/>
            <a:ext cx="3195360" cy="4660920"/>
          </a:xfrm>
          <a:prstGeom prst="rect">
            <a:avLst/>
          </a:prstGeom>
          <a:ln w="50760">
            <a:solidFill>
              <a:srgbClr val="800080"/>
            </a:solidFill>
            <a:miter/>
          </a:ln>
        </p:spPr>
      </p:pic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Monotype Corsiva"/>
              </a:rPr>
              <a:t>СИММЕТРИЯ В РАСТЕНИЯХ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Monotype Corsiva"/>
              </a:rPr>
              <a:t>Внимательное наблюдение показывает, что основу красоты многих форм, созданных природой, составляет симметрия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 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Ярко выраженной симметрией обладают листья, ветви, цветы, плоды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Зеркальная симметрия характерна для листьев, но встречается и у цветов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Для цветов характерна поворотная симметрия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1555560" cy="1244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Monotype Corsiva"/>
              </a:rPr>
              <a:t>СИММЕТРИЯ В РАСТЕНИЯХ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5189760" cy="5112000"/>
          </a:xfrm>
          <a:prstGeom prst="rect">
            <a:avLst/>
          </a:prstGeom>
          <a:ln w="127080">
            <a:solidFill>
              <a:srgbClr val="76669a"/>
            </a:solidFill>
            <a:miter/>
          </a:ln>
        </p:spPr>
      </p:pic>
    </p:spTree>
  </p:cSld>
  <p:transition>
    <p:dissolve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Monotype Corsiva"/>
              </a:rPr>
              <a:t>СИММЕТРИЯ В ЖИВОТНОМ МИРЕ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Симметрия  встречается и в животном мире. Однако в отличие от мира растений  симметрия в животном мире наблюдается не так часто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  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Рассмотрим, например, бабочку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140360" y="4076640"/>
          <a:ext cx="2519280" cy="216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4076640"/>
                    <a:ext cx="2519280" cy="2160720"/>
                  </a:xfrm>
                  <a:prstGeom prst="rect">
                    <a:avLst/>
                  </a:prstGeom>
                  <a:ln w="85680">
                    <a:solidFill>
                      <a:srgbClr val="76669a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39640" y="333360"/>
            <a:ext cx="1079640" cy="86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Monotype Corsiva"/>
              </a:rPr>
              <a:t>ЗАГАДОЧНЫЕ СНЕЖИНКИ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0" i="1" lang="ru-RU" sz="3600" spc="-1" strike="noStrike">
                <a:solidFill>
                  <a:srgbClr val="080808"/>
                </a:solidFill>
                <a:latin typeface="Monotype Corsiva"/>
              </a:rPr>
              <a:t>Он сыплет с неба мелкой крупой, летает вокруг фонарей огромными пушистыми хлопьями, стоит столбом в лунном свете ледяными иглами. Казалось бы, какая ерунда! Всего-то замёрзшая вода.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80808"/>
                </a:solidFill>
                <a:latin typeface="Monotype Corsiva"/>
              </a:rPr>
              <a:t> </a:t>
            </a:r>
            <a:r>
              <a:rPr b="0" i="1" lang="ru-RU" sz="3600" spc="-1" strike="noStrike">
                <a:solidFill>
                  <a:srgbClr val="080808"/>
                </a:solidFill>
                <a:latin typeface="Monotype Corsiva"/>
              </a:rPr>
              <a:t>Но сколько вопросов возникает у человека, глядящего на </a:t>
            </a:r>
            <a:r>
              <a:rPr b="1" i="1" lang="ru-RU" sz="3600" spc="-1" strike="noStrike">
                <a:solidFill>
                  <a:srgbClr val="660066"/>
                </a:solidFill>
                <a:latin typeface="Monotype Corsiva"/>
              </a:rPr>
              <a:t>снежинки</a:t>
            </a:r>
            <a:r>
              <a:rPr b="0" i="1" lang="ru-RU" sz="3600" spc="-1" strike="noStrike">
                <a:solidFill>
                  <a:srgbClr val="080808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658800" cy="593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971640" y="3141720"/>
            <a:ext cx="911160" cy="822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451640" y="4076640"/>
            <a:ext cx="911160" cy="822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635280" y="6033960"/>
            <a:ext cx="912960" cy="824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4356000" y="836640"/>
            <a:ext cx="695520" cy="62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Monotype Corsiva"/>
              </a:rPr>
              <a:t>ЗАГАДОЧНЫЕ СНЕЖИНКИ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ahoma"/>
              </a:rPr>
              <a:t>  </a:t>
            </a:r>
            <a:r>
              <a:rPr b="0" i="1" lang="ru-RU" sz="4000" spc="-1" strike="noStrike">
                <a:solidFill>
                  <a:srgbClr val="660066"/>
                </a:solidFill>
                <a:latin typeface="Monotype Corsiva"/>
              </a:rPr>
              <a:t>Снежинка</a:t>
            </a:r>
            <a:r>
              <a:rPr b="0" i="1" lang="ru-RU" sz="4000" spc="-1" strike="noStrike">
                <a:solidFill>
                  <a:srgbClr val="080808"/>
                </a:solidFill>
                <a:latin typeface="Monotype Corsiva"/>
              </a:rPr>
              <a:t> – это группа кристалликов, образованная более чем из двухсот ледяных частичек.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0808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2952000"/>
            <a:ext cx="745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66"/>
                </a:solidFill>
                <a:latin typeface="Monotype Corsiva"/>
              </a:rPr>
              <a:t>Симметрия</a:t>
            </a:r>
            <a:r>
              <a:rPr b="0" i="1" lang="ru-RU" sz="3600" spc="-1" strike="noStrike">
                <a:solidFill>
                  <a:srgbClr val="666699"/>
                </a:solidFill>
                <a:latin typeface="Monotype Corsiva"/>
              </a:rPr>
              <a:t> </a:t>
            </a:r>
            <a:r>
              <a:rPr b="0" i="1" lang="ru-RU" sz="3600" spc="-1" strike="noStrike">
                <a:solidFill>
                  <a:srgbClr val="080808"/>
                </a:solidFill>
                <a:latin typeface="Monotype Corsiva"/>
              </a:rPr>
              <a:t>– это свойство кристаллов совмещаться друг с другом в различных положениях путём поворотов, параллельных переносов, отражений.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1692000" cy="163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5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Monotype Corsiva"/>
              </a:rPr>
              <a:t>СИММЕТРИЯ В АРХИТЕКТУРЕ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80808"/>
                </a:solidFill>
                <a:latin typeface="Monotype Corsiva"/>
              </a:rPr>
              <a:t>Нагляднее всего видна симметрия в архитектуре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080808"/>
                </a:solidFill>
                <a:latin typeface="Monotype Corsiva"/>
              </a:rPr>
              <a:t>Особенно блистательно использовали симметрию в архитектурных сооружениях древние зодчие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080808"/>
                </a:solidFill>
                <a:latin typeface="Monotype Corsiva"/>
              </a:rPr>
              <a:t>В сознании древнегреческих архитекторов симметрия стала олицетворением закономерности, целесообразности, красоты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Monotype Corsiva"/>
              </a:rPr>
              <a:t>СИММЕТРИЯ В АРХИТЕКТУРЕ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763640" y="1413000"/>
            <a:ext cx="6912000" cy="4824360"/>
          </a:xfrm>
          <a:prstGeom prst="rect">
            <a:avLst/>
          </a:prstGeom>
          <a:ln w="69840">
            <a:solidFill>
              <a:srgbClr val="003300"/>
            </a:solidFill>
            <a:miter/>
          </a:ln>
        </p:spPr>
      </p:pic>
    </p:spTree>
  </p:cSld>
  <p:transition>
    <p:dissolve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Monotype Corsiva"/>
              </a:rPr>
              <a:t>СИММЕТРИЯ В ЛИТЕРАТУРЕ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В литературных произведениях существует </a:t>
            </a:r>
            <a:r>
              <a:rPr b="1" i="1" lang="ru-RU" sz="3200" spc="-1" strike="noStrike">
                <a:solidFill>
                  <a:srgbClr val="660066"/>
                </a:solidFill>
                <a:latin typeface="Monotype Corsiva"/>
              </a:rPr>
              <a:t>симметрия образов, положений, мышления.</a:t>
            </a:r>
            <a:r>
              <a:rPr b="0" i="1" lang="ru-RU" sz="3200" spc="-1" strike="noStrike">
                <a:solidFill>
                  <a:srgbClr val="660066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  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В греческой трагедии - виновный становится жертвой такого же преступления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  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В «Евгении Онегине» А. С. Пушкина мы наблюдаем </a:t>
            </a:r>
            <a:r>
              <a:rPr b="0" i="1" lang="ru-RU" sz="3200" spc="-1" strike="noStrike">
                <a:solidFill>
                  <a:srgbClr val="660066"/>
                </a:solidFill>
                <a:latin typeface="Monotype Corsiva"/>
              </a:rPr>
              <a:t>симметрию  положений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: «Онегин, отвергнувший когда-то любовь Татьяны, сам через несколько лет вынужден испытывать горечь отвергнутой любви»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1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8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5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Monotype Corsiva"/>
              </a:rPr>
              <a:t>СИММЕТРИЯ В ЛИТЕРАТУРЕ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80808"/>
                </a:solidFill>
                <a:latin typeface="Monotype Corsiva"/>
              </a:rPr>
              <a:t>Буквы</a:t>
            </a:r>
            <a:r>
              <a:rPr b="0" lang="ru-RU" sz="3200" spc="-1" strike="noStrike">
                <a:solidFill>
                  <a:srgbClr val="080808"/>
                </a:solidFill>
                <a:latin typeface="Monotype Corsiva"/>
              </a:rPr>
              <a:t> русского языка тоже можно рассмотреть с точки зрения симметрии.     </a:t>
            </a: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Вертикальная ось симметрии</a:t>
            </a:r>
            <a:r>
              <a:rPr b="0" lang="ru-RU" sz="3200" spc="-1" strike="noStrike">
                <a:solidFill>
                  <a:srgbClr val="080808"/>
                </a:solidFill>
                <a:latin typeface="Monotype Corsiva"/>
              </a:rPr>
              <a:t>:   А; Д; Л; М; П; Т; Ф; Ш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Monotype Corsiva"/>
              </a:rPr>
              <a:t>  </a:t>
            </a: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Горизонтальная ось симметрии</a:t>
            </a:r>
            <a:r>
              <a:rPr b="0" lang="ru-RU" sz="3200" spc="-1" strike="noStrike">
                <a:solidFill>
                  <a:srgbClr val="080808"/>
                </a:solidFill>
                <a:latin typeface="Monotype Corsiva"/>
              </a:rPr>
              <a:t>:  В; Е; З; К; С; Э; Ю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И вертикальные, и горизонтальные оси симметрии</a:t>
            </a:r>
            <a:r>
              <a:rPr b="0" lang="ru-RU" sz="3200" spc="-1" strike="noStrike">
                <a:solidFill>
                  <a:srgbClr val="080808"/>
                </a:solidFill>
                <a:latin typeface="Monotype Corsiva"/>
              </a:rPr>
              <a:t>: Ж; Н; О; Х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Ни вертикальные, ни горизонтальные оси</a:t>
            </a:r>
            <a:r>
              <a:rPr b="0" lang="ru-RU" sz="3200" spc="-1" strike="noStrike">
                <a:solidFill>
                  <a:srgbClr val="080808"/>
                </a:solidFill>
                <a:latin typeface="Monotype Corsiva"/>
              </a:rPr>
              <a:t>: Б; Г; И; Й; Р; У; Ц; Ч; Щ; Я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6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6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6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6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6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6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6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6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6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6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6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6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6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6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6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6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Monotype Corsiva"/>
              </a:rPr>
              <a:t>СИММЕТРИЯ В ЛИТЕРАТУРЕ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В русском языке есть «симметричные слова – </a:t>
            </a:r>
            <a:r>
              <a:rPr b="1" i="1" lang="ru-RU" sz="3200" spc="-1" strike="noStrike">
                <a:solidFill>
                  <a:srgbClr val="660066"/>
                </a:solidFill>
                <a:latin typeface="Monotype Corsiva"/>
              </a:rPr>
              <a:t>палиндромы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, которые можно читать одинаково в двух направлениях: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2948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Monotype Corsiva"/>
              </a:rPr>
              <a:t> </a:t>
            </a:r>
            <a:r>
              <a:rPr b="0" i="1" lang="ru-RU" sz="3200" spc="-1" strike="noStrike">
                <a:solidFill>
                  <a:srgbClr val="660066"/>
                </a:solidFill>
                <a:latin typeface="Monotype Corsiva"/>
              </a:rPr>
              <a:t>Шалаш, казак, радар, Алла, Анна, кок, поп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     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Могут быть </a:t>
            </a:r>
            <a:r>
              <a:rPr b="1" i="1" lang="ru-RU" sz="3200" spc="-1" strike="noStrike">
                <a:solidFill>
                  <a:srgbClr val="660066"/>
                </a:solidFill>
                <a:latin typeface="Monotype Corsiva"/>
              </a:rPr>
              <a:t>палиндромическими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 и предложения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Monotype Corsiva"/>
              </a:rPr>
              <a:t>А роза упала на лапу Азора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Monotype Corsiva"/>
              </a:rPr>
              <a:t>Я иду с мечём судия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080808"/>
                </a:solidFill>
                <a:latin typeface="Monotype Corsiva"/>
              </a:rPr>
              <a:t>Г.Р. Державин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2948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2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2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Monotype Corsiva"/>
              </a:rPr>
              <a:t>РУКОВОДИТЕЛЬ ПРОЕКТА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880" y="2420640"/>
            <a:ext cx="36244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80808"/>
                </a:solidFill>
                <a:latin typeface="Monotype Corsiva"/>
              </a:rPr>
              <a:t>УЧИТЕЛЬ МАТЕМАТИКИ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80808"/>
                </a:solidFill>
                <a:latin typeface="Monotype Corsiva"/>
              </a:rPr>
              <a:t>МОУ СОШ № 12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80808"/>
                </a:solidFill>
                <a:latin typeface="Monotype Corsiva"/>
              </a:rPr>
              <a:t>Г. БАЛАШОВА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80808"/>
                </a:solidFill>
                <a:latin typeface="Monotype Corsiva"/>
              </a:rPr>
              <a:t>ЮРКО ОЛЕСЯ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80808"/>
                </a:solidFill>
                <a:latin typeface="Monotype Corsiva"/>
              </a:rPr>
              <a:t> </a:t>
            </a:r>
            <a:r>
              <a:rPr b="0" i="1" lang="ru-RU" sz="2800" spc="-1" strike="noStrike">
                <a:solidFill>
                  <a:srgbClr val="080808"/>
                </a:solidFill>
                <a:latin typeface="Monotype Corsiva"/>
              </a:rPr>
              <a:t>АЛЕКСАНДРОВНА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64000" y="1916280"/>
            <a:ext cx="3437280" cy="4178160"/>
          </a:xfrm>
          <a:prstGeom prst="rect">
            <a:avLst/>
          </a:prstGeom>
          <a:ln w="50760">
            <a:solidFill>
              <a:srgbClr val="800080"/>
            </a:solidFill>
            <a:miter/>
          </a:ln>
        </p:spPr>
      </p:pic>
    </p:spTree>
  </p:cSld>
  <p:transition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Monotype Corsiva"/>
              </a:rPr>
              <a:t>СИММЕТРИЯ В ОРНАМЕНТАХ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Принцип симметрия используется в построении </a:t>
            </a:r>
            <a:r>
              <a:rPr b="1" i="1" lang="ru-RU" sz="3200" spc="-1" strike="noStrike">
                <a:solidFill>
                  <a:srgbClr val="660066"/>
                </a:solidFill>
                <a:latin typeface="Monotype Corsiva"/>
              </a:rPr>
              <a:t>орнамента</a:t>
            </a:r>
            <a:r>
              <a:rPr b="0" i="1" lang="ru-RU" sz="3200" spc="-1" strike="noStrike">
                <a:solidFill>
                  <a:srgbClr val="660066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Monotype Corsiva"/>
              </a:rPr>
              <a:t>Орнамент</a:t>
            </a:r>
            <a:r>
              <a:rPr b="0" i="1" lang="ru-RU" sz="3200" spc="-1" strike="noStrike">
                <a:solidFill>
                  <a:srgbClr val="660066"/>
                </a:solidFill>
                <a:latin typeface="Monotype Corsiva"/>
              </a:rPr>
              <a:t> 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(от лат. </a:t>
            </a:r>
            <a:r>
              <a:rPr b="0" i="1" lang="en-US" sz="3200" spc="-1" strike="noStrike">
                <a:solidFill>
                  <a:srgbClr val="080808"/>
                </a:solidFill>
                <a:latin typeface="Monotype Corsiva"/>
              </a:rPr>
              <a:t>Ornamentum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 – украшение) – узор, состоящий из повторяющихся, ритмически упорядоченных элементов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268360" y="4508640"/>
            <a:ext cx="5029200" cy="180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Monotype Corsiva"/>
              </a:rPr>
              <a:t>ЗАКЛЮЧЕНИЕ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   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	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	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Природа в различных своих творениях, казалось бы, очень далеких друг от друга, может использовать одни и те же принципы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    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	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И человек в своих творениях: живописи, скульптуре, архитектуре…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	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Основополагающими принципами красоты при этом являются пропорции и симметрия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Monotype Corsiva"/>
              </a:rPr>
              <a:t>ЛИТЕРАТУРА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Monotype Corsiva"/>
              </a:rPr>
              <a:t>Глейзер Г.Д. Геометрия. – 12-ое изд.- М.,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Monotype Corsiva"/>
              </a:rPr>
              <a:t>         </a:t>
            </a:r>
            <a:r>
              <a:rPr b="0" lang="ru-RU" sz="2400" spc="-1" strike="noStrike">
                <a:solidFill>
                  <a:srgbClr val="080808"/>
                </a:solidFill>
                <a:latin typeface="Monotype Corsiva"/>
              </a:rPr>
              <a:t>«Просвещение» ,1992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Monotype Corsiva"/>
              </a:rPr>
              <a:t>Компанеец А.С. Симметрия в микро- и макро мире.- М., Наука, 1978. с. 276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Monotype Corsiva"/>
              </a:rPr>
              <a:t>Наливкин Д.В. Элементы симметрии органического мира. – Изв. Биол. Науч – исслед. ин-та при Пермском ун-те, т. 3, 1952, вып. 8, с. 291-297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Monotype Corsiva"/>
              </a:rPr>
              <a:t>Опарин А.И. Возникновение жизни на Земле.- М., 1987, 458 с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Monotype Corsiva"/>
              </a:rPr>
              <a:t>Руденко В. Н. Геометрия 7-9 классы  - М.: Просвещение, 1994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Monotype Corsiva"/>
              </a:rPr>
              <a:t>Скопец З.А. Геометрические миниатюры.- М., «Просвещение» , 1990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Monotype Corsiva"/>
              </a:rPr>
              <a:t>Тарасов Л. В. Этот удивительный симметричный мир. – М.: Просвещение,          1982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Monotype Corsiva"/>
              </a:rPr>
              <a:t>Урманцев Ю.А. Симметрия в природе и природа симметрии. М., Мысль, 1974. с. 230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936800" cy="179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1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2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3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8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9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0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5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6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2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3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4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9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0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1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6" dur="8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7" dur="8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8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3" dur="8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4" dur="8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5" dur="8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1" dur="8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2" dur="8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7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8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476360" y="1628280"/>
            <a:ext cx="7391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66"/>
                </a:solidFill>
                <a:latin typeface="Monotype Corsiva"/>
              </a:rPr>
              <a:t>Симметрия и окружающий нас мир.</a:t>
            </a:r>
            <a:endParaRPr b="0" lang="en-US" sz="4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95640" y="3429000"/>
            <a:ext cx="2232000" cy="2592360"/>
          </a:xfrm>
          <a:prstGeom prst="rect">
            <a:avLst/>
          </a:prstGeom>
          <a:ln w="50760">
            <a:solidFill>
              <a:srgbClr val="800080"/>
            </a:solidFill>
            <a:miter/>
          </a:ln>
        </p:spPr>
      </p:pic>
    </p:spTree>
  </p:cSld>
  <p:transition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6669a"/>
                                      </p:to>
                                    </p:animClr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6669a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Monotype Corsiva"/>
              </a:rPr>
              <a:t>СОДЕРЖАНИЕ РАБОТЫ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0808"/>
                </a:solidFill>
                <a:latin typeface="Monotype Corsiva"/>
              </a:rPr>
              <a:t>Введение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0808"/>
                </a:solidFill>
                <a:latin typeface="Monotype Corsiva"/>
              </a:rPr>
              <a:t>Движение. Виды движения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0808"/>
                </a:solidFill>
                <a:latin typeface="Monotype Corsiva"/>
              </a:rPr>
              <a:t>Поворот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0808"/>
                </a:solidFill>
                <a:latin typeface="Monotype Corsiva"/>
              </a:rPr>
              <a:t>Параллельный перенос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0808"/>
                </a:solidFill>
                <a:latin typeface="Monotype Corsiva"/>
              </a:rPr>
              <a:t>Великие о симметрии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0808"/>
                </a:solidFill>
                <a:latin typeface="Monotype Corsiva"/>
              </a:rPr>
              <a:t>Осевая симметрия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0808"/>
                </a:solidFill>
                <a:latin typeface="Monotype Corsiva"/>
              </a:rPr>
              <a:t>Центральная симметрия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0808"/>
                </a:solidFill>
                <a:latin typeface="Monotype Corsiva"/>
              </a:rPr>
              <a:t>Скользящая симметрия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0808"/>
                </a:solidFill>
                <a:latin typeface="Monotype Corsiva"/>
              </a:rPr>
              <a:t>Зеркальная симметрия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0808"/>
                </a:solidFill>
                <a:latin typeface="Monotype Corsiva"/>
              </a:rPr>
              <a:t>Симметрия в растениях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0808"/>
                </a:solidFill>
                <a:latin typeface="Monotype Corsiva"/>
              </a:rPr>
              <a:t> </a:t>
            </a:r>
            <a:r>
              <a:rPr b="1" i="1" lang="ru-RU" sz="2000" spc="-1" strike="noStrike">
                <a:solidFill>
                  <a:srgbClr val="080808"/>
                </a:solidFill>
                <a:latin typeface="Monotype Corsiva"/>
              </a:rPr>
              <a:t>Симметрия в животном мире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0808"/>
                </a:solidFill>
                <a:latin typeface="Monotype Corsiva"/>
              </a:rPr>
              <a:t>Загадочные снежинки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0808"/>
                </a:solidFill>
                <a:latin typeface="Monotype Corsiva"/>
              </a:rPr>
              <a:t>Симметрия в архитектуре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0808"/>
                </a:solidFill>
                <a:latin typeface="Monotype Corsiva"/>
              </a:rPr>
              <a:t>Симметрия в литературе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0808"/>
                </a:solidFill>
                <a:latin typeface="Monotype Corsiva"/>
              </a:rPr>
              <a:t>Заключение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0808"/>
                </a:solidFill>
                <a:latin typeface="Monotype Corsiva"/>
              </a:rPr>
              <a:t>Литература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23880" y="1844280"/>
            <a:ext cx="7391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660066"/>
                </a:solidFill>
                <a:latin typeface="Monotype Corsiva"/>
              </a:rPr>
              <a:t>Симметрия – это идея, с помощью которой человек веками пытался объяснить и создать порядок, красоту и совершенство.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  <a:p>
            <a:pPr marL="31536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66"/>
                </a:solidFill>
                <a:latin typeface="Monotype Corsiva"/>
              </a:rPr>
              <a:t>                                                               </a:t>
            </a:r>
            <a:r>
              <a:rPr b="0" i="1" lang="ru-RU" sz="4400" spc="-1" strike="noStrike">
                <a:solidFill>
                  <a:srgbClr val="660066"/>
                </a:solidFill>
                <a:latin typeface="Monotype Corsiva"/>
              </a:rPr>
              <a:t>Г. Вейль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114280" cy="3097080"/>
          </a:xfrm>
          <a:prstGeom prst="rect">
            <a:avLst/>
          </a:prstGeom>
          <a:ln cap="rnd" w="50760">
            <a:solidFill>
              <a:srgbClr val="800080"/>
            </a:solidFill>
            <a:custDash>
              <a:ds d="100000" sp="1000"/>
            </a:custDash>
            <a:miter/>
          </a:ln>
        </p:spPr>
      </p:pic>
    </p:spTree>
  </p:cSld>
  <p:transition>
    <p:dissolv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4920" y="115920"/>
            <a:ext cx="3889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Monotype Corsiva"/>
              </a:rPr>
              <a:t>ВВЕДЕНИЕ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6360" y="2133720"/>
            <a:ext cx="73915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	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	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Принципы симметрии играют важную роль в физике и математике, химии и биологии, технике и архитектуре, живописи и скульптуре, поэзии и музыке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	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	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 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Законы природы, управляющие неисчерпаемой в своём многообразии картиной явлений, в свою очередь, также  подчиняются принципам симметрии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227640" y="189000"/>
            <a:ext cx="1584360" cy="187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660066"/>
                </a:solidFill>
                <a:latin typeface="Monotype Corsiva"/>
              </a:rPr>
              <a:t>Движение. Виды движения.</a:t>
            </a:r>
            <a:br>
              <a:rPr sz="4400"/>
            </a:b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6360" y="1267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i="1" lang="ru-RU" sz="3200" spc="-1" strike="noStrike">
                <a:solidFill>
                  <a:srgbClr val="660066"/>
                </a:solidFill>
                <a:latin typeface="Monotype Corsiva"/>
              </a:rPr>
              <a:t>Движение плоскости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 – это отображение плоскости на себя, сохраняющее расстояния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Monotype Corsiva"/>
              </a:rPr>
              <a:t>Виды движения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1. </a:t>
            </a:r>
            <a:r>
              <a:rPr b="0" i="1" lang="ru-RU" sz="3200" spc="-1" strike="noStrike">
                <a:solidFill>
                  <a:srgbClr val="660066"/>
                </a:solidFill>
                <a:latin typeface="Monotype Corsiva"/>
              </a:rPr>
              <a:t>Симметрия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     ─ 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осевая,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     ─ 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центральная,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     ─ 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скользящая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     ─ 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зеркальная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2. </a:t>
            </a:r>
            <a:r>
              <a:rPr b="0" i="1" lang="ru-RU" sz="3200" spc="-1" strike="noStrike">
                <a:solidFill>
                  <a:srgbClr val="660066"/>
                </a:solidFill>
                <a:latin typeface="Monotype Corsiva"/>
              </a:rPr>
              <a:t>Параллельный перенос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3. </a:t>
            </a:r>
            <a:r>
              <a:rPr b="0" i="1" lang="ru-RU" sz="3200" spc="-1" strike="noStrike">
                <a:solidFill>
                  <a:srgbClr val="660066"/>
                </a:solidFill>
                <a:latin typeface="Monotype Corsiva"/>
              </a:rPr>
              <a:t>Поворот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372360" y="3284640"/>
            <a:ext cx="1584360" cy="187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38216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Monotype Corsiva"/>
              </a:rPr>
              <a:t>ПОВОРОТ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19280" y="1341000"/>
            <a:ext cx="73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Преобразование, при котором каждая точка А фигуры (тела) поворачивается на один и тот же угол </a:t>
            </a:r>
            <a:r>
              <a:rPr b="1" i="1" lang="ru-RU" sz="3200" spc="-1" strike="noStrike">
                <a:solidFill>
                  <a:srgbClr val="080808"/>
                </a:solidFill>
                <a:latin typeface="Monotype Corsiva"/>
              </a:rPr>
              <a:t>α 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вокруг заданного центра О, называется </a:t>
            </a:r>
            <a:r>
              <a:rPr b="1" i="1" lang="ru-RU" sz="3200" spc="-1" strike="noStrike">
                <a:solidFill>
                  <a:srgbClr val="660066"/>
                </a:solidFill>
                <a:latin typeface="Monotype Corsiva"/>
              </a:rPr>
              <a:t>вращением или поворотом плоскости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Точка </a:t>
            </a:r>
            <a:r>
              <a:rPr b="0" i="1" lang="ru-RU" sz="3200" spc="-1" strike="noStrike">
                <a:solidFill>
                  <a:srgbClr val="660066"/>
                </a:solidFill>
                <a:latin typeface="Monotype Corsiva"/>
              </a:rPr>
              <a:t>О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 называется </a:t>
            </a:r>
            <a:r>
              <a:rPr b="0" i="1" lang="ru-RU" sz="3200" spc="-1" strike="noStrike">
                <a:solidFill>
                  <a:srgbClr val="660066"/>
                </a:solidFill>
                <a:latin typeface="Monotype Corsiva"/>
              </a:rPr>
              <a:t>центром вращения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, а угол </a:t>
            </a:r>
            <a:r>
              <a:rPr b="1" i="1" lang="ru-RU" sz="3200" spc="-1" strike="noStrike">
                <a:solidFill>
                  <a:srgbClr val="660066"/>
                </a:solidFill>
                <a:latin typeface="Monotype Corsiva"/>
              </a:rPr>
              <a:t>α</a:t>
            </a:r>
            <a:r>
              <a:rPr b="0" i="1" lang="ru-RU" sz="3200" spc="-1" strike="noStrike">
                <a:solidFill>
                  <a:srgbClr val="660066"/>
                </a:solidFill>
                <a:latin typeface="Monotype Corsiva"/>
              </a:rPr>
              <a:t> - углом вращения.</a:t>
            </a:r>
            <a:r>
              <a:rPr b="0" i="1" lang="ru-RU" sz="3200" spc="-1" strike="noStrike">
                <a:solidFill>
                  <a:srgbClr val="080808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6:23:19Z</dcterms:created>
  <dc:creator>Артёмова Юлия</dc:creator>
  <dc:description/>
  <cp:keywords/>
  <dc:language>en-US</dc:language>
  <cp:lastModifiedBy>First</cp:lastModifiedBy>
  <dcterms:modified xsi:type="dcterms:W3CDTF">2008-12-09T16:29:53Z</dcterms:modified>
  <cp:revision>29</cp:revision>
  <dc:subject/>
  <dc:title>Фестиваль исследовательских и творческих  работ учащихся «Портфолио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9</vt:lpwstr>
  </property>
</Properties>
</file>