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856200" cy="9141480"/>
            <a:chOff x="0" y="0"/>
            <a:chExt cx="6856200" cy="9141480"/>
          </a:xfrm>
        </p:grpSpPr>
        <p:sp>
          <p:nvSpPr>
            <p:cNvPr id="1" name="Rectangle 3"/>
            <p:cNvSpPr/>
            <p:nvPr/>
          </p:nvSpPr>
          <p:spPr>
            <a:xfrm>
              <a:off x="342720" y="101520"/>
              <a:ext cx="6171840" cy="50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56880" y="609480"/>
              <a:ext cx="285480" cy="7925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42720" y="8534520"/>
              <a:ext cx="6171840" cy="50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6514560" y="609480"/>
              <a:ext cx="285480" cy="7925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42720" y="609480"/>
              <a:ext cx="6171840" cy="792504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6880" y="101520"/>
              <a:ext cx="6743160" cy="894060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456840" cy="812160"/>
              <a:chOff x="0" y="0"/>
              <a:chExt cx="456840" cy="8121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456840" cy="81216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19880" y="213480"/>
                <a:ext cx="215640" cy="38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8328960"/>
              <a:ext cx="456840" cy="812520"/>
              <a:chOff x="0" y="8328960"/>
              <a:chExt cx="456840" cy="812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8328960"/>
                <a:ext cx="456840" cy="81252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19880" y="8542800"/>
                <a:ext cx="215640" cy="382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6399000" y="8328960"/>
              <a:ext cx="457200" cy="812520"/>
              <a:chOff x="6399000" y="8328960"/>
              <a:chExt cx="457200" cy="812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6399000" y="8328960"/>
                <a:ext cx="457200" cy="81252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6519240" y="8542800"/>
                <a:ext cx="215280" cy="382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6399000" y="0"/>
              <a:ext cx="457200" cy="812160"/>
              <a:chOff x="6399000" y="0"/>
              <a:chExt cx="457200" cy="81216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399000" y="0"/>
                <a:ext cx="457200" cy="81216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6519240" y="213480"/>
                <a:ext cx="215280" cy="38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ethovensma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aydn_portrait_by_Thomas_Hardy_(small)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ethoven_Riedel_18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Julietta_Gvinchardi.jp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" y="2033640"/>
            <a:ext cx="6019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Людвиг Ван Бетхове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  <a:ea typeface="Calibri"/>
              </a:rPr>
              <a:t>Жизненный и творческий путь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895480" y="5105520"/>
            <a:ext cx="358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полнил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еник  6 класс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МОУ «Лицей № 57»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. Прокопьевск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кобов Александ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80880" y="2724480"/>
            <a:ext cx="617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6" descr="180px-Czerny_2"/>
          <p:cNvPicPr/>
          <p:nvPr/>
        </p:nvPicPr>
        <p:blipFill>
          <a:blip r:embed="rId1"/>
          <a:srcRect l="0" t="0" r="0" b="21756"/>
          <a:stretch/>
        </p:blipFill>
        <p:spPr>
          <a:xfrm>
            <a:off x="685800" y="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2743200" y="12193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Ученик  Л. Бетховена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Карл Черни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,, известен всему миру своими этюдам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533520" y="3048120"/>
            <a:ext cx="586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Черни прозанимался у Бетховена пять лет, после чего композитор выдал ему документ, в котором отмечал «исключительные успехи ученика и его достойную удивления музыкальную память». Память у Черни и вправду была поразительной: он знал наизусть все фортепианные сочинения учител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Черни рано начал педагогическую деятельность и вскоре стал одним из лучших педагогов Вены. Черни был необычайно плодовитым композитором, им написано более тысячи произведений в разных жанрах, но широчайшую известность принесли ему этюды. Трудно сосчитать, сколько поколений музыкантов воспиталось на этих обязательных для каждого пианиста «школах беглости пальцев». Заслугой Черни является и редакция сонат Д. Скарлатти и «Хорошо темперированного клавира» Баха. Сейчас эти редакции устарели, но в то время они привлекли внимание музыкантов к сочинениям великих мастеров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58294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Ученицей Бетховен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была и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Доротея Эртман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одна из лучших пианисток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Германии. «Высокая, статна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фигура и прекрасное, полное о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душевления лицо, — описывает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её современник, — вызвали во мне…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напряжённое ожидание, и все-таки я был потрясён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как никогда, её исполнением бетховенской сонаты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Я ещё никогда не встречал соединения такой силы 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оникновенной нежностью — даже у величайших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виртуозов». Эртман славилась исполнением бетховенских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роизведений. Композитор посвятил ей Сонату № 28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Узнав, что у Доротеи умер ребёнок, Бетховен долго играл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ей. «Он импровизировал целый час, — вспоминал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пианистка, — и в конце концов утешил меня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7" descr="180px-Doroteya_Artman"/>
          <p:cNvPicPr/>
          <p:nvPr/>
        </p:nvPicPr>
        <p:blipFill>
          <a:blip r:embed="rId1"/>
          <a:srcRect l="0" t="3245" r="6474" b="6450"/>
          <a:stretch/>
        </p:blipFill>
        <p:spPr>
          <a:xfrm>
            <a:off x="3733920" y="83808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здние годы: 1802—181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617220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фортепианном творчестве собственный стиль композитора заметен уже в ранних сонатах, но в симфоническом зрелость пришла к нему позднее. По словам Чайковского, лишь в третьей симфонии «раскрылась впервые вся необъятная, изумительная сила творческого гения Бетховена»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тховен сочиняет Шестую симфонию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9" name="Picture 4" descr="180px-Beethoven_AlmanachDerMusikgesellschaft_1834"/>
          <p:cNvPicPr/>
          <p:nvPr/>
        </p:nvPicPr>
        <p:blipFill>
          <a:blip r:embed="rId1"/>
          <a:stretch/>
        </p:blipFill>
        <p:spPr>
          <a:xfrm>
            <a:off x="2209680" y="51814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180px-Beethovenhome"/>
          <p:cNvPicPr/>
          <p:nvPr/>
        </p:nvPicPr>
        <p:blipFill>
          <a:blip r:embed="rId2"/>
          <a:stretch/>
        </p:blipFill>
        <p:spPr>
          <a:xfrm>
            <a:off x="2666880" y="7621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172200" cy="5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Последние год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837720"/>
            <a:ext cx="6172200" cy="807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осле 1812 года творческая активность композитора на время падает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Но уже через три года он начинает работать с прежней энергией. В это время созданы фортепианные сонаты с Двадцать восьмой по последнюю, Тридцать вторую, две сонаты для виолончели, квартеты, вокальный цикл «К далёкой возлюбленной». Много времени уделяется и обработкам народных песен. Наряду с шотландскими, ирландскими, уэльскими есть и русские. Но главными созданиями последних лет стали два самых монументальных сочинения Бетховена — Торжественная месса и Девятая симфония с хором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Девятая симфония была исполнена в 1824 году. Публика устроила композитору овацию. Бетховен стоял спиной к залу и ничего не слышал, тогда одна из певиц взяла его за руку и повернула лицом к слушателям. Люди махали платками, шляпами, руками, приветствуя композитора. Овация длилась так долго, что присутствовавшие тут же полицейские чиновники потребовали её прекращения. Подобные приветствия допускались только по отношению к особе императора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Австрии после поражения Наполеона был установлен полицейский режим. Напуганное революцией правительство преследовало любую свободную мысль. Многочисленные тайные агенты проникали во все слои общества. В разговорных тетрадях Бетховена то и дело встречаются предупреждения: «Тише! Осторожно, здесь шпион!» И вероятно, после какого-то особенно смелого высказывания композитора: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«Вы кончите на эшафоте!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Глухота отделяет Бетховена от мира, лишает звукового восприятия, радости дружеского общения. Он становится угрюм, замкнут. Но именно в эти годы композитор одно за другим создаёт свои самые известные произведения. В эти же годы композитор работает над своей единственной оперой «Фиделио». Эта опера относится к жанру опер «ужасов и спасения».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Незадолго до смерти композитор передал рукопись «Фиделио» своему другу и секретарю Шиндлеру со словами: «Это дитя моего духа было произведено на свет в более сильных мучениях, чем другие, и доставило мне величайшие огорчения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Поэтому оно мне дороже всех…»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Успех к «Фиделио» пришёл лишь в 1814 году, когда опера была поставлена сперва в Вене, потом в Праге, где ею дирижировал знаменитый немецкий композитор Вебер и, наконец, в Берлине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6172200" cy="74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нако слава Бетховена была так велик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что правительство не посмел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его тронуть. Несмотря на глухоту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тор продолжает быть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курсе не только политических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 и музыкальных новостей. Он читал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то есть слушает внутренним слухом)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артитуры опер Россини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сматривает сборник песен Шуберт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накомится с операми немецкого композитор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бера «Вольный стрелок» и «Эврианта»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ехав в Вену, Вебер посетил Бетховена. Они вмест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завтракали, и Бетховен, обычно не склонный к церемониям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хаживал за своим гостем. После смерти младшего брат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тор взял на себя заботу о его сыне. Бетховен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местил племянника в лучшие пансионы, поручает своему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енику Черни заниматься с ним музыкой. Композитор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хотел, чтобы мальчик стал учёным или артистом, но ег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влекало не искусство, а карты и бильярд. Запутавшись 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лгах, он совершил попытку самоубийств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пытка эта не причинила особого вреда: пуля лишь чуть оцарапала кожу на голове. Бетховен очень переживал по этому поводу. За несколько дней он превратился в старика. Здоровье его резко ухудшилось. У композитора развивается тяжёлое заболевание печен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4" name="Рисунок 2" descr="55890cdc-a6fb-f7e9-9066-0a9de78de5ea.jpg"/>
          <p:cNvPicPr/>
          <p:nvPr/>
        </p:nvPicPr>
        <p:blipFill>
          <a:blip r:embed="rId1"/>
          <a:srcRect l="0" t="2709" r="7697" b="7955"/>
          <a:stretch/>
        </p:blipFill>
        <p:spPr>
          <a:xfrm>
            <a:off x="457200" y="106668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 Narrow"/>
              </a:rPr>
              <a:t>Причины смерти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434304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9 августа 2007 года венский патолог и эксперт судебной медицины Кристиан Рейтер (доцент кафедры судебной медицины Венского Медицинского Университета) объявил, что виновником смерти Бетховена неумышленно стал его врач Андреас Ваврух, который давал ему содержащее свинец и опасное при болезни печени лекарство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Рисунок 3" descr="бетховен.jpeg"/>
          <p:cNvPicPr/>
          <p:nvPr/>
        </p:nvPicPr>
        <p:blipFill>
          <a:blip r:embed="rId1"/>
          <a:stretch/>
        </p:blipFill>
        <p:spPr>
          <a:xfrm>
            <a:off x="1981080" y="990720"/>
            <a:ext cx="30481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3276360"/>
            <a:ext cx="6172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Похороны Бетховен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етховен умер 26 марта 1827 года. Свыше двадцати тысяч человек шло за его гробом. На могиле прозвучала речь, написанная поэтом Грильпарцером: «Он был художник, но также и человек, человек в высшем смысле этого слова… О нем можно сказать, как ни о ком другом: он совершил великое, в нем не было ничего дурного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3" descr="320px-Beethoven_Funerals"/>
          <p:cNvPicPr/>
          <p:nvPr/>
        </p:nvPicPr>
        <p:blipFill>
          <a:blip r:embed="rId1"/>
          <a:stretch/>
        </p:blipFill>
        <p:spPr>
          <a:xfrm>
            <a:off x="1676520" y="68580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250px-Beethoven_tomb_stone"/>
          <p:cNvPicPr/>
          <p:nvPr/>
        </p:nvPicPr>
        <p:blipFill>
          <a:blip r:embed="rId2"/>
          <a:stretch/>
        </p:blipFill>
        <p:spPr>
          <a:xfrm>
            <a:off x="1981080" y="518148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07640" y="7848720"/>
            <a:ext cx="7125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гила Бетховена на центральном кладбище Вены, Австр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837720"/>
            <a:ext cx="6172200" cy="807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лучай в Теплиц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нажды Бетховен и Гёте, гуляя, встретили императрицу в окружении свиты и придворных. Гёте, отойдя в сторону, склонился в глубоком поклоне, Бетховен прошёл сквозь толпу придворных, едва притронувшись к шляпе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етховен не умел умножать. Например, чтобы умножить 50 на 12, он 12 раз складывал 50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ый раз, прежде чем сесть за стол и приступить к сочинению музыки, Бетховен опускал голову в таз с ледяной водой. Этот прием настолько вошел у него в привычку, что композитор не мог отказаться от него до конца жизн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екоторое время Бетховен учился у австрийского композитора и музыкального теоретика Иоганна Альбрехтсбергера, автора отличного учебника по композиции. Своим упрямством Бетховен бесконечно раздражал учителя, так что тот однажды сказал: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т тупица ничему не научился и ничему никогда не научится!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095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Произвед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70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9 симфоний: № 1 (1799—1800), № 2 (1803), № 3 «Героическая» (1803—1804), № 4 (1806), № 5 (1804—1808), № 6 «Пасторальная» (1808), № 7 (1812), № 8 (1812), № 9 (1824)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1 симфонических увертюр, среди которых «Кориолан», «Эгмонт», «Леонора» № 3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 концертов для фортепиано с оркестром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2 сонаты для фортепиано, множество вариаций и мелких пьес для фортепиано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0 сонат для скрипки и фортепиано, концерт для скрипки с оркестром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 сонат для виолончели и фортепиано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6 квартетов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алет «Творения Прометея»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пера «Фиделио»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оржественная месса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кальный цикл «К далёкой возлюбленной»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есни на стихи разных поэтов, обработки народных песен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5829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Кроссворд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457200" y="838080"/>
            <a:ext cx="586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ИЗВЕДЕНИЯ БЕТХОВЕН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пишите в горизонтальные ряды клеток названия следующих произведений Бетховена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1. Двадцать третья фортепианная сонат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. Третья симфон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3. Восьмая сонат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4. Трагедия В. Гете, к которой Бетховен написал музыку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5. Опера Бетховен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6. Четырнадцатая соната для фортепиано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сли ваши ответы будут записаны правильно, то по вертикали вы прочтете название увертюры Бетховена к драме К. Коллин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Picture 4" descr="C:\Documents and Settings\Жанна.815EFC8DCBCC493\Рабочий стол\бетховен кросв..jpg"/>
          <p:cNvPicPr/>
          <p:nvPr/>
        </p:nvPicPr>
        <p:blipFill>
          <a:blip r:embed="rId1"/>
          <a:stretch/>
        </p:blipFill>
        <p:spPr>
          <a:xfrm>
            <a:off x="1143000" y="4724280"/>
            <a:ext cx="4648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2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762120"/>
            <a:ext cx="3124080" cy="35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4343400"/>
          <a:ext cx="5790960" cy="412272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ата ро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7 декабря 1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есто рожд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ата смер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6 марта 18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есто смер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тра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офесси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омпозитор, пианист, дирижё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струмент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ортепиано, скрипка, флей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ан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лассическая му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5829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Людвиг Ван Бетховен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14440" y="1066320"/>
            <a:ext cx="5829120" cy="706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дуард Эррио Жизнь Бетховена (фрагменты из главы "Человек, его характер")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 algn="ctr"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еликович Э. И. Великие Музыкальные имена // «Композитор» : Пособие для муз. школ и гимназий. — СПб.: 03.04.2006. — № 030560. — С. 143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.  Альшванг А. Людвиг ван Бетховен. Очерк жизни и творчество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829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62485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1.Биография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2.Первые 10 лет в Вене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3.Ученики Бетхове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4.Поздние годы: 1802- 1812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5.Последние год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6.Причины смерт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7.Интересные факт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8.Произведени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9.Кроссворд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10.Список литературы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Людвиг ван Бетховен родился в декабре 1770 года в городе Бонн в семье музыканта. Его отец был певцом в придворной капелле, дед служил там же капельмейстером. Дед будущего композитора был родом из Голландии, отсюда приставка «ван» перед фамилией Бетховена. Отец Людвига был одарённым музыкантом, но легкомысленным человеком и к тому же любителем выпить. Он хотел сделать из сына второго Моцарта и стал обучать игре на клавесине и скрипке. Однако скоро остыл к занятиям и перепоручил мальчика своим приятелям. Один обучал Людвига игре на органе, другой — на скрипке и флейт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1780 году в Бонн приехал органист и композитор Кристиан Готлиб Нефе. Он стал настоящим учителем Бетховена. Нефе сразу понял, что у мальчика талант. Он познакомил Людвига с «Хорошо темперированным клавиром» Баха и произведениями Генделя, а также с музыкой старших современников: Ф. Э. Баха, Гайдна и Моцарта. Благодаря Нефе, было издано и первое сочинение Бетховена — Вариации на тему марша Дресслера. Бетховену в то время было двенадцать лет, и он уже работал помощником придворного органист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сле смерти деда материальное положение семьи ухудшилось, отец пил и почти не приносил денег домой. Людвигу пришлось рано бросить школу, но он хотел пополнить своё образование: выучил латынь, изучал итальянский и французский, много читал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" name="Picture 4" descr="beethoven_young"/>
          <p:cNvPicPr/>
          <p:nvPr/>
        </p:nvPicPr>
        <p:blipFill>
          <a:blip r:embed="rId1"/>
          <a:stretch/>
        </p:blipFill>
        <p:spPr>
          <a:xfrm>
            <a:off x="3733920" y="61722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дом - музей Бетховена.jpg"/>
          <p:cNvPicPr/>
          <p:nvPr/>
        </p:nvPicPr>
        <p:blipFill>
          <a:blip r:embed="rId2"/>
          <a:stretch/>
        </p:blipFill>
        <p:spPr>
          <a:xfrm>
            <a:off x="914400" y="6172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617220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это время Бетховен начал сочинять музыку, но не спешил печатать свои произведения. Многое написанное в Бонне впоследствии было им переработано. Из юношеских сочинений композитора известны две детские сонаты и несколько песен, в том числе «Сурок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1787 году Бетховен посетил Вену. Прослушав импровизацию Бетховена, Моцарт воскликнул: «Он всех заставит говорить о себе!»,но занятия так и не состоялись: Бетховен узнал о болезни матери и вернулся в Бонн. Мать его умерла 17 июля 1787 года. Семнадцатилетний юноша был вынужден стать главой семьи и взять на себя заботу о младших братьях. Он поступил в оркестр в качестве альтист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1789 году Бетховен, желая продолжить образование, начинает посещать лекции в университете. Как раз в это время в Бонн приходит известие о революции во Франции. Один из профессоров университета издаёт сборник стихов, воспевающих революцию. Бетховен подписывается на него. Тогда же он сочиняет «Песню свободного человека», в которой есть слова: «Свободен тот, для кого ничего не значат преимущества рождения и титул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оездом из Англии в Бонне остановился Гайдн. Он с одобрением отзывался о композиторских опытах Бетховена. Юноша решает ехать в Вену, чтобы брать уроки у прославленного композитора, ведь вернувшись из Англии Гайдн становится ещё известнее. Осенью 1792 года Бетховен покидает Бонн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Первые 10 лет в Вене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6172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ahoma"/>
              </a:rPr>
              <a:t>Приехав в Вену, Бетховен начал занятия с Гайдном, но они быстро разочаровали и ученика, и учителя. Бетховен думал, что Гайдн был недостаточно внимателен к его стараниям; старого мастера пугали не только смелые взгляды Людвига, но и то новое, мрачное, что слышалось в его музыке. «Ваши вещи прекрасные, это даже чудесные вещи, — признался он, наконец, — но то тут, то там в них встречается нечто странное, мрачное, так как Вы сами немного угрюмы и странны; а стиль музыканта — это всегда он сам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озеф Гайд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скоре Гайдн вновь уехал в Англию и передал своего ученика известному педагогу и теоретику Альбрехтсбергеру. Умению легко и свободно писать для голоса Бетховен учится у Сальер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же в первые годы жизни в Вене Бетховен завоевал славу пианиста-виртуоза. Его игра поразила слушателей. Они сравнивали её с извержением вулкана, а самого Бетховена с Наполеоном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24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" name="Picture 6" descr="180px-Haydn_portrait_by_Thomas_Hardy_%28small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276720"/>
            <a:ext cx="2819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3733920"/>
            <a:ext cx="617220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Бетховен в 30 лет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otype Corsiva"/>
              </a:rPr>
              <a:t>В ранние годы в лице композитора при желании можно найти некоторое сходство с молодым революционным генералом, но современники имели ввиду другое: новую, неслыханную, нарушающую все прежние правила манеру исполнения. Бетховен смело противопоставлял крайние регистры (а в то время играли в основном в среднем), широко использовал педаль (а к ней тогда тоже обращались редко), употреблял массивные аккордовые созвучия. По сути, именно он создал фортепианный стиль далёкий от изысканно-кружевной манеры клавесинистов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5" descr="180px-Beethoven_Riedel_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914400"/>
            <a:ext cx="24386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57200" y="2967480"/>
            <a:ext cx="6172200" cy="73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оната лунная в тиши звучит печально, безмятежн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к отзвуки его души любви неразделенной, грешно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Но почему так мир жесток,  так равнодушен к человеку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кой бессмысленный урок он преподал Гиганту Век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Какой бездушный и пустой  восторг девичьего капри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Амура выстрел холостой - любовь исчезла без реприз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 не осталось никого. Стена глухая - жизни Вет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 только музыку его оставила ему Джульетт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 тлеют, тлеют угольки в  его разбитом жизнью сердц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И в самом дальнем уголке застыла скорбь аккордом скерцо..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5" name="Picture 6" descr="180px-Julietta_Gvinchard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57320" y="3024360"/>
            <a:ext cx="2718000" cy="2717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457200" y="762120"/>
            <a:ext cx="6019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Бетховен начал давать уроки музыки ещё в Бонне. Его боннский ученик Стефан Брейнинг до конца дней оставался самым преданным другом композитора. Брейнинг помог Бетховену в переделке либретто «Фиделио». В Вене ученицей Бетховена стала юная графиня Джульетта Гвиччарди. Джульетта была родственницей Брунсвиков, в семье которых композитор бывал особенно часто. Бетховен увлёкся своей ученицей и даже думал о женитьбе. Лето 1801 года он провёл в Венгрии, в имении Брунсвиков. По одной из гипотез, именно там была сочинена Лунная соната. Композитор посвятил её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жульетте Гвиччарди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457200" y="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Narrow"/>
              </a:rPr>
              <a:t>Ученики Бетховена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09480" y="-847080"/>
            <a:ext cx="556272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днако Джульетта предпочла ему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рафа Галленберга, посчитав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менно его талантливым к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мпозитором. О сочинениях граф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критики писали, что в них можно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очно указать, из какого произведения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оцарта или Керубини заимствован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а или другая мелодия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ченицей Бетховена была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Тереза Брунсвик. Она обладала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е только музыкальной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дарённостью — прекрасно играл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 рояле, пела, даже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ирижировала, — но и душевной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лубиной. «Без борьбы и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пасностей не бывает победы, —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записала Тереза в своём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невнике. — Бесплодная доброта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сть подлинная слабость ума и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характера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знакомившись с известным швейцарским педагогом. Песталоцци, она решила посвятить себя воспитанию детей. В Венгрии Тереза открыла благотворительные детские сады для детей бедняков. До самой смерти (Тереза умерла в 1861 году в преклонном возрасте) она осталась верна избранному делу. Бетховена связывала с Терезой длительная дружба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Рисунок 2" descr="35751223_orig.jpg"/>
          <p:cNvPicPr/>
          <p:nvPr/>
        </p:nvPicPr>
        <p:blipFill>
          <a:blip r:embed="rId1"/>
          <a:srcRect l="3024" t="0" r="6063" b="0"/>
          <a:stretch/>
        </p:blipFill>
        <p:spPr>
          <a:xfrm>
            <a:off x="3886200" y="7621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180px-Tereza_Brunsvik.jpg"/>
          <p:cNvPicPr/>
          <p:nvPr/>
        </p:nvPicPr>
        <p:blipFill>
          <a:blip r:embed="rId2"/>
          <a:srcRect l="0" t="5011" r="13342" b="5011"/>
          <a:stretch/>
        </p:blipFill>
        <p:spPr>
          <a:xfrm>
            <a:off x="609480" y="3276720"/>
            <a:ext cx="1981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анна</cp:lastModifiedBy>
  <dcterms:modified xsi:type="dcterms:W3CDTF">2009-01-28T13:23:5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