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B48D-5BF1-4A7B-99B0-1A442303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592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5903-CCF0-4353-911E-27F581F5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4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5E55-D3B4-47EF-965E-623728CA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88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88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4E7B-21DB-411D-BBAC-ABD05C452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2491-8293-451C-8627-6EFFC8308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04EA-2549-4052-B259-75A79FCA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6CB9-74ED-4844-A2AB-D7255DCB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C12C-9866-43F5-A7AA-D8838A27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6A17-4C6E-4493-B1C9-D3D8F147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174600"/>
            <a:ext cx="8508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C9CA-DD26-4DC1-B1A2-D2A2EB2F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CE58-E0C2-4EF8-9443-B68FF3B9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9E32-562E-48CB-B333-F710FBA9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4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EFBE-5715-464A-96E0-7F13B908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5BD6-A317-4844-8048-76ED1DAA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592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43F2-00B9-4860-AA02-A9080ABE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4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39D5-60C9-48F0-ACCF-143DF83C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88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88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9B02-4482-4701-8F50-1EEA4FE37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C6EA-3E28-4059-BD4E-51C11F45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287E-E682-4BB3-A610-5F7FC0C6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FBB3-FAFF-4683-9107-91564690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174600"/>
            <a:ext cx="8508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7772-F9F5-40D2-9BF4-8E8AA4E4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0DEB-83BB-40B4-8CC3-7EDE9F9E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4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E940-3E05-4027-A6A7-927418EC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2F9B-BC19-49B1-8401-A5274FAE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245280"/>
            <a:ext cx="22842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2845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C091EF-9CE6-40CE-88C4-7B5A6364648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09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560" y="6245280"/>
            <a:ext cx="22842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2845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562AE-BBA2-4FF9-93EA-F9A08756043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b7e7ff"/>
                </a:solidFill>
                <a:latin typeface="Arial"/>
              </a:rPr>
              <a:t>Природа озера Байка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Озеро радует нас своей красотой и невинность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b7e7ff"/>
                </a:solidFill>
                <a:latin typeface="Arial"/>
              </a:rPr>
              <a:t>Озеро Байка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116000" y="1557360"/>
            <a:ext cx="6985080" cy="447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68360" y="692280"/>
            <a:ext cx="5040360" cy="3276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140360" y="3500280"/>
            <a:ext cx="4730760" cy="307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0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dur="indefinite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4537080" cy="2827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635280" y="3405240"/>
            <a:ext cx="5040360" cy="313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0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 fill="hold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4360" y="981000"/>
            <a:ext cx="7777080" cy="510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dur="indefinite" fill="hold">
                      <p:stCondLst>
                        <p:cond delay="0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 fill="hold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0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 fill="hold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dur="indefinite" fill="hold">
                      <p:stCondLst>
                        <p:cond delay="0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292720" y="3141720"/>
            <a:ext cx="2808360" cy="1685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30120" y="0"/>
            <a:ext cx="2189160" cy="3780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877080" y="189000"/>
            <a:ext cx="1990800" cy="3024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3203640" y="404640"/>
            <a:ext cx="3097080" cy="2880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692360" y="3068640"/>
            <a:ext cx="2152440" cy="3313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4572000" y="4653000"/>
            <a:ext cx="2532240" cy="192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0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70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dur="indefinite" fill="hold">
                            <p:stCondLst>
                              <p:cond delay="8500"/>
                            </p:stCondLst>
                            <p:childTnLst>
                              <p:par>
                                <p:cTn id="75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dur="indefinite" fill="hold">
                            <p:stCondLst>
                              <p:cond delay="10500"/>
                            </p:stCondLst>
                            <p:childTnLst>
                              <p:par>
                                <p:cTn id="79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435640" y="476280"/>
            <a:ext cx="3405240" cy="3529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3025800" cy="2017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2987640" y="2492280"/>
            <a:ext cx="2521080" cy="1890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5364000" y="4437000"/>
            <a:ext cx="2676600" cy="2008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250920" y="3357720"/>
            <a:ext cx="2490840" cy="317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dur="indefinite" fill="hold">
                      <p:stCondLst>
                        <p:cond delay="0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dur="indefinite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cp:revision>0</cp:revision>
  <dc:subject/>
  <dc:title>Природа озера Байкал</dc:title>
</cp:coreProperties>
</file>