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.gif" ContentType="image/gif"/>
  <Override PartName="/ppt/media/image19.jpeg" ContentType="image/jpeg"/>
  <Override PartName="/ppt/media/image6.wmf" ContentType="image/x-wmf"/>
  <Override PartName="/ppt/media/image12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5.jpeg" ContentType="image/jpeg"/>
  <Override PartName="/ppt/media/image11.wmf" ContentType="image/x-wmf"/>
  <Override PartName="/ppt/media/image5.jpeg" ContentType="image/jpeg"/>
  <Override PartName="/ppt/media/image4.wmf" ContentType="image/x-wmf"/>
  <Override PartName="/ppt/media/image15.wmf" ContentType="image/x-wmf"/>
  <Override PartName="/ppt/media/image14.jpeg" ContentType="image/jpeg"/>
  <Override PartName="/ppt/media/image28.gif" ContentType="image/gif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E7C-647F-451C-942A-B25B5F4B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0DF-6929-4C1C-9ED4-39B9A9A8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6B4-1E68-484C-9F34-E43B8F9C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758-EC0E-4E27-AE6E-F55908FA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F9F-DAE9-4AF6-A9CF-8B14831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2A1-D1A3-4D79-A545-A8622AC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FD9-3ED2-47C0-A409-B51A719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111-E8FD-433D-B96E-BEFAED1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08E-4A90-49EA-8A81-E3B73467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392-7DAC-43A7-8057-63CC2C1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9E2-05FB-439C-85CB-7049B52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001-1790-4C0D-AFE9-09CB0EA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CD7F-C485-4AB1-B242-125C23F48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medical-center.ru/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4436640"/>
            <a:ext cx="367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: учащаяся 11 «В» мед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ого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ноградова Виктория Алексе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учитель основ сестринского дела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пова Марина Леонид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476280"/>
            <a:ext cx="727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лицей №11 «Естественнонауч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34936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лергические осложнения применения лекарственных средст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4040" y="4076640"/>
            <a:ext cx="237780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ллерге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174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ницил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епто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трацик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ока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столбнячная сывор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87208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Что такое гистами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Гистамин – гормон местного действия. Вырабатывается специализированными клетками, расположенными в различных органах. Именно он реагирует на проникающие в организм аллергены. Выделяясь в каком - либо участке кожи , вызывает местное расширение кровеносных сосудов, зуд и б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стамин является местным регулятором кровоснабжения тканей. Любое местное напряжение мышц требует усиленного расширения капилляров. В ответ на недостаток кислорода в любом участке гистамин мгновенно освобождается и обеспечивает приток крови. В физиологических условиях гистамин не только регулирует тонус мелких кровеносных и лимфатических сосудов, но и стимулирует выделение слизи и секрета пищеварительных желез. Он участвует в формировании воспалительной реакции, отграничивающей повреждение и локализующей его оч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Возникновение зуда на месте микроскопического повреждения – это сигнал об опасности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0760" y="189000"/>
            <a:ext cx="64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истамин – причина алл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Аллергические осложнения при применении лекарственных средст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12880" y="1836720"/>
          <a:ext cx="786276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836720"/>
                    <a:ext cx="786276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Лекарственные препараты вызывающие аллергические реакции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16000" y="1628640"/>
          <a:ext cx="695160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516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2f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Виды аллергических реакций на введение лекарственных сред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З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Аллергический ри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ывороточная боле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Отек Кви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Анафилактический 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66544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8000" y="62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З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525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д является самой частой аллергической реакцией на лек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может быть распространенным или местным, постоянным или приступообразным, легким или мучительны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503440" cy="24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8000" y="62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Крапи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06720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284720" y="1341000"/>
            <a:ext cx="424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пивница характеризуется высыпанием на кожных покровах зудящих волдырей. Аллергическая крапивница развивается при попадании в организм различных аллергенов, при введении лек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5013360"/>
            <a:ext cx="73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длительности течения вы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страя крапивница (до 6 нед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хроническая крапив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1116000" y="1557360"/>
            <a:ext cx="2160720" cy="280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8000" y="62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Аллергический ри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306720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525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лергический ринит или аллергический насморк протекает в виде приступов, сопровождающихся беспрестанным чиханием, появлением обильных водянистых выделений из носа, слезотечением, зудом в области носа и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2049480" cy="1608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16720" y="371628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95640" y="5493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Сывороточная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306720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ой развития сывороточной болезни является введение лошадиной сыворотки – одного из компонентов противостолбнячной сыворотки. Аллергическая реакция начинает проявляться через 1-2 недели после введения препарата, но потом проявления нарастают очень быстро, при этом поражаются различные системы и ор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65708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сследования обусловлена необходимостью широкого информирования населения страны об опасности аллергических осложнений, возникающих при применении лекарственных средств в условиях всеобщей аллергизации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сследования является изучение проблемы аллергических осложнений, возникающих при применении лекарствен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сследования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 Поиск и обработка информации о медикаментозных осложн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 Систематизация современных данных об аллергических реакциях на лекарственные средства, способах их профилактики и 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 Изучение роли среднего медицинского работника в вопросе оказания первой медицинской помощи при аллергических реакциях на лекарственные сре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343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8000" y="62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тек Кв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06720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560" y="1268280"/>
            <a:ext cx="7417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к Квинке – это больших масштабов крапивница, которая характеризуется отеком дермы и подкожной клетчатки, иногда распространяется на мыш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левание развивается о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ниеносно появляются симптомы асфи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Отёк Квинке (нижняя губа)"/>
          <p:cNvPicPr/>
          <p:nvPr/>
        </p:nvPicPr>
        <p:blipFill>
          <a:blip r:embed="rId2"/>
          <a:stretch/>
        </p:blipFill>
        <p:spPr>
          <a:xfrm>
            <a:off x="2987640" y="3716280"/>
            <a:ext cx="3087720" cy="23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8000" y="62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Анафилактический 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06720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никает при внутривенном или внутримышечном введении лекарственных средств, особенно антибиотиков, сывороток, вакцин, белковых препарат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филактический шок развивается всегда очень быстро -  в течение нескольких секунд или минут после попадания аллерг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ются признаки нарушения сознания, падает артериальное давление, могут быть судороги, непроизвольное мочеиспуск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молниеносном течении шока наступает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512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187280" y="1268280"/>
          <a:ext cx="7272360" cy="5015160"/>
        </p:xfrm>
        <a:graphic>
          <a:graphicData uri="http://schemas.openxmlformats.org/drawingml/2006/table">
            <a:tbl>
              <a:tblPr/>
              <a:tblGrid>
                <a:gridCol w="5256360"/>
                <a:gridCol w="20160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ЛАШ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ци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миз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птомицина суль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а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ициллин со стрептомицина сульфа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ициллин со стрептомицина сульфатом и новокаи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ици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допи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етет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карбоксил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о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я хлор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86360" y="476280"/>
            <a:ext cx="87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арственные средства, как возможная причина Л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НЕ ЗАНИМАЙТЕСЬ САМОЛЕЧЕНИЕМ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д, причиняемый организму необоснованным применением лекарств огро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арства должны применяться только по назначению врача, после проведенного обследования и установления точного диагно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сконтрольное применение лекарственных препаратов без установления точного диагноза может нанести серьезный ущерб здоро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025800" cy="302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443640" y="4724280"/>
            <a:ext cx="1513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оретически аллергическую реакцию может вызвать любое лекарство у любого человека, практически она возникает из-за сравнительно немногих препаратов и преимущественно у тех, кто предрасположен к аллер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ажно помнить, что прием любых лекарственных средств, особенно это касается синтетических препаратов, без назначения врача крайне опа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889920"/>
            <a:ext cx="799128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результате  проведенного исследования сделаны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 Проблема лекарственной безопасности является проблемой мирового масшта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 Аллергические осложнения при применении лекарственных средств представляют опасность для паци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 Тенденция к увеличению опасных лекарственных осложнений зависит от ряда экзогенных и эндогенных факторов, среди которых основную роль играют аллергологическая конституция человека, его генетическая предрасположенность, медикаментозная политерапия и загрязнение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 Необходимо проводить активную работу по информированию населения по вопросам культуры применения лекарствен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сок использованных ресурс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иушко Е. И., Белозеров Е. С. «Медикаментозные осложнения». Изд. «Питер», Санкт-Петербург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ихайлов И. Б., Маркова И. В. «Чем можно заменить антибиотики». Изд. «Диля», Москва – Санкт-Петербург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опатин – Бремзен А. С. «Лекарственный шок». Изд. «Медпрактик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Полный лекарственный справочник медсестры». Изд. «Феникс», Ростов-на-Дону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сичкина Л. М. «Краткий справочник фармакологии и фармакотерапии». Изд. «Феникс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Ростов-на-Дону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урлович. «Основы фармакологии. Практикум». Изд. «Вышейная школа», Минск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Задворная О. Л., Турьянова М. Х. «Справочник медицинской сестры». Изд. «Новая волна – Оникс», Москв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кровский В. И. «Популярная медицинская энциклопедия». Изд. «Оникс», Москва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Журнал «Клиническая фармакология и терапия». 2006, 15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Журнал «АллергоКласс». 2005, 2(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nauka.reli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http://www.rls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edical-cent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08720" y="5805360"/>
            <a:ext cx="10512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00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92000" y="1628280"/>
            <a:ext cx="5472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лергия – это измененная форма иммунного ответа, которая проявляется в развитии специфической повышенной чувствительности организма к чужеродным веществам различного состава и происхождения (аллергена) в результате предшествующего контакта с этим вещ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249280" cy="333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24400" y="40464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такое аллер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241440" cy="352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е проявления алл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484280"/>
            <a:ext cx="475128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ся, что первая аллергическая реакция в ее самом опасном проявлении – анафилактический шок – зафиксирована 5 тысяч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аон Менее во время прогулки был укушен пчелой, что привело не только к мгновенному покраснению кожи, но и к удушью, которое стало причиной его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 давних пор аллергия все быстрее и быстрее распространяется по всему цивилизованно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е этот недуг может превратиться в сущее бед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8f8f8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ческий аспект проблемы побочного действия лек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3716280"/>
            <a:ext cx="7883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ервоначально учение о нежелательных эффектах лекарственных средств развивалось как представление о лекарственных сыпях, которые были главным образом, связаны с использованием препаратов ртути и б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благоприятным эффектам лекарственных средств стали уделять существенное внимание только в начале 90-х годов прошлого ве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6551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побочные действия лекарственных средств было обращено внимание более 100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желательные явления при применении лекарственных препаратов имели место еще в глубокой древности, причем обнаруживались врачами и больными «совершенно случайно» и долгое время не были предметом специальных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187164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838240" cy="2427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последние 30 лет каж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сятилетие по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болеваемости аллергией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 мире удваивались.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жителей Европы стр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ергическим ринитом, а в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данным эпидемиологических исследо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ность заболевания сост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-3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2015 г., если ученым и врачам не удас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ановить эпидемию аллергии, половина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ого континента будет страдать алл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ой или и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4c00"/>
            </a:gs>
            <a:gs pos="50000">
              <a:srgbClr val="cc9900"/>
            </a:gs>
            <a:gs pos="100000">
              <a:srgbClr val="664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дии течения аллерг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ая стадия – сенсибилиз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ход от нормальной реактивности к какому-либо веществу к повышенной. Длится от момента первичного попадания аллергена в организм до формирования иммунной реакции на этот аллер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ая стадия – разреш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никает на повторное попадание аллергена или на тот аллерген, который сохраняется в организме более 2 недель, в одних случаях развивается быстро, от нескольких секунд до 6 часов, в других случаях развивается медленно, от 24 до 48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тья стадия – десенсибилиз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врат к нормальной реактивности, (гиперчувствительность немедленного типа – ГНТ). В основе лежит гуморальный иммун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лассификация медикаментозных осложн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ипатия - вследствие необычно сильного действия лекарственного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теропатия - обусловлена противоестественным отношением наружных явлений к общему закону возбужд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атия - когда необыкновенные влияния не приводят в действие возбуждае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2f17"/>
            </a:gs>
            <a:gs pos="50000">
              <a:srgbClr val="996633"/>
            </a:gs>
            <a:gs pos="100000">
              <a:srgbClr val="462f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о скоростям развития аллергические реакции подразделяются на 3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Возникают мгновенно или в течении перв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Реакции подострого типа развиваются в течение первых су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Реакции затяжного типа, развиваются в течении нескольких суток, недели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07980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2:11:17Z</dcterms:created>
  <dc:creator>***</dc:creator>
  <dc:description/>
  <dc:language>en-US</dc:language>
  <cp:lastModifiedBy>Мама</cp:lastModifiedBy>
  <dcterms:modified xsi:type="dcterms:W3CDTF">2009-01-27T16:20:03Z</dcterms:modified>
  <cp:revision>190</cp:revision>
  <dc:subject/>
  <dc:title>Слайд 1</dc:title>
</cp:coreProperties>
</file>