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21BE-7F35-4E27-9778-F72A4B1F45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FDF-860C-44AB-9AE8-959E406C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56F-85F4-405F-BB93-E05FF8BE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724-9E8B-45C0-9B0C-4FE8F8C2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9D9-43C7-4CC1-B259-93E679EB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377-4CCE-442F-82F3-F8D7A026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0B1-5322-42CE-A3E5-FA768D76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FA7-E1D7-41CF-9683-C350CDC8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E0D-A235-4757-9061-A55E86A0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324-743B-4BEB-A588-DA01CFB6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67A-B5B9-4213-848B-00CA8C8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118-1297-442A-87E8-0BB68534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AEE-E79E-4542-A675-6B482A38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D127-D5BA-45B1-ADC0-3FF289864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34.xml"/><Relationship Id="rId18" Type="http://schemas.openxmlformats.org/officeDocument/2006/relationships/slide" Target="slide34.xml"/><Relationship Id="rId19" Type="http://schemas.openxmlformats.org/officeDocument/2006/relationships/slide" Target="slide26.xml"/><Relationship Id="rId20" Type="http://schemas.openxmlformats.org/officeDocument/2006/relationships/slide" Target="slide37.xml"/><Relationship Id="rId21" Type="http://schemas.openxmlformats.org/officeDocument/2006/relationships/slide" Target="slide38.xml"/><Relationship Id="rId22" Type="http://schemas.openxmlformats.org/officeDocument/2006/relationships/slide" Target="slide39.xml"/><Relationship Id="rId2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прав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ход к следующему слайду : щелчок  мыш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в приложении задач № 27, № 28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просмотра одного из вариантов решения необходимо щёлкнуть мыш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71640" y="198900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1989000"/>
            <a:ext cx="216036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4869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198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198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198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3200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132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132000" y="4076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32000" y="3499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32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320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3080" y="29973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4520" y="4941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54000" y="63972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числим площадь треугольника с заданными сторо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75120" y="2224080"/>
            <a:ext cx="34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строим  треуголь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   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60200" y="34480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*2=1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в. 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85680" y="4311720"/>
            <a:ext cx="33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10 : 2 = 5 (кв. 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41000" y="59500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главле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14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14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4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7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" presetSubtype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" presetSubtype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" presetSubtype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7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2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7">
                                  <p:stCondLst>
                                    <p:cond delay="8800"/>
                                  </p:stCondLst>
                                  <p:iterate type="lt">
                                    <p:tmAbs val="252.439023971558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9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9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9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7">
                                  <p:stCondLst>
                                    <p:cond delay="10500"/>
                                  </p:stCondLst>
                                  <p:iterate type="lt">
                                    <p:tmAbs val="55.5555481910706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9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9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9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7">
                                  <p:stCondLst>
                                    <p:cond delay="12700"/>
                                  </p:stCondLst>
                                  <p:iterate type="lt">
                                    <p:tmAbs val="48.0000268936157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7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7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7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" presetSubtype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" presetSubtype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" presetSubtype="10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" presetSubtype="10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" presetSubtype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" presetSubtype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" presetSubtype="10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" presetSubtype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" presetSubtype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" presetSubtype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" presetSubtype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7">
                                  <p:stCondLst>
                                    <p:cond delay="21200"/>
                                  </p:stCondLst>
                                  <p:iterate type="lt">
                                    <p:tmAbs val="48.6250436782837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10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10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0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7">
                                  <p:stCondLst>
                                    <p:cond delay="22600"/>
                                  </p:stCondLst>
                                  <p:iterate type="lt">
                                    <p:tmAbs val="158.333508491516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19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19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9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лощадь произв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55897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971640" y="2708280"/>
            <a:ext cx="216036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2708280"/>
            <a:ext cx="1440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3200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2708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2708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708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2708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2708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1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72000" y="5445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4880" y="5589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7440" y="5589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7656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69800" y="44830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4508640"/>
            <a:ext cx="720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4800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8520" y="4076640"/>
            <a:ext cx="6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72920" y="2152800"/>
            <a:ext cx="27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( 3*4): 2 = 6 (кв.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(2*4) : 2 = 4 (кв.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48360" y="4653000"/>
            <a:ext cx="31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= 6 + 4 =10 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в.с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92720" y="342900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 = 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81440" y="61657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5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1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1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4220"/>
                            </p:stCondLst>
                            <p:childTnLst>
                              <p:par>
                                <p:cTn id="10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79560" y="5597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979560" y="2716200"/>
            <a:ext cx="216036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9920" y="2716200"/>
            <a:ext cx="1440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39920" y="271620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9560" y="27162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55920" y="27162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1920" y="27162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8280" y="27162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9560" y="2789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9560" y="3436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9560" y="4157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9560" y="4805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9560" y="5381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39920" y="27162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16280" y="2716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19560" y="2716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9920" y="2789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9920" y="32925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9920" y="3868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9920" y="4444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9920" y="502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579920" y="54529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84480" y="3960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52640" y="5597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1484280"/>
            <a:ext cx="36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.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9920" y="5381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55920" y="5381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9720" y="4084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36000" y="1916280"/>
            <a:ext cx="165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08720" y="1268280"/>
            <a:ext cx="5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85080" y="1557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738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742520" y="184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801280" y="155736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02720" y="3448080"/>
            <a:ext cx="32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 – сторона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осн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74360" y="431316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а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9360" y="40845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476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ощадь произвольного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17360" y="616572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7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400"/>
                            </p:stCondLst>
                            <p:childTnLst>
                              <p:par>
                                <p:cTn id="1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6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19280" y="83664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лощадь квад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2060640"/>
            <a:ext cx="2859120" cy="2881080"/>
          </a:xfrm>
          <a:prstGeom prst="rect">
            <a:avLst/>
          </a:prstGeom>
          <a:solidFill>
            <a:srgbClr val="00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1080" y="3141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97080" y="17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68920" y="2627280"/>
            <a:ext cx="175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= a *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780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813720" y="609300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главлени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2040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6" dur="2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7" dur="2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2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040"/>
                            </p:stCondLst>
                            <p:childTnLst>
                              <p:par>
                                <p:cTn id="1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5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0" dur="1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1" dur="1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dur="1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5" dur="2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6" dur="2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7" dur="2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0" dur="18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1" dur="18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18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5" dur="1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6" dur="1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836360" y="692280"/>
            <a:ext cx="47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лощадь трап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971280" y="2491920"/>
            <a:ext cx="3600360" cy="2160720"/>
          </a:xfrm>
          <a:custGeom>
            <a:avLst/>
            <a:gdLst>
              <a:gd name="textAreaLeft" fmla="*/ 760680 w 3600360"/>
              <a:gd name="textAreaRight" fmla="*/ 2839680 w 3600360"/>
              <a:gd name="textAreaTop" fmla="*/ 456480 h 2160720"/>
              <a:gd name="textAreaBottom" fmla="*/ 17042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34" y="21600"/>
                </a:lnTo>
                <a:lnTo>
                  <a:pt x="5066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35280" y="2492280"/>
            <a:ext cx="18730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180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2144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6616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7640" y="45086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03640" y="1916280"/>
            <a:ext cx="367200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CD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делим данную трапецию на три фигуры : прямо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два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тогда получа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H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CMH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(4*2):2+(3*4)+(3*4)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22 (кв.с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20720" y="465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3800" y="4653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6580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944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9780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35280" y="2492280"/>
            <a:ext cx="1873080" cy="216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08360" y="2492280"/>
            <a:ext cx="934920" cy="216072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 rot="10800000">
            <a:off x="971280" y="2492280"/>
            <a:ext cx="863640" cy="2160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5780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04000" y="623736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главле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4" dur="1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5" dur="1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6" dur="1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2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5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6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1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440"/>
                            </p:stCondLst>
                            <p:childTnLst>
                              <p:par>
                                <p:cTn id="1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8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6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1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020"/>
                            </p:stCondLst>
                            <p:childTnLst>
                              <p:par>
                                <p:cTn id="1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7" dur="1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8" dur="1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18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2" dur="1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3" dur="1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4" dur="18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7" dur="1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8" dur="1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1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5" dur="1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6" dur="1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7" dur="1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7060"/>
                            </p:stCondLst>
                            <p:childTnLst>
                              <p:par>
                                <p:cTn id="1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60"/>
                            </p:stCondLst>
                            <p:childTnLst>
                              <p:par>
                                <p:cTn id="1366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0060"/>
                            </p:stCondLst>
                            <p:childTnLst>
                              <p:par>
                                <p:cTn id="137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0560"/>
                            </p:stCondLst>
                            <p:childTnLst>
                              <p:par>
                                <p:cTn id="137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9" dur="1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0" dur="1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1" dur="18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4" dur="1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5" dur="1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8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9" dur="18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0" dur="18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1" dur="18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3080"/>
                            </p:stCondLst>
                            <p:childTnLst>
                              <p:par>
                                <p:cTn id="1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5" dur="18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6" dur="18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7" dur="18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35280" y="765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лощадь ром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9640" y="1916280"/>
            <a:ext cx="2592360" cy="43210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4076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35280" y="191628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0720" y="378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93800" y="1628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33440" y="386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20720" y="6237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08560" y="1982880"/>
            <a:ext cx="42670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CD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=BC=CD=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=O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AO=O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мб диагоналями делится на 4 равных прямоугольных треуголь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омб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омб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 4S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B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(a*b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омб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4*(a*b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учим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S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ромба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=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*(a*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63640" y="3716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1916280"/>
            <a:ext cx="1296720" cy="216036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172640" y="630864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главле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20"/>
                            </p:stCondLst>
                            <p:childTnLst>
                              <p:par>
                                <p:cTn id="140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2520"/>
                            </p:stCondLst>
                            <p:childTnLst>
                              <p:par>
                                <p:cTn id="1412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4520"/>
                            </p:stCondLst>
                            <p:childTnLst>
                              <p:par>
                                <p:cTn id="14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6520"/>
                            </p:stCondLst>
                            <p:childTnLst>
                              <p:par>
                                <p:cTn id="1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2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3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4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6600"/>
                            </p:stCondLst>
                            <p:childTnLst>
                              <p:par>
                                <p:cTn id="1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6680"/>
                            </p:stCondLst>
                            <p:childTnLst>
                              <p:par>
                                <p:cTn id="1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4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6760"/>
                            </p:stCondLst>
                            <p:childTnLst>
                              <p:par>
                                <p:cTn id="14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2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6840"/>
                            </p:stCondLst>
                            <p:childTnLst>
                              <p:par>
                                <p:cTn id="14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1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2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6" dur="8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7" dur="8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8" dur="8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9360"/>
                            </p:stCondLst>
                            <p:childTnLst>
                              <p:par>
                                <p:cTn id="1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2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3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4" dur="8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8" dur="8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9" dur="8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1720"/>
                            </p:stCondLst>
                            <p:childTnLst>
                              <p:par>
                                <p:cTn id="1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2220"/>
                            </p:stCondLst>
                            <p:childTnLst>
                              <p:par>
                                <p:cTn id="1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6" dur="7728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0" dur="8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1" dur="8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9948"/>
                            </p:stCondLst>
                            <p:childTnLst>
                              <p:par>
                                <p:cTn id="1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0" dur="8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2" dur="8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20468"/>
                            </p:stCondLst>
                            <p:childTnLst>
                              <p:par>
                                <p:cTn id="149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968"/>
                            </p:stCondLst>
                            <p:childTnLst>
                              <p:par>
                                <p:cTn id="1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0" dur="8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2" dur="8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1488"/>
                            </p:stCondLst>
                            <p:childTnLst>
                              <p:par>
                                <p:cTn id="1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6" dur="8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8" dur="8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2168"/>
                            </p:stCondLst>
                            <p:childTnLst>
                              <p:par>
                                <p:cTn id="1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2" dur="8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3" dur="8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4" dur="8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2528"/>
                            </p:stCondLst>
                            <p:childTnLst>
                              <p:par>
                                <p:cTn id="15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7" dur="8352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0" dur="28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1" dur="28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2" dur="28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лощадь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1989000"/>
            <a:ext cx="3095640" cy="2087640"/>
          </a:xfrm>
          <a:prstGeom prst="parallelogram">
            <a:avLst>
              <a:gd name="adj" fmla="val 37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1989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899280" y="1989000"/>
            <a:ext cx="792360" cy="20876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92360" y="1989000"/>
            <a:ext cx="2303280" cy="2087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57800" y="155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92360" y="2637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00720" y="2421000"/>
            <a:ext cx="441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орона параллелограм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го вы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= a *h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53880" y="611352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fill="hold">
                      <p:stCondLst>
                        <p:cond delay="0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9" dur="2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0" dur="2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2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300"/>
                            </p:stCondLst>
                            <p:childTnLst>
                              <p:par>
                                <p:cTn id="15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43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4380"/>
                            </p:stCondLst>
                            <p:childTnLst>
                              <p:par>
                                <p:cTn id="1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4880"/>
                            </p:stCondLst>
                            <p:childTnLst>
                              <p:par>
                                <p:cTn id="1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0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1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2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4960"/>
                            </p:stCondLst>
                            <p:childTnLst>
                              <p:par>
                                <p:cTn id="1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460"/>
                            </p:stCondLst>
                            <p:childTnLst>
                              <p:par>
                                <p:cTn id="15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5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7460"/>
                            </p:stCondLst>
                            <p:childTnLst>
                              <p:par>
                                <p:cTn id="15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7960"/>
                            </p:stCondLst>
                            <p:childTnLst>
                              <p:par>
                                <p:cTn id="156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8460"/>
                            </p:stCondLst>
                            <p:childTnLst>
                              <p:par>
                                <p:cTn id="1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9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0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1" dur="8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7">
                                  <p:stCondLst>
                                    <p:cond delay="6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4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5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6" dur="8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48320" y="260280"/>
            <a:ext cx="6302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задачи из учебников 3 и 4 кл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2133720"/>
            <a:ext cx="360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№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№ 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№3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№ 4 , № 5 ,№ 6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№ 7 , №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№9, № 10, №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№12, №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№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№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№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35640" y="1773360"/>
            <a:ext cx="246852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2.Задача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№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3.Задача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4.Задача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№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5.Задача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№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6.Задача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№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7.Задача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№ 2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8.Задача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№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№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0. 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№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1. 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№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2. Задач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№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66880" y="62373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400"/>
                            </p:stCondLst>
                            <p:childTnLst>
                              <p:par>
                                <p:cTn id="1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1900"/>
                            </p:stCondLst>
                            <p:childTnLst>
                              <p:par>
                                <p:cTn id="1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400"/>
                            </p:stCondLst>
                            <p:childTnLst>
                              <p:par>
                                <p:cTn id="1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9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6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3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3400"/>
                            </p:stCondLst>
                            <p:childTnLst>
                              <p:par>
                                <p:cTn id="16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7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900"/>
                            </p:stCondLst>
                            <p:childTnLst>
                              <p:par>
                                <p:cTn id="16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1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4400"/>
                            </p:stCondLst>
                            <p:childTnLst>
                              <p:par>
                                <p:cTn id="16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4900"/>
                            </p:stCondLst>
                            <p:childTnLst>
                              <p:par>
                                <p:cTn id="16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5400"/>
                            </p:stCondLst>
                            <p:childTnLst>
                              <p:par>
                                <p:cTn id="16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5900"/>
                            </p:stCondLst>
                            <p:childTnLst>
                              <p:par>
                                <p:cTn id="1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6400"/>
                            </p:stCondLst>
                            <p:childTnLst>
                              <p:par>
                                <p:cTn id="16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6900"/>
                            </p:stCondLst>
                            <p:childTnLst>
                              <p:par>
                                <p:cTn id="16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5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7400"/>
                            </p:stCondLst>
                            <p:childTnLst>
                              <p:par>
                                <p:cTn id="16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9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7900"/>
                            </p:stCondLst>
                            <p:childTnLst>
                              <p:par>
                                <p:cTn id="16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8400"/>
                            </p:stCondLst>
                            <p:childTnLst>
                              <p:par>
                                <p:cTn id="16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7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8900"/>
                            </p:stCondLst>
                            <p:childTnLst>
                              <p:par>
                                <p:cTn id="16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9400"/>
                            </p:stCondLst>
                            <p:childTnLst>
                              <p:par>
                                <p:cTn id="16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5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9" dur="5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0400"/>
                            </p:stCondLst>
                            <p:childTnLst>
                              <p:par>
                                <p:cTn id="16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3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0900"/>
                            </p:stCondLst>
                            <p:childTnLst>
                              <p:par>
                                <p:cTn id="16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7" dur="5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1900"/>
                            </p:stCondLst>
                            <p:childTnLst>
                              <p:par>
                                <p:cTn id="16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2400"/>
                            </p:stCondLst>
                            <p:childTnLst>
                              <p:par>
                                <p:cTn id="16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9139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1) Найди площадь каждого прямоугольн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2421000"/>
            <a:ext cx="934920" cy="19447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198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24000" y="2492280"/>
            <a:ext cx="1727280" cy="194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2655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80000" y="280044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45800" y="20606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2997360"/>
            <a:ext cx="2160720" cy="7207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82520" y="263700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141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5589720"/>
            <a:ext cx="0" cy="718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589720"/>
            <a:ext cx="1440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12000" y="4869000"/>
            <a:ext cx="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2000" y="4869000"/>
            <a:ext cx="21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72360" y="4869000"/>
            <a:ext cx="0" cy="143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6308640"/>
            <a:ext cx="360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95600" y="45086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6520" y="494172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34880" y="522936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95640" y="5734080"/>
            <a:ext cx="7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7080" y="4940280"/>
            <a:ext cx="372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2) Рассмотри рисун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редложи с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способ опред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лоща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данн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81360" y="63086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fill="hold">
                      <p:stCondLst>
                        <p:cond delay="0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7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8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8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8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8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7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8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5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4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4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3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5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6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0" dur="8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8" dur="8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9" dur="8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8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8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3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6" dur="8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7" dur="8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8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8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3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8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8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8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8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30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2" dur="8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3" dur="8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8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8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3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8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8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8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8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9500"/>
                            </p:stCondLst>
                            <p:childTnLst>
                              <p:par>
                                <p:cTn id="18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8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8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6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8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8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0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8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3" dur="8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8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581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а) Подчеркни тот который тебе кажется самым лучшим. Объясни свой выбор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8760" y="5032440"/>
            <a:ext cx="898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б)Начерти другую фигуру для которой самым удобным будет тот же способ. Найди её площ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8760" y="5681520"/>
            <a:ext cx="898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)Попробуй начертить фигуру для которой тот же способ не будет самым удоб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1989000"/>
            <a:ext cx="1441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92360" y="198900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1989000"/>
            <a:ext cx="0" cy="216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0920" y="4149720"/>
            <a:ext cx="4321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92360" y="2708280"/>
            <a:ext cx="2158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851280" y="1916280"/>
            <a:ext cx="0" cy="792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51280" y="1916280"/>
            <a:ext cx="720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1916280"/>
            <a:ext cx="0" cy="2232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6880" y="155736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18880" y="27082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51280" y="155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6880" y="22766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19280" y="1989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8440" y="765000"/>
            <a:ext cx="60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йди площад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фигуры разными способ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54080" y="63086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8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3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476280"/>
            <a:ext cx="7993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"/>
              </a:rPr>
              <a:t>«Нахождение площади плоских фигур через площадь прямоугольни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43480" y="4233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72428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3680" y="4214880"/>
            <a:ext cx="561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ь работы : оказать помощь учит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чальных классов в проведении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тематики , по заданной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480"/>
                            </p:stCondLst>
                            <p:childTnLst>
                              <p:par>
                                <p:cTn id="2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987640" y="476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Задач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71640" y="1268280"/>
            <a:ext cx="6480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71640" y="1268280"/>
            <a:ext cx="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1989000"/>
            <a:ext cx="1439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71640" y="1989000"/>
            <a:ext cx="1439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11280" y="1989000"/>
            <a:ext cx="0" cy="719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11280" y="2708280"/>
            <a:ext cx="1008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19640" y="2708280"/>
            <a:ext cx="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19640" y="3429000"/>
            <a:ext cx="40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451640" y="1268280"/>
            <a:ext cx="0" cy="216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2200" y="424008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йди площадь многоугольника разными способами(для каждого способа сделай новый чертёж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строй прямоугольник, площадь которого равна площади данного прям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35900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16000" y="2079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8000" y="207972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278136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75480" y="171936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00560" y="337500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25720" y="63086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0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8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5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6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8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4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7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8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5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3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8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1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9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7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2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3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1" dur="8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2" dur="8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8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8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0" dur="8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1" dur="8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8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8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50920" y="549360"/>
            <a:ext cx="8642160" cy="136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48200" y="42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2360" y="189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2637000"/>
            <a:ext cx="4249800" cy="28080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61280" y="26557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ча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5013360"/>
            <a:ext cx="41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31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7320" y="3068640"/>
            <a:ext cx="4272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иша утверждает, что площа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ямоугольника в 6 раз бо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лощади квадрата. А площа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вадрата в 6 раз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лощади прямоугольника.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то проверить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9280" y="2637000"/>
            <a:ext cx="3960720" cy="28080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86880" y="27082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ча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92720" y="31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04640" y="3135240"/>
            <a:ext cx="398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лощадь прямоуго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вна 24 кв. см. Какими мог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ыть его длина и ширин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черти эти прямоуголь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вычисли их периметр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549360"/>
            <a:ext cx="8642160" cy="18000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08360" y="549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ча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981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лощадь прямоугольника равна 42 кв. дм. Чему равна длина прямоугольника, если его ширина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д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81360" y="616572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106" dur="indefinite" restart="never" nodeType="tmRoot">
          <p:childTnLst>
            <p:seq>
              <p:cTn id="2107" dur="indefinite" nodeType="mainSeq">
                <p:childTnLst>
                  <p:par>
                    <p:cTn id="2108" fill="hold">
                      <p:stCondLst>
                        <p:cond delay="0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34440" y="692280"/>
            <a:ext cx="5328720" cy="1740240"/>
          </a:xfrm>
          <a:prstGeom prst="rect">
            <a:avLst/>
          </a:prstGeom>
          <a:solidFill>
            <a:srgbClr val="ffff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Площадь прямоугольника равна 30 кв. с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Каким может быть его перимет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850560" y="2708280"/>
            <a:ext cx="401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14440" y="2781360"/>
            <a:ext cx="5766120" cy="2045160"/>
          </a:xfrm>
          <a:prstGeom prst="rect">
            <a:avLst/>
          </a:prstGeom>
          <a:solidFill>
            <a:srgbClr val="ffff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Площадь прямоугольника равна 24 кв.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Какими могут быть его длина и ширин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Начерти эти прямоугольники и вычи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их периме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09720" y="616572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4" dur="8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5" dur="8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8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8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8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3" dur="8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8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8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5" dur="8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6" dur="8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8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8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8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8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8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8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8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3" dur="8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8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8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8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1" dur="8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8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8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8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9" dur="8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8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8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50920" y="549360"/>
            <a:ext cx="4321080" cy="21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71840" y="4716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дача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7080" y="7128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ериметр прямоугольника 38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умма длина трёх его сторон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2см. Чему равна площадь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ямоугольни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549360"/>
            <a:ext cx="4356000" cy="21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300720" y="47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дача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914720" y="712800"/>
            <a:ext cx="40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черти прямоугольник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ибольшей площадью, есл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ериметр 12см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429000"/>
            <a:ext cx="889308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19640" y="3429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ча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716280"/>
            <a:ext cx="85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лощадь прямоугольника 18 кв. см. Каким может быть периметр этой фигу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65360" y="609300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224" dur="indefinite" restart="never" nodeType="tmRoot">
          <p:childTnLst>
            <p:seq>
              <p:cTn id="2225" dur="indefinite" nodeType="mainSeq">
                <p:childTnLst>
                  <p:par>
                    <p:cTn id="2226" fill="hold">
                      <p:stCondLst>
                        <p:cond delay="0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50920" y="549360"/>
            <a:ext cx="4897440" cy="25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32000" y="47628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031840" y="47160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дача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981000"/>
            <a:ext cx="468144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лощадь первого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4 кв. см, площадь второго в 2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еньше. Длины этих фиг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динаковы. Чему равна ши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ервого прямоугольника, 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ширина второго 2см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51280" y="3429000"/>
            <a:ext cx="3600360" cy="208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19640" y="33321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дача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06360" y="3665520"/>
            <a:ext cx="335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лина прямоугольника в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за больше ширины. Ч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вна площа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ямоугольника, есл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ериметр 24см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33360" y="617220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284" dur="indefinite" restart="never" nodeType="tmRoot">
          <p:childTnLst>
            <p:seq>
              <p:cTn id="2285" dur="indefinite" nodeType="mainSeq">
                <p:childTnLst>
                  <p:par>
                    <p:cTn id="2286" fill="hold">
                      <p:stCondLst>
                        <p:cond delay="0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1557360"/>
            <a:ext cx="2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0000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27280" y="115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69320" y="0"/>
            <a:ext cx="8572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1) Начерти прямоугольник А,В,С,Д, и проведи отрезок А,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58920" y="1197000"/>
            <a:ext cx="3166920" cy="863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26920" y="1197000"/>
            <a:ext cx="32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52920" y="107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52920" y="186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00720" y="10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9440" y="18446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87280" y="234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200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00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258920" y="1196640"/>
            <a:ext cx="3168720" cy="86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2920" y="2492280"/>
            <a:ext cx="7802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) Отрезок АС- диагональ прям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3) На какие фигуры диагональ разделила прямо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Чем они замечатель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4)  Вырежи из бумаги любой прямоугольник, разрежь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по диагонали и убедись, что треугольники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5) Найди площадь прямоугольника АВС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6) Чему равна площадь треугольника АВС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80200" y="1982880"/>
            <a:ext cx="6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26720" y="1360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44360" y="14940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а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81360" y="63086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317" dur="indefinite" restart="never" nodeType="tmRoot">
          <p:childTnLst>
            <p:seq>
              <p:cTn id="2318" dur="indefinite" nodeType="mainSeq">
                <p:childTnLst>
                  <p:par>
                    <p:cTn id="2319" fill="hold">
                      <p:stCondLst>
                        <p:cond delay="0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7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5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9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3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3" dur="2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7" dur="2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0" dur="20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4" dur="200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7" dur="2000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1" dur="2000"/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5" dur="2000"/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900000" y="595440"/>
            <a:ext cx="35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Рассмотри чертеж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92360" y="1268280"/>
            <a:ext cx="2879640" cy="72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32000" y="1865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86000" y="9032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02520" y="882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0" y="1700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71640" y="27813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ты назовешь сторону МК? А сторону М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Р- а-длина ( основание, а)  МК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ширина(высота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a*b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a*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8164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68200" y="136044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68920" y="1260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дача 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38440" y="616572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386" dur="indefinite" restart="never" nodeType="tmRoot">
          <p:childTnLst>
            <p:seq>
              <p:cTn id="2387" dur="indefinite" nodeType="mainSeq">
                <p:childTnLst>
                  <p:par>
                    <p:cTn id="2388" fill="hold">
                      <p:stCondLst>
                        <p:cond delay="0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2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3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4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400"/>
                            </p:stCondLst>
                            <p:childTnLst>
                              <p:par>
                                <p:cTn id="239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1650"/>
                            </p:stCondLst>
                            <p:childTnLst>
                              <p:par>
                                <p:cTn id="24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fill="hold">
                            <p:stCondLst>
                              <p:cond delay="2150"/>
                            </p:stCondLst>
                            <p:childTnLst>
                              <p:par>
                                <p:cTn id="24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650"/>
                            </p:stCondLst>
                            <p:childTnLst>
                              <p:par>
                                <p:cTn id="24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150"/>
                            </p:stCondLst>
                            <p:childTnLst>
                              <p:par>
                                <p:cTn id="24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3650"/>
                            </p:stCondLst>
                            <p:childTnLst>
                              <p:par>
                                <p:cTn id="24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4150"/>
                            </p:stCondLst>
                            <p:childTnLst>
                              <p:par>
                                <p:cTn id="243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9500"/>
                            </p:stCondLst>
                            <p:childTnLst>
                              <p:par>
                                <p:cTn id="24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764000" y="404640"/>
            <a:ext cx="5190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) Начерти такой много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50920" y="1989000"/>
            <a:ext cx="144144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92360" y="1989000"/>
            <a:ext cx="360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292720" y="1268280"/>
            <a:ext cx="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3429000"/>
            <a:ext cx="6481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2520" y="3592440"/>
            <a:ext cx="857052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) Раздели многоугольник на такие части, чтобы удобно было найд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лоща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) Постарайся найти несколько разных способов разби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ногоугольника на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) Выполни необходимые измерение найди площадь много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) Запиши формулы, которые были тобой использов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) Начерти другую фигуру, для определение площади кото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требуются те же формул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732720" y="1268280"/>
            <a:ext cx="0" cy="216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92720" y="1268280"/>
            <a:ext cx="1440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18160" y="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адача 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54080" y="63086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2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5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9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2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6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0" dur="500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4" dur="500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7" dur="500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49480" y="476280"/>
            <a:ext cx="772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черти   многоугольник и найди его площ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71640" y="1268280"/>
            <a:ext cx="504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71640" y="1268280"/>
            <a:ext cx="143964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971280" y="2708280"/>
            <a:ext cx="1439640" cy="144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71640" y="4149720"/>
            <a:ext cx="504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012000" y="2708280"/>
            <a:ext cx="1439640" cy="144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1268280"/>
            <a:ext cx="143964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3320" y="445608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Объясни способ выполнения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5640" y="4941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Верно ли, что при определении площади многоугольника его разделили на фигуры, площади которых ты уже умеешь находить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65800" y="18900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Задача 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425720" y="62373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518" dur="indefinite" restart="never" nodeType="tmRoot">
          <p:childTnLst>
            <p:seq>
              <p:cTn id="2519" dur="indefinite" nodeType="mainSeq">
                <p:childTnLst>
                  <p:par>
                    <p:cTn id="2520" fill="hold">
                      <p:stCondLst>
                        <p:cond delay="0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4" dur="8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5" dur="8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8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8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8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6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2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74280" y="307800"/>
            <a:ext cx="80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 Подумай, как можно определить площади треугольников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990360" y="2112840"/>
            <a:ext cx="1439640" cy="216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90720" y="4273560"/>
            <a:ext cx="3528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430360" y="2112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30360" y="2112840"/>
            <a:ext cx="2089080" cy="216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308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270520" y="17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00720" y="400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43440" y="4273560"/>
            <a:ext cx="2880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19440" y="2833560"/>
            <a:ext cx="122400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19440" y="2833560"/>
            <a:ext cx="410400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2144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429080" y="2421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53452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108440" y="5229360"/>
            <a:ext cx="628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 Если у тебя возникли трудности, постарай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зделить каждый из них на прямоуг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треугольник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9080" y="1411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Задача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65360" y="616572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577" dur="indefinite" restart="never" nodeType="tmRoot">
          <p:childTnLst>
            <p:seq>
              <p:cTn id="2578" dur="indefinite" nodeType="mainSeq">
                <p:childTnLst>
                  <p:par>
                    <p:cTn id="2579" fill="hold">
                      <p:stCondLst>
                        <p:cond delay="0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8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4" dur="8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8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8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2" dur="8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3" dur="8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8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8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1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2" dur="4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4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9" dur="1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0" dur="4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4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8" dur="4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4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4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4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6" dur="4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4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4" dur="4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4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8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2" dur="8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8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8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0" dur="8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1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9" dur="8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0" dur="8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8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8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8" dur="8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8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7" dur="8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8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8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6" dur="8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7" dur="8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mercialScript BT"/>
              </a:rPr>
              <a:t>Оглавл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Площадь 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частный случай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№1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№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б) Общий случа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Примеры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№1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Площадь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) прямоугольного треуголь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) Вычислим площадь треугольника с заданным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оро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б)произвольного треугольника (частный случай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)Общий случай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3. Площадь квадра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4. Площадь трапе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5. Площадь ромб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6. Площадь параллелограм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7. Приложение (задачи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8. Об авто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9. Литер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1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1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9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45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33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93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3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41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61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21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65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41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1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77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53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17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21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9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57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972360" y="134136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) Рассмотри черте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92160" y="3770280"/>
            <a:ext cx="216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992160" y="2330280"/>
            <a:ext cx="72072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71800" y="3770280"/>
            <a:ext cx="3673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871800" y="2330280"/>
            <a:ext cx="144144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13240" y="2330280"/>
            <a:ext cx="223200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60520" y="348300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3416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81960" y="3409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13240" y="3338640"/>
            <a:ext cx="5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84880" y="191916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12880" y="2330280"/>
            <a:ext cx="0" cy="1440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313240" y="2330280"/>
            <a:ext cx="0" cy="1440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49800" y="378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241960" y="3795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8720" y="4653000"/>
            <a:ext cx="713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чём особенность отрезков ВД и 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Отрезки ВД и КЕ- высоты тре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Найди площади треугольников АВС и МК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12880" y="362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55800" y="362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313240" y="362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456160" y="362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12880" y="2330280"/>
            <a:ext cx="144000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545240" y="328608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88000" y="376200"/>
            <a:ext cx="22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адача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534800" y="630864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712" dur="indefinite" restart="never" nodeType="tmRoot">
          <p:childTnLst>
            <p:seq>
              <p:cTn id="2713" dur="indefinite" nodeType="mainSeq">
                <p:childTnLst>
                  <p:par>
                    <p:cTn id="2714" fill="hold">
                      <p:stCondLst>
                        <p:cond delay="0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8" dur="8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9" dur="8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8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8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7" dur="2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1" dur="8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2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0" dur="8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1" dur="8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8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8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9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0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2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6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0" dur="8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1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9" dur="8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0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8" dur="8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9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5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8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8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8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8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8" dur="8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9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27000"/>
                            </p:stCondLst>
                            <p:childTnLst>
                              <p:par>
                                <p:cTn id="2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5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9" dur="8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0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8" dur="8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9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4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7" dur="8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8" dur="8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8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8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6" dur="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7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8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5" dur="20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fill="hold">
                            <p:stCondLst>
                              <p:cond delay="35000"/>
                            </p:stCondLst>
                            <p:childTnLst>
                              <p:par>
                                <p:cTn id="2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9" dur="20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26920" y="1413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Найди площадь четырёхугольник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92360" y="4149720"/>
            <a:ext cx="360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32000" y="2708280"/>
            <a:ext cx="360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692000" y="2708280"/>
            <a:ext cx="1438200" cy="144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292720" y="2708280"/>
            <a:ext cx="144000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5157720"/>
            <a:ext cx="72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Сделай чертёж, соответствующий твоему способу определения его площ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12560" y="13500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а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0920" y="2708280"/>
            <a:ext cx="720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8360" y="215100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1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0920" y="1989000"/>
            <a:ext cx="720072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2708280"/>
            <a:ext cx="720072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0920" y="3429000"/>
            <a:ext cx="720072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0920" y="4149720"/>
            <a:ext cx="727380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920" y="4869000"/>
            <a:ext cx="720072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971640" y="1268280"/>
            <a:ext cx="0" cy="3745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92360" y="1268280"/>
            <a:ext cx="0" cy="381636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410920" y="1268280"/>
            <a:ext cx="73080" cy="3772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32000" y="1268280"/>
            <a:ext cx="0" cy="3745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1268280"/>
            <a:ext cx="0" cy="3745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1341360"/>
            <a:ext cx="0" cy="36720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92720" y="1268280"/>
            <a:ext cx="0" cy="3745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12000" y="1268280"/>
            <a:ext cx="0" cy="3745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59640" y="1268280"/>
            <a:ext cx="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32720" y="1341360"/>
            <a:ext cx="0" cy="360036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734880" y="60991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880" dur="indefinite" restart="never" nodeType="tmRoot">
          <p:childTnLst>
            <p:seq>
              <p:cTn id="2881" dur="indefinite" nodeType="mainSeq">
                <p:childTnLst>
                  <p:par>
                    <p:cTn id="2882" fill="hold">
                      <p:stCondLst>
                        <p:cond delay="0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6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0" dur="8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1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8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0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8" dur="8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9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8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8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6" dur="8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7" dur="8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8" dur="8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8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5" dur="8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6" dur="8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8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8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4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023840" y="68724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равни свой способ с таки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71640" y="1268280"/>
            <a:ext cx="21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1989000"/>
            <a:ext cx="21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50920" y="1268280"/>
            <a:ext cx="72072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411280" y="1268280"/>
            <a:ext cx="72072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71640" y="1268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411280" y="1268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851280" y="1268280"/>
            <a:ext cx="216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132000" y="1989000"/>
            <a:ext cx="216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132000" y="1268280"/>
            <a:ext cx="71928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292720" y="1268280"/>
            <a:ext cx="71928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132000" y="1268280"/>
            <a:ext cx="2880000" cy="72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51640" y="1268280"/>
            <a:ext cx="144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1989000"/>
            <a:ext cx="1439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732360" y="1268280"/>
            <a:ext cx="718920" cy="7207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172360" y="1268280"/>
            <a:ext cx="72072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32720" y="1268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32720" y="1268280"/>
            <a:ext cx="718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893080" y="1268280"/>
            <a:ext cx="0" cy="7207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172360" y="1989000"/>
            <a:ext cx="720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042920" y="285264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йди площадь четырёхугольника каждым из данных спосо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ие знания использованы в каждом из 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89440" y="18900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а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166520" y="602136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991" dur="indefinite" restart="never" nodeType="tmRoot">
          <p:childTnLst>
            <p:seq>
              <p:cTn id="2992" dur="indefinite" nodeType="mainSeq">
                <p:childTnLst>
                  <p:par>
                    <p:cTn id="2993" fill="hold">
                      <p:stCondLst>
                        <p:cond delay="0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7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1" dur="8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2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0" dur="8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1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8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0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2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8" dur="8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9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1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5" dur="8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6" dur="8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7" dur="8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8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8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5" dur="8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8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8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3" dur="8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4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6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2" dur="8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3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4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5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8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2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0" dur="8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1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9" dur="8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8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0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7" dur="8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8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0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6" dur="8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7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5" dur="8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6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8" dur="8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4" dur="8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5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3" dur="8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4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5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6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2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6" dur="2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900000" y="1125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ычисли площадь четырёх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00000" y="5589720"/>
            <a:ext cx="7272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11280" y="2708280"/>
            <a:ext cx="360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900000" y="2708280"/>
            <a:ext cx="1511280" cy="288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12000" y="2708280"/>
            <a:ext cx="2160360" cy="288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8760" y="5367240"/>
            <a:ext cx="452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4000" y="519732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63640" y="2349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084720" y="22766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317080" y="5229360"/>
            <a:ext cx="326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244000" y="5229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11280" y="2708280"/>
            <a:ext cx="0" cy="288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12000" y="2708280"/>
            <a:ext cx="0" cy="288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21280" y="5557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22000" y="55576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4360" y="2060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74760" y="5661000"/>
            <a:ext cx="7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08200" y="3855960"/>
            <a:ext cx="52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35120" y="371160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000920" y="565632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33800" y="26028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а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310880" y="623736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177" dur="indefinite" restart="never" nodeType="tmRoot">
          <p:childTnLst>
            <p:seq>
              <p:cTn id="3178" dur="indefinite" nodeType="mainSeq">
                <p:childTnLst>
                  <p:par>
                    <p:cTn id="3179" fill="hold">
                      <p:stCondLst>
                        <p:cond delay="0"/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3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7" dur="8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8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6" dur="8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7" dur="8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8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9" dur="8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5" dur="8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6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7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4" dur="8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5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3" dur="8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4" dur="8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8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6" dur="8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2" dur="8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3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1" dur="8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2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3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4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0" dur="8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1" dur="8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8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3" dur="8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9" dur="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0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8" dur="8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9" dur="8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0" dur="8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8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7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8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9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6" dur="8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7" dur="8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8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8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5" dur="8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6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8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4" dur="8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5" dur="8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8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8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3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4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5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6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2" dur="8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3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692360" y="134136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042920" y="1052640"/>
            <a:ext cx="715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71640" y="2709720"/>
            <a:ext cx="0" cy="288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71640" y="5589720"/>
            <a:ext cx="4321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292720" y="2709720"/>
            <a:ext cx="2879640" cy="288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71640" y="2709720"/>
            <a:ext cx="720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68360" y="981000"/>
            <a:ext cx="809604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 площадь четырёхугольника АВС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 rot="10800000">
            <a:off x="755640" y="5517000"/>
            <a:ext cx="50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39640" y="2133720"/>
            <a:ext cx="376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8388360" y="2133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940360" y="5445000"/>
            <a:ext cx="314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51640" y="6308640"/>
            <a:ext cx="720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435080" y="5751360"/>
            <a:ext cx="7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1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05440" y="28584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а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50920" y="1989000"/>
            <a:ext cx="864216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0920" y="2708280"/>
            <a:ext cx="864216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0920" y="4149720"/>
            <a:ext cx="864216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4869000"/>
            <a:ext cx="864216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9280" y="5589720"/>
            <a:ext cx="864252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1844640"/>
            <a:ext cx="0" cy="44640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692360" y="1916280"/>
            <a:ext cx="0" cy="439236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340000" y="1844640"/>
            <a:ext cx="71280" cy="44640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132000" y="1844640"/>
            <a:ext cx="0" cy="44640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780000" y="1844640"/>
            <a:ext cx="71280" cy="44640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72000" y="1773360"/>
            <a:ext cx="0" cy="45352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92720" y="1844640"/>
            <a:ext cx="0" cy="44640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012000" y="1773360"/>
            <a:ext cx="0" cy="45352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59640" y="1268280"/>
            <a:ext cx="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732720" y="1773360"/>
            <a:ext cx="0" cy="45352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451640" y="1844640"/>
            <a:ext cx="0" cy="44640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172360" y="1773360"/>
            <a:ext cx="0" cy="45352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5800" y="630864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328" dur="indefinite" restart="never" nodeType="tmRoot">
          <p:childTnLst>
            <p:seq>
              <p:cTn id="3329" dur="indefinite" nodeType="mainSeq">
                <p:childTnLst>
                  <p:par>
                    <p:cTn id="3330" fill="hold">
                      <p:stCondLst>
                        <p:cond delay="0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4" dur="8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5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6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3" dur="8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4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2" dur="8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3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8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1" dur="8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2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3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4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0" dur="8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1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3" dur="8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9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0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1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2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8" dur="8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9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0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7" dur="8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8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0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6" dur="8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7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8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5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6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8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4" dur="8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5" dur="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826920" y="765000"/>
            <a:ext cx="75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иша и Зоя нашли площадь четырёхугольника АВСД разными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3429000"/>
            <a:ext cx="21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71640" y="1989000"/>
            <a:ext cx="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71640" y="1989000"/>
            <a:ext cx="360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3132000" y="1989000"/>
            <a:ext cx="144000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640" y="3068640"/>
            <a:ext cx="5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68360" y="17193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356000" y="14842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402720" y="3159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292720" y="1989000"/>
            <a:ext cx="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92720" y="3429000"/>
            <a:ext cx="2158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292720" y="1989000"/>
            <a:ext cx="360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451640" y="1989000"/>
            <a:ext cx="144144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861440" y="32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32360" y="16286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604360" y="14842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64360" y="335772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132000" y="1989000"/>
            <a:ext cx="0" cy="1440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893080" y="1989000"/>
            <a:ext cx="0" cy="1440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51640" y="3429000"/>
            <a:ext cx="1441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92200" y="4024440"/>
            <a:ext cx="520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27120" y="4282920"/>
            <a:ext cx="52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4360" y="4282920"/>
            <a:ext cx="69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55640" y="4365720"/>
            <a:ext cx="662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ой способ ты считаешь рациона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ожно ли найти площадь этого четырёхугольника другим способ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987640" y="18900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а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237800" y="61657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485" dur="indefinite" restart="never" nodeType="tmRoot">
          <p:childTnLst>
            <p:seq>
              <p:cTn id="3486" dur="indefinite" nodeType="mainSeq">
                <p:childTnLst>
                  <p:par>
                    <p:cTn id="3487" fill="hold">
                      <p:stCondLst>
                        <p:cond delay="0"/>
                      </p:stCondLst>
                      <p:childTnLst>
                        <p:par>
                          <p:cTn id="3488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1" dur="8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2" dur="8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3" dur="8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8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0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1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2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9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0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1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8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0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7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0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5" dur="8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6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7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8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1" fill="hold">
                            <p:stCondLst>
                              <p:cond delay="7000"/>
                            </p:stCondLst>
                            <p:childTnLst>
                              <p:par>
                                <p:cTn id="35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4" dur="8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5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6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7" dur="8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0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3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4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5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9" fill="hold">
                            <p:stCondLst>
                              <p:cond delay="9000"/>
                            </p:stCondLst>
                            <p:childTnLst>
                              <p:par>
                                <p:cTn id="35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2" dur="8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3" dur="8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8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8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1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2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3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0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1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2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9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0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2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8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9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7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0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6" dur="8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7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5" dur="8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6" dur="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4" dur="8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5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6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3" dur="8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4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5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6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2" dur="8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3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4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5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1" dur="8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2" dur="8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8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8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36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0" dur="8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1" dur="8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8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8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103480" y="639720"/>
            <a:ext cx="563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319480" y="639720"/>
            <a:ext cx="470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18900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дача 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26920" y="1052640"/>
            <a:ext cx="70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йди площадь пятиугольника разными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92360" y="2708280"/>
            <a:ext cx="0" cy="216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92360" y="2708280"/>
            <a:ext cx="352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19640" y="2708280"/>
            <a:ext cx="1513080" cy="144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4149720"/>
            <a:ext cx="0" cy="719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692360" y="4869000"/>
            <a:ext cx="504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186200" y="5661000"/>
            <a:ext cx="71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 каждому решению сделай чертеж и запиш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ормулы, которые ты использовал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92360" y="1989000"/>
            <a:ext cx="0" cy="3311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411280" y="1989000"/>
            <a:ext cx="0" cy="3311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132000" y="1989000"/>
            <a:ext cx="0" cy="324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51280" y="1989000"/>
            <a:ext cx="0" cy="324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0" y="1989000"/>
            <a:ext cx="0" cy="324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19640" y="1989000"/>
            <a:ext cx="73080" cy="324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12000" y="1989000"/>
            <a:ext cx="0" cy="324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59640" y="1989000"/>
            <a:ext cx="73080" cy="324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332000" y="1989000"/>
            <a:ext cx="5688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258920" y="2708280"/>
            <a:ext cx="58341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3429000"/>
            <a:ext cx="58341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258920" y="4149720"/>
            <a:ext cx="58341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258920" y="4869000"/>
            <a:ext cx="58341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012000" y="2708280"/>
            <a:ext cx="718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083640" y="2205000"/>
            <a:ext cx="6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237800" y="630864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686" dur="indefinite" restart="never" nodeType="tmRoot">
          <p:childTnLst>
            <p:seq>
              <p:cTn id="3687" dur="indefinite" nodeType="mainSeq">
                <p:childTnLst>
                  <p:par>
                    <p:cTn id="3688" fill="hold">
                      <p:stCondLst>
                        <p:cond delay="0"/>
                      </p:stCondLst>
                      <p:childTnLst>
                        <p:par>
                          <p:cTn id="3689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3" fill="hold">
                            <p:stCondLst>
                              <p:cond delay="500"/>
                            </p:stCondLst>
                            <p:childTnLst>
                              <p:par>
                                <p:cTn id="36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2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6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0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4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1" dur="8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2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3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7" fill="hold">
                            <p:stCondLst>
                              <p:cond delay="7500"/>
                            </p:stCondLst>
                            <p:childTnLst>
                              <p:par>
                                <p:cTn id="37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0" dur="8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1" dur="8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8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3" dur="8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2682000" y="58896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дача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971640" y="1268280"/>
            <a:ext cx="0" cy="288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71640" y="1268280"/>
            <a:ext cx="143964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11280" y="1989000"/>
            <a:ext cx="2160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0" y="1989000"/>
            <a:ext cx="1440000" cy="144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292720" y="3429000"/>
            <a:ext cx="71928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971280" y="4149720"/>
            <a:ext cx="4321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0920" y="1268280"/>
            <a:ext cx="6481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0920" y="1989000"/>
            <a:ext cx="6408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0920" y="2708280"/>
            <a:ext cx="6481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50920" y="3429000"/>
            <a:ext cx="6408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50920" y="4149720"/>
            <a:ext cx="6481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50920" y="4869000"/>
            <a:ext cx="6408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971640" y="907920"/>
            <a:ext cx="0" cy="432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692360" y="907920"/>
            <a:ext cx="0" cy="4392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11280" y="907920"/>
            <a:ext cx="0" cy="4392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32000" y="981000"/>
            <a:ext cx="0" cy="431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51280" y="981000"/>
            <a:ext cx="0" cy="431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0" y="981000"/>
            <a:ext cx="0" cy="424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292720" y="981000"/>
            <a:ext cx="0" cy="424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12000" y="981000"/>
            <a:ext cx="0" cy="424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5516640"/>
            <a:ext cx="90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йди площадь фигуры разными способами. Какой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йденных способов ты считаешь наилучшим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92720" y="4869000"/>
            <a:ext cx="719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64360" y="4365720"/>
            <a:ext cx="6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237800" y="630864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776" dur="indefinite" restart="never" nodeType="tmRoot">
          <p:childTnLst>
            <p:seq>
              <p:cTn id="3777" dur="indefinite" nodeType="mainSeq">
                <p:childTnLst>
                  <p:par>
                    <p:cTn id="3778" fill="hold">
                      <p:stCondLst>
                        <p:cond delay="0"/>
                      </p:stCondLst>
                      <p:childTnLst>
                        <p:par>
                          <p:cTn id="3779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7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1" dur="8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2" dur="8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3" dur="8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4" dur="8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9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0" dur="8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1" dur="8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2" dur="8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3" dur="8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2176560" y="635040"/>
            <a:ext cx="47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Задача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95480" y="1425600"/>
            <a:ext cx="67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окажите, как найти площадь фигуры, запишите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0920" y="3429000"/>
            <a:ext cx="720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2565360"/>
            <a:ext cx="147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03120" y="292428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971640" y="3429000"/>
            <a:ext cx="720720" cy="1440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692360" y="3429000"/>
            <a:ext cx="0" cy="72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692360" y="4149720"/>
            <a:ext cx="718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11280" y="3429000"/>
            <a:ext cx="0" cy="72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11280" y="3429000"/>
            <a:ext cx="720720" cy="1440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71640" y="4869000"/>
            <a:ext cx="216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851280" y="2708280"/>
            <a:ext cx="720720" cy="144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1280" y="4149720"/>
            <a:ext cx="720720" cy="1440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4572000" y="4869000"/>
            <a:ext cx="720720" cy="72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572000" y="2708280"/>
            <a:ext cx="720720" cy="72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92720" y="3429000"/>
            <a:ext cx="719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292720" y="4869000"/>
            <a:ext cx="719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2000" y="3429000"/>
            <a:ext cx="720720" cy="72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6012000" y="4149720"/>
            <a:ext cx="72072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14400" y="6083280"/>
            <a:ext cx="34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дин из вариа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692360" y="4149720"/>
            <a:ext cx="0" cy="7192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411280" y="4149720"/>
            <a:ext cx="0" cy="7192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411280" y="3429000"/>
            <a:ext cx="72072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132000" y="3429000"/>
            <a:ext cx="0" cy="1440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572000" y="2708280"/>
            <a:ext cx="144000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12000" y="2708280"/>
            <a:ext cx="0" cy="28814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72000" y="2708280"/>
            <a:ext cx="0" cy="28814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572000" y="5589720"/>
            <a:ext cx="1440000" cy="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50920" y="2708280"/>
            <a:ext cx="7921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0920" y="3429000"/>
            <a:ext cx="7921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0920" y="4149720"/>
            <a:ext cx="78501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0920" y="4869000"/>
            <a:ext cx="7921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0920" y="5589720"/>
            <a:ext cx="7921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971640" y="2349360"/>
            <a:ext cx="0" cy="360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692360" y="2349360"/>
            <a:ext cx="0" cy="360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411280" y="2349360"/>
            <a:ext cx="0" cy="367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32000" y="2421000"/>
            <a:ext cx="0" cy="367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51280" y="2349360"/>
            <a:ext cx="0" cy="367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500720" y="234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572000" y="2421000"/>
            <a:ext cx="0" cy="360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292720" y="2349360"/>
            <a:ext cx="0" cy="367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012000" y="2349360"/>
            <a:ext cx="0" cy="3672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32720" y="2276640"/>
            <a:ext cx="0" cy="3744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451640" y="2276640"/>
            <a:ext cx="0" cy="3744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237800" y="623736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926" dur="indefinite" restart="never" nodeType="tmRoot">
          <p:childTnLst>
            <p:seq>
              <p:cTn id="3927" dur="indefinite" nodeType="mainSeq">
                <p:childTnLst>
                  <p:par>
                    <p:cTn id="3928" fill="hold">
                      <p:stCondLst>
                        <p:cond delay="0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2" dur="20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0" dur="8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1" dur="8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8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3" dur="8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9" dur="8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0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1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2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8" dur="8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9" dur="8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0" dur="8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1" dur="8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9000"/>
                            </p:stCondLst>
                            <p:childTnLst>
                              <p:par>
                                <p:cTn id="39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7" dur="8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8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0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6" dur="8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7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8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9" dur="8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5" dur="8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6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8" dur="8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4" dur="8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5" dur="8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6" dur="8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7" dur="8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3" dur="8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4" dur="8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8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8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2" dur="8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3" dur="8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4" dur="8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5" dur="8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1" dur="8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2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3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4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0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1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2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3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9" dur="8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0" dur="8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1" dur="8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2" dur="8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8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9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0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7" dur="8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8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9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0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6" dur="2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2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8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1" dur="8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2" dur="8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3" dur="8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4" dur="8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1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0" dur="8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1" dur="8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8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3" dur="8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4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4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4" fill="hold">
                            <p:stCondLst>
                              <p:cond delay="26000"/>
                            </p:stCondLst>
                            <p:childTnLst>
                              <p:par>
                                <p:cTn id="4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8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1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4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384200" y="345960"/>
            <a:ext cx="491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527120" y="417600"/>
            <a:ext cx="6069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348000" y="5889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Задача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023840" y="1138320"/>
            <a:ext cx="4772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50920" y="3429000"/>
            <a:ext cx="720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692360" y="3429000"/>
            <a:ext cx="0" cy="72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971640" y="4149720"/>
            <a:ext cx="72072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971640" y="4869000"/>
            <a:ext cx="216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692360" y="3429000"/>
            <a:ext cx="7189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411280" y="3429000"/>
            <a:ext cx="0" cy="72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11280" y="4149720"/>
            <a:ext cx="72072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851280" y="2708280"/>
            <a:ext cx="2881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732720" y="2708280"/>
            <a:ext cx="718920" cy="72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451640" y="3429000"/>
            <a:ext cx="0" cy="1440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451640" y="4869000"/>
            <a:ext cx="720720" cy="72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292720" y="5589720"/>
            <a:ext cx="2879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851280" y="2708280"/>
            <a:ext cx="720720" cy="72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3429000"/>
            <a:ext cx="0" cy="1440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572000" y="4869000"/>
            <a:ext cx="720720" cy="72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971640" y="4149720"/>
            <a:ext cx="0" cy="7192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971640" y="4149720"/>
            <a:ext cx="72072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692360" y="4149720"/>
            <a:ext cx="0" cy="7192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11280" y="4149720"/>
            <a:ext cx="0" cy="7192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51280" y="2708280"/>
            <a:ext cx="0" cy="28814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851280" y="5589720"/>
            <a:ext cx="144144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732720" y="2708280"/>
            <a:ext cx="0" cy="28814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950760" y="5967000"/>
            <a:ext cx="65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дин из вари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79280" y="285264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50920" y="2708280"/>
            <a:ext cx="856908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9280" y="3429000"/>
            <a:ext cx="85694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50920" y="4149720"/>
            <a:ext cx="864216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50920" y="4869000"/>
            <a:ext cx="864216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50920" y="5589720"/>
            <a:ext cx="864216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71640" y="1989000"/>
            <a:ext cx="0" cy="3961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92360" y="1989000"/>
            <a:ext cx="0" cy="3961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340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411280" y="1989000"/>
            <a:ext cx="0" cy="3961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1916280"/>
            <a:ext cx="0" cy="40338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51280" y="1989000"/>
            <a:ext cx="0" cy="3961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572000" y="1989000"/>
            <a:ext cx="0" cy="3961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92720" y="1989000"/>
            <a:ext cx="0" cy="403236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012000" y="1989000"/>
            <a:ext cx="0" cy="39610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732720" y="1989000"/>
            <a:ext cx="0" cy="381636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451640" y="1989000"/>
            <a:ext cx="0" cy="388800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172360" y="1989000"/>
            <a:ext cx="0" cy="381636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095240" y="623736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165" dur="indefinite" restart="never" nodeType="tmRoot">
          <p:childTnLst>
            <p:seq>
              <p:cTn id="4166" dur="indefinite" nodeType="mainSeq">
                <p:childTnLst>
                  <p:par>
                    <p:cTn id="4167" fill="hold">
                      <p:stCondLst>
                        <p:cond delay="0"/>
                      </p:stCondLst>
                      <p:childTnLst>
                        <p:par>
                          <p:cTn id="4168" fill="hold">
                            <p:stCondLst>
                              <p:cond delay="0"/>
                            </p:stCondLst>
                            <p:childTnLst>
                              <p:par>
                                <p:cTn id="4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1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5" dur="8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6" dur="8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7" dur="8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8" dur="8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4" dur="8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5" dur="8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6" dur="8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7" dur="8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3" dur="8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4" dur="8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5" dur="8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6" dur="8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42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2" dur="8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3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4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5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1" dur="8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2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3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0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1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3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42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9" dur="8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0" dur="8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8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2" dur="8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8" dur="8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9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0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1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7" dur="8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8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9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0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6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7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8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9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5" dur="8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6" dur="8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7" dur="8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8" dur="8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4" dur="8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5" dur="8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6" dur="8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7" dur="8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3" dur="8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4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5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6" dur="8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4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2" dur="8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3" dur="8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4" dur="8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5" dur="8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1" dur="20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2" fill="hold">
                            <p:stCondLst>
                              <p:cond delay="19500"/>
                            </p:stCondLst>
                            <p:childTnLst>
                              <p:par>
                                <p:cTn id="43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3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4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7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21500"/>
                            </p:stCondLst>
                            <p:childTnLst>
                              <p:par>
                                <p:cTn id="4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7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8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9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0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5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0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4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24000"/>
                            </p:stCondLst>
                            <p:childTnLst>
                              <p:par>
                                <p:cTn id="43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3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43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25500"/>
                            </p:stCondLst>
                            <p:childTnLst>
                              <p:par>
                                <p:cTn id="44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2709720"/>
            <a:ext cx="287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8920" y="47628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ineta BT"/>
              </a:rPr>
              <a:t>Площадь прямоугольника</a:t>
            </a:r>
            <a:r>
              <a:rPr b="0" lang="en-US" sz="4000" spc="-1" strike="noStrike">
                <a:solidFill>
                  <a:srgbClr val="000000"/>
                </a:solidFill>
                <a:latin typeface="Vineta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ineta BT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частный случай № 1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7800" y="220500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3080" y="277956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27097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3429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4149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1204920" y="2187360"/>
            <a:ext cx="252360" cy="718920"/>
          </a:xfrm>
          <a:custGeom>
            <a:avLst/>
            <a:gdLst>
              <a:gd name="textAreaLeft" fmla="*/ 0 w 252360"/>
              <a:gd name="textAreaRight" fmla="*/ 91080 w 25236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38"/>
                </a:lnTo>
                <a:cubicBezTo>
                  <a:pt x="10800" y="9638"/>
                  <a:pt x="16200" y="10538"/>
                  <a:pt x="21600" y="10538"/>
                </a:cubicBezTo>
                <a:cubicBezTo>
                  <a:pt x="16200" y="10538"/>
                  <a:pt x="10800" y="11438"/>
                  <a:pt x="10800" y="1233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5440" y="19162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651640" y="2349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48360" y="37180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86244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СМ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3320" y="52293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оугольник  разбит на 4 полоски по 3 кв.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3080" y="2179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3070080"/>
            <a:ext cx="4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94520" y="307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8880" y="20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7800" y="20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1440" y="3187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9440" y="307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5800" y="307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7440" y="3187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360" y="3187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28360" y="3187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8160" y="321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5800" y="3881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7800" y="3718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89000" y="616572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2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19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2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2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2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2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52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2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2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2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52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02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52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2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52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02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324000" y="545940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Это я в кабине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инфор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620640"/>
            <a:ext cx="456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ыполнила: Смольникова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Евг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4 класс лицей №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97000" y="6216480"/>
            <a:ext cx="15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главлени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-7920" y="5516640"/>
            <a:ext cx="789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ководители: Лысикова Г.Н., учитель информат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мольникова И.В., учитель математики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404" dur="indefinite" restart="never" nodeType="tmRoot">
          <p:childTnLst>
            <p:seq>
              <p:cTn id="4405" dur="indefinite" nodeType="mainSeq">
                <p:childTnLst>
                  <p:par>
                    <p:cTn id="4406" fill="hold">
                      <p:stCondLst>
                        <p:cond delay="0"/>
                      </p:stCondLst>
                      <p:childTnLst>
                        <p:par>
                          <p:cTn id="4407" fill="hold">
                            <p:stCondLst>
                              <p:cond delay="0"/>
                            </p:stCondLst>
                            <p:childTnLst>
                              <p:par>
                                <p:cTn id="4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2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4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2" dur="4730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3" fill="hold">
                            <p:stCondLst>
                              <p:cond delay="4730"/>
                            </p:stCondLst>
                            <p:childTnLst>
                              <p:par>
                                <p:cTn id="4424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6" dur="1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7" dur="4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8" dur="4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1" fill="hold">
                            <p:stCondLst>
                              <p:cond delay="8029"/>
                            </p:stCondLst>
                            <p:childTnLst>
                              <p:par>
                                <p:cTn id="443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4433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5" fill="hold">
                            <p:stCondLst>
                              <p:cond delay="10030"/>
                            </p:stCondLst>
                            <p:childTnLst>
                              <p:par>
                                <p:cTn id="4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8" dur="8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9" dur="8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0" dur="8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fill="hold">
                            <p:stCondLst>
                              <p:cond delay="11870"/>
                            </p:stCondLst>
                            <p:childTnLst>
                              <p:par>
                                <p:cTn id="44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4" dur="8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5" dur="8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6" dur="8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311120" y="345960"/>
            <a:ext cx="578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843280" y="29988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79480" y="1484280"/>
            <a:ext cx="779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Истомина Н. Б., Нефедова И. Б. «Математика 3 клас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ргинская И. И., Ивановская Е. И. «Математика 3 клас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Истомина Н. Б. «Математика 4 клас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ргинская И. И., Ивановская Е. И. «Математика 4 клас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етерсон Л. Г., Горячева Т. С., Зубавичене Т. В., Невретдинова А. А. «Математика 2 клас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етерсон Л. Г., Горячева Т. С., Зубавичене Т. В., Невретдинова А. А. «Математика 4 клас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66240" y="618480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гл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7" dur="indefinite" restart="never" nodeType="tmRoot">
          <p:childTnLst>
            <p:seq>
              <p:cTn id="4448" dur="indefinite" nodeType="mainSeq">
                <p:childTnLst>
                  <p:par>
                    <p:cTn id="4449" fill="hold">
                      <p:stCondLst>
                        <p:cond delay="0"/>
                      </p:stCondLst>
                      <p:childTnLst>
                        <p:par>
                          <p:cTn id="4450" fill="hold">
                            <p:stCondLst>
                              <p:cond delay="0"/>
                            </p:stCondLst>
                            <p:childTnLst>
                              <p:par>
                                <p:cTn id="4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3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0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3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7" dur="10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10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10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0" dur="10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4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5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7" dur="10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10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10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10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4" dur="10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8" dur="10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9" dur="10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0" dur="10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1" dur="10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5" dur="10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6" dur="10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7" dur="10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8" dur="10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9" fill="hold">
                            <p:stCondLst>
                              <p:cond delay="7000"/>
                            </p:stCondLst>
                            <p:childTnLst>
                              <p:par>
                                <p:cTn id="45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2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3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4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6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ineta BT"/>
              </a:rPr>
              <a:t>Площадь прямоугольника</a:t>
            </a:r>
            <a:r>
              <a:rPr b="0" lang="en-US" sz="1400" spc="-1" strike="noStrike">
                <a:solidFill>
                  <a:srgbClr val="000000"/>
                </a:solidFill>
                <a:latin typeface="Vineta BT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ineta BT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частный случай № 2)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1989000"/>
            <a:ext cx="287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7800" y="148428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3080" y="277956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2708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3429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1204920" y="1466640"/>
            <a:ext cx="252360" cy="718920"/>
          </a:xfrm>
          <a:custGeom>
            <a:avLst/>
            <a:gdLst>
              <a:gd name="textAreaLeft" fmla="*/ 0 w 252360"/>
              <a:gd name="textAreaRight" fmla="*/ 91080 w 25236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38"/>
                </a:lnTo>
                <a:cubicBezTo>
                  <a:pt x="10800" y="9638"/>
                  <a:pt x="16200" y="10538"/>
                  <a:pt x="21600" y="10538"/>
                </a:cubicBezTo>
                <a:cubicBezTo>
                  <a:pt x="16200" y="10538"/>
                  <a:pt x="10800" y="11438"/>
                  <a:pt x="10800" y="1233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5440" y="12682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651640" y="1628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29973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3141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СМ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4240" y="452772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оугольник  разбит на 3 полоски по 4 кв.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8360" y="1484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2349360"/>
            <a:ext cx="4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2160" y="234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7800" y="1341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1440" y="2492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2880" y="234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3440" y="2492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5440" y="2492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3800" y="2492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5800" y="3160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7800" y="2997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6741360" y="5877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500"/>
                            </p:stCondLst>
                            <p:childTnLst>
                              <p:par>
                                <p:cTn id="3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5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191628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1989000"/>
            <a:ext cx="287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144360"/>
            <a:ext cx="87138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ineta BT"/>
              </a:rPr>
              <a:t>Площадь прямоугольника</a:t>
            </a:r>
            <a:r>
              <a:rPr b="0" lang="en-US" sz="5400" spc="-1" strike="noStrike">
                <a:solidFill>
                  <a:srgbClr val="000000"/>
                </a:solidFill>
                <a:latin typeface="Vineta B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7800" y="148428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2720" y="277956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1989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1989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1989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708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3429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204920" y="1466640"/>
            <a:ext cx="252360" cy="718920"/>
          </a:xfrm>
          <a:custGeom>
            <a:avLst/>
            <a:gdLst>
              <a:gd name="textAreaLeft" fmla="*/ 0 w 252360"/>
              <a:gd name="textAreaRight" fmla="*/ 91080 w 25236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38"/>
                </a:lnTo>
                <a:cubicBezTo>
                  <a:pt x="10800" y="9638"/>
                  <a:pt x="16200" y="10538"/>
                  <a:pt x="21600" y="10538"/>
                </a:cubicBezTo>
                <a:cubicBezTo>
                  <a:pt x="16200" y="10538"/>
                  <a:pt x="10800" y="11438"/>
                  <a:pt x="10800" y="1233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5440" y="12682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256536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56840" y="611352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имеры на нахождения площади прямоугольных фиг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имер №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708280"/>
            <a:ext cx="35290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8160" y="234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234936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но: Прямоугольн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=6 дм, в=4 д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йти : 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=a b=6* 4=24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в.д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8120" y="611352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2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2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2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50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15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15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5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675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1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345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1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1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025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1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1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2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2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2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2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2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2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25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2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2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2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1425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2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2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2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2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2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2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3325"/>
                            </p:stCondLst>
                            <p:childTnLst>
                              <p:par>
                                <p:cTn id="5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имеры на нахождения площади прямоугольных фиг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имер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2708280"/>
            <a:ext cx="287964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708280"/>
            <a:ext cx="3600360" cy="2881440"/>
          </a:xfrm>
          <a:prstGeom prst="rect">
            <a:avLst/>
          </a:prstGeom>
          <a:solidFill>
            <a:srgbClr val="99cc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4068000" y="2204280"/>
            <a:ext cx="287280" cy="7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4869000"/>
            <a:ext cx="287280" cy="7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77280" y="20080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0" y="50133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4360" y="22240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3080" y="36450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56840" y="61848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00560" y="208116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н 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 сторонами 3см и 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сколько изменится площадь прямоугольника, если увеличить на 1см длину и ширину данного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80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160"/>
                            </p:stCondLst>
                            <p:childTnLst>
                              <p:par>
                                <p:cTn id="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660"/>
                            </p:stCondLst>
                            <p:childTnLst>
                              <p:par>
                                <p:cTn id="5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16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7840"/>
                            </p:stCondLst>
                            <p:childTnLst>
                              <p:par>
                                <p:cTn id="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8340"/>
                            </p:stCondLst>
                            <p:childTnLst>
                              <p:par>
                                <p:cTn id="5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8840"/>
                            </p:stCondLst>
                            <p:childTnLst>
                              <p:par>
                                <p:cTn id="5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9340"/>
                            </p:stCondLst>
                            <p:childTnLst>
                              <p:par>
                                <p:cTn id="5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9840"/>
                            </p:stCondLst>
                            <p:childTnLst>
                              <p:par>
                                <p:cTn id="5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лощадь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98900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1989000"/>
            <a:ext cx="216036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4869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" y="33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6092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198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198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198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13200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132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132000" y="4076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132000" y="3499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132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320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3440" y="1916280"/>
            <a:ext cx="11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a *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9440" y="256536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р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 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284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огда пол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393372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=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*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)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2840" y="5675400"/>
            <a:ext cx="15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главлени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36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360"/>
                            </p:stCondLst>
                            <p:childTnLst>
                              <p:par>
                                <p:cTn id="6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360"/>
                            </p:stCondLst>
                            <p:childTnLst>
                              <p:par>
                                <p:cTn id="615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360"/>
                            </p:stCondLst>
                            <p:childTnLst>
                              <p:par>
                                <p:cTn id="620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360"/>
                            </p:stCondLst>
                            <p:childTnLst>
                              <p:par>
                                <p:cTn id="629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360"/>
                            </p:stCondLst>
                            <p:childTnLst>
                              <p:par>
                                <p:cTn id="63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36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860"/>
                            </p:stCondLst>
                            <p:childTnLst>
                              <p:par>
                                <p:cTn id="7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2:37:19Z</dcterms:created>
  <dc:creator>Evgeny</dc:creator>
  <dc:description/>
  <dc:language>en-US</dc:language>
  <cp:lastModifiedBy>ЛЫСИКОВА</cp:lastModifiedBy>
  <dcterms:modified xsi:type="dcterms:W3CDTF">2009-01-27T08:49:08Z</dcterms:modified>
  <cp:revision>46</cp:revision>
  <dc:subject/>
  <dc:title>Слайд 1</dc:title>
</cp:coreProperties>
</file>