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3B0-FA47-48BB-992C-B28504CA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3DA-71E6-4C09-8296-D7850746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FFE-37B8-4EA4-9002-AAAC63F6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9F7-5CAD-4C58-901D-0341DDAE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B97-14EB-48CD-A3A7-7ABB9405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459-3EB8-482B-A8CD-0090D559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31A-08EE-4B78-A694-D73069BE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4A5-76FE-4DFA-B3E7-CB8D0AAB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B1E-E14E-4D73-B8E8-D4A4621B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1DD-1DC8-4565-B47C-7A4233D8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263-2C34-49FD-82B1-A8FDDDB3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618-10E3-44FC-B764-D534FD3C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a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4CF3-9900-4468-A5AB-573D9034A0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63280" y="6237360"/>
            <a:ext cx="6048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ктор Михайлович Васнецов «Богатыр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Documents and Settings\Катя\Рабочий стол\картинки и.Муромца\400px-Die_drei_Bogatyr.jpg"/>
          <p:cNvPicPr/>
          <p:nvPr/>
        </p:nvPicPr>
        <p:blipFill>
          <a:blip r:embed="rId2"/>
          <a:stretch/>
        </p:blipFill>
        <p:spPr>
          <a:xfrm>
            <a:off x="755640" y="115920"/>
            <a:ext cx="7561440" cy="61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614340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лья Муромец – защитник веры православ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Documents and Settings\Катя\Рабочий стол\картинки и.Муромца\101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14240" y="2500200"/>
            <a:ext cx="28576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той преподобный Илья Муром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Катя\Рабочий стол\картинки и.Муромца\ilya_murometz.jpg"/>
          <p:cNvPicPr/>
          <p:nvPr/>
        </p:nvPicPr>
        <p:blipFill>
          <a:blip r:embed="rId1"/>
          <a:stretch/>
        </p:blipFill>
        <p:spPr>
          <a:xfrm>
            <a:off x="4156200" y="0"/>
            <a:ext cx="4987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Катя\Рабочий стол\картинки и.Муромца\реконструкция черепа преподобного Илии по методу Герасимова.JPG"/>
          <p:cNvPicPr/>
          <p:nvPr/>
        </p:nvPicPr>
        <p:blipFill>
          <a:blip r:embed="rId1"/>
          <a:stretch/>
        </p:blipFill>
        <p:spPr>
          <a:xfrm>
            <a:off x="0" y="0"/>
            <a:ext cx="72342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572160" y="213840"/>
            <a:ext cx="22860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конструкция черепа преподобного Илии   Печерского   (по методу Герасимо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2494080" cy="20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подоб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лия Печер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Катя\Рабочий стол\картинки и.Муромца\ilya_.jpg"/>
          <p:cNvPicPr/>
          <p:nvPr/>
        </p:nvPicPr>
        <p:blipFill>
          <a:blip r:embed="rId1"/>
          <a:stretch/>
        </p:blipFill>
        <p:spPr>
          <a:xfrm>
            <a:off x="2492280" y="0"/>
            <a:ext cx="6651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Катя\Рабочий стол\картинки и.Муромца\250px-Vastnetsov_1914.jpg"/>
          <p:cNvPicPr/>
          <p:nvPr/>
        </p:nvPicPr>
        <p:blipFill>
          <a:blip r:embed="rId1"/>
          <a:stretch/>
        </p:blipFill>
        <p:spPr>
          <a:xfrm>
            <a:off x="0" y="0"/>
            <a:ext cx="81248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071600" y="6286320"/>
            <a:ext cx="50720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иктор Васнецов «Илья Муроме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360" y="6053040"/>
            <a:ext cx="40006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ево-Печерская Лав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Documents and Settings\Катя\Рабочий стол\картинки и.Муромца\lavra2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500800" y="285480"/>
            <a:ext cx="36432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щи преподобн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лии Печерск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Катя\Рабочий стол\картинки и.Муромца\180px-Iliya_Muromets_Kiev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9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6224400"/>
            <a:ext cx="442908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подобный Илия Печер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Катя\Рабочий стол\картинки и.Муромца\iliya_pecherskiy_(muromets).jpg"/>
          <p:cNvPicPr/>
          <p:nvPr/>
        </p:nvPicPr>
        <p:blipFill>
          <a:blip r:embed="rId1"/>
          <a:stretch/>
        </p:blipFill>
        <p:spPr>
          <a:xfrm>
            <a:off x="4446720" y="0"/>
            <a:ext cx="4697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ктор Васнецов «Витязь на распуть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Катя\Рабочий стол\картинки и.Муромца\В.Васнецов Витязь на распутье.jpg"/>
          <p:cNvPicPr/>
          <p:nvPr/>
        </p:nvPicPr>
        <p:blipFill>
          <a:blip r:embed="rId2"/>
          <a:stretch/>
        </p:blipFill>
        <p:spPr>
          <a:xfrm>
            <a:off x="1143000" y="714240"/>
            <a:ext cx="7112160" cy="39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8520" y="5285880"/>
            <a:ext cx="57150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мятник Илье Муромцу в Муро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43080" y="5857560"/>
            <a:ext cx="5486400" cy="3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кульптор : Вячеслав Клы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Катя\Рабочий стол\картинки и.Муромца\Памятник Илье в Муроме скульптор В.Клыков.jpg"/>
          <p:cNvPicPr/>
          <p:nvPr/>
        </p:nvPicPr>
        <p:blipFill>
          <a:blip r:embed="rId1"/>
          <a:stretch/>
        </p:blipFill>
        <p:spPr>
          <a:xfrm>
            <a:off x="3143160" y="357120"/>
            <a:ext cx="3353040" cy="49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57880" y="2356920"/>
            <a:ext cx="35575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ван Билибин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Илья Муромец и Соловей Разбойн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Катя\Рабочий стол\картинки и.Муромца\И.Билибин Илья.jpg"/>
          <p:cNvPicPr/>
          <p:nvPr/>
        </p:nvPicPr>
        <p:blipFill>
          <a:blip r:embed="rId1"/>
          <a:stretch/>
        </p:blipFill>
        <p:spPr>
          <a:xfrm>
            <a:off x="500040" y="285840"/>
            <a:ext cx="4597560" cy="63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14240" y="5572080"/>
            <a:ext cx="77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убок «Сильный храбрый богатырь Илья Муромец» 186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Катя\Рабочий стол\картинки и.Муромца\737px-Sil'nyi_khrabryi_bogatyr'_Il'ia_Muromets.jpg"/>
          <p:cNvPicPr/>
          <p:nvPr/>
        </p:nvPicPr>
        <p:blipFill>
          <a:blip r:embed="rId2"/>
          <a:stretch/>
        </p:blipFill>
        <p:spPr>
          <a:xfrm>
            <a:off x="1785960" y="428760"/>
            <a:ext cx="5616720" cy="45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71360" y="2857680"/>
            <a:ext cx="25002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сский богатыр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лья Муром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Documents and Settings\Катя\Рабочий стол\картинки и.Муромца\_1.gif"/>
          <p:cNvPicPr/>
          <p:nvPr/>
        </p:nvPicPr>
        <p:blipFill>
          <a:blip r:embed="rId1"/>
          <a:stretch/>
        </p:blipFill>
        <p:spPr>
          <a:xfrm>
            <a:off x="3929040" y="428760"/>
            <a:ext cx="4705200" cy="57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143080" y="60721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гатыри – защитники Земли Русск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Катя\Рабочий стол\картинки и.Муромца\_5.gif"/>
          <p:cNvPicPr/>
          <p:nvPr/>
        </p:nvPicPr>
        <p:blipFill>
          <a:blip r:embed="rId2"/>
          <a:stretch/>
        </p:blipFill>
        <p:spPr>
          <a:xfrm>
            <a:off x="0" y="0"/>
            <a:ext cx="9144000" cy="585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29200" y="4714560"/>
            <a:ext cx="2928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ктор Васнецов «Богатыри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лья Муром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Катя\Рабочий стол\картинки и.Муромца\murom11.jpg"/>
          <p:cNvPicPr/>
          <p:nvPr/>
        </p:nvPicPr>
        <p:blipFill>
          <a:blip r:embed="rId1"/>
          <a:stretch/>
        </p:blipFill>
        <p:spPr>
          <a:xfrm>
            <a:off x="428760" y="428760"/>
            <a:ext cx="5405400" cy="59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071800" y="54291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колай Рерих «Илья Муромец» 19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Катя\Рабочий стол\картинки и.Муромца\Н.Рерих Илья Муромец 1910.jpg"/>
          <p:cNvPicPr/>
          <p:nvPr/>
        </p:nvPicPr>
        <p:blipFill>
          <a:blip r:embed="rId2"/>
          <a:stretch/>
        </p:blipFill>
        <p:spPr>
          <a:xfrm>
            <a:off x="285840" y="285840"/>
            <a:ext cx="853596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3:34Z</dcterms:created>
  <dc:creator>Катя</dc:creator>
  <dc:description/>
  <dc:language>en-US</dc:language>
  <cp:lastModifiedBy>Наталья</cp:lastModifiedBy>
  <dcterms:modified xsi:type="dcterms:W3CDTF">2009-12-22T20:09:17Z</dcterms:modified>
  <cp:revision>12</cp:revision>
  <dc:subject/>
  <dc:title>Слайд 1</dc:title>
</cp:coreProperties>
</file>