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943-DC7F-4F45-9B79-CE97E31A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463-D365-453F-8C8B-E431B3E7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040-7D33-4F62-83FD-E7393FC0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ECA-9E5A-4AD8-902E-9A4AB2A8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970-A827-41E2-92E5-A00C39A3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B82E-21C6-4CE1-BEEA-13801D6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8F74-0414-4E25-A99F-F11482E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EBE4-40D5-46BF-A13E-377694F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2847-FBA3-4D15-BD81-66649A1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57FC-FE21-49AC-B762-F49B940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D95-EC22-480C-9087-B9F38C6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C1E-015B-4202-B072-4E4BCC39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A26E-07FC-4519-B5D2-2D21947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802-E1D0-44DD-964E-536BD05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CA0-1AF6-4238-8C91-14181C82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879-173B-43BC-A0E4-79D13658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21D-3DC2-408B-B2EC-A62A7704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FD73-3121-45CD-A770-3B135426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13051-8851-4E2C-9C9E-188DF9DD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FBDE-607F-44C9-92F8-F9F8C48D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8E28-5FA4-4734-8E25-E532E8C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D24C-80DE-4C55-9761-DE6D6406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974-5A66-4750-85E6-8CC02B5E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036A-1D3A-4905-BE09-D04D0E41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A3D5-C305-4EFD-BE99-C849A02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90F0-5D61-48B9-836D-7E0E122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53CD-CBD1-4B06-9508-2ABDFD8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1C5B-22C3-498B-BAB1-82035C6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7BED-523C-4069-AA25-FE08E2D4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EC1E-84ED-467D-BD19-66469C37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06D4-1B3F-4DBC-BB90-005AE001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3278-42DD-466B-9550-44DA82A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48C5-64D7-4C6F-9C38-928F20B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112-87BE-4FCA-8460-4A0E201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8455-A094-4A2C-9D4A-01FC465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9E40-B2EF-4127-8A45-B6A760E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B6DF-A5AC-43A5-AF05-19DBA00B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3F926-FC8B-4F6F-8D80-6E3C6D0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CD64-5E39-42D9-A8B3-D4A53F0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5FB9-1813-42C9-8F26-4850A59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85E7-DA19-4473-867C-E7CEE4B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FCA7-CF63-4670-9AFA-24E0E5B5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23D8-D24D-4A64-8041-3DB4CEB9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C20E3-D6EF-49C8-A743-E12E94FA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F88-6FBD-4648-ADA8-77C5005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F252-0B52-4652-AB8B-7294F59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5B3D9-67AD-4195-97D1-A41D527D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26D5-C9C8-495F-905A-D1B2EFD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3951-9923-4807-81D5-16972A5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8515-8906-4E33-936A-4CD3F2F4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CF81-2415-43D6-BD32-15D25D9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3443-6830-438C-85C0-182B9C1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D341-24D9-41CB-AA41-9B156E80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CA9B-20B4-44E0-A4D9-3C9395AE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F11A-1843-467F-BADD-93813EC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84D-56D3-4F8D-8107-8FAE20A5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70DF-70D3-43CC-8837-4840B99A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8CE1-59B6-40E6-9AF7-005F9F7C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89C7-D955-4DE9-A0E8-26314D8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3913-3C90-4C9C-B0C7-013E00B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54B4-9EAA-4CA8-AD32-0428B51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62C0-3FDA-4D8D-AE9C-60998F0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4F79-BD62-41C2-8B3A-2527DFE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0DA9C-06B6-43B5-8152-C2C3E31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9E00-220F-4E82-85FB-B93A058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8A82-E904-49D8-B7C1-0823B05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3AF-2B80-4E0E-A373-89BBB70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80D38-6087-4471-843D-C46B028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B96B-D3C8-4B5F-B99C-FB1FD16D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8F2B-3DD2-4D81-A677-83B89C3D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C016-DDF8-481F-B8D6-5A48B7D2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16ED-82DE-4767-8504-E705396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4055-7FE9-484C-B6B6-A31E5A3E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D038-808C-4DC2-8CAE-542B158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D4162-3E70-469B-92A5-8A9D85A2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1621-B558-447B-9390-AC4D076E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805D-AEF5-4FD9-92ED-F48CC8E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A10-453F-4464-A3A2-10AA959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787EA-5BD6-4B2D-BFFF-7929CB5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92A06-2E3A-4DEC-8641-36065FA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23556-FF1C-4A80-869A-97440856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97EA-0898-4562-804A-EE3D9C6B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EB21-E402-4608-8A53-89168B9C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893-EE17-4A62-8B6A-22B2E9D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92AA-2791-4AC3-AD9C-12085FFDF5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4AF-AD39-4211-B213-5189B5F3D4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1E7-F108-4095-8702-76F5B71E07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811-3C0C-41CD-A2EA-DA06F8D429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5B75-33CF-4706-9FE1-ACB9FCFC97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E879-1820-43CB-B32A-83B9B947E0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5538-B3CC-4F69-A73D-A9D537B41D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352520" y="1584360"/>
            <a:ext cx="7078680" cy="1238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3928680" y="3499920"/>
            <a:ext cx="49071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Петрова Алёна,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еница 4 Б класс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rbel"/>
              </a:rPr>
              <a:t>Крылова Ольга Николаевна,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одзаголовок 2"/>
          <p:cNvSpPr/>
          <p:nvPr/>
        </p:nvSpPr>
        <p:spPr>
          <a:xfrm>
            <a:off x="1928880" y="357120"/>
            <a:ext cx="6357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orbe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orbel"/>
              </a:rPr>
              <a:t>« Средняя общеобразовательная школа № 114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orbel"/>
              </a:rPr>
              <a:t>с углубленным изучением отдельных предметов (математики)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C:\Documents and Settings\Admin\Мои документы\Мои рисунки\первые\IMG_1720.JPG"/>
          <p:cNvPicPr/>
          <p:nvPr/>
        </p:nvPicPr>
        <p:blipFill>
          <a:blip r:embed="rId1"/>
          <a:stretch/>
        </p:blipFill>
        <p:spPr>
          <a:xfrm>
            <a:off x="1428840" y="857160"/>
            <a:ext cx="4357440" cy="32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2" name="Рисунок 2" descr="C:\Documents and Settings\Admin\Мои документы\Мои рисунки\первые\IMG_1784.JPG"/>
          <p:cNvPicPr/>
          <p:nvPr/>
        </p:nvPicPr>
        <p:blipFill>
          <a:blip r:embed="rId2"/>
          <a:stretch/>
        </p:blipFill>
        <p:spPr>
          <a:xfrm>
            <a:off x="4429080" y="3214800"/>
            <a:ext cx="4357800" cy="321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3" descr="C:\Documents and Settings\Admin\Мои документы\Мои рисунки\первые\IMG_1737.JPG"/>
          <p:cNvPicPr/>
          <p:nvPr/>
        </p:nvPicPr>
        <p:blipFill>
          <a:blip r:embed="rId1"/>
          <a:stretch/>
        </p:blipFill>
        <p:spPr>
          <a:xfrm>
            <a:off x="1357200" y="714240"/>
            <a:ext cx="4357800" cy="33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4" name="Рисунок 2" descr="C:\Documents and Settings\Admin\Мои документы\Мои рисунки\первые\IMG_1795.JPG"/>
          <p:cNvPicPr/>
          <p:nvPr/>
        </p:nvPicPr>
        <p:blipFill>
          <a:blip r:embed="rId2"/>
          <a:stretch/>
        </p:blipFill>
        <p:spPr>
          <a:xfrm>
            <a:off x="4286160" y="2928960"/>
            <a:ext cx="4357800" cy="33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C:\Documents and Settings\Admin\Мои документы\Мои рисунки\первые\IMG_1802.JPG"/>
          <p:cNvPicPr/>
          <p:nvPr/>
        </p:nvPicPr>
        <p:blipFill>
          <a:blip r:embed="rId1"/>
          <a:stretch/>
        </p:blipFill>
        <p:spPr>
          <a:xfrm>
            <a:off x="1285920" y="571680"/>
            <a:ext cx="4357800" cy="3286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6" name="Рисунок 1" descr="C:\Documents and Settings\Admin\Мои документы\Мои рисунки\первые\IMG_1804.JPG"/>
          <p:cNvPicPr/>
          <p:nvPr/>
        </p:nvPicPr>
        <p:blipFill>
          <a:blip r:embed="rId2"/>
          <a:stretch/>
        </p:blipFill>
        <p:spPr>
          <a:xfrm>
            <a:off x="4286160" y="3000240"/>
            <a:ext cx="4357800" cy="3286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D:\мама бук\всё что быuло\Новая папка 2\бук\школа 114\Петрова Алёна\Image1.jpg"/>
          <p:cNvPicPr/>
          <p:nvPr/>
        </p:nvPicPr>
        <p:blipFill>
          <a:blip r:embed="rId1"/>
          <a:stretch/>
        </p:blipFill>
        <p:spPr>
          <a:xfrm>
            <a:off x="1214280" y="714240"/>
            <a:ext cx="2251080" cy="3162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8" name="Picture 3" descr="D:\мама бук\всё что быuло\Новая папка 2\бук\школа 114\Петрова Алёна\Image4.jpg"/>
          <p:cNvPicPr/>
          <p:nvPr/>
        </p:nvPicPr>
        <p:blipFill>
          <a:blip r:embed="rId2"/>
          <a:stretch/>
        </p:blipFill>
        <p:spPr>
          <a:xfrm>
            <a:off x="4857840" y="785880"/>
            <a:ext cx="2286000" cy="3211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9" name="Picture 4" descr="D:\мама бук\всё что быuло\Новая папка 2\бук\школа 114\Петрова Алёна\Image2.jpg"/>
          <p:cNvPicPr/>
          <p:nvPr/>
        </p:nvPicPr>
        <p:blipFill>
          <a:blip r:embed="rId3"/>
          <a:stretch/>
        </p:blipFill>
        <p:spPr>
          <a:xfrm>
            <a:off x="2857680" y="3214800"/>
            <a:ext cx="21873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30" name="Picture 5" descr="D:\мама бук\всё что быuло\Новая папка 2\бук\школа 114\Петрова Алёна\Image3.jpg"/>
          <p:cNvPicPr/>
          <p:nvPr/>
        </p:nvPicPr>
        <p:blipFill>
          <a:blip r:embed="rId4"/>
          <a:stretch/>
        </p:blipFill>
        <p:spPr>
          <a:xfrm>
            <a:off x="6500880" y="3357720"/>
            <a:ext cx="2149560" cy="3071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1-25T20:15:03Z</dcterms:modified>
  <cp:revision>4</cp:revision>
  <dc:subject/>
  <dc:title>Мои достижения</dc:title>
</cp:coreProperties>
</file>