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12.wmf" ContentType="image/x-wmf"/>
  <Override PartName="/ppt/media/image5.gif" ContentType="image/gif"/>
  <Override PartName="/ppt/media/image6.gif" ContentType="image/gif"/>
  <Override PartName="/ppt/media/image8.jpeg" ContentType="image/jpeg"/>
  <Override PartName="/ppt/media/image10.jpeg" ContentType="image/jpeg"/>
  <Override PartName="/ppt/media/image13.png" ContentType="image/png"/>
  <Override PartName="/ppt/media/cashreg.wav" ContentType="audio/x-wav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F08D-83C6-4A90-B681-57E9D960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210-0171-4121-9429-131196C0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7F498-571C-4DC7-8AC4-2320724F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37C90-A702-42ED-8C2E-B5029AD9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397E0-B2D4-46A5-87F3-68BFF82A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C0BBD-A078-47AE-8B58-4102B962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8197E-C6E4-4595-A9CE-EE7139DC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9FA69-207D-48CD-9137-BBF70231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C35C7-E189-4C0E-988A-7E887906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98647-E36A-43E8-AD46-C2ED03B7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36A8A-FDE2-4CBF-9518-D7FF03C3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B21D0-CF13-4245-9DA1-858E7327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0034-8ED1-4B1A-AD2F-608ED6D2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5F325-C979-4B12-9F34-A68C742C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CD7E6-34C5-4B42-ABFF-C9B26325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F93EF-01E5-4843-B25B-4AF8884E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AA8D1-3F46-4050-B59A-63E828B7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707BC-A162-40A5-A769-4E1FE681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CA510-755C-40CC-BBFF-F9DA41F9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47025-B2A5-451F-B055-D31B043B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66177-EC56-42D5-9354-549E6A05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F7EC7-B4CC-4546-BD77-67FCE030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80481-81DC-40D1-A892-7F302CC2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239-C338-480A-BF76-34DADCDD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55CE4-B133-456F-950C-0BAD2E52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B2C90-B605-4C64-BA7F-A25CD95B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B0848-F867-4AB9-8558-A46657E1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E2147-3A3F-4345-A64C-31B8D5E0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B1639-27A5-4973-A4F0-5FBEE10F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5E85B-BBD2-404F-A072-EFA2710B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DFE68-F480-40CD-8593-CA26155C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0CE2C-99A9-43E9-96D6-9783BC8F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7CF66-E617-4C58-8990-5F5E416E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D56AC-DE1A-423E-A98B-2F67BB13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C648-7CA8-4972-BE29-0430355E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1B3CF-E9EE-45E0-B5BD-BEC995A7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6A41A-59C2-49A7-883C-0A8818CE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D9459-74EA-4751-BFA4-252549A7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A10DE-B7AC-4752-9874-AA24DEFF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178C0-C65F-437A-9B32-C2D9EFA0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0BAF4-C077-448F-94B0-CED6B468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BD33D-A0F1-4424-9542-9080970F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F42C4-62D7-48F5-B412-932B5BE8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ECD35-229B-413A-8488-CDC52D46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262CA-4468-4BBE-9AC9-E06E4C1B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3A2C-8AF5-4C12-BFB3-32F12291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9E5F5-4D5A-47C6-9DC8-E637905A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0958D-5B24-49BF-95C6-E55EA45D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8A17E-C17F-46CD-8C6D-9B5723EB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B2B2C-F369-468C-A649-2768E6A2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0F332-5937-4A96-B544-3814A338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4AF8F6-9BE8-403F-85AC-7A82B4A5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DF66D-614F-4EDB-8497-01262B87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09A98-351B-4A26-B28C-DEFA5183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43A09-D8A9-4BCC-92AD-D27C2361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20C75-9049-46F8-8F7C-3D6F3BC3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60F8-68D2-46CE-A715-5C80B239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9515B-5A03-4EF4-8695-5E64ABE6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976DD-D3F9-4FF6-8AA7-AC0F219E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B8B99-8D3A-4F31-8247-067ADC30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7CB760-61D9-40C0-922E-3F390C7E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D49F6-E974-4505-BC46-0243F8D5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FE7AF-BA41-4791-A331-4C1D3E30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DD5F26-C2F0-4C44-8352-D34937FC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936F3-7A84-45C6-9EA7-571CF4FF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FA9263-A91C-42B3-9CDE-B1F1F0AC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C10E94-A208-4292-8FE9-25E47433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3C0B-DD69-499F-8941-D8BC19FE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8940F5-CD98-48BA-9ED7-219BC530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AD1678-D47F-49EB-94A0-DECF2909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154337-ED9E-47C8-A8C9-683E028E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1FC93E-6768-4839-926E-DD3CB98A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31E0F9-A57A-4742-B177-ADB2A484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F74BC2-FFF0-4FA2-84D9-0DB84BA2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759F7E-6862-40C5-9203-39307B40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7C5FF0-2E13-4A72-8BFE-922A6381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363C0A-5E31-4305-B2E5-7F29F1E7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1037-79C0-4900-8A53-CD4190EF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2B8E-5434-4DAE-98A9-763A1F01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9438-8F7B-4A7B-9FAD-34072543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9B1-6793-422F-B816-3FFF8CC4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855D-C22B-4C21-8764-1FA03B46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F858-FB4C-4EDF-95ED-25C700DC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BD29-F164-4EC4-B961-411F8E6E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A46E-281A-47B1-8303-5FB9819E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E7F5-3973-4E61-9878-910B049F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917B8-FA4C-4241-B297-1F702EEB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944E2-DEC8-4D45-9489-A6CA6129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E7148-F371-4E7F-8709-8EEB67E5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02A9A-D85F-470A-BC97-6AEDFBE7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6A364-F853-4323-9E0C-867DC5CB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347-B5D5-4270-B43A-93B57BE8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460CD-0219-49CE-96E8-6FCFE61F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AAE2-3874-4EAB-888D-C987A61B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4FC6F-FE7C-4F06-9BD5-72E1E68B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19F1E-8C8E-4098-82C2-D28CB137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F6B7F-180E-4870-B0CD-FF693E11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AC3E4-843A-4F66-9EFE-A2E0E918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870F8-325B-434E-8CC5-66899302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9F6CE-DBD5-4AA9-A103-29FA7ED6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23A97-362F-4DAD-A4AA-F0D641DA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9AE1B-D484-4A20-BF2B-E3E8F646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CE24-4461-45D9-AB04-3A1BE660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96A74-4E9C-44AF-93EB-E6025FCF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0BEF4-2516-4A3D-A337-12781FAF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F419D-6C74-4299-AE7E-DF350BB8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DD713-809A-4914-927A-E8F24E2B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E7C72-18FD-4CE0-BBA1-373875A9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A7101-E17F-47FF-A9A3-44AC0C1E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836D1-A5D8-4153-9AB5-9B2884F0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E3C8B-D240-46DF-A50D-AEDE93F5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14E6E-BCDA-43E3-AAF7-2797DA68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4CD83-B5E0-411B-A256-918DC9DD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ADD-1C3B-4F5C-9DFD-ACB97602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4C413-0875-48C6-A2F4-62B12AD1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6E259-59DC-4342-AE10-A40A9713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8EED1-C69E-424A-B71B-AF2618CA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A3DD7-9D02-4E20-86C2-8925D242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63C2E-4246-4AAA-AB09-D12F9ED1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1B3F7-83DF-4055-B33E-E41274FD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593E0-1F46-47C5-887E-6F6B3B79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D93B7-241B-4B5F-92C3-5490123A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49969-5147-49A7-87EE-1AB08A38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CF93C-B93A-4A11-AA9E-1948C011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592-7499-4C0A-94BC-13E1CD52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6F9DE-B4E7-4633-A32E-B680B822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3445B-A774-437F-84D6-8F9F3AEF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D28D9-D5A0-4523-9078-3DF4BEA7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1AC08-9FC1-494B-AE09-F2CF5D3B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2711B-D332-49A9-A929-178033B9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3FD71-0E21-4CBD-9957-2EDA2D3B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B7A29-14CF-4F71-BF68-237F65F8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F123D-AF2A-44A0-857F-1C59EBDF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00D31-6CA7-4FAF-813E-155B2110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2CEE0-65EA-400E-AB90-D2F4D820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542-E799-4D55-8535-0E3FEA62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65A57-05CC-4CD8-B3B3-8685FD72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6DB84-6374-426E-93B5-48A8DB2D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2D9D3-E3AB-48B9-A977-1CB1C3F5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71ADC-859E-402F-8340-B0497304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B9B20-589C-4F70-8CF7-873A0F48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390E9-3876-4E3F-A0BF-A12B4B9B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2639D-91CB-4889-8BA7-B3FE6500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86B10-BE2E-488B-BCD9-A0A8D0AD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D96BC-5401-4486-A5D4-6431BFB6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5BCFE-814C-435C-AEAC-480FD9A0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E6F-9501-47C8-86AA-178817F4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EB13D-CD49-4DFC-9A6C-F8FFE771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AF116-69AA-4291-8F6F-8A9A2E96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65F34-D617-4806-9512-06496DA0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498C0-24BF-47B8-893A-9433FAB3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91FF0-9B16-452A-8E6C-62DCB558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B9E88-087F-4A50-9712-5CB9BB5A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5EF89-4681-4C80-A5B0-0C9D9C6A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1A4E9-AB54-4FF7-B971-0A1F601B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BCD6C-8376-4DE7-AC56-4E100575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59CF0-DFF5-41F8-B1B9-1667D871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90E4-5C7B-4824-878C-A38AD0DE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9470D-B608-4DC0-BD6E-D5A66E8F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AB35F-0A0E-4E43-A34E-1F3C4B3D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67240-82C6-46D5-9517-967EBBA1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20EC6-9FFE-4D47-B749-33242786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A1096-C31A-4C3E-93DF-DA37B161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EB24F-E1ED-45F5-8A3C-5B95B532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1D454-87ED-447F-839B-DA457B34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1FDEF-93FD-4D67-9A99-78FD00CB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56F62-07E1-4378-A7F1-D13B3CEA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D2222-908F-498E-B3D9-741BAF45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564C-9732-4094-9F1E-16E6C850F4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1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C512-1FC5-4E67-A6C8-ABCE2E2E3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63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65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89D3-984D-445E-92FB-08079EA1B7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71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71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1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dt" idx="3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ftr" idx="3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E0D6-E83D-4A5D-867B-F4BDA6F0AA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5098-A2F7-4EA0-AD11-8400062D65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9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9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9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0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35DD-1F4C-4DC5-933F-F7021153FE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5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5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6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86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89CE-0F99-4D3F-B1EE-611BE1DEF9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F7A9-B93F-4CDC-AAFA-4E7C04A849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B1F8-9034-4B06-8064-B1B21234D5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9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9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3CBF-C25F-43CE-8153-17693B9320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0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0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2B53-3CD1-4C59-A2D5-8D0C7203B2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0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5C8B-1CEA-4FBF-A415-088EBC8782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8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2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C0F9-A660-49D2-8142-050BD5AFD8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6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E87D-AF84-4A38-9A3A-24FBBF564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4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3;&#1080;&#1089;&#1083;&#1086;" TargetMode="External"/><Relationship Id="rId2" Type="http://schemas.openxmlformats.org/officeDocument/2006/relationships/hyperlink" Target="http://ru.wikipedia.org/wiki/&#1063;&#1080;&#1089;&#1083;&#1086;" TargetMode="External"/><Relationship Id="rId3" Type="http://schemas.openxmlformats.org/officeDocument/2006/relationships/hyperlink" Target="http://ru.wikipedia.org/wiki/&#1063;&#1080;&#1089;&#1083;&#1086;" TargetMode="External"/><Relationship Id="rId4" Type="http://schemas.openxmlformats.org/officeDocument/2006/relationships/hyperlink" Target="http://ru.wikipedia.org/wiki/&#1063;&#1080;&#1089;&#1083;&#1086;" TargetMode="External"/><Relationship Id="rId5" Type="http://schemas.openxmlformats.org/officeDocument/2006/relationships/hyperlink" Target="http://ru.wikipedia.org/wiki/&#1063;&#1080;&#1089;&#1083;&#1086;" TargetMode="External"/><Relationship Id="rId6" Type="http://schemas.openxmlformats.org/officeDocument/2006/relationships/hyperlink" Target="http://ru.wikipedia.org/wiki/&#1063;&#1080;&#1089;&#1083;&#1086;" TargetMode="External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Что есть число?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755640" y="4508640"/>
            <a:ext cx="7920000" cy="15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Автор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Дамаев Эльдар - ученик 7 клас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Руководите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Дамаев Р.Х. - учитель математики и информат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1"/>
          <a:stretch/>
        </p:blipFill>
        <p:spPr>
          <a:xfrm>
            <a:off x="1835280" y="2924280"/>
            <a:ext cx="1249200" cy="151272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3635280" y="2924280"/>
            <a:ext cx="1222560" cy="136836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855720" cy="129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4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к соотносятся между собой множества известных нам чисел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ножеств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действительных чисел можно так изобразить с помощью диаграм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"/>
          <p:cNvSpPr/>
          <p:nvPr/>
        </p:nvSpPr>
        <p:spPr>
          <a:xfrm>
            <a:off x="1619280" y="3860640"/>
            <a:ext cx="5329080" cy="249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763640" y="2637000"/>
            <a:ext cx="4896000" cy="122364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050920" y="4869000"/>
            <a:ext cx="3313080" cy="115236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340000" y="5084640"/>
            <a:ext cx="2087640" cy="71928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564000" y="3213000"/>
            <a:ext cx="431640" cy="358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651640" y="5300640"/>
            <a:ext cx="358560" cy="289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500720" y="5229360"/>
            <a:ext cx="287280" cy="288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916360" y="5300640"/>
            <a:ext cx="288720" cy="216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яснилось, что.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роцессе работы над проектом выяснилось, что история математики – это история развития, расширения понятия числа. Сам предмет «математика» долго отождествлялся с арифметикой – наукой о числах. Многие практические задачи, например в геометрии, приводили к необходимости менять, уточнять представление о понятии числа. Впоследствии возник целый раздел математики - Теория чисел, в  котором исследуются числа, числовые отношения как бы в отрыве от непосредственного представления чисел как отношений между объектами. Однако, многие результаты теории чисел впоследствии находят практическое подтверждение и примен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яснилось, что современная наука встречается с величинами такой сложной природы, что для их изучения приходится изобретать все новые виды чисе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d"/>
    <p:sndAc>
      <p:stSnd>
        <p:snd r:embed="rId1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в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т на вопрос – что такое число, поиск этого ответа, исследование истории этого вопроса, помогают более глубоко понять основы математики, побуждают интерес к дальнейшему изучению темы. Например, есть ли ещё другие числа, пока неизвестные мне, как эти числа связать с реальным их представление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  <p:sndAc>
      <p:stSnd>
        <p:snd r:embed="rId1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точн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и по математ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И.Гейзер. История математики в школе. Пособие для учителей. – М.: Просвещение, 1981. – 267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юйков С.Ф. Числа и познание мира.  Полиграфический центр газеты “ИнформМеню”. 1997г. – 112 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ru.wikipedia.org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wiki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/Числ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ипотез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ли бы в математике не ввели число, то его всё равно пришлось бы придум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же я объясню: сколько я прожил; сколько пальцев на руке, насколько Слон больше Моськи ….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5796000" y="3068640"/>
            <a:ext cx="3084480" cy="3332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Цель исследов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4932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следовать историю возникновения понятия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азать применение числовых отношений в практике повседневной деятельности человека (даже ребён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азать необходимость введения понятий отрицательных чисел, нуля, рациональных и иррациональ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668760" cy="324648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лан проведения исследова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читать материалы в учебниках математики по 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ти и прочитать дополнительную литературу по теме: понятие числа, последовательное расширение по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судить с друзьями в группе, родителями,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думать разноуровневые примеры с использованием числовы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анализировать получен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делать вывод о решении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Я узнал, что 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5327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уществует большое количество определений понятия “число”. Например, “Число есть множество, которое измеряется с помощью единиц” – Аристотель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исла – это математические модели реального мира, придуманные человеком для его познания” - Клюйков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ножество действительных чисел состоит из множества рациональных и иррациональных чисе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3167280" cy="424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 могло возникнуть понятие чис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5940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знаем, что первобытные люди занимались охотой и собирательством. Какой то охотник был более добычлив, какой-то,  менее. Обладая разумом, люди просто не могли не сравнивать свои результаты с другими, да и понятие первобытного рейтинга, наверное, существовало. А как сравнивать? Сопоставлением. Один мамонт – один камешек или зарубка, ещё один – ещё один камушек. Вот вам и первое  число – единица, как его не называй. А несколько единиц – это уже определённая система счис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т так и могло возникнуть понятие натурального числа, удовлетворяющее потребность человека в простом подсчёте количества предметов (объектов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математике принято представлять множество натуральных чисел в виде бесконечной последовательности: 1, 2, 3, 4,…….. и обозначать букв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1"/>
          <a:stretch/>
        </p:blipFill>
        <p:spPr>
          <a:xfrm>
            <a:off x="5987880" y="1557360"/>
            <a:ext cx="3156120" cy="3456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то отображают целые числа и ноль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ловек развивается, создаются отношения экономического характера: например, обмен. Как обозначить одно и то же количество по разному: я отдал кому-нибудь несколько предметов или, наоборот, взял у кого-нибудь столько же предметов. Вот и причина, толчок, к возникновению понятия отрицательного числа: отдал 5 предметов, обозначим -5, взял 5 предметов, обозначим +5. Да и ноль можно толковать так – я никому ничего не должен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им образом появляются отрицательные целые числа и но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математике такие числа называются целыми, изображаются в виде бесконечной последовательности 0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2,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3, ….. и обозначаются букв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5681520" y="1628640"/>
            <a:ext cx="3211560" cy="338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акой смысл в дробях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меется три яблока. Надо разделить их на пять человек поровну и ответить на вопрос – сколько каждый получит. Как это сделать? Немного подумав, человек решает – разделю-ка я каждое яблоко на пять равных частей, каждому дам по 1 доле, и так со всеми тремя яблоками. Понятно, что все получат одинаковое количество яблока, но как представить это количеств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тут и вступают в свои права дроби. С каждого яблока все получат по одной пятой части, итого, с трёх яблок – три пятых. В современных обозначениях 3/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тематики все числа, которые могут быть представлены в виде простых дробей ви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любое целое числ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любое натуральное число, называют рациональными и обозначают букв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5796000" y="1700280"/>
          <a:ext cx="3132000" cy="304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1700280"/>
                    <a:ext cx="313200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horz"/>
    <p:sndAc>
      <p:stSnd>
        <p:snd r:embed="rId3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Что такое «квадратура круга»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040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евние любили заниматься геометрией. Отрезки, точнее, длины отрезков, связывали с числами. Таким образом,  работа с геометрическими объектами для них была равноценна работе над числами. В геометрических расчетах при нахождении общей меры стороны и диагонали квадрата они столкнулись с проблемой их несоизмеримости. То есть какую бы длину не приписывали стороне квадрата (целую или дробную), длину диагонали нельзя было выразить в таких же чис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а неразрешимость стала нарицательной и многие не задумываются над смыслом «квадратуры круга». А возникшую проблему математики решили – ввели понятие иррационального чис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ры иррациональных чисел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V¯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ahoma"/>
              </a:rPr>
              <a:t>2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V¯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ahoma"/>
              </a:rPr>
              <a:t>3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V¯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ahoma"/>
              </a:rPr>
              <a:t>5, ℮,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ahoma"/>
              </a:rPr>
              <a:t>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ahoma"/>
              </a:rPr>
              <a:t>(пи)……. В математике множество иррациональных чисел обозначается букв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ahoma"/>
              </a:rPr>
              <a:t>Таким образом, все известные нам в школе числа – это рациональные и иррациональные. В математике их называют действительными числами и обозначают буквой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5265720" y="2063880"/>
            <a:ext cx="3295800" cy="3443040"/>
          </a:xfrm>
          <a:prstGeom prst="rect">
            <a:avLst/>
          </a:prstGeom>
          <a:ln w="0">
            <a:noFill/>
          </a:ln>
        </p:spPr>
      </p:pic>
    </p:spTree>
  </p:cSld>
  <p:transition>
    <p:comb dir="vert"/>
    <p:sndAc>
      <p:stSnd>
        <p:snd r:embed="rId2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8:51:27Z</dcterms:created>
  <dc:creator>Ученик</dc:creator>
  <dc:description/>
  <dc:language>en-US</dc:language>
  <cp:lastModifiedBy>Zver</cp:lastModifiedBy>
  <dcterms:modified xsi:type="dcterms:W3CDTF">2010-01-20T15:04:20Z</dcterms:modified>
  <cp:revision>31</cp:revision>
  <dc:subject/>
  <dc:title>Понятие числа</dc:title>
</cp:coreProperties>
</file>