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2EF8-CADA-47B8-A181-C2B18505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76A7-FEBC-40EC-9FCE-47ACBB6E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3729-F7FC-4AD0-8259-8B02DDE4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FFCA-5B75-4F5B-A55B-C404B93A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CAAE-2821-49A7-B704-3F4E037B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39CF-DAD7-49E6-9A77-1600A27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DB68-39D4-4998-8852-51329577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3EC2-24F2-4B9E-8A34-0564CC0F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25B-5036-4B3C-846A-CC3D3478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AC46-F5F6-4D2F-BD1D-3D9F8E7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612E-0654-40AC-B81F-9DF952A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2AC8-CA53-47B4-905F-D54A70F4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22F6-AB69-466B-A1EE-31698FB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C4FE-A26E-44B8-916C-44D402D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9B6-F82E-46CD-BCD3-8A5D8842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D117-2458-417F-8FE0-78B4AA43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10FD-054E-48B4-9C1C-1F6146DA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0562-E32E-4483-B1D2-FC48DD4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0A02-7194-411C-9775-B20B9088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992E-BD83-4542-81BF-98C9BBAB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747C-97C8-4270-8C08-E7379735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F254-9145-4830-AA3D-CF40144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5866-A090-4547-A367-3EABDBF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4EED-EA7E-451B-A636-DA31B7E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F80B-E17A-4065-B35A-641DFE972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FBE7-63D9-4AFE-B434-7D8A35FC70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dfdef6"/>
                </a:solidFill>
                <a:latin typeface="Arial"/>
              </a:rPr>
              <a:t>Термоядерная энергия</a:t>
            </a:r>
            <a:endParaRPr b="0" lang="en-US" sz="7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Практически неисчерпаемые запасы топлива (водород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) 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род — самый распространённый элемент во Вселенной. На его долю приходится около 92% всех атомов (8% составляют атомы гелия, доля всех остальных вместе взятых элементов — менее 0,1%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648320" y="1847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Распространенность топли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пливо можно добывать из морской воды на любом побережье мира, что делает невозможным монополизацию горючего одним или группой ст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11280" y="3943440"/>
            <a:ext cx="799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Отсутствие продуктов сгорания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03884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дуктами сгорания являются сухие газы или водяные па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359240" y="1793880"/>
            <a:ext cx="4327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сравнению с ядерными реакторами, вырабатывается незначительное количество радиоактивных от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960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Формула расчета энергии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*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масса первоначальных веществ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масса полученных,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корость св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Эквивалентность термоядерного топлива и топлива других видо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+D=P+T (т. топливо) - 1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сса нефти – 5062377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сса угля – 7684808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сса пропана – 4739246 к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Разработ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ирные: создание термоядерных ракетных двигателей. (В разработк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енные: Термоядерная бомба (1—заряд плутония или урана; 2—смесь дейтерия и трития или лития; 3—корпус бомб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5292720" y="3943440"/>
            <a:ext cx="31669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Значение термоядерных реакц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лнце – яркий пример «камеры», где постоянно происходят термоядерные реак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 известно, без солнца невозможна жизнь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951280" cy="2943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140360" y="4724280"/>
            <a:ext cx="500364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Биологическое воздейств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рмоядерное воздействие схоже с атом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4829040" y="1413000"/>
            <a:ext cx="3846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Радиация – ионизирующие излучения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745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диоактивность - неустойчивость ядер некоторых атомов, проявляющаяся в их способности к самопроизвольным распаду, сопровождающимся испусканием ионизирующего излучения или ради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4140360" y="1989000"/>
            <a:ext cx="468612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13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накомиться в общих чертах с понятиями «термоядерная энергия», «термоядерный синтез», «термоядерная реакц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плюсы термоядерной энерге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, какие исследования проходят в мирных цел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накомиться с термоядерными воздействием на живые организ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рмоядерная энергия – это энергия будущего, безопасная и дешев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здав термоядерный двигатель, можно перемещаться между планетам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уть не займет много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талось только одно – «поймать» эту энергию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рмоядерная реакция - процесс, в ходе которого два или несколько легких ядер образуют более тяжелое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2456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Легкие ядр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кие ядра – это водоро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гелий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литий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бо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также их изотопы. Так, например, только водорода существует 3 ви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й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427640" y="1557360"/>
            <a:ext cx="471636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утся два или больше атомных ядра и с применением некоторой силы сближаются настолько, что формируется новое ядро. Оно будет иметь несколько меньшую массу чем сумма масс исходных ядер, а разница становится энерги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что выделяется в процессе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5291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250920" y="981000"/>
            <a:ext cx="8641080" cy="4462560"/>
            <a:chOff x="250920" y="981000"/>
            <a:chExt cx="8641080" cy="4462560"/>
          </a:xfrm>
        </p:grpSpPr>
        <p:cxnSp>
          <p:nvCxnSpPr>
            <p:cNvPr id="524" name="_s135181"/>
            <p:cNvCxnSpPr>
              <a:stCxn id="525" idx="0"/>
              <a:endCxn id="526" idx="2"/>
            </p:cNvCxnSpPr>
            <p:nvPr/>
          </p:nvCxnSpPr>
          <p:spPr>
            <a:xfrm flipV="1" rot="16200000">
              <a:off x="5288040" y="2048400"/>
              <a:ext cx="893160" cy="2326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7" name="_s135180"/>
            <p:cNvCxnSpPr>
              <a:stCxn id="528" idx="0"/>
              <a:endCxn id="526" idx="2"/>
            </p:cNvCxnSpPr>
            <p:nvPr/>
          </p:nvCxnSpPr>
          <p:spPr>
            <a:xfrm flipH="1" flipV="1" rot="5400000">
              <a:off x="2962080" y="2048040"/>
              <a:ext cx="893160" cy="2327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6" name="_s135176"/>
            <p:cNvSpPr/>
            <p:nvPr/>
          </p:nvSpPr>
          <p:spPr>
            <a:xfrm>
              <a:off x="2577960" y="981000"/>
              <a:ext cx="3988080" cy="178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ffff"/>
                  </a:solidFill>
                  <a:latin typeface="Arial"/>
                </a:rPr>
                <a:t>Термоядерные 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ffff"/>
                  </a:solidFill>
                  <a:latin typeface="Arial"/>
                </a:rPr>
                <a:t>реакции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135177"/>
            <p:cNvSpPr/>
            <p:nvPr/>
          </p:nvSpPr>
          <p:spPr>
            <a:xfrm>
              <a:off x="250920" y="3658680"/>
              <a:ext cx="3988080" cy="178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Нейтронные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135178"/>
            <p:cNvSpPr/>
            <p:nvPr/>
          </p:nvSpPr>
          <p:spPr>
            <a:xfrm>
              <a:off x="4903920" y="3658680"/>
              <a:ext cx="3988080" cy="178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Безнейтронные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«Безнейтронные» реакции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иболее перспективны «безнейтронные» реакции, так как порождаемый термоядерным синтезом нейтронный поток уносит значительную часть мощности и порождает наведенную радиоактивность в конструкции реакт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fdef6"/>
                </a:solidFill>
                <a:uFillTx/>
                <a:latin typeface="Arial"/>
              </a:rPr>
              <a:t>Реакция синтеза в качестве промышленного источника электроэнергии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настоящее время рассматривается вопрос о целесообразности приме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люсы термоядерной энергетики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2:31:05Z</dcterms:created>
  <dc:creator>User</dc:creator>
  <dc:description/>
  <dc:language>en-US</dc:language>
  <cp:lastModifiedBy>Гимназия</cp:lastModifiedBy>
  <dcterms:modified xsi:type="dcterms:W3CDTF">2009-04-21T05:01:42Z</dcterms:modified>
  <cp:revision>34</cp:revision>
  <dc:subject/>
  <dc:title>Термоядерная энергия</dc:title>
</cp:coreProperties>
</file>