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himes.wav" ContentType="audio/x-wav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CFC8-47D6-4699-8C62-37DCCE752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50BF-0976-4904-A3E8-85AAE4BD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749D-5466-4BE9-B400-E08E0AA79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EDB9-45C6-4610-BB43-BBA9FB56C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5BA8-7BC4-47FF-90F5-DDDFC1343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3D0B-7047-426C-8403-5CBFA708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C721-FECB-45B0-8966-90D9B5D9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5260-2D25-4D40-9D29-1E1910E2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37B1-D40D-4D22-9042-936979D1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C939-13C9-4970-82E6-E62BFF81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B14F-9A14-4DBE-B5F0-26DFF3FD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FFDF-74FF-42EF-B79D-E93F0B9A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0F69-266E-4181-87FC-9335FF95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4BF3-6DCA-489F-9AC1-341B5FF5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Georg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9519-743A-4555-93AE-AD4CB7E7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5027-8563-4535-9A6C-7D4260BC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B6F5-599E-41C5-B363-EFEFFD750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9EA1-0BA5-4286-A673-785522D0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07CB-AF22-41C3-9006-23F93C49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F1AF-F53F-4BBF-B472-37A4FED6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4599-2EE8-43DA-B08E-97134AF1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5BF2-773B-4897-801F-0206C26B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97CC-9C00-49A9-BB9C-5D905CBA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C0DE-E431-4708-BEB1-4FAC1625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c3722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2CD0-877F-41C0-98C9-BEAA97227B9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9163-EFBE-4733-B529-2C1875A21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bb5f0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455B-AEA5-4082-8B37-9A1AC94B925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97F3-EB10-4300-9F14-9BB8C3F23F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2600" y="213840"/>
            <a:ext cx="835812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II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гимназический конкурс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исследовательских работ и творческих проектов дошкольников  и школьников 1 – 6 классов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«Юный исследователь»</a:t>
            </a:r>
            <a:br>
              <a:rPr sz="2800"/>
            </a:br>
            <a:r>
              <a:rPr b="1" i="1" lang="ru-RU" sz="5400" spc="-1" strike="noStrike">
                <a:solidFill>
                  <a:srgbClr val="ffffff"/>
                </a:solidFill>
                <a:latin typeface="Century Schoolbook"/>
                <a:ea typeface="Arial"/>
              </a:rPr>
              <a:t>«Легенды</a:t>
            </a:r>
            <a:r>
              <a:rPr b="1" i="1" lang="en-US" sz="5400" spc="-1" strike="noStrike">
                <a:solidFill>
                  <a:srgbClr val="ffffff"/>
                </a:solidFill>
                <a:latin typeface="Century Schoolbook"/>
                <a:ea typeface="Arial"/>
              </a:rPr>
              <a:t> </a:t>
            </a:r>
            <a:r>
              <a:rPr b="1" i="1" lang="ru-RU" sz="5400" spc="-1" strike="noStrike">
                <a:solidFill>
                  <a:srgbClr val="ffffff"/>
                </a:solidFill>
                <a:latin typeface="Century Schoolbook"/>
                <a:ea typeface="Arial"/>
              </a:rPr>
              <a:t> </a:t>
            </a:r>
            <a:br>
              <a:rPr sz="5400"/>
            </a:br>
            <a:r>
              <a:rPr b="1" i="1" lang="ru-RU" sz="5400" spc="-1" strike="noStrike">
                <a:solidFill>
                  <a:srgbClr val="ffffff"/>
                </a:solidFill>
                <a:latin typeface="Century Schoolbook"/>
                <a:ea typeface="Arial"/>
              </a:rPr>
              <a:t>родного края»</a:t>
            </a:r>
            <a:endParaRPr b="1" lang="en-US" sz="5400" spc="-1" strike="noStrike">
              <a:solidFill>
                <a:srgbClr val="feec94"/>
              </a:solidFill>
              <a:latin typeface="Georg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85480" y="4214520"/>
            <a:ext cx="835812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eorgia"/>
              </a:rPr>
              <a:t>Выполнила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: Качалкова Мария, ученица 4 «Б» класса МОУ «Гимназия»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ffff00"/>
                </a:solidFill>
                <a:latin typeface="Georgia"/>
              </a:rPr>
              <a:t>Руководитель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: Гусева Нелли Николаевна, учитель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Новоуральский городской округ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2009 год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F4F7-2995-4B8D-AD17-36DC92266DCF}" type="slidenum">
              <a:t>1</a:t>
            </a:fld>
          </a:p>
        </p:txBody>
      </p:sp>
    </p:spTree>
  </p:cSld>
  <p:transition spd="med">
    <p:strips dir="rd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Georgia"/>
              </a:rPr>
              <a:t>Результаты анкетирования</a:t>
            </a:r>
            <a:endParaRPr b="1" lang="en-US" sz="4400" spc="-1" strike="noStrike">
              <a:solidFill>
                <a:srgbClr val="feec94"/>
              </a:solidFill>
              <a:latin typeface="Georgi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57120" y="1857240"/>
          <a:ext cx="8358120" cy="4540320"/>
        </p:xfrm>
        <a:graphic>
          <a:graphicData uri="http://schemas.openxmlformats.org/drawingml/2006/table">
            <a:tbl>
              <a:tblPr/>
              <a:tblGrid>
                <a:gridCol w="1143000"/>
                <a:gridCol w="1643040"/>
                <a:gridCol w="2000520"/>
                <a:gridCol w="2000160"/>
                <a:gridCol w="157140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возрас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читают, что легенда –это вымысе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В легенде содержатся исторические фак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Знают  о легенде горы семибратск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Не знают ни одной легенды родного кр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5f03"/>
                          </a:solidFill>
                          <a:latin typeface="Georgia"/>
                        </a:rPr>
                        <a:t>9 -12 л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5f03"/>
                          </a:solidFill>
                          <a:latin typeface="Georgia"/>
                        </a:rPr>
                        <a:t>8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5f03"/>
                          </a:solidFill>
                          <a:latin typeface="Georgia"/>
                        </a:rPr>
                        <a:t>2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5f03"/>
                          </a:solidFill>
                          <a:latin typeface="Georgia"/>
                        </a:rPr>
                        <a:t>1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5f03"/>
                          </a:solidFill>
                          <a:latin typeface="Georgia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5f03"/>
                          </a:solidFill>
                          <a:latin typeface="Georgia"/>
                        </a:rPr>
                        <a:t>30 40 л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5f03"/>
                          </a:solidFill>
                          <a:latin typeface="Georgia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5f03"/>
                          </a:solidFill>
                          <a:latin typeface="Georgia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5f03"/>
                          </a:solidFill>
                          <a:latin typeface="Georgia"/>
                        </a:rPr>
                        <a:t>6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5f03"/>
                          </a:solidFill>
                          <a:latin typeface="Georgia"/>
                        </a:rPr>
                        <a:t>1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5f03"/>
                          </a:solidFill>
                          <a:latin typeface="Georgia"/>
                        </a:rPr>
                        <a:t>60 -70 л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5f03"/>
                          </a:solidFill>
                          <a:latin typeface="Georgia"/>
                        </a:rPr>
                        <a:t>3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5f03"/>
                          </a:solidFill>
                          <a:latin typeface="Georgia"/>
                        </a:rPr>
                        <a:t>6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5f03"/>
                          </a:solidFill>
                          <a:latin typeface="Georgia"/>
                        </a:rPr>
                        <a:t>7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5f03"/>
                          </a:solidFill>
                          <a:latin typeface="Georgia"/>
                        </a:rPr>
                        <a:t>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1067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b5f03"/>
                          </a:solidFill>
                          <a:latin typeface="Georgia"/>
                        </a:rPr>
                        <a:t>в анкетировании приняли участие  60 челове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410F-DA35-430B-8660-5BEF717D5D9B}" type="slidenum">
              <a:t>10</a:t>
            </a:fld>
          </a:p>
        </p:txBody>
      </p:sp>
    </p:spTree>
  </p:cSld>
  <p:transition spd="med">
    <p:strips dir="rd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642600"/>
            <a:ext cx="7772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Georgia"/>
              </a:rPr>
              <a:t>Из таблицы видно, что чем меньше возраст анкетируемого, тем меньше он знает легенд о родном крае, а также  дети считают легенду вымыслом, лишенным исторической ценности.</a:t>
            </a:r>
            <a:endParaRPr b="1" lang="en-US" sz="3600" spc="-1" strike="noStrike">
              <a:solidFill>
                <a:srgbClr val="feec94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9D65-2468-4053-8271-C063F5C42886}" type="slidenum">
              <a:t>11</a:t>
            </a:fld>
          </a:p>
        </p:txBody>
      </p:sp>
    </p:spTree>
  </p:cSld>
  <p:transition spd="med">
    <p:strips dir="rd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385120" cy="45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Georgia"/>
              </a:rPr>
              <a:t>И чем старше возраст анкетируемых, тем больше они знают легенд и считают, что легенды зачастую содержат исторические факты.</a:t>
            </a:r>
            <a:r>
              <a:rPr b="1" lang="en-US" sz="3600" spc="-1" strike="noStrike">
                <a:solidFill>
                  <a:srgbClr val="feec94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feec94"/>
                </a:solidFill>
                <a:latin typeface="Georgia"/>
              </a:rPr>
              <a:t>Некоторые анкетируемые                       ( люди  старшего поколения) рассказали несколько легенд о горе семибратской, тем интереснее и познавательнее было общение с ними.</a:t>
            </a:r>
            <a:endParaRPr b="1" lang="en-US" sz="3600" spc="-1" strike="noStrike">
              <a:solidFill>
                <a:srgbClr val="feec94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223A-12FD-4236-AE17-8656413A1229}" type="slidenum">
              <a:t>12</a:t>
            </a:fld>
          </a:p>
        </p:txBody>
      </p:sp>
    </p:spTree>
  </p:cSld>
  <p:transition spd="med">
    <p:strips dir="rd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eorgia"/>
              </a:rPr>
              <a:t>Выводы:</a:t>
            </a:r>
            <a:endParaRPr b="1" lang="en-US" sz="4400" spc="-1" strike="noStrike">
              <a:solidFill>
                <a:srgbClr val="feec94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8080" y="1269720"/>
            <a:ext cx="85215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Изучив значение слова «легенда», я пришла к выводу, что наиболее правильное толкование мы находим в словаре Ожегова, где говорится об историческом значении легенды. 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К сожалению, мои ровесники знают мало легенд о родном крае. Для того, чтобы знать историю, надо много читать, общаться с людьми старшего поколения. А когда мы вырастем, передавать легенды своим детям, как частицу истории родного края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2" name="Пятно 1 3"/>
          <p:cNvSpPr/>
          <p:nvPr/>
        </p:nvSpPr>
        <p:spPr>
          <a:xfrm>
            <a:off x="571680" y="1428840"/>
            <a:ext cx="357120" cy="357120"/>
          </a:xfrm>
          <a:prstGeom prst="irregularSeal1">
            <a:avLst/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ятно 1 4"/>
          <p:cNvSpPr/>
          <p:nvPr/>
        </p:nvSpPr>
        <p:spPr>
          <a:xfrm>
            <a:off x="571680" y="3571920"/>
            <a:ext cx="357120" cy="357120"/>
          </a:xfrm>
          <a:prstGeom prst="irregularSeal1">
            <a:avLst/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BCB1-4B99-4795-B487-D7C51FE6ADCE}" type="slidenum">
              <a:t>13</a:t>
            </a:fld>
          </a:p>
        </p:txBody>
      </p:sp>
    </p:spTree>
  </p:cSld>
  <p:transition spd="med">
    <p:strips dir="rd"/>
    <p:sndAc>
      <p:stSnd>
        <p:snd r:embed="rId2" name="chimes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Georgia"/>
              </a:rPr>
              <a:t>Список используемой литературы:</a:t>
            </a:r>
            <a:endParaRPr b="1" lang="en-US" sz="3500" spc="-1" strike="noStrike">
              <a:solidFill>
                <a:srgbClr val="feec94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Ожегов С.И. и Шведова Н.Ю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Толковый словарь русского языка: 80 000 слов и фразеологических выражений/ Российская академия наук. Институт русского языка им. В.В Виноградова.- 4-е изд.. дополненное.- М.; ООО «Издательство ЭЛПИС»,2003 – 944 стр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Кириллова И.А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«Легенды Земли Уральской», ООО «Издательский дом «Аркаим». 2009г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г.Челябинск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Википедия – Легенды горы Семибратской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24C9-1F0F-48AD-B2F0-B1CA17F900E1}" type="slidenum">
              <a:t>14</a:t>
            </a:fld>
          </a:p>
        </p:txBody>
      </p:sp>
    </p:spTree>
  </p:cSld>
  <p:transition spd="med">
    <p:strips dir="rd"/>
    <p:sndAc>
      <p:stSnd>
        <p:snd r:embed="rId2" name="chimes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7000"/>
                            </p:stCondLst>
                            <p:childTnLst>
                              <p:par>
                                <p:cTn id="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214200" y="928800"/>
            <a:ext cx="8778960" cy="45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1" lang="en-US" sz="66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2920" y="244080"/>
            <a:ext cx="8858160" cy="625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Georgia"/>
              </a:rPr>
              <a:t>Благодарю всех, кто мне помогал: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00b0f0"/>
                </a:solidFill>
                <a:latin typeface="Georgia"/>
              </a:rPr>
              <a:t>мою маму – Качалкову Ольгу Викторовну и  моего классного руководителя – </a:t>
            </a:r>
            <a:br>
              <a:rPr sz="2800"/>
            </a:br>
            <a:r>
              <a:rPr b="1" i="1" lang="en-US" sz="2800" spc="-1" strike="noStrike">
                <a:solidFill>
                  <a:srgbClr val="00b0f0"/>
                </a:solidFill>
                <a:latin typeface="Georgia"/>
              </a:rPr>
              <a:t>                             Гусеву Нелли Николаевну</a:t>
            </a:r>
            <a:br>
              <a:rPr sz="2800"/>
            </a:br>
            <a:br>
              <a:rPr sz="2800"/>
            </a:br>
            <a:r>
              <a:rPr b="1" i="1" lang="en-US" sz="4400" spc="-1" strike="noStrike">
                <a:solidFill>
                  <a:srgbClr val="ffff00"/>
                </a:solidFill>
                <a:latin typeface="Georgia"/>
              </a:rPr>
              <a:t>и всех, кто меня слушал!</a:t>
            </a:r>
            <a:endParaRPr b="1" lang="en-US" sz="4400" spc="-1" strike="noStrike">
              <a:solidFill>
                <a:srgbClr val="feec94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046B-D33A-4508-A0DA-4CFF7E7FFCC3}" type="slidenum">
              <a:t>15</a:t>
            </a:fld>
          </a:p>
        </p:txBody>
      </p:sp>
    </p:spTree>
  </p:cSld>
  <p:transition spd="med">
    <p:strips dir="rd"/>
    <p:sndAc>
      <p:stSnd>
        <p:snd r:embed="rId2" name="chimes.wav"/>
      </p:stSnd>
    </p:sndAc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6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6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3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4000" spc="-1" strike="noStrike">
                <a:solidFill>
                  <a:srgbClr val="ff7029"/>
                </a:solidFill>
                <a:latin typeface="Georgia"/>
              </a:rPr>
              <a:t>Цель исследования</a:t>
            </a:r>
            <a:r>
              <a:rPr b="1" lang="en-US" sz="2400" spc="-1" strike="noStrike">
                <a:solidFill>
                  <a:srgbClr val="ff7029"/>
                </a:solidFill>
                <a:latin typeface="Georgia"/>
              </a:rPr>
              <a:t> </a:t>
            </a:r>
            <a:r>
              <a:rPr b="1" lang="en-US" sz="4000" spc="-1" strike="noStrike">
                <a:solidFill>
                  <a:srgbClr val="feec94"/>
                </a:solidFill>
                <a:latin typeface="Georgia"/>
              </a:rPr>
              <a:t>– выяснить, что такое легенда, как зарождаются легенды и как долго живут легенды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Georgia"/>
              </a:rPr>
              <a:t> </a:t>
            </a:r>
            <a:endParaRPr b="1" lang="en-US" sz="2400" spc="-1" strike="noStrike">
              <a:solidFill>
                <a:srgbClr val="feec94"/>
              </a:solidFill>
              <a:latin typeface="Georgia"/>
            </a:endParaRPr>
          </a:p>
        </p:txBody>
      </p:sp>
      <p:pic>
        <p:nvPicPr>
          <p:cNvPr id="101" name="Содержимое 4" descr="гора2.jpg"/>
          <p:cNvPicPr/>
          <p:nvPr/>
        </p:nvPicPr>
        <p:blipFill>
          <a:blip r:embed="rId2"/>
          <a:stretch/>
        </p:blipFill>
        <p:spPr>
          <a:xfrm>
            <a:off x="1285920" y="2857680"/>
            <a:ext cx="2857320" cy="3214440"/>
          </a:xfrm>
          <a:prstGeom prst="rect">
            <a:avLst/>
          </a:prstGeom>
          <a:ln w="0">
            <a:noFill/>
          </a:ln>
        </p:spPr>
      </p:pic>
      <p:pic>
        <p:nvPicPr>
          <p:cNvPr id="102" name="Содержимое 5" descr="гора4.jpg"/>
          <p:cNvPicPr/>
          <p:nvPr/>
        </p:nvPicPr>
        <p:blipFill>
          <a:blip r:embed="rId3"/>
          <a:stretch/>
        </p:blipFill>
        <p:spPr>
          <a:xfrm>
            <a:off x="4929120" y="2857680"/>
            <a:ext cx="2940120" cy="321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8528-B1EE-4D84-8DC7-F58611E6DD19}" type="slidenum">
              <a:t>2</a:t>
            </a:fld>
          </a:p>
        </p:txBody>
      </p:sp>
    </p:spTree>
  </p:cSld>
  <p:transition spd="med">
    <p:strips dir="rd"/>
    <p:sndAc>
      <p:stSnd>
        <p:snd r:embed="rId4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385120" cy="597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Для достижения цели я определила следующие задачи: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c266"/>
                </a:solidFill>
                <a:latin typeface="Georgia"/>
              </a:rPr>
              <a:t>1. Дать определение слову «легенда»;</a:t>
            </a:r>
            <a:br>
              <a:rPr sz="3200"/>
            </a:br>
            <a:r>
              <a:rPr b="1" lang="en-US" sz="3200" spc="-1" strike="noStrike">
                <a:solidFill>
                  <a:srgbClr val="ffc266"/>
                </a:solidFill>
                <a:latin typeface="Georgia"/>
              </a:rPr>
              <a:t>2. Рассказать о наиболее известных  легендах родного края;</a:t>
            </a:r>
            <a:br>
              <a:rPr sz="3200"/>
            </a:br>
            <a:r>
              <a:rPr b="1" lang="en-US" sz="3200" spc="-1" strike="noStrike">
                <a:solidFill>
                  <a:srgbClr val="ffc266"/>
                </a:solidFill>
                <a:latin typeface="Georgia"/>
              </a:rPr>
              <a:t>3. Выяснить с помощью анкетирования, что люди знают о легендах и какие легенды им известны;</a:t>
            </a:r>
            <a:br>
              <a:rPr sz="3200"/>
            </a:br>
            <a:r>
              <a:rPr b="1" lang="en-US" sz="3200" spc="-1" strike="noStrike">
                <a:solidFill>
                  <a:srgbClr val="ffc266"/>
                </a:solidFill>
                <a:latin typeface="Georgia"/>
              </a:rPr>
              <a:t>4. Сделать выводы.</a:t>
            </a:r>
            <a:endParaRPr b="1" lang="en-US" sz="3200" spc="-1" strike="noStrike">
              <a:solidFill>
                <a:srgbClr val="feec94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3D91-76CB-4C69-BFA7-07CD01DAB565}" type="slidenum">
              <a:t>3</a:t>
            </a:fld>
          </a:p>
        </p:txBody>
      </p:sp>
    </p:spTree>
  </p:cSld>
  <p:transition spd="med">
    <p:strips dir="rd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0" y="333360"/>
            <a:ext cx="9144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285840" y="1714680"/>
            <a:ext cx="857232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99"/>
                </a:solidFill>
                <a:latin typeface="Georgia"/>
              </a:rPr>
              <a:t>Мною была выдвинут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99"/>
                </a:solidFill>
                <a:latin typeface="Georgia"/>
              </a:rPr>
              <a:t>гипотеза,</a:t>
            </a: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 что легенда – это вымысел, таинственная сказка, и чем сказочне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её содержание, тем дольше живё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легенда, передаваясь из уст в уст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eec94"/>
                </a:solidFill>
                <a:latin typeface="Georgia"/>
              </a:rPr>
              <a:t>Частично гипотеза подтвердилась, но в процессе работы было установлено, что легенды имеют под собой историческую основ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6" descr="Изображение 004"/>
          <p:cNvPicPr/>
          <p:nvPr/>
        </p:nvPicPr>
        <p:blipFill>
          <a:blip r:embed="rId2"/>
          <a:srcRect l="11759" t="18169" r="7362" b="9181"/>
          <a:stretch/>
        </p:blipFill>
        <p:spPr>
          <a:xfrm>
            <a:off x="6659640" y="260280"/>
            <a:ext cx="1746000" cy="216072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FBE2-EC03-4CF5-8E3C-17B9027DD28E}" type="slidenum">
              <a:t>4</a:t>
            </a:fld>
          </a:p>
        </p:txBody>
      </p:sp>
    </p:spTree>
  </p:cSld>
  <p:transition spd="med">
    <p:strips dir="rd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85880" y="2214360"/>
            <a:ext cx="7772400" cy="22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Georgia"/>
              </a:rPr>
              <a:t> </a:t>
            </a:r>
            <a:r>
              <a:rPr b="1" lang="ru-RU" sz="5400" spc="-1" strike="noStrike">
                <a:solidFill>
                  <a:srgbClr val="feec94"/>
                </a:solidFill>
                <a:latin typeface="Georgia"/>
              </a:rPr>
              <a:t> </a:t>
            </a:r>
            <a:endParaRPr b="1" lang="en-US" sz="5400" spc="-1" strike="noStrike">
              <a:solidFill>
                <a:srgbClr val="feec94"/>
              </a:solidFill>
              <a:latin typeface="Georg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785520" y="1499760"/>
            <a:ext cx="765324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В переводе с латинского языка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Legenda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 –то, что должно быть прочитано. В толковом словаре С.И.Ожегова  слово «легенда» имеет несколько значений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поэтическое предание о каком-нибудь историческом событии;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предание о героических событиях прошлого.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9" name="Прямоугольник 3"/>
          <p:cNvSpPr/>
          <p:nvPr/>
        </p:nvSpPr>
        <p:spPr>
          <a:xfrm>
            <a:off x="2143080" y="357120"/>
            <a:ext cx="362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Century Schoolbook"/>
              </a:rPr>
              <a:t>Легенд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EFB2-F99D-47D9-97FD-77A1EF19C290}" type="slidenum">
              <a:t>5</a:t>
            </a:fld>
          </a:p>
        </p:txBody>
      </p:sp>
    </p:spTree>
  </p:cSld>
  <p:transition spd="med">
    <p:strips dir="rd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3840" y="2428920"/>
            <a:ext cx="8643960" cy="42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Georgia"/>
              </a:rPr>
              <a:t>Легенды горы семибратской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Georgia"/>
              </a:rPr>
              <a:t>В различных источниках я нашла 9 легенд о горе семибратской. Но более всего меня заинтересовала эта легенда…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Georgia"/>
              </a:rPr>
              <a:t>Ермак тут шел. А семь волшеб- 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Georgia"/>
              </a:rPr>
              <a:t>ных братьев на дорогу ему гор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Georgia"/>
              </a:rPr>
              <a:t>навалили. Только он пройдет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Georgia"/>
              </a:rPr>
              <a:t>одну – они ему уже другую 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Georgia"/>
              </a:rPr>
              <a:t>навалили. Взмолился Ермак: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Georgia"/>
              </a:rPr>
              <a:t>«Не дай, Господи, посмеяться 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Georgia"/>
              </a:rPr>
              <a:t>колдунам над крестом  Твоим.» 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Georgia"/>
              </a:rPr>
              <a:t>Поднял он крест и пошел на них. В тот же миг превратились колдуны в утесы. Иной раз ночью слышно, как сердца в них колотятся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Georgia"/>
            </a:endParaRPr>
          </a:p>
        </p:txBody>
      </p:sp>
      <p:pic>
        <p:nvPicPr>
          <p:cNvPr id="111" name="Содержимое 3" descr="гора семибр.jpg"/>
          <p:cNvPicPr/>
          <p:nvPr/>
        </p:nvPicPr>
        <p:blipFill>
          <a:blip r:embed="rId2"/>
          <a:stretch/>
        </p:blipFill>
        <p:spPr>
          <a:xfrm>
            <a:off x="6215040" y="1428840"/>
            <a:ext cx="2716200" cy="321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8993-14A7-439B-BEF5-4940518F5E28}" type="slidenum">
              <a:t>6</a:t>
            </a:fld>
          </a:p>
        </p:txBody>
      </p:sp>
    </p:spTree>
  </p:cSld>
  <p:transition spd="med">
    <p:strips dir="rd"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3851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Georgia"/>
              </a:rPr>
              <a:t>Ещё одна легенда…</a:t>
            </a:r>
            <a:endParaRPr b="1" lang="en-US" sz="4400" spc="-1" strike="noStrike">
              <a:solidFill>
                <a:srgbClr val="feec94"/>
              </a:solidFill>
              <a:latin typeface="Georgi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5480" y="1071360"/>
            <a:ext cx="85597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Давно это было… жило тогда здесь племя сильное и красивое, мудрое и зоркое. Но всех краше была дочь старого Тошема красавица Нейва. Спокойно жило племя . Но однажды с востока в озерную долину пришли воинственные люди. Молодой охотник Таватуй призвал к борьбе, началось сражение. Сражен был Таватуй, с ужасом увидела Нейва гибель любимого. Полились из её глаз слёзы и скрыли могучего Таватуя. А красавица Нейва бросилась со скалы и, ударившись об острые камни, превратилась в прекрасную реку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5251-70FA-4444-9EF5-30125B8630EF}" type="slidenum">
              <a:t>7</a:t>
            </a:fld>
          </a:p>
        </p:txBody>
      </p:sp>
    </p:spTree>
  </p:cSld>
  <p:transition spd="med">
    <p:strips dir="rd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85840" y="642600"/>
            <a:ext cx="841680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1040040" indent="-20772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Georgia"/>
              </a:rPr>
              <a:t>  </a:t>
            </a:r>
            <a:r>
              <a:rPr b="0" i="1" lang="en-US" sz="3600" spc="-1" strike="noStrike">
                <a:solidFill>
                  <a:srgbClr val="ffff00"/>
                </a:solidFill>
                <a:latin typeface="Georgia"/>
              </a:rPr>
              <a:t>Предания и легенды о нашей Уральской земле переходили из уст в уста, из поколения в поколение, обрастая элементами сказок, художественного вымысла. Зачастую они содержат бесценные сведения, освещающие историю нашего края светом человеческой мудрости…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91AC-F785-485A-B30D-2839227D6749}" type="slidenum">
              <a:t>8</a:t>
            </a:fld>
          </a:p>
        </p:txBody>
      </p:sp>
    </p:spTree>
  </p:cSld>
  <p:transition spd="med">
    <p:strips dir="rd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385120" cy="557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Georgia"/>
              </a:rPr>
              <a:t>Для того, чтобы узнать, что люди знают о легендах и какие легенды родного края им известны, я провела анкетирование людей разных возрастных групп: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Georgia"/>
              </a:rPr>
              <a:t>     * от 9 до 12 лет;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Georgia"/>
              </a:rPr>
              <a:t>     * от 30 до 40 лет;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Georgia"/>
              </a:rPr>
              <a:t>     *  от 60 до 70 лет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6893-DDE3-4176-99CA-699F74F5A2B5}" type="slidenum">
              <a:t>9</a:t>
            </a:fld>
          </a:p>
        </p:txBody>
      </p:sp>
    </p:spTree>
  </p:cSld>
  <p:transition spd="med">
    <p:strips dir="rd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6:13:07Z</dcterms:created>
  <dc:creator>админ</dc:creator>
  <dc:description/>
  <dc:language>en-US</dc:language>
  <cp:lastModifiedBy>User</cp:lastModifiedBy>
  <dcterms:modified xsi:type="dcterms:W3CDTF">2010-01-27T14:48:04Z</dcterms:modified>
  <cp:revision>143</cp:revision>
  <dc:subject/>
  <dc:title>Слайд 1</dc:title>
</cp:coreProperties>
</file>