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20720" y="53604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ff9966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ff9966"/>
                </a:solidFill>
                <a:latin typeface="Arial"/>
              </a:rPr>
              <a:t>Творческая работа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1979640"/>
            <a:ext cx="8772480" cy="6089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ученицы 11 “Б” класса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Громоздовой Екатерины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 u="sng">
                <a:solidFill>
                  <a:srgbClr val="cccccc"/>
                </a:solidFill>
                <a:uFillTx/>
                <a:latin typeface="Times New Roman"/>
              </a:rPr>
              <a:t>Некоторые теоремы о 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 u="sng">
                <a:solidFill>
                  <a:srgbClr val="cccccc"/>
                </a:solidFill>
                <a:uFillTx/>
                <a:latin typeface="Times New Roman"/>
              </a:rPr>
              <a:t>тетраэдрах</a:t>
            </a:r>
            <a:endParaRPr b="0" lang="en-US" sz="4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Заслуженный учитель Кубани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Отличник народного просвещения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Шеляг Н.В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2011-2012 уч. год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960" y="-363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9240" y="154152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 fontScale="96000"/>
          </a:bodyPr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Тогда прямые, соединяющие середины сторон треугольников, - их средние линии (А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В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).  По определению средние линии параллельны соответствующим сторонам треугольника и равны половине их длине (АВ параллельна А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В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,  АВ параллельна D1C1 ). Cледовательно,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290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А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В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и D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С</a:t>
            </a:r>
            <a:r>
              <a:rPr b="0" lang="en-US" sz="2400" spc="-1" strike="noStrike" baseline="-26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- равны и параллельны (по признаку параллельности прямых).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6" name="Picture 6" descr="E:\Громоздова\get_p.JPG"/>
          <p:cNvPicPr/>
          <p:nvPr/>
        </p:nvPicPr>
        <p:blipFill>
          <a:blip r:embed="rId1"/>
          <a:stretch/>
        </p:blipFill>
        <p:spPr>
          <a:xfrm>
            <a:off x="5254560" y="1994040"/>
            <a:ext cx="4071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87520" y="11826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Тогда по признаку получаем, что A</a:t>
            </a:r>
            <a:r>
              <a:rPr b="0" lang="en-US" sz="3200" spc="-1" strike="noStrike" baseline="-26000">
                <a:solidFill>
                  <a:srgbClr val="cccc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B</a:t>
            </a:r>
            <a:r>
              <a:rPr b="0" lang="en-US" sz="3200" spc="-1" strike="noStrike" baseline="-26000">
                <a:solidFill>
                  <a:srgbClr val="cccc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C</a:t>
            </a:r>
            <a:r>
              <a:rPr b="0" lang="en-US" sz="3200" spc="-1" strike="noStrike" baseline="-26000">
                <a:solidFill>
                  <a:srgbClr val="cccc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D</a:t>
            </a:r>
            <a:r>
              <a:rPr b="0" lang="en-US" sz="3200" spc="-1" strike="noStrike" baseline="-26000">
                <a:solidFill>
                  <a:srgbClr val="cccc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 – параллелограмм, а все вершины параллелограмма лежат в одной плоскости, что и требовалось доказать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3 этап. Анализ работы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20720" y="17226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о результатам работы доказанные свойства можно использовать для решения задач, это существенно упростит их решение. А также были введены понятия медианы и бимедианы тетраэдра. Следует отметить, что приведённые  доказательства, не являются единственными доказательствами данных теорем, но являются наиболее понятными и наглядным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2160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             </a:t>
            </a: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1 этап. Определения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9240" y="17226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SFRM1000"/>
                <a:ea typeface="SFRM1000"/>
              </a:rPr>
              <a:t>       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SFRM1000"/>
                <a:ea typeface="SFRM1000"/>
              </a:rPr>
              <a:t>     </a:t>
            </a:r>
            <a:r>
              <a:rPr b="0" lang="en-US" sz="2600" spc="-1" strike="noStrike">
                <a:solidFill>
                  <a:srgbClr val="e6e6e6"/>
                </a:solidFill>
                <a:latin typeface="SFRM1000"/>
                <a:ea typeface="SFRM1000"/>
              </a:rPr>
              <a:t>Простейшим многогранником является </a:t>
            </a:r>
            <a:r>
              <a:rPr b="1" i="1" lang="en-US" sz="2600" spc="-1" strike="noStrike" u="sng">
                <a:solidFill>
                  <a:srgbClr val="e6e6e6"/>
                </a:solidFill>
                <a:uFillTx/>
                <a:latin typeface="SFTI1000"/>
                <a:ea typeface="SFTI1000"/>
              </a:rPr>
              <a:t>тетраэдр</a:t>
            </a:r>
            <a:r>
              <a:rPr b="1" i="1" lang="en-US" sz="2600" spc="-1" strike="noStrike" u="sng">
                <a:solidFill>
                  <a:srgbClr val="e6e6e6"/>
                </a:solidFill>
                <a:uFillTx/>
                <a:latin typeface="SFRM1000"/>
                <a:ea typeface="SFTI1000"/>
              </a:rPr>
              <a:t>- </a:t>
            </a:r>
            <a:r>
              <a:rPr b="0" lang="en-US" sz="2600" spc="-1" strike="noStrike">
                <a:solidFill>
                  <a:srgbClr val="e6e6e6"/>
                </a:solidFill>
                <a:latin typeface="SFRM1000"/>
                <a:ea typeface="SFRM1000"/>
              </a:rPr>
              <a:t> </a:t>
            </a:r>
            <a:r>
              <a:rPr b="0" lang="en-US" sz="2600" spc="-1" strike="noStrike">
                <a:solidFill>
                  <a:srgbClr val="e6e6e6"/>
                </a:solidFill>
                <a:latin typeface="SFTI1000"/>
                <a:ea typeface="SFTI1000"/>
              </a:rPr>
              <a:t>четырехгранник</a:t>
            </a:r>
            <a:r>
              <a:rPr b="0" lang="en-US" sz="2600" spc="-1" strike="noStrike">
                <a:solidFill>
                  <a:srgbClr val="e6e6e6"/>
                </a:solidFill>
                <a:latin typeface="SFRM1000"/>
                <a:ea typeface="SFRM1000"/>
              </a:rPr>
              <a:t>. Он обладает многими замечательными свойствами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SFRM1000"/>
                <a:ea typeface="SFRM1000"/>
              </a:rPr>
              <a:t>   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5" name="Picture 9" descr="E:\Громоздова\viewe.PNG"/>
          <p:cNvPicPr/>
          <p:nvPr/>
        </p:nvPicPr>
        <p:blipFill>
          <a:blip r:embed="rId1"/>
          <a:stretch/>
        </p:blipFill>
        <p:spPr>
          <a:xfrm>
            <a:off x="5183280" y="1636560"/>
            <a:ext cx="4405320" cy="49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          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4400"/>
            <a:ext cx="4471920" cy="6915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4000"/>
          </a:bodyPr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  <a:ea typeface="SFRM1000"/>
              </a:rPr>
              <a:t>     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  <a:ea typeface="SFRM1000"/>
              </a:rPr>
              <a:t>    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  <a:ea typeface="SFRM1000"/>
              </a:rPr>
              <a:t> 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  <a:ea typeface="SFRM1000"/>
              </a:rPr>
              <a:t>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  <a:ea typeface="SFRM1000"/>
              </a:rPr>
              <a:t>Отрезок, соединяющий вершину тетраэдра с точкой пересечения медиан противоположной грани, называется его </a:t>
            </a:r>
            <a:r>
              <a:rPr b="1" i="1" lang="en-US" sz="4000" spc="-1" strike="noStrike" u="sng">
                <a:solidFill>
                  <a:srgbClr val="e6e6e6"/>
                </a:solidFill>
                <a:uFillTx/>
                <a:latin typeface="Times New Roman"/>
                <a:ea typeface="SFRM1000"/>
              </a:rPr>
              <a:t>медианой.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  <a:ea typeface="SFRM1000"/>
              </a:rPr>
              <a:t> 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  <a:ea typeface="SFRM1000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9" name="Picture 4" descr="file:///F:/Мои%20рисунки/Picasa/Exports/Прочее/Безымянный1-2.jpg"/>
          <p:cNvPicPr/>
          <p:nvPr/>
        </p:nvPicPr>
        <p:blipFill>
          <a:blip r:embed=""/>
          <a:stretch/>
        </p:blipFill>
        <p:spPr>
          <a:xfrm>
            <a:off x="5375160" y="1727280"/>
            <a:ext cx="4140360" cy="485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ile:///F:/Громоздова/Безымянный1-2.jpg"/>
          <p:cNvPicPr/>
          <p:nvPr/>
        </p:nvPicPr>
        <p:blipFill>
          <a:blip r:embed=""/>
          <a:stretch/>
        </p:blipFill>
        <p:spPr>
          <a:xfrm>
            <a:off x="5400720" y="1800360"/>
            <a:ext cx="4151160" cy="46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E:\Громоздова\Безымянный1-2.jpg"/>
          <p:cNvPicPr/>
          <p:nvPr/>
        </p:nvPicPr>
        <p:blipFill>
          <a:blip r:embed="rId1"/>
          <a:stretch/>
        </p:blipFill>
        <p:spPr>
          <a:xfrm>
            <a:off x="5397480" y="1565280"/>
            <a:ext cx="418608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07964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  <a:ea typeface="SFRM1000"/>
              </a:rPr>
              <a:t> 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  <a:ea typeface="SFRM1000"/>
              </a:rPr>
              <a:t>Отрезок, соединяющий середины скрещивающихся рёбер тетраэдра, называется его </a:t>
            </a:r>
            <a:r>
              <a:rPr b="1" i="1" lang="en-US" sz="4000" spc="-1" strike="noStrike" u="sng">
                <a:solidFill>
                  <a:srgbClr val="e6e6e6"/>
                </a:solidFill>
                <a:uFillTx/>
                <a:latin typeface="Times New Roman"/>
                <a:ea typeface="SFRM1000"/>
              </a:rPr>
              <a:t>бимедианой.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Picture 7" descr="E:\Громоздова\Безымянный2.bmp"/>
          <p:cNvPicPr/>
          <p:nvPr/>
        </p:nvPicPr>
        <p:blipFill>
          <a:blip r:embed="rId1"/>
          <a:stretch/>
        </p:blipFill>
        <p:spPr>
          <a:xfrm>
            <a:off x="5326200" y="1636560"/>
            <a:ext cx="39718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539640"/>
            <a:ext cx="8608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2 этап. Формулировки и                              доказательства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7226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cc"/>
                </a:solidFill>
                <a:uFillTx/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а)  все медианы тетраэдра пересекаются в одной точке и эта точка делит каждую из медиан в отношении 3 : 1, считая от вершины;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б) все бимедианы тетраэдра пересекаются в одной точке и делятся ею пополам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) точка пересечения бимедиан тетраэдра совпадает с точкой пересечения его медиан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              </a:t>
            </a: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Доказательство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2160720"/>
            <a:ext cx="4461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Рассмотрим произвольную медиану, например, DD1 и произвольную бимедиану, например, MN, где M — середина BC. Они лежат в одной плоскости AMD, и потому пересекаются в некоторой точке G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400720" y="1979640"/>
            <a:ext cx="395928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960" y="-1619280"/>
            <a:ext cx="86090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852120"/>
            <a:ext cx="5040360" cy="6348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Зная отношения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AN : ND = 1 : 1 и AD1 : D1M = 2 :1,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легко найти, в каких отношениях отрезки MN и DD1 делят друг друга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Проведём отрезок NK, параллельный DD1.Из теоремы Фалеса (рассматривая прямые NM и AM) и подобия соответствующих треугольников (D1GM и KNM, ANK и ADD1) получим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580000" y="1260360"/>
            <a:ext cx="3959280" cy="45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Громоздова\73 (1.GIF"/>
          <p:cNvPicPr/>
          <p:nvPr/>
        </p:nvPicPr>
        <p:blipFill>
          <a:blip r:embed="rId2"/>
          <a:stretch/>
        </p:blipFill>
        <p:spPr>
          <a:xfrm>
            <a:off x="468360" y="5494320"/>
            <a:ext cx="43578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-644400"/>
            <a:ext cx="86090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87520" y="11826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Следовательно, все бимедианы имеют общую середину (G), и эта точка делит любую медиану в отношении 3 : 1,   считая от вершины тетраэдра, что и требовалось доказать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На основе только что рассмотренных свойств, докажем свойство пространственного четырёхугольника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0960" y="-184680"/>
            <a:ext cx="860904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               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 u="sng">
                <a:solidFill>
                  <a:srgbClr val="ff9966"/>
                </a:solidFill>
                <a:uFillTx/>
                <a:latin typeface="Arial"/>
              </a:rPr>
              <a:t>Теорема.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Докажите, что середины сторон пространственного                       четырехугольника лежат в одной плоскости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428148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7000"/>
          </a:bodyPr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e6e6e6"/>
                </a:solidFill>
                <a:uFillTx/>
                <a:latin typeface="Times New Roman"/>
              </a:rPr>
              <a:t>Доказательство</a:t>
            </a:r>
            <a:r>
              <a:rPr b="1" lang="en-US" sz="2200" spc="-1" strike="noStrike">
                <a:solidFill>
                  <a:srgbClr val="e6e6e6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 По условию четырехугольник - пространственный, значит его стороны не лежат в одной плоскости. Необходимо доказать, что середины сторон четырехугольника являются вершинами параллелограмма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Times New Roman"/>
              </a:rPr>
              <a:t>В решении целесообразно рассматривать фигуру с разных сторон: каждые две пересекающиеся прямые (например, АВ и ВС) задают плоскость (АВС) по аксиоме задания плоскости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2" name="Picture 6" descr="E:\Громоздова\get_p.JPG"/>
          <p:cNvPicPr/>
          <p:nvPr/>
        </p:nvPicPr>
        <p:blipFill>
          <a:blip r:embed="rId1"/>
          <a:stretch/>
        </p:blipFill>
        <p:spPr>
          <a:xfrm>
            <a:off x="5254560" y="1994040"/>
            <a:ext cx="40719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08:06:31Z</dcterms:created>
  <dc:creator/>
  <dc:description>Сиреневая область заголовка с тремя сине-зелеными элементами на левой границе; серый фон</dc:description>
  <dc:language>en-US</dc:language>
  <cp:lastModifiedBy>Admin</cp:lastModifiedBy>
  <cp:lastPrinted>2011-01-23T23:24:21Z</cp:lastPrinted>
  <dcterms:modified xsi:type="dcterms:W3CDTF">2011-12-09T10:10:43Z</dcterms:modified>
  <cp:revision>10</cp:revision>
  <dc:subject/>
  <dc:title>Тонкие акценты</dc:title>
</cp:coreProperties>
</file>