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20.jpeg" ContentType="image/jpeg"/>
  <Override PartName="/ppt/media/image11.png" ContentType="image/png"/>
  <Override PartName="/ppt/media/image27.png" ContentType="image/png"/>
  <Override PartName="/ppt/media/image9.jpeg" ContentType="image/jpeg"/>
  <Override PartName="/ppt/media/image36.png" ContentType="image/png"/>
  <Override PartName="/ppt/media/image56.jpeg" ContentType="image/jpeg"/>
  <Override PartName="/ppt/media/image33.png" ContentType="image/pn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22.jpeg" ContentType="image/jpeg"/>
  <Override PartName="/ppt/media/image21.jpeg" ContentType="image/jpeg"/>
  <Override PartName="/ppt/media/image29.png" ContentType="image/png"/>
  <Override PartName="/ppt/media/image32.jpeg" ContentType="image/jpeg"/>
  <Override PartName="/ppt/media/image60.png" ContentType="image/png"/>
  <Override PartName="/ppt/media/image43.jpeg" ContentType="image/jpeg"/>
  <Override PartName="/ppt/media/image24.png" ContentType="image/png"/>
  <Override PartName="/ppt/media/image26.png" ContentType="image/png"/>
  <Override PartName="/ppt/media/image63.png" ContentType="image/png"/>
  <Override PartName="/ppt/media/image61.jpeg" ContentType="image/jpeg"/>
  <Override PartName="/ppt/media/image40.png" ContentType="image/png"/>
  <Override PartName="/ppt/media/image55.jpeg" ContentType="image/jpeg"/>
  <Override PartName="/ppt/media/image28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gif" ContentType="image/gif"/>
  <Override PartName="/ppt/media/image49.jpeg" ContentType="image/jpeg"/>
  <Override PartName="/ppt/media/image16.png" ContentType="image/png"/>
  <Override PartName="/ppt/media/image4.png" ContentType="image/png"/>
  <Override PartName="/ppt/media/image13.gif" ContentType="image/gif"/>
  <Override PartName="/ppt/media/image48.jpeg" ContentType="image/jpeg"/>
  <Override PartName="/ppt/media/image3.png" ContentType="image/png"/>
  <Override PartName="/ppt/media/image15.png" ContentType="image/png"/>
  <Override PartName="/ppt/media/image12.gif" ContentType="image/gif"/>
  <Override PartName="/ppt/media/image30.png" ContentType="image/png"/>
  <Override PartName="/ppt/media/image31.png" ContentType="image/png"/>
  <Override PartName="/ppt/media/image38.jpeg" ContentType="image/jpeg"/>
  <Override PartName="/ppt/media/image17.png" ContentType="image/png"/>
  <Override PartName="/ppt/media/image5.png" ContentType="image/png"/>
  <Override PartName="/ppt/media/image39.jpeg" ContentType="image/jpeg"/>
  <Override PartName="/ppt/media/image44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50.jpeg" ContentType="image/jpeg"/>
  <Override PartName="/ppt/media/image51.png" ContentType="image/png"/>
  <Override PartName="/ppt/media/image52.jpeg" ContentType="image/jpeg"/>
  <Override PartName="/ppt/media/image23.png" ContentType="image/png"/>
  <Override PartName="/ppt/media/image53.jpeg" ContentType="image/jpeg"/>
  <Override PartName="/ppt/media/image57.png" ContentType="image/png"/>
  <Override PartName="/ppt/media/image5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2412-F473-4207-9BF6-5C4FCAD195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2E17-3822-4BBF-9A99-677D6FB52A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9D0F-E7C9-4127-97C4-C13ACEE470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8E25-A1DA-43FE-85A1-0490386342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2069-44FB-4022-9BA6-E11181B8FC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66DC-1C66-42FA-B8B4-D3F1123549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8C9D-AD8D-4C76-B006-F37E3C91E1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6480-FCB5-4149-B160-D1EEEAB1ED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6D9A-DD34-4877-84DB-FAFEB67802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EEC4-414C-40F3-B0BF-0FB63D40B8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4144-E095-47C4-9554-521176CBBF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E84E-B3DF-4283-8768-0D854AA06D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4106-A188-4A6B-9058-009A496A8E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1C96-0FA1-4CB2-97E0-C29805865E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5B48-04E3-4950-BFAD-56B0AB8B0D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E498-B3DD-4C19-ABD9-5449931E33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027B-3796-4054-85BA-829851F8DC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E523-9FBC-4D05-B1F7-8FD0860D8A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AB6E-977B-405D-8C06-D41DDEB183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7F77-816E-4E3C-982D-9155A3E6FE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1FF6-CB10-4A86-B0D8-E0BB10DF0A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6347-F952-40E3-810C-9CD923AA67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1B0E-13E6-4CDE-86D1-CF790D96AE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9A18-8108-4167-99DA-E2DEBAFF34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0420-C2F0-4E7C-B635-45FCE2B3F2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A94F-CE0A-4535-B770-A5EC3B79B9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E609-BA3B-4FA1-8915-297A6941AF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DC4F-3327-48AD-A8C3-D2141CDD3D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49D2-AA2E-4FF2-97AA-BE1A0CBAE0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8519-486B-462F-BF34-525BFA22F1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519-FCCE-4D50-952D-1AC6978C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201-F67A-4AC4-A5FC-7982FFB1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F64-12EF-499B-82D9-540BA072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2E6-C8E8-4590-94C3-3A6BE6B2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B0DE-B722-46E0-95D8-BF20E035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DAD2-959B-4B24-A8B8-2649AE74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05EE-260F-4D3D-A8DA-49F813B3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81EA-A228-4D82-8656-AF3D8EEC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CCBD-FF10-4039-9572-EA722A35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DAB6-1984-4045-BDB9-0935C20E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85C0-0E46-456C-AE84-DE6D5BD4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600-F680-4167-A46D-C5CB2EC9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361C-A059-4B73-8008-3B39C1A8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7CA4-9EF7-483E-BE3D-317131F9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30C7-BCD9-4388-A0FB-AB55C2D6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1BC4-E582-4D7C-AA71-6174DCC0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4CFF-0A90-4BA7-8EA4-5E3296DC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297F-0BE8-4591-8292-B060D9BA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7A53-9276-495C-BCF5-23531849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9B1F-E707-4471-8453-DCEAD6C0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E6AF-0801-4272-ABC3-B2AC736C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9B822-3730-4453-ABD3-CDB27498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8DF-1024-4582-947B-47AC645A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DA7A-F91D-4A5B-B5DE-82FFF5C4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9898-6194-49E1-9CD1-C6B48403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E670-3FF5-4213-B1C7-F662966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6A6B-8ACC-406D-85E2-5B3CECDF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5A54-19AA-44E5-BC38-BB8302E4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56BBE-817F-48AA-A157-D2DFA30E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FD4DB-74FB-48C3-BC4B-B7AD3B03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DD208-8965-4622-916E-AD5BDA7A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61250-1F09-456C-8268-BA39CDA3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48D7-5F08-420F-A2A3-EA1AB942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658-2073-4E5A-8648-DDE07BB9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FBE8B-24FC-4D52-ADD5-4C297EFD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51D3-AE1D-48BD-AB49-8CD7BBFC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9FDB-A8CD-4390-9481-2947AE02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DEC59-D79F-4133-B3C8-B702BFFC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13F62-82F1-4BCE-A92B-D7830A5F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4646-5E0F-400F-9862-1C29F84B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7DADE-1C50-4B25-9F45-0A372970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B668-7C79-43F3-8A33-6F5EC1C7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35F2A-4FB7-4EBE-B507-40775757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467B9-A486-4E7D-B455-EAB42952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3D9-091C-4892-9525-F1FAFAD2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692CB-EA60-4B35-8223-D2853B1E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58A1F-5028-42E3-8F3D-F9327D76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2153F-F50E-4AC0-9446-7ACDDE26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8ED99-8D93-45DA-A92E-E6DC17A1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A6516-AF5F-4B3E-9E0F-C1E8F2FD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8A298-66A8-491D-BFE1-975B6B8A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49D04-A9E4-4AF4-8A17-6415CF1D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63DB1-62BD-4EDF-B5EC-14663943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735CE-25AF-4A2D-9C18-B0ABA4BA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5B34D-0D18-430B-8A3B-BF600C5B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267-7FCD-4843-98E1-5B0DE837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1EA9E-E387-4AEC-A95A-CB651D54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5613B-AFAA-4ACC-A0C0-930CBB17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42C25-19E8-4B70-A57B-6F7F4EC2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19C36-3A47-4BCB-853A-40FDA4BA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286B5-5328-4B5A-8B28-32A71AB0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27777-4169-4516-8703-84E7A99E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6D53B-7B85-4488-8F74-0C653A7E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B9803-84C5-4883-83B2-E8D14233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D482F-1EE8-47B1-9DBA-7265C0B4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3669-D4B0-4D90-836E-DCF99B5B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6E8-621C-4D1D-B294-A4EA98CA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962AD-2FC2-4CEE-AD65-A652F975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6ADE9-ACD5-4B7D-B4B4-BF6DE78D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52AB0-B3C2-4B64-9A60-CEF6824C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7B96C-7AAB-4520-B7F0-5EA88B8E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3B359-939C-438C-8E0A-C77B86A3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3E39A-65B2-4C3B-8CD2-5016A056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9495D-8FDF-499C-9AE5-1E4A33D2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5350F-98B7-4745-99AC-2542A0D0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5499A-1024-4E2F-B3C8-C5F1763F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59558-2E09-490D-AFF5-8F187224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137-3FD5-47AA-8995-9AA1A232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3D977-28BE-4EE9-A9D4-EDCF4126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71FD7-3117-40AE-9A39-56B07FAE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03501-454E-4094-BCD7-ED4DCE18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C3078-625F-4B59-969D-4D46DA3E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1B93A-1EE2-4057-B767-56BC969C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9DA33-5584-4703-8911-8F0BE01B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74657-40BE-42FD-80CE-74428C39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5CA78-C342-40D5-93F6-650AC4F8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0E94B-4F6F-4496-B3FD-3206F9E7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5245C-4388-43F0-9A97-DA831F85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E59-EB1D-420C-B9A5-2902FA88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A337C-2674-4422-ACE4-DA8EB756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3E38E-92BE-4599-9ADB-81D4AF32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42AB9-3428-4BEA-AFED-4ECF8F47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3F6C3-8EC9-44D0-AD00-F0EDE78E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0005A-935C-416D-BF82-EEBB6160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DFA54-5BF0-4B52-9B03-BA1EC0DA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A4669-A601-4C76-8745-660CDDE5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25B2-6EB0-49DA-9B31-A6E47E2148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Полилиния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0" name="Прямая соединительная линия 19" descr=""/>
            <p:cNvPicPr/>
            <p:nvPr/>
          </p:nvPicPr>
          <p:blipFill>
            <a:blip r:embed="rId6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9E4B-6AAD-452B-881B-D9E5DA8C45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F703-D146-4C41-8697-F709F75E11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25BC-6372-4FC6-80BC-E787A79A57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E7B9-C5A8-4B09-9029-BBB590DD0B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A65A-1E89-4F20-8958-4971950521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6A43-E772-49BA-90F1-A33C218469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Прямоугольный треугольник 15" descr=""/>
            <p:cNvPicPr/>
            <p:nvPr/>
          </p:nvPicPr>
          <p:blipFill>
            <a:blip r:embed="rId5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0" name="Прямая соединительная линия 16" descr=""/>
          <p:cNvPicPr/>
          <p:nvPr/>
        </p:nvPicPr>
        <p:blipFill>
          <a:blip r:embed="rId6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097D-5148-4D60-B717-82367A487D5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689040" y="639720"/>
            <a:ext cx="7772400" cy="16398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2420640"/>
            <a:ext cx="7772400" cy="407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одготовили:</a:t>
            </a:r>
            <a:r>
              <a:rPr b="1" lang="ru-RU" sz="3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стасия Вайтехович, Анастасия Фатина, Светлана Лебедева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цы  9 «А»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шутина Г.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олы №6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901800" y="334800"/>
            <a:ext cx="8242200" cy="131796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6"/>
          <p:cNvSpPr/>
          <p:nvPr/>
        </p:nvSpPr>
        <p:spPr>
          <a:xfrm>
            <a:off x="1071720" y="150012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тавизмы-</a:t>
            </a:r>
            <a:r>
              <a:rPr b="1" lang="en-US" sz="2400" spc="-1" strike="noStrike">
                <a:solidFill>
                  <a:srgbClr val="000048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вляющиеся у отдельных особей данного вида признаки, которые существовали у отдаленных предков, но были утрачены в процессе эволю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Рисунок 5" descr="0009-009-Atavizmy-projavlenie-priznakov-i-organov-dalekikh-predkov-u-nekotorykh.jpg"/>
          <p:cNvPicPr/>
          <p:nvPr/>
        </p:nvPicPr>
        <p:blipFill>
          <a:blip r:embed="rId2"/>
          <a:stretch/>
        </p:blipFill>
        <p:spPr>
          <a:xfrm>
            <a:off x="500040" y="3254400"/>
            <a:ext cx="828684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Рисунок 3" descr="index.jpg"/>
          <p:cNvPicPr/>
          <p:nvPr/>
        </p:nvPicPr>
        <p:blipFill>
          <a:blip r:embed="rId1"/>
          <a:stretch/>
        </p:blipFill>
        <p:spPr>
          <a:xfrm>
            <a:off x="2500200" y="3786120"/>
            <a:ext cx="5929560" cy="29178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мологичные орган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ся из одних и тех же зачатков в процессе эмбрионального развития и выполняющие сходные функции; образовались в результате </a:t>
            </a:r>
            <a:r>
              <a:rPr b="1" lang="ru-RU" sz="2400" spc="-1" strike="noStrike">
                <a:solidFill>
                  <a:srgbClr val="d00000"/>
                </a:solidFill>
                <a:latin typeface="Times New Roman"/>
                <a:ea typeface="Times New Roman"/>
              </a:rPr>
              <a:t>дивергенц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крылья летучей мыши, рука человека, ласта кит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Заголовок 1" descr=""/>
          <p:cNvPicPr/>
          <p:nvPr/>
        </p:nvPicPr>
        <p:blipFill>
          <a:blip r:embed="rId2"/>
          <a:stretch/>
        </p:blipFill>
        <p:spPr>
          <a:xfrm>
            <a:off x="457200" y="66600"/>
            <a:ext cx="8229600" cy="170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0" y="5500440"/>
            <a:ext cx="4859280" cy="67140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ыло птицы      Крыло бабоч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10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 похожи, потому что приспособлены к одним и тем же условиям, но имеют разное строение, потому что возникли из разных органов в процесс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вергенци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Содержимое 6" descr="images.jpg"/>
          <p:cNvPicPr/>
          <p:nvPr/>
        </p:nvPicPr>
        <p:blipFill>
          <a:blip r:embed="rId2"/>
          <a:stretch/>
        </p:blipFill>
        <p:spPr>
          <a:xfrm>
            <a:off x="250920" y="1413000"/>
            <a:ext cx="464328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2997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рганизмы начинают развитие с одноклеточной стадии (зиготы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слойный зародыш (бластула) соответствует кишечнополостны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одыш человека покрыт шерсть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360360" y="158760"/>
            <a:ext cx="8405640" cy="3224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8674200" cy="1311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image002"/>
          <p:cNvPicPr/>
          <p:nvPr/>
        </p:nvPicPr>
        <p:blipFill>
          <a:blip r:embed="rId2"/>
          <a:stretch/>
        </p:blipFill>
        <p:spPr>
          <a:xfrm>
            <a:off x="1187280" y="1643040"/>
            <a:ext cx="6769440" cy="5000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328680" y="109440"/>
            <a:ext cx="8486640" cy="153036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4040280" cy="418320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Наследственност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Изменчивост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Изоляц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Борьба за существовани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Естественный отбо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44720" y="1989000"/>
            <a:ext cx="4041720" cy="418320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Труд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Реч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Сознани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Общественная жизн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Культур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39280" y="1413000"/>
            <a:ext cx="39690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4720" y="1444680"/>
            <a:ext cx="4041720" cy="54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0952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50" name="Прямая со стрелкой 7"/>
          <p:cNvCxnSpPr/>
          <p:nvPr/>
        </p:nvCxnSpPr>
        <p:spPr>
          <a:xfrm flipH="1">
            <a:off x="2410920" y="1052280"/>
            <a:ext cx="289440" cy="361080"/>
          </a:xfrm>
          <a:prstGeom prst="straightConnector1">
            <a:avLst/>
          </a:prstGeom>
          <a:ln w="9360">
            <a:solidFill>
              <a:srgbClr val="474b78"/>
            </a:solidFill>
            <a:miter/>
            <a:tailEnd len="med" type="arrow" w="med"/>
          </a:ln>
        </p:spPr>
      </p:cxnSp>
      <p:cxnSp>
        <p:nvCxnSpPr>
          <p:cNvPr id="451" name="Прямая со стрелкой 9"/>
          <p:cNvCxnSpPr/>
          <p:nvPr/>
        </p:nvCxnSpPr>
        <p:spPr>
          <a:xfrm>
            <a:off x="5867280" y="1052280"/>
            <a:ext cx="434160" cy="361080"/>
          </a:xfrm>
          <a:prstGeom prst="straightConnector1">
            <a:avLst/>
          </a:prstGeom>
          <a:ln w="9360">
            <a:solidFill>
              <a:srgbClr val="39639d"/>
            </a:solidFill>
            <a:miter/>
            <a:tailEnd len="med" type="arrow" w="med"/>
          </a:ln>
        </p:spPr>
      </p:cxn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85688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ый взгля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ский взгля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взгля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29600" cy="1420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e2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ый подход опирается на веру и предание, обычно он не требует каких-либо дополнительных подтверждений своей правоты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7991640" cy="11397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3" descr="images (1).jpg"/>
          <p:cNvPicPr/>
          <p:nvPr/>
        </p:nvPicPr>
        <p:blipFill>
          <a:blip r:embed="rId2"/>
          <a:stretch/>
        </p:blipFill>
        <p:spPr>
          <a:xfrm>
            <a:off x="971640" y="3143160"/>
            <a:ext cx="727236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8a2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ский подход опирается на некий первоначальный набор аксиом, из которого путём умозаключений философ строит свою картину ми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457200" y="201600"/>
            <a:ext cx="8229600" cy="153036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3" descr="images (2).jpg"/>
          <p:cNvPicPr/>
          <p:nvPr/>
        </p:nvPicPr>
        <p:blipFill>
          <a:blip r:embed="rId2"/>
          <a:stretch/>
        </p:blipFill>
        <p:spPr>
          <a:xfrm>
            <a:off x="4214880" y="2857680"/>
            <a:ext cx="442908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3" descr="орл.jp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27860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2876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подход опирается на факты, установленные в ходе наблюдений и экспериментов. Для объяснения связи этих фактов выдвигается гипотеза, которая проходит проверку новыми наблюдениями и, по возможности, экспериментами, в результате чего либо отвергается (тогда выдвигается новая гипотеза), либо подтверждается и становится теорией. В дальнейшем новые факты могут опровергнуть теорию, в этом случае выдвигается следующая гипотеза, лучше отвечающая всей совокупности наблюдений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а происхождения человека</a:t>
            </a:r>
            <a:endParaRPr b="0" lang="en-US" sz="5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животных</a:t>
            </a:r>
            <a:endParaRPr b="0" lang="en-US" sz="5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73"/>
          <p:cNvPicPr/>
          <p:nvPr/>
        </p:nvPicPr>
        <p:blipFill>
          <a:blip r:embed="rId2"/>
          <a:stretch/>
        </p:blipFill>
        <p:spPr>
          <a:xfrm>
            <a:off x="6429240" y="42148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работе «Происхождение человека и половой отбор» (1871г.) он сделал вывод, что человек - неотъемлемая часть живой природы и что его возникновение не исключение из общих закономерностей развития органического мира. Так родилась симиальная (обезьянья) теория антропогенез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315280" cy="1243080"/>
          </a:xfrm>
          <a:prstGeom prst="rect">
            <a:avLst/>
          </a:prstGeom>
          <a:ln w="0">
            <a:noFill/>
          </a:ln>
        </p:spPr>
      </p:pic>
      <p:pic>
        <p:nvPicPr>
          <p:cNvPr id="465" name="Рисунок 3" descr="ллоро.jpg"/>
          <p:cNvPicPr/>
          <p:nvPr/>
        </p:nvPicPr>
        <p:blipFill>
          <a:blip r:embed="rId2"/>
          <a:stretch/>
        </p:blipFill>
        <p:spPr>
          <a:xfrm>
            <a:off x="1332000" y="450864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4" descr="indexддл.jpg"/>
          <p:cNvPicPr/>
          <p:nvPr/>
        </p:nvPicPr>
        <p:blipFill>
          <a:blip r:embed="rId3"/>
          <a:stretch/>
        </p:blipFill>
        <p:spPr>
          <a:xfrm>
            <a:off x="6072120" y="4214880"/>
            <a:ext cx="2205000" cy="235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иопитеки произошли около 30 млн лет назад. Подобно другим гоминидам, у них был относительно крупный головной мозг, а длинные и подвижные кисти рук были прекрасно приспособлены для висения и раскачивания на ветвях. Внешне эти обезьяны напоминали шимпанзе, но их руки были пропорционально короче (лишь немного длиннее ног). Они дали три ветви, которые повели к шимпанзе, горилле и человек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3" descr="загруженное (3).jpg"/>
          <p:cNvPicPr/>
          <p:nvPr/>
        </p:nvPicPr>
        <p:blipFill>
          <a:blip r:embed="rId2"/>
          <a:stretch/>
        </p:blipFill>
        <p:spPr>
          <a:xfrm>
            <a:off x="642960" y="4929120"/>
            <a:ext cx="1928880" cy="1462320"/>
          </a:xfrm>
          <a:prstGeom prst="rect">
            <a:avLst/>
          </a:prstGeom>
          <a:ln w="0">
            <a:noFill/>
          </a:ln>
        </p:spPr>
      </p:pic>
      <p:pic>
        <p:nvPicPr>
          <p:cNvPr id="470" name="Рисунок 4" descr="загруженноеьт.jpg"/>
          <p:cNvPicPr/>
          <p:nvPr/>
        </p:nvPicPr>
        <p:blipFill>
          <a:blip r:embed="rId3"/>
          <a:stretch/>
        </p:blipFill>
        <p:spPr>
          <a:xfrm>
            <a:off x="6072120" y="4429080"/>
            <a:ext cx="263844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Рисунок 3" descr="images (6).jpg"/>
          <p:cNvPicPr/>
          <p:nvPr/>
        </p:nvPicPr>
        <p:blipFill>
          <a:blip r:embed="rId1"/>
          <a:stretch/>
        </p:blipFill>
        <p:spPr>
          <a:xfrm>
            <a:off x="539640" y="4280040"/>
            <a:ext cx="2519640" cy="2500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539280" y="1844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онный возраст: 10-12 млн лет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мозга: 350-550 см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мозга: 550 г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: 120-150 см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: 20-50 кг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: жили группами в саваннах Южной и Восточной Африки, использовали палки, камни, кости животных для добывания пищи и защиты от хищников. Питались растительной  и мясной пищ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характерно прямохождение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3" name="Заголовок 2" descr=""/>
          <p:cNvPicPr/>
          <p:nvPr/>
        </p:nvPicPr>
        <p:blipFill>
          <a:blip r:embed="rId2"/>
          <a:stretch/>
        </p:blipFill>
        <p:spPr>
          <a:xfrm>
            <a:off x="249120" y="-195120"/>
            <a:ext cx="8761680" cy="23889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4" descr="images (7).jpg"/>
          <p:cNvPicPr/>
          <p:nvPr/>
        </p:nvPicPr>
        <p:blipFill>
          <a:blip r:embed="rId3"/>
          <a:stretch/>
        </p:blipFill>
        <p:spPr>
          <a:xfrm>
            <a:off x="6429240" y="1428840"/>
            <a:ext cx="214344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онный возраст: 2-3 млн лет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мозга: 540-700 см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: 100-150 см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: стадный, совместная охота,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ружение простейших хижин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изготовлению каменных орудий, использование огн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3" descr="images (10).jpg"/>
          <p:cNvPicPr/>
          <p:nvPr/>
        </p:nvPicPr>
        <p:blipFill>
          <a:blip r:embed="rId2"/>
          <a:stretch/>
        </p:blipFill>
        <p:spPr>
          <a:xfrm>
            <a:off x="6588000" y="1844640"/>
            <a:ext cx="1928880" cy="2070000"/>
          </a:xfrm>
          <a:prstGeom prst="rect">
            <a:avLst/>
          </a:prstGeom>
          <a:ln w="0">
            <a:noFill/>
          </a:ln>
        </p:spPr>
      </p:pic>
      <p:pic>
        <p:nvPicPr>
          <p:cNvPr id="478" name="Содержимое 3" descr="images (9).jpg"/>
          <p:cNvPicPr/>
          <p:nvPr/>
        </p:nvPicPr>
        <p:blipFill>
          <a:blip r:embed="rId3"/>
          <a:stretch/>
        </p:blipFill>
        <p:spPr>
          <a:xfrm>
            <a:off x="1857240" y="4572000"/>
            <a:ext cx="2643480" cy="207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Содержимое 3" descr="0008-008-Skhema-antropogeneza.jpg"/>
          <p:cNvPicPr/>
          <p:nvPr/>
        </p:nvPicPr>
        <p:blipFill>
          <a:blip r:embed="rId1"/>
          <a:srcRect l="4217" t="21029" r="10213" b="5958"/>
          <a:stretch/>
        </p:blipFill>
        <p:spPr>
          <a:xfrm>
            <a:off x="1055520" y="1509840"/>
            <a:ext cx="7213680" cy="50068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"/>
          <p:cNvSpPr/>
          <p:nvPr/>
        </p:nvSpPr>
        <p:spPr>
          <a:xfrm>
            <a:off x="755640" y="606600"/>
            <a:ext cx="78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Times New Roman"/>
              </a:rPr>
              <a:t>Антропогене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971640" y="333000"/>
            <a:ext cx="77724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4800" spc="-1" strike="noStrike">
                <a:solidFill>
                  <a:srgbClr val="d00000"/>
                </a:solidFill>
                <a:latin typeface="Times New Roman"/>
                <a:ea typeface="Times New Roman"/>
              </a:rPr>
              <a:t>Древнейшие люди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ись около 2 млн. лет назад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было несколько типов 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екантропы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антропы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йдельбергский человек (названия даны по месту находок их останков)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2" name="Рисунок 2" descr="загруженное (5).jpg"/>
          <p:cNvPicPr/>
          <p:nvPr/>
        </p:nvPicPr>
        <p:blipFill>
          <a:blip r:embed="rId1"/>
          <a:stretch/>
        </p:blipFill>
        <p:spPr>
          <a:xfrm>
            <a:off x="2484360" y="4406760"/>
            <a:ext cx="4214880" cy="2357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онный возраст: 1 млн лет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мозга: 800-1400 см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: 170 см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: занимались охотой, использовали каменные ножи и жили в пещерах, умели искусственно получать огонь для приготовления пищи и обогрев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3" descr="images (11).jpg"/>
          <p:cNvPicPr/>
          <p:nvPr/>
        </p:nvPicPr>
        <p:blipFill>
          <a:blip r:embed="rId2"/>
          <a:stretch/>
        </p:blipFill>
        <p:spPr>
          <a:xfrm>
            <a:off x="5818320" y="4219560"/>
            <a:ext cx="2385720" cy="21049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5" descr="загруженное (4).jpg"/>
          <p:cNvPicPr/>
          <p:nvPr/>
        </p:nvPicPr>
        <p:blipFill>
          <a:blip r:embed="rId3"/>
          <a:stretch/>
        </p:blipFill>
        <p:spPr>
          <a:xfrm>
            <a:off x="615960" y="4292640"/>
            <a:ext cx="3429000" cy="2063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онный возраст: 200 тыс. лет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мозга: 1500 см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: 155-165 см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: Общественный образ жизни, использование огня, строительство очагов и жилья, первые захоронен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лись членораздельной речью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Рисунок 6" descr="images (12).jpg"/>
          <p:cNvPicPr/>
          <p:nvPr/>
        </p:nvPicPr>
        <p:blipFill>
          <a:blip r:embed="rId2"/>
          <a:stretch/>
        </p:blipFill>
        <p:spPr>
          <a:xfrm>
            <a:off x="5867280" y="4005360"/>
            <a:ext cx="2521080" cy="256680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7" descr="загруженное (6).jpg"/>
          <p:cNvPicPr/>
          <p:nvPr/>
        </p:nvPicPr>
        <p:blipFill>
          <a:blip r:embed="rId3"/>
          <a:stretch/>
        </p:blipFill>
        <p:spPr>
          <a:xfrm>
            <a:off x="971640" y="4005360"/>
            <a:ext cx="3787560" cy="2566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3" descr="images (13).jpg"/>
          <p:cNvPicPr/>
          <p:nvPr/>
        </p:nvPicPr>
        <p:blipFill>
          <a:blip r:embed="rId2"/>
          <a:stretch/>
        </p:blipFill>
        <p:spPr>
          <a:xfrm>
            <a:off x="1116000" y="4589640"/>
            <a:ext cx="3600360" cy="215244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4" descr="загруженное (7).jpg"/>
          <p:cNvPicPr/>
          <p:nvPr/>
        </p:nvPicPr>
        <p:blipFill>
          <a:blip r:embed="rId3"/>
          <a:stretch/>
        </p:blipFill>
        <p:spPr>
          <a:xfrm>
            <a:off x="6108840" y="1341360"/>
            <a:ext cx="2752560" cy="20718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45720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онный возраст:  40-50 тыс. лет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мозга: 1000-1600 см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: до 180 см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: Родовая община; строительства поселений; появление обрядов; ; возникновение искусства; гончарного дела; земледелия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развита членораздельная речь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́к разу́мный — вид рода Люди из семейства гоминид в отряде приматов, единственный живущий в настоящее время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Заголовок 2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23660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3" descr="дл.jpg"/>
          <p:cNvPicPr/>
          <p:nvPr/>
        </p:nvPicPr>
        <p:blipFill>
          <a:blip r:embed="rId2"/>
          <a:stretch/>
        </p:blipFill>
        <p:spPr>
          <a:xfrm>
            <a:off x="324000" y="3174840"/>
            <a:ext cx="4824360" cy="313380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4" descr="олапрол.jpg"/>
          <p:cNvPicPr/>
          <p:nvPr/>
        </p:nvPicPr>
        <p:blipFill>
          <a:blip r:embed="rId3"/>
          <a:stretch/>
        </p:blipFill>
        <p:spPr>
          <a:xfrm>
            <a:off x="6084720" y="2997360"/>
            <a:ext cx="2571840" cy="235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pics0001b"/>
          <p:cNvPicPr/>
          <p:nvPr/>
        </p:nvPicPr>
        <p:blipFill>
          <a:blip r:embed="rId1"/>
          <a:srcRect l="0" t="2145" r="0" b="11159"/>
          <a:stretch/>
        </p:blipFill>
        <p:spPr>
          <a:xfrm>
            <a:off x="1619280" y="3714840"/>
            <a:ext cx="2451240" cy="2882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7" name="Rectangle 2" descr=""/>
          <p:cNvPicPr/>
          <p:nvPr/>
        </p:nvPicPr>
        <p:blipFill>
          <a:blip r:embed="rId2"/>
          <a:stretch/>
        </p:blipFill>
        <p:spPr>
          <a:xfrm>
            <a:off x="743040" y="274680"/>
            <a:ext cx="8022960" cy="18162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"/>
          <p:cNvSpPr/>
          <p:nvPr/>
        </p:nvSpPr>
        <p:spPr>
          <a:xfrm>
            <a:off x="1187280" y="1484280"/>
            <a:ext cx="756144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 процесс исторического развития вида </a:t>
            </a: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Человек разумный разумный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(Homo sapiens</a:t>
            </a: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sapiens)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8" descr="darwin_2pounds"/>
          <p:cNvPicPr/>
          <p:nvPr/>
        </p:nvPicPr>
        <p:blipFill>
          <a:blip r:embed="rId3"/>
          <a:stretch/>
        </p:blipFill>
        <p:spPr>
          <a:xfrm>
            <a:off x="5076720" y="3325680"/>
            <a:ext cx="3240360" cy="3143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bio-faq.ru/bio/bio163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5klass.net/biologija-10-klass/Evoljutsionnoe-uchenie-Darvina/037-Dokazatelstva-evoljutsii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ntropogenez.ru/zveno-single/10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lib.znate.ru/docs/index-180400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vifarm.ru/page.php?al=perehodnijeform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estival.1september.ru/articles/610945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chool-collection.edu.ru/catalog/res/128cb254-a24e-479a-a4c1-f919e7f4e14a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ntropology.academic.ru/14/Homo_habili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obakov.ru/obezyani/driopiteki-dryopithecus-drevesnaya-obezy.ph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ibliotekar.ru/hist1-1/0-9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1258920" y="1916280"/>
            <a:ext cx="748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уществуют доказательства эволюции?</a:t>
            </a:r>
            <a:endParaRPr b="0" lang="en-US" sz="6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Picture 4" descr="fgh"/>
          <p:cNvPicPr/>
          <p:nvPr/>
        </p:nvPicPr>
        <p:blipFill>
          <a:blip r:embed="rId1"/>
          <a:stretch/>
        </p:blipFill>
        <p:spPr>
          <a:xfrm>
            <a:off x="1042920" y="33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1324"/>
          <p:cNvPicPr/>
          <p:nvPr/>
        </p:nvPicPr>
        <p:blipFill>
          <a:blip r:embed="rId2"/>
          <a:stretch/>
        </p:blipFill>
        <p:spPr>
          <a:xfrm>
            <a:off x="6372360" y="4722840"/>
            <a:ext cx="195552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2"/>
          <p:cNvSpPr/>
          <p:nvPr/>
        </p:nvSpPr>
        <p:spPr>
          <a:xfrm>
            <a:off x="1763640" y="549360"/>
            <a:ext cx="6193080" cy="1366920"/>
          </a:xfrm>
          <a:prstGeom prst="roundRect">
            <a:avLst>
              <a:gd name="adj" fmla="val 50000"/>
            </a:avLst>
          </a:prstGeom>
          <a:solidFill>
            <a:srgbClr val="2da2bf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казатель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нтропогене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1042920" y="3068640"/>
            <a:ext cx="3457800" cy="1440000"/>
          </a:xfrm>
          <a:prstGeom prst="roundRect">
            <a:avLst>
              <a:gd name="adj" fmla="val 16667"/>
            </a:avLst>
          </a:prstGeom>
          <a:solidFill>
            <a:srgbClr val="2da2b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еонт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2700360" y="4941720"/>
            <a:ext cx="4319640" cy="1440000"/>
          </a:xfrm>
          <a:prstGeom prst="roundRect">
            <a:avLst>
              <a:gd name="adj" fmla="val 16667"/>
            </a:avLst>
          </a:prstGeom>
          <a:solidFill>
            <a:srgbClr val="2da2b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5219640" y="3068640"/>
            <a:ext cx="3529080" cy="1440000"/>
          </a:xfrm>
          <a:prstGeom prst="roundRect">
            <a:avLst>
              <a:gd name="adj" fmla="val 16667"/>
            </a:avLst>
          </a:prstGeom>
          <a:solidFill>
            <a:srgbClr val="2da2b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бри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6"/>
          <p:cNvSpPr/>
          <p:nvPr/>
        </p:nvSpPr>
        <p:spPr>
          <a:xfrm>
            <a:off x="4859280" y="1916280"/>
            <a:ext cx="0" cy="30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7"/>
          <p:cNvSpPr/>
          <p:nvPr/>
        </p:nvSpPr>
        <p:spPr>
          <a:xfrm flipH="1">
            <a:off x="2700000" y="1916280"/>
            <a:ext cx="934920" cy="115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8"/>
          <p:cNvSpPr/>
          <p:nvPr/>
        </p:nvSpPr>
        <p:spPr>
          <a:xfrm>
            <a:off x="6156360" y="1916280"/>
            <a:ext cx="936720" cy="115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Рисунок 3" descr="0037-037-Dokazatelstva-evoljutsii.jpg"/>
          <p:cNvPicPr/>
          <p:nvPr/>
        </p:nvPicPr>
        <p:blipFill>
          <a:blip r:embed="rId1"/>
          <a:stretch/>
        </p:blipFill>
        <p:spPr>
          <a:xfrm>
            <a:off x="642960" y="3429000"/>
            <a:ext cx="7929720" cy="30002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971640" y="155736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47920" indent="-443160">
              <a:lnSpc>
                <a:spcPct val="100000"/>
              </a:lnSpc>
              <a:spcBef>
                <a:spcPts val="400"/>
              </a:spcBef>
              <a:buClr>
                <a:srgbClr val="78310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меневшие остатк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920" indent="-443160">
              <a:lnSpc>
                <a:spcPct val="100000"/>
              </a:lnSpc>
              <a:spcBef>
                <a:spcPts val="400"/>
              </a:spcBef>
              <a:buClr>
                <a:srgbClr val="78310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ечатки древних организмов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920" indent="-443160">
              <a:lnSpc>
                <a:spcPct val="100000"/>
              </a:lnSpc>
              <a:spcBef>
                <a:spcPts val="400"/>
              </a:spcBef>
              <a:buClr>
                <a:srgbClr val="78310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ные формы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920" indent="-443160">
              <a:lnSpc>
                <a:spcPct val="100000"/>
              </a:lnSpc>
              <a:spcBef>
                <a:spcPts val="400"/>
              </a:spcBef>
              <a:buClr>
                <a:srgbClr val="78310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генетические ряд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920" indent="-443160">
              <a:spcBef>
                <a:spcPts val="400"/>
              </a:spcBef>
              <a:buClr>
                <a:srgbClr val="78310b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920" indent="-443160">
              <a:spcBef>
                <a:spcPts val="400"/>
              </a:spcBef>
              <a:buClr>
                <a:srgbClr val="78310b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920" indent="-443160">
              <a:spcBef>
                <a:spcPts val="400"/>
              </a:spcBef>
              <a:buClr>
                <a:srgbClr val="78310b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7920" indent="-443160">
              <a:spcBef>
                <a:spcPts val="400"/>
              </a:spcBef>
              <a:buClr>
                <a:srgbClr val="78310b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4600" indent="-4431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4600" indent="-4431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24600" indent="-4431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рхеоптерикс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365040" y="401760"/>
            <a:ext cx="8229600" cy="1145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196640"/>
            <a:ext cx="8229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96"/>
                </a:solidFill>
                <a:latin typeface="Lucida Sans Unicode"/>
              </a:rPr>
              <a:t>  </a:t>
            </a:r>
            <a:r>
              <a:rPr b="1" lang="ru-RU" sz="2800" spc="-1" strike="noStrike">
                <a:solidFill>
                  <a:srgbClr val="d11d26"/>
                </a:solidFill>
                <a:latin typeface="Times New Roman"/>
                <a:ea typeface="Times New Roman"/>
              </a:rPr>
              <a:t>это формы организмов, сочетающие признаки более древних и молодых групп организмов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627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оптерикс (пресмыкающиеся → птицы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есмыкающихся – длинный хвост, зубы, пальцы на крыльях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тиц – перья, цевка, 4 пальца на ногах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озубый ящер (пресмыкающиеся → млекопитающие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имерия (рыбы → земноводные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ные папоротники (папоротники → голосеменные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глена зеленая (животные – растения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ископаемых форм, последовательно связанных друг с другом в процессе эволюци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3" descr="slide_24.png"/>
          <p:cNvPicPr/>
          <p:nvPr/>
        </p:nvPicPr>
        <p:blipFill>
          <a:blip r:embed="rId2"/>
          <a:stretch/>
        </p:blipFill>
        <p:spPr>
          <a:xfrm>
            <a:off x="1258920" y="2205000"/>
            <a:ext cx="6842160" cy="445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901800" y="334800"/>
            <a:ext cx="8242200" cy="131796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4"/>
          <p:cNvSpPr/>
          <p:nvPr/>
        </p:nvSpPr>
        <p:spPr>
          <a:xfrm>
            <a:off x="1071720" y="1643040"/>
            <a:ext cx="7286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удименты-</a:t>
            </a:r>
            <a:r>
              <a:rPr b="1" lang="ru-RU" sz="3600" spc="-1" strike="noStrike">
                <a:solidFill>
                  <a:srgbClr val="8156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ы, утратившие своё основное значение в процессе эволюционного развития организ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Рисунок 4" descr="45.jpg"/>
          <p:cNvPicPr/>
          <p:nvPr/>
        </p:nvPicPr>
        <p:blipFill>
          <a:blip r:embed="rId2"/>
          <a:stretch/>
        </p:blipFill>
        <p:spPr>
          <a:xfrm>
            <a:off x="500040" y="3000240"/>
            <a:ext cx="814392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сильев П.А.</dc:creator>
  <dc:description/>
  <dc:language>en-US</dc:language>
  <cp:lastModifiedBy>teacher13</cp:lastModifiedBy>
  <dcterms:modified xsi:type="dcterms:W3CDTF">2013-01-18T13:44:13Z</dcterms:modified>
  <cp:revision>163</cp:revision>
  <dc:subject/>
  <dc:title>Направления эволюции</dc:title>
</cp:coreProperties>
</file>