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852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1240" y="4589640"/>
            <a:ext cx="8607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852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1240" y="458964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51960" y="458964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852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2771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51480" y="2101680"/>
            <a:ext cx="2771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61720" y="2101680"/>
            <a:ext cx="2771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1240" y="4589640"/>
            <a:ext cx="2771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51480" y="4589640"/>
            <a:ext cx="2771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61720" y="4589640"/>
            <a:ext cx="2771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852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852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852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852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1240" y="627120"/>
            <a:ext cx="860760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852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1240" y="458964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852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51960" y="458964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c852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1960" y="2101680"/>
            <a:ext cx="42004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1240" y="4589640"/>
            <a:ext cx="8607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852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c852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863640" indent="-287280">
              <a:spcAft>
                <a:spcPts val="1412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1295280" indent="-215640">
              <a:spcAft>
                <a:spcPts val="1412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1727280" indent="-216000">
              <a:spcAft>
                <a:spcPts val="1412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2158920" indent="-215640">
              <a:spcAft>
                <a:spcPts val="1412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2158920" indent="-215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2158920" indent="-215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2" name="Рисунок 3" descr=""/>
          <p:cNvPicPr/>
          <p:nvPr/>
        </p:nvPicPr>
        <p:blipFill>
          <a:blip r:embed="rId3"/>
          <a:stretch/>
        </p:blipFill>
        <p:spPr>
          <a:xfrm>
            <a:off x="7462800" y="4829040"/>
            <a:ext cx="2616120" cy="254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1240" y="582120"/>
            <a:ext cx="860760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c8526"/>
                </a:solidFill>
                <a:latin typeface="Tahoma"/>
              </a:rPr>
              <a:t>Французский язык на русской кухне</a:t>
            </a:r>
            <a:endParaRPr b="0" lang="en-US" sz="4400" spc="-1" strike="noStrike">
              <a:solidFill>
                <a:srgbClr val="5c8526"/>
              </a:solidFill>
              <a:latin typeface="Tahoma"/>
            </a:endParaRPr>
          </a:p>
        </p:txBody>
      </p:sp>
      <p:pic>
        <p:nvPicPr>
          <p:cNvPr id="40" name="Рисунок 2" descr=""/>
          <p:cNvPicPr/>
          <p:nvPr/>
        </p:nvPicPr>
        <p:blipFill>
          <a:blip r:embed="rId1"/>
          <a:stretch/>
        </p:blipFill>
        <p:spPr>
          <a:xfrm>
            <a:off x="741240" y="2976480"/>
            <a:ext cx="4200480" cy="30114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  <a:ea typeface="MS Gothic"/>
              </a:rPr>
              <a:t>Настоящая работа посвящена исследованию вклада французского языка в обогащение русского в сфере «кулинария».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c8526"/>
                </a:solidFill>
                <a:latin typeface="Tahoma"/>
              </a:rPr>
              <a:t>«Винегрет» - «Vinaigrette».</a:t>
            </a:r>
            <a:endParaRPr b="0" lang="en-US" sz="4400" spc="-1" strike="noStrike">
              <a:solidFill>
                <a:srgbClr val="5c8526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  <a:ea typeface="MS Gothic"/>
              </a:rPr>
              <a:t>Русское «винегрет» - кушанье из мелко нарезанных овощей, мяса или рыбы, яиц с соусом,маслом.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  <a:ea typeface="MS Gothic"/>
              </a:rPr>
              <a:t>Французское «Vinaigrette» - соус из уксуса, масла и соли.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62" name="Рисунок 3" descr=""/>
          <p:cNvPicPr/>
          <p:nvPr/>
        </p:nvPicPr>
        <p:blipFill>
          <a:blip r:embed="rId1"/>
          <a:stretch/>
        </p:blipFill>
        <p:spPr>
          <a:xfrm>
            <a:off x="5580000" y="1440000"/>
            <a:ext cx="3959280" cy="27003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"/>
          <p:cNvPicPr/>
          <p:nvPr/>
        </p:nvPicPr>
        <p:blipFill>
          <a:blip r:embed="rId2"/>
          <a:stretch/>
        </p:blipFill>
        <p:spPr>
          <a:xfrm>
            <a:off x="5219640" y="4500720"/>
            <a:ext cx="2700360" cy="28796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c8526"/>
                </a:solidFill>
                <a:latin typeface="Tahoma"/>
              </a:rPr>
              <a:t>Десерт - «заедки»</a:t>
            </a:r>
            <a:endParaRPr b="0" lang="en-US" sz="4400" spc="-1" strike="noStrike">
              <a:solidFill>
                <a:srgbClr val="5c852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  <a:ea typeface="MS Gothic"/>
              </a:rPr>
              <a:t>Десерт-завершающее блюдо обеда независимо от того, каким он является по порядку подачи.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  <a:ea typeface="MS Gothic"/>
              </a:rPr>
              <a:t>До этого употребляли русское слово «заедки».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5691240" y="1440000"/>
            <a:ext cx="4029120" cy="2340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"/>
          <p:cNvPicPr/>
          <p:nvPr/>
        </p:nvPicPr>
        <p:blipFill>
          <a:blip r:embed="rId2"/>
          <a:stretch/>
        </p:blipFill>
        <p:spPr>
          <a:xfrm>
            <a:off x="4932360" y="4500720"/>
            <a:ext cx="3527280" cy="23396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c8526"/>
                </a:solidFill>
                <a:latin typeface="Tahoma"/>
              </a:rPr>
              <a:t>Суфле — «взбитые белки»</a:t>
            </a:r>
            <a:endParaRPr b="0" lang="en-US" sz="4400" spc="-1" strike="noStrike">
              <a:solidFill>
                <a:srgbClr val="5c852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  <a:ea typeface="MS Gothic"/>
              </a:rPr>
              <a:t>Суфле - «воздушный пирог» в кулинарии - «пенообразное состояние».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  <a:ea typeface="MS Gothic"/>
              </a:rPr>
              <a:t>Чаще всего делают из яиц с разными ароматическими добавками.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70" name="Рисунок 3" descr=""/>
          <p:cNvPicPr/>
          <p:nvPr/>
        </p:nvPicPr>
        <p:blipFill>
          <a:blip r:embed="rId1"/>
          <a:stretch/>
        </p:blipFill>
        <p:spPr>
          <a:xfrm>
            <a:off x="5400720" y="1436760"/>
            <a:ext cx="4206960" cy="28828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"/>
          <p:cNvPicPr/>
          <p:nvPr/>
        </p:nvPicPr>
        <p:blipFill>
          <a:blip r:embed="rId2"/>
          <a:stretch/>
        </p:blipFill>
        <p:spPr>
          <a:xfrm>
            <a:off x="4695840" y="4762440"/>
            <a:ext cx="3403440" cy="22575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2400" y="3128760"/>
            <a:ext cx="8607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c8526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5c8526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920880"/>
            <a:ext cx="860760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c8526"/>
                </a:solidFill>
                <a:latin typeface="Tahoma"/>
              </a:rPr>
              <a:t>Задачи доклада.</a:t>
            </a:r>
            <a:endParaRPr b="0" lang="en-US" sz="4400" spc="-1" strike="noStrike">
              <a:solidFill>
                <a:srgbClr val="5c852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9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spcAft>
                <a:spcPts val="1412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  <a:ea typeface="MS Gothic"/>
              </a:rPr>
              <a:t>1)Изучить литературу по теме «кулинария».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27320" indent="-320400">
              <a:spcAft>
                <a:spcPts val="1412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  <a:ea typeface="MS Gothic"/>
              </a:rPr>
              <a:t>2)Выделить слова французского происхождения, относящиеся к сфере кулинарии.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27320" indent="-320400">
              <a:spcAft>
                <a:spcPts val="1412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  <a:ea typeface="MS Gothic"/>
              </a:rPr>
              <a:t>3)Рассмотреть этимологию этих заимствований.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27320" indent="-320400">
              <a:spcAft>
                <a:spcPts val="1412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  <a:ea typeface="MS Gothic"/>
              </a:rPr>
              <a:t>4)Рассмотреть освоение этих лексических единиц в русском языке и содержание некоторых понятий.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920880"/>
            <a:ext cx="860760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c8526"/>
                </a:solidFill>
                <a:latin typeface="Tahoma"/>
              </a:rPr>
              <a:t>Заимствования</a:t>
            </a:r>
            <a:endParaRPr b="0" lang="en-US" sz="4400" spc="-1" strike="noStrike">
              <a:solidFill>
                <a:srgbClr val="5c852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35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spcAft>
                <a:spcPts val="1412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  <a:ea typeface="MS Gothic"/>
              </a:rPr>
              <a:t>Заимствования — копирование слова или выражения одного языка в другой, в языках является одним из важнейших факторов их развития.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27320" indent="-320400">
              <a:spcAft>
                <a:spcPts val="1412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  <a:ea typeface="MS Gothic"/>
              </a:rPr>
              <a:t>Примеры заимствованных слов: батон, десерт, желе, коньяк, лимонад, мармелад, пломбир, рагу, салат, эскимо, кафе, ресторан.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582120"/>
            <a:ext cx="860760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c8526"/>
                </a:solidFill>
                <a:latin typeface="Tahoma"/>
              </a:rPr>
              <a:t>Первый этап — фонетико-графическое освоение.</a:t>
            </a:r>
            <a:endParaRPr b="0" lang="en-US" sz="4400" spc="-1" strike="noStrike">
              <a:solidFill>
                <a:srgbClr val="5c852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54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spcAft>
                <a:spcPts val="1412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  <a:ea typeface="MS Gothic"/>
              </a:rPr>
              <a:t>1)Ударение сохранилось, гласные звуки могли заменятся близкими русскими:menu-меню...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27320" indent="-320400">
              <a:spcAft>
                <a:spcPts val="1412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  <a:ea typeface="MS Gothic"/>
              </a:rPr>
              <a:t>2)Носовые звуки исчезли,стали произносить новые согласные:compote-компот...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27320" indent="-320400">
              <a:spcAft>
                <a:spcPts val="1412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  <a:ea typeface="MS Gothic"/>
              </a:rPr>
              <a:t>3)Непроизносимый конечный согласный мог остаться непроизносимым:baiser-безе...или же стал произноситься:buffet-буфет...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27320" indent="-320400">
              <a:spcAft>
                <a:spcPts val="1412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  <a:ea typeface="MS Gothic"/>
              </a:rPr>
              <a:t>4)В некоторых случаях глухой конечный согласный стал звонким и наоборот:aperitif-аперитив, salade-салат... .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582120"/>
            <a:ext cx="860760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c8526"/>
                </a:solidFill>
                <a:latin typeface="Tahoma"/>
              </a:rPr>
              <a:t>Второй этап — приобретение грамматических показателей.</a:t>
            </a:r>
            <a:endParaRPr b="0" lang="en-US" sz="4400" spc="-1" strike="noStrike">
              <a:solidFill>
                <a:srgbClr val="5c852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  <a:ea typeface="MS Gothic"/>
              </a:rPr>
              <a:t>1)Изменился род:желе,кафе,филе... - стали среднего рода, во французском языке -  мужского рода.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  <a:ea typeface="MS Gothic"/>
              </a:rPr>
              <a:t>2)Слова перешли в другую часть речи:garnir (украсить,наполнить)-гарнир(дополнение к мясу или рыбе).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  <a:ea typeface="MS Gothic"/>
              </a:rPr>
              <a:t>3)В соответствии с русской нормой менялось окончание:cotelette-котлета, saucisse-сосиска.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582120"/>
            <a:ext cx="860760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c8526"/>
                </a:solidFill>
                <a:latin typeface="Tahoma"/>
              </a:rPr>
              <a:t>Третий этап — формирование значений.</a:t>
            </a:r>
            <a:endParaRPr b="0" lang="en-US" sz="4400" spc="-1" strike="noStrike">
              <a:solidFill>
                <a:srgbClr val="5c852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  <a:ea typeface="MS Gothic"/>
              </a:rPr>
              <a:t>Почти все заимствования в сфере кулинарии имеют одно значение. В русском языке некоторые слова изменили значение: servir (подавать на стол)-сервировать(накрывать на стол в определённой последовательности).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c8526"/>
              </a:solidFill>
              <a:latin typeface="Arial"/>
              <a:ea typeface="MS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  <a:ea typeface="MS Gothic"/>
              </a:rPr>
              <a:t>1.Суффиксальный: маринад(marinade): от mariner - «мариновать»+-ade.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  <a:ea typeface="MS Gothic"/>
              </a:rPr>
              <a:t>2.Сложение целых слов: антрекот(entrecote: от entre - «между», и cote - «ребро»).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  <a:ea typeface="MS Gothic"/>
              </a:rPr>
              <a:t>3.Субстантивация: желе (gelee: от gele - «замёрзший»).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582120"/>
            <a:ext cx="860760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c8526"/>
                </a:solidFill>
                <a:latin typeface="Tahoma"/>
              </a:rPr>
              <a:t>4.Метонимический перенос французских собственных имён:</a:t>
            </a:r>
            <a:endParaRPr b="0" lang="en-US" sz="4400" spc="-1" strike="noStrike">
              <a:solidFill>
                <a:srgbClr val="5c852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  <a:ea typeface="MS Gothic"/>
              </a:rPr>
              <a:t>1)Продукт называли по месту производства: коньяк(cognac)- по названию города Коньяк, где производился этот сорт вина.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  <a:ea typeface="MS Gothic"/>
              </a:rPr>
              <a:t>2)По имени производителя: саварен(savarin)- был изобретён в начале 19 века французскими кондитерами — братьями Жюльен.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  <a:ea typeface="MS Gothic"/>
              </a:rPr>
              <a:t>3)По имени: (суп) жюльен, шарлот(ка):от женских имён Julienne, Charlotte.  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c8526"/>
                </a:solidFill>
                <a:latin typeface="Tahoma"/>
              </a:rPr>
              <a:t>«Батон» - «baton».</a:t>
            </a:r>
            <a:endParaRPr b="0" lang="en-US" sz="4400" spc="-1" strike="noStrike">
              <a:solidFill>
                <a:srgbClr val="5c852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  <a:ea typeface="MS Gothic"/>
              </a:rPr>
              <a:t>Русский «батон» - хлебобулочное изделие.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  <a:ea typeface="MS Gothic"/>
              </a:rPr>
              <a:t>Французский «baton» - (палка, посох, брусок)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58" name="Рисунок 3" descr=""/>
          <p:cNvPicPr/>
          <p:nvPr/>
        </p:nvPicPr>
        <p:blipFill>
          <a:blip r:embed="rId1"/>
          <a:stretch/>
        </p:blipFill>
        <p:spPr>
          <a:xfrm>
            <a:off x="5040360" y="1719360"/>
            <a:ext cx="4425840" cy="22399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2"/>
          <a:stretch/>
        </p:blipFill>
        <p:spPr>
          <a:xfrm>
            <a:off x="5400720" y="4402080"/>
            <a:ext cx="2732040" cy="22575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5T16:14:11Z</dcterms:created>
  <dc:creator>1</dc:creator>
  <dc:description/>
  <dc:language>en-US</dc:language>
  <cp:lastModifiedBy>КОМП</cp:lastModifiedBy>
  <dcterms:modified xsi:type="dcterms:W3CDTF">2016-02-24T17:26:25Z</dcterms:modified>
  <cp:revision>10</cp:revision>
  <dc:subject/>
  <dc:title>Доклад на тему:французский язык на русской кухне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