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1B0-82BC-4292-8446-99BA8365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CC2-0DC6-4C9B-A7C4-A86C563F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966-D3AF-41CB-921A-635F68F4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3D7-AFE2-4CD5-B818-9FA7ADAC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D5CA-274C-4260-B1E5-5BD118EA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C479-B571-4E2E-A78C-DF5F553E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825F-1405-4D7D-9D69-749F12BE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1E1A-FE63-44B5-B366-48716129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7881-63A8-46B1-84C9-008F0DC7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E1F5-8260-4CB4-BC07-10E6F1C7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26F4-3F3E-4FDA-8455-51231EC3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88A-35CF-4ED6-B96A-AB4ACC46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39B8-6A18-416B-8E4F-2084F1B4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EAD7-6BAA-45BF-8CEF-2F193AFB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F9A1-506A-4788-84ED-CCA36300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7100-BD92-44FC-9814-57C27933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3F1D-AA6B-49EC-8D50-55F1B957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B40-E48B-457F-8286-0C1AEF17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94F-C3C9-4967-A7DC-0DFE746C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6A20-398D-466C-80A1-9EAEFD7B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51A-2B45-4405-A065-47D4805B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ABB-18CE-4554-B7C7-F3D0F4B4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764B-6962-4AE4-BE34-410FB320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364-F296-46FC-BD04-2B7DE6F8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C7D0-6D41-4404-9EF5-A100C6B488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9545-E9CA-441E-A39F-9A4348AED8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Тема: Проблемы и перспективы развития добычи нефти и природного газа на Таймыре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2004год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За 11 месяцев план выполнен на 89%.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о добыче газового конденсата перевыполнен на 9%.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о плану – 500 тонн, добыто 549 тонн.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роизведен ремонт на 9 скважинах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Увеличился объем добычи газа на 400 куб. метров в сутк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5373720"/>
            <a:ext cx="7354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Запасы природного газа рассчитаны на 30 лет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Arial Black"/>
              </a:rPr>
              <a:t>Экологическая политика ОАО «Газпром»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838080" y="1905120"/>
            <a:ext cx="8006760" cy="4189680"/>
            <a:chOff x="838080" y="1905120"/>
            <a:chExt cx="8006760" cy="4189680"/>
          </a:xfrm>
        </p:grpSpPr>
        <p:cxnSp>
          <p:nvCxnSpPr>
            <p:cNvPr id="136" name="_s189452"/>
            <p:cNvCxnSpPr>
              <a:stCxn id="137" idx="0"/>
              <a:endCxn id="138" idx="2"/>
            </p:cNvCxnSpPr>
            <p:nvPr/>
          </p:nvCxnSpPr>
          <p:spPr>
            <a:xfrm flipV="1" rot="16200000">
              <a:off x="5823360" y="2597760"/>
              <a:ext cx="838440" cy="2802960"/>
            </a:xfrm>
            <a:prstGeom prst="bentConnector3">
              <a:avLst>
                <a:gd name="adj1" fmla="val 136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9" name="_s189451"/>
            <p:cNvCxnSpPr>
              <a:stCxn id="140" idx="0"/>
              <a:endCxn id="138" idx="2"/>
            </p:cNvCxnSpPr>
            <p:nvPr/>
          </p:nvCxnSpPr>
          <p:spPr>
            <a:xfrm flipV="1">
              <a:off x="4841280" y="3580200"/>
              <a:ext cx="3240" cy="838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1" name="_s189450"/>
            <p:cNvCxnSpPr>
              <a:stCxn id="142" idx="0"/>
              <a:endCxn id="138" idx="2"/>
            </p:cNvCxnSpPr>
            <p:nvPr/>
          </p:nvCxnSpPr>
          <p:spPr>
            <a:xfrm flipH="1" flipV="1" rot="5400000">
              <a:off x="3021120" y="2598120"/>
              <a:ext cx="838440" cy="2802960"/>
            </a:xfrm>
            <a:prstGeom prst="bentConnector3">
              <a:avLst>
                <a:gd name="adj1" fmla="val 136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8" name="_s189446"/>
            <p:cNvSpPr/>
            <p:nvPr/>
          </p:nvSpPr>
          <p:spPr>
            <a:xfrm>
              <a:off x="3640320" y="190512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6666ff"/>
                  </a:solidFill>
                  <a:latin typeface="Arial"/>
                </a:rPr>
                <a:t>Экологическая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6666ff"/>
                  </a:solidFill>
                  <a:latin typeface="Arial"/>
                </a:rPr>
                <a:t>безопасность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6666ff"/>
                  </a:solidFill>
                  <a:latin typeface="Arial"/>
                </a:rPr>
                <a:t> </a:t>
              </a:r>
              <a:r>
                <a:rPr b="0" lang="ru-RU" sz="2100" spc="-1" strike="noStrike">
                  <a:solidFill>
                    <a:srgbClr val="6666ff"/>
                  </a:solidFill>
                  <a:latin typeface="Arial"/>
                </a:rPr>
                <a:t>и рационально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6666ff"/>
                  </a:solidFill>
                  <a:latin typeface="Arial"/>
                </a:rPr>
                <a:t>природо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6666ff"/>
                  </a:solidFill>
                  <a:latin typeface="Arial"/>
                </a:rPr>
                <a:t>пользован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89447"/>
            <p:cNvSpPr/>
            <p:nvPr/>
          </p:nvSpPr>
          <p:spPr>
            <a:xfrm>
              <a:off x="83808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6666ff"/>
                  </a:solidFill>
                  <a:latin typeface="Arial"/>
                </a:rPr>
                <a:t>Организационн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6666ff"/>
                  </a:solidFill>
                  <a:latin typeface="Arial"/>
                </a:rPr>
                <a:t>мероприятни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189448"/>
            <p:cNvSpPr/>
            <p:nvPr/>
          </p:nvSpPr>
          <p:spPr>
            <a:xfrm>
              <a:off x="364032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6666ff"/>
                  </a:solidFill>
                  <a:latin typeface="Arial"/>
                </a:rPr>
                <a:t>Технически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6666ff"/>
                  </a:solidFill>
                  <a:latin typeface="Arial"/>
                </a:rPr>
                <a:t>мероприяти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189449"/>
            <p:cNvSpPr/>
            <p:nvPr/>
          </p:nvSpPr>
          <p:spPr>
            <a:xfrm>
              <a:off x="644292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6666ff"/>
                  </a:solidFill>
                  <a:latin typeface="Arial"/>
                </a:rPr>
                <a:t>Экономически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6666ff"/>
                  </a:solidFill>
                  <a:latin typeface="Arial"/>
                </a:rPr>
                <a:t>мероприяти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Организационные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мероприятн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разработка планов мероприятий по охране окружающей среды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контроль за выполнением планов и состоянием компонентов окружающей среды (т.е. лабораторные исследования)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ведение учета и отчетности (в т.ч. статистической) по вопросам экологии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работа с государственными инспектирующими организациями (государственная экологическая экспертиза, лицензирование деятельности, переписка и др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Технические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мероприят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строительство объектов охраны окружающей среды, текущие и капитальные ремонты, эксплуатация действующих природоохранных объектов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сбор, транспортировка на перерабатывающие предприятия отходов производства и потребления (вторичных ресурсов)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техническая и биологическая рекультивация земел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843588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Экономические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мероприят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четы и выплаты обязательных платежей за загрязнение окружающей природной среды, за изъятие земель из сельскохозяйственного производства, налогов за природопользование и др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55784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Актуальность темы: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58560" y="2276640"/>
            <a:ext cx="66978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обходимость в энергетическом и технологическом топливе Норильского горно-металлургического комбината постоянно возрастала. Для наиболее эффективного решения энергетической проблемы решено перевести все теплоэнергослужбы с каменного угля на природный г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аменный уголь  - природный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аз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59280" y="2133720"/>
            <a:ext cx="357336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Ожидаемый экономический эффект: переход комбината на новый вид технологического топлива – природный газ.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Решить острейшую энергетическую проблему за счет снабжения комбината дешевым природным газ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Этим высвобождалась большое количество рабочих, появилась возможность использовать их на других видах рабо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Использование природного газа сокращает загруженность воздушного бассейна НПР дымовыми отход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12 ноября 1996 г.</a:t>
            </a:r>
            <a:br>
              <a:rPr sz="1800"/>
            </a:b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Постановление правительства РФ №1346</a:t>
            </a:r>
            <a:br>
              <a:rPr sz="1800"/>
            </a:b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о создании нефтегазовой отрасли в Таймырском автономном округе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9240" y="2398680"/>
            <a:ext cx="799632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енеральная цель – обеспечить горюче-смазочными материал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приятия Горной компан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рода и поселки ТА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дажа нефтепродуктов за пределы террит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История развития нефтегазовой промышленност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1 – создана Красноярская контор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разведочного бур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3 – создание Южно-Пясинской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нефтеразведочной экспеди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92880" y="533880"/>
            <a:ext cx="8960400" cy="5528880"/>
            <a:chOff x="92880" y="533880"/>
            <a:chExt cx="8960400" cy="5528880"/>
          </a:xfrm>
        </p:grpSpPr>
        <p:sp>
          <p:nvSpPr>
            <p:cNvPr id="111" name="_s36025"/>
            <p:cNvSpPr/>
            <p:nvPr/>
          </p:nvSpPr>
          <p:spPr>
            <a:xfrm flipH="1" flipV="1">
              <a:off x="2784960" y="2507400"/>
              <a:ext cx="891360" cy="44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36024"/>
            <p:cNvSpPr/>
            <p:nvPr/>
          </p:nvSpPr>
          <p:spPr>
            <a:xfrm>
              <a:off x="750600" y="1347480"/>
              <a:ext cx="2286000" cy="143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Южно-Пясенско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36023"/>
            <p:cNvSpPr/>
            <p:nvPr/>
          </p:nvSpPr>
          <p:spPr>
            <a:xfrm flipH="1">
              <a:off x="2342880" y="3566880"/>
              <a:ext cx="1114200" cy="155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36022"/>
            <p:cNvSpPr/>
            <p:nvPr/>
          </p:nvSpPr>
          <p:spPr>
            <a:xfrm>
              <a:off x="92880" y="3167640"/>
              <a:ext cx="2286000" cy="14364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Болгохтонско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36021"/>
            <p:cNvSpPr/>
            <p:nvPr/>
          </p:nvSpPr>
          <p:spPr>
            <a:xfrm flipH="1">
              <a:off x="3579120" y="4052880"/>
              <a:ext cx="499320" cy="64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36020"/>
            <p:cNvSpPr/>
            <p:nvPr/>
          </p:nvSpPr>
          <p:spPr>
            <a:xfrm>
              <a:off x="1947960" y="4626720"/>
              <a:ext cx="2285280" cy="143604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Суходудинско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36019"/>
            <p:cNvSpPr/>
            <p:nvPr/>
          </p:nvSpPr>
          <p:spPr>
            <a:xfrm>
              <a:off x="5071320" y="4050360"/>
              <a:ext cx="492120" cy="64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36018"/>
            <p:cNvSpPr/>
            <p:nvPr/>
          </p:nvSpPr>
          <p:spPr>
            <a:xfrm>
              <a:off x="4916520" y="4624200"/>
              <a:ext cx="2286000" cy="1436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Зимне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36015"/>
            <p:cNvSpPr/>
            <p:nvPr/>
          </p:nvSpPr>
          <p:spPr>
            <a:xfrm>
              <a:off x="5685840" y="3562920"/>
              <a:ext cx="1114200" cy="16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36014"/>
            <p:cNvSpPr/>
            <p:nvPr/>
          </p:nvSpPr>
          <p:spPr>
            <a:xfrm>
              <a:off x="6767280" y="3165480"/>
              <a:ext cx="2286000" cy="143604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Майско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36013"/>
            <p:cNvSpPr/>
            <p:nvPr/>
          </p:nvSpPr>
          <p:spPr>
            <a:xfrm flipV="1">
              <a:off x="5463360" y="2509920"/>
              <a:ext cx="894600" cy="446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36012"/>
            <p:cNvSpPr/>
            <p:nvPr/>
          </p:nvSpPr>
          <p:spPr>
            <a:xfrm>
              <a:off x="6106320" y="1344600"/>
              <a:ext cx="2286000" cy="14364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Семеновско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36011"/>
            <p:cNvSpPr/>
            <p:nvPr/>
          </p:nvSpPr>
          <p:spPr>
            <a:xfrm flipV="1">
              <a:off x="4571640" y="1970640"/>
              <a:ext cx="0" cy="717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36010"/>
            <p:cNvSpPr/>
            <p:nvPr/>
          </p:nvSpPr>
          <p:spPr>
            <a:xfrm>
              <a:off x="3429000" y="533880"/>
              <a:ext cx="2285280" cy="143640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Нижнее-Хетско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36009"/>
            <p:cNvSpPr/>
            <p:nvPr/>
          </p:nvSpPr>
          <p:spPr>
            <a:xfrm>
              <a:off x="3429000" y="2688480"/>
              <a:ext cx="2285280" cy="143640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1964г.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Нефтепоисковые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работы развернулись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на площадях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3538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Лето 1966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23 августа 1966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1967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Август 1968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1969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1969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7280" y="404280"/>
            <a:ext cx="47527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оисковое бурение на Мессояхской площад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монтажники приступили к монтажу буровой установки; получен приток газа дебитом 28,3 тыс. куб м. в сут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 навигацию, в Дудинку были отгружены трубы для газопровода и соответствующая техн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а месте Семеновской нефтеразведки создана Мессояхская нефтеразвед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открытие газоконденстаных месторождении: Пеляткинсоке, Соленнинсоке, Казанцевское и Озерскоеэ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Завершено строительство газопровода Мессояха Норильс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23032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70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72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83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95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5 аперля 1999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71280" y="189000"/>
            <a:ext cx="591516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рильская ТЭС-1 переведена на голубое топли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Норильскгаспром» вводит в эксплуатацию 2 крупных месторождения Южно-Соленинск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веро-Соленинск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Пеляткинского газоконденсатного месторож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елятке зажжен первый фак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6:25:38Z</dcterms:created>
  <dc:creator>robo</dc:creator>
  <dc:description/>
  <dc:language>en-US</dc:language>
  <cp:lastModifiedBy>user</cp:lastModifiedBy>
  <dcterms:modified xsi:type="dcterms:W3CDTF">2006-01-27T13:07:45Z</dcterms:modified>
  <cp:revision>8</cp:revision>
  <dc:subject/>
  <dc:title>тема</dc:title>
</cp:coreProperties>
</file>