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.jpeg" ContentType="image/jpeg"/>
  <Override PartName="/ppt/media/image3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5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4C1-EF0D-4343-9F15-E662209B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CD2-9957-4C09-A913-C76B580B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2B3BC-4091-461B-8625-4A7DCDE3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87698-F7BD-49E1-ACBD-AC7793CE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1CAC6-5B31-4A3C-9BF3-AB8BE1D5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C0D4D-D350-4F74-B9A9-606AC642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6AB63-37F1-48A7-87A6-2731704B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75582-E795-4BA0-AF04-B29D0DEC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ED547-61A3-4294-BD44-BECD4946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1294C-DAF8-4DC3-ADFD-CFE17F6D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3DCD0-CBDB-4082-98C2-2F0AA461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951C5-7D13-4669-B150-27EBBD26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20B-47D8-493A-9C37-4CA635C0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F08D9-4088-4920-A40C-009329FB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FBDFB-3C2F-4F1C-8379-B30CE66B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C27BA-444F-4BB3-AE61-212CFF4C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F6167-C1EF-4163-B09A-9FA697A2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DEBDE-41C7-4F96-84D5-9B7AC731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29E87-7EF8-4AB7-9B8F-A616F3A5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50E06-2BD5-40C6-8A6E-2CD451D9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2A3AD-CE3F-482A-AACC-81129F6C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A7A07-14CF-44BF-964F-C839BE5C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706BE-918C-40A4-B8FC-E9580B6B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EBA-CA98-4E29-82E9-8CCA9A0B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D2A82-C2CA-4DC5-AF0B-AFED02DD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C1549-6D9F-4267-956A-294EE7A1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25457-68D1-4349-89A5-7FCC7CEC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EED2B-9AF6-4293-B93F-A776E2DF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EE03B-1DE6-4D2E-B735-29CB175B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260F7-61C4-4BF0-AC97-7F14AD66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101AF-3DBA-4934-BFC9-9561D80E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C05B7-9007-4291-BAF6-AA67B812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0B5E5-4359-4FA6-BEB8-E684C2D0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87C23-3500-4AD4-8365-FE97F0D4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A1E7-EE9C-4E3A-B2DE-71674DB5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35A10-4FBD-4F93-A9F9-1D5F20B1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DF652-4DB1-4200-A8CE-80D86475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09A10-77E8-4BAC-A694-4E1B7A54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E3BE4-044D-4486-9EF9-B16EB747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BA9A6-3B86-4BB2-B99F-2AEEA187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6A86C-0383-46D5-A774-17944500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072EE-1CC0-42AC-B0AE-9BAB621C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CC999-8E70-4968-90EC-0E5391F9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E61AB-2C44-4844-8B59-D6C76896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B1D13-CDFB-460D-83CD-1127977E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571F-1FAF-4D06-B7BB-F4B62304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EEBB8-5E14-475D-9498-DBA24E0B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7D23A-91C8-4387-8860-F3D2FCE0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A23B8-F558-49E6-899B-4616D058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A8721-DF80-493C-9D08-058BD6F8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34B2C-E9E6-4F27-8A5D-3AEBCE6C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C4FD2-365D-47C0-B5CA-9A1B705D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462C4-9C38-4534-9D08-E2635CA3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0D6D5-43B4-4A5D-8407-E4A866C2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B10D2-DD7B-4038-9EF7-E5976C05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D710B-B17F-441E-B4FE-511C42C8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BB7D-CE11-4995-ADEF-4D043C58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4F26E-B5A6-4C5E-82FD-067E7DF0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D3C9B-8BBA-4B9B-A9B9-3996B1D6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9DCD2-30FE-4A2A-B746-F43844CF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CC4FD-D768-43D2-94A1-494BAA1F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50826-84CC-427C-BDEE-F90351A7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6A509-A928-489F-8AEF-E206D81F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83D68-4FB9-4F3E-845D-E0728120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73C4C-4991-4481-99D4-E7A8BD87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C95E5-9B01-496D-9F75-2A904112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45564D-12DD-467C-957B-685180FB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28E4-E010-4D03-98A6-DF175913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25C8A-1267-4A4E-93F5-58F8D2D9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11C69-459B-4F7E-BD7D-A48E5E3C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8056C1-8729-463B-A2F7-502281B3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E3E678-A4ED-4A9A-AEF9-50982D56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F17D6-7D17-448E-883E-CDAA09B6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182CA-CCC1-42AF-8742-94BD21A9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90929F-66E6-4309-854F-46285F05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6C39B2-05E3-4AE2-8B5D-81A193A6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EE9198-867A-47D4-95DA-D95B2ED1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A63F9E-2679-48BC-824C-3EFF67C4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7827-7E79-4FA0-A0BE-E9877C13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6B6A7-8976-4759-90D8-7E15DE49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359E5-A5D2-4BA5-90E3-A809CB83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0480E-9FA3-4FED-BF74-047B304F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F70E1-96F5-4D9D-94B8-A5A7D5B3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9470B0-2E3A-4305-A20C-ADC76A53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12B1E3-EDBB-40A2-8D02-6F71DBCB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CD705-12E9-4F7B-947A-E4D63EDF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77B44C-95C1-4265-807A-7C82D576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839884-132E-460E-8A1D-18A931DE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84A58-BD12-4F3A-ADB6-BDE09134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6E4D-E5F4-4A9B-AB0A-3A5B6E82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DEADD-6A2D-42CC-B70B-F07C57BB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E933DC-1AFF-4E68-8CD0-BBDFDD89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40FC6-4B28-4209-BE48-F6566E4B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1E84E6-E6BE-485C-9472-CF18D7AF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BE36F3-1EE3-42BA-B403-E8C53B68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32C6F4-64B5-4B7F-BCB6-0AE34D42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6DE8F-9A85-41EB-836E-901A8483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A1D97F-31BE-4492-B3C5-BCB82C47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4DF81E-9E55-43D5-97AD-CE27F17F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AD551E-17B8-4649-9324-D1CD8150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7155-4342-4885-B1AE-7AF12D95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967190-E1FF-44F7-90D2-BE71A784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F1B5A7-730A-4AE6-8503-C92E6822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D03FE4-4E46-4FD9-97A1-16EF7477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0E4-C6AE-45DF-BA69-879850B5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7F80-5247-4294-958D-87F8E6A2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8E27-8C20-428A-9E49-0D41564A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D24C-4A8D-40E2-9750-C5B8B9B1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C2B7-DEFF-42E6-B7BA-FB2424A1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204D-B4C7-4A2A-925D-8DFFB9C6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FA235-EC92-4605-B756-0C7AFD06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AB77E-82D9-4232-A75E-3CECE61F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3180E-5043-445A-AE20-15A242BA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4B8E-BD8F-46D0-A808-2BBA6526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9FD17-6957-45AE-A753-F891F1A6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190-C506-456D-920C-AAF96EA6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F80E6-02C4-46F2-A9E6-699B6F06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7D5B3-3C3A-404F-8622-66603CE4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E469B-CF5E-4AD3-B27E-0ED199F2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2BF8-B7CD-47BB-9321-E345A82A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222AF-D498-42C3-BAFD-431563C7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CE695-1321-4795-B13F-F86C6664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D98CB-6866-40BC-938B-B846554A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4A4FA-0EDC-4319-95B5-409DAB1B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AB844-AB88-4BD5-870D-7DBCC64C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055E2-CF5C-49B7-B2F4-B6F888B8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1851-92E2-4F41-B660-EC3B182E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13F4E-BFD6-4089-B8FF-B70569FD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C0E71-BB36-41B8-9E10-0EF5DA77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4B6FC-92FF-4789-8C97-4FDFAECC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7ED02-73C4-4A6E-8FEC-DCABE7A3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CD129-EF0C-455A-B8F8-ACDF3D07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39063-64B4-4E84-9BD2-C4345124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B7F0C-890D-49AF-BED0-7FA97A14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1F869-00F0-4E63-99EF-B71557FE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CABF8-90B7-4AA4-83FE-5ECDC38F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2585F-9C50-42E0-A68B-C3D849B6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99F-4DC4-4504-ACB9-1250E54B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44E61-F2E1-42F7-B1E2-95E253A0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45A49-AA7F-4C01-9B46-CCB904DB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93F89-5945-4E43-B0DB-0ACE2AC8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63737-3947-4469-A9D6-33FA9198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A52FA-5056-415A-8F17-FAAC6C3E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4CBD4-7B2C-4B5B-AFD8-4E924C43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0A491-1E8A-4846-B4D6-AA159A3D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9638E-7583-4C67-8388-C89F6CF7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0057D-1E7D-44CA-BCD1-BA4287D9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158B8-9D1B-44A7-8E3A-A634845B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4D3-C816-4C86-BAEF-FD88859F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D840A-4FB7-40C3-AFB2-4B309803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8C0C6-9F9B-43C5-AC40-C18285EE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1F9DB-A6A3-4DFF-B25B-32DE48CC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1181A-BF83-47DF-B237-FF2CFEA1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5A758-B40F-492D-BC29-57B0EDFC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FDC02-E97D-4D7C-8145-F469EC67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8BDD2-F77D-4196-BE5B-83B281DC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B9C20-C827-4C12-AFD3-DDF7D9BC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2871C-E8A6-474D-8C17-BA8BD92E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47578-7598-416A-A1EE-070DD130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64A-D8B7-4CC1-986D-D7F27783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82A4F-E5B7-4DA7-8C12-4ACD4741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82422-A2DA-4C87-9100-21A92B8D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B501F-B0BB-4BB6-88D7-D4377046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12D33-6966-4259-826A-8898F579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221BD-E5BF-4268-A829-D8FBF427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48607-DE60-4A80-BDAD-D1654C17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CA03D-98F9-480C-96FE-01D3DEF0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9F392-A58A-4950-8A02-459FC6EB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01889-D536-4445-8419-C16182BD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CD61B-76F4-4000-AF4B-CA5A6CAE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442-146C-445E-81D0-2EDD9A0F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EC8D6-DD3C-4F08-905C-C7BFA593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90B2C-2921-4B33-8AFD-BE2C3267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C1794-21F4-4E0F-8E40-8EE5B0F5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F16D8-6B3F-48FC-AAFC-6E6EB702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4FA80-63E0-4443-A1EB-FD68499D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064D4-FD03-4B2B-ADD7-6623F3C2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ED954-8585-4924-91B6-7271E18A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AFDCC-25D6-48CF-891E-C315387E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D4225-E899-4548-A00F-BA53CBAF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42030-E659-4945-8B57-2A906BF2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AAB-1F7F-4D06-A4D3-66EB5550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FE286-9B0A-4EF1-B3E8-FB7C78EB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F2BA2-505D-43B3-948A-2DB708BD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F5684-A33B-42C9-99A4-D5CE45A0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825C9-EEBE-4400-80AB-A46C8390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7F283-BD4E-4997-8D4F-B5E50970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59255-F661-4D6E-AE8D-CD421DDA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BEA04-B7E3-471F-B488-E341B51C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154FB-B670-42B7-AF52-C9D1DC80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229A3-A716-40D7-A12D-3EBA080C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E11F8-B485-4915-B4F9-2F357EAF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0EBE-E1EB-48CF-A66F-4265F658BB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7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25DC-E796-429D-8020-BDF29395C3A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208E-7FFA-489A-A850-3B1E0C16607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98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0ACE-9DF6-45FB-93F7-B06616606A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B1FD-5EFB-4576-AC77-954EC0EA32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29AB-C85F-403A-9CC1-716DEE5FEB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2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3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5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E3B5-E06C-4764-9C08-4233614CDFC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0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0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2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3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E66E-4BB2-4DD2-9870-59BC48D7D24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F281-CA94-4C7E-8E99-654B18E2C5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9074-B6D5-4D81-AC3B-C6A94309E4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E6D3-249C-45F4-A015-70D8FD4825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94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8B4A-8AA0-4490-88C0-81528071CA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35A6-D02D-4369-AD37-C464FD1852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7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4270-3F8F-4646-8729-10959BF2F3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3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757D-B3E2-4EB8-8C8E-E2E745627D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2364-9F1B-446B-B6DB-238FEA7183F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5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66ff33"/>
                </a:solidFill>
                <a:latin typeface="Georgia"/>
              </a:rPr>
              <a:t>Феномен Золотого сечения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1042560" y="2421000"/>
            <a:ext cx="79138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ыполни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ивцов Макс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Ученик 10 класса «Б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99"/>
                </a:solidFill>
                <a:latin typeface="Bookman Old Style"/>
              </a:rPr>
              <a:t>Бердск 2005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Золотое сечение и современность.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1"/>
          <a:stretch/>
        </p:blipFill>
        <p:spPr>
          <a:xfrm>
            <a:off x="6300720" y="4653000"/>
            <a:ext cx="2303640" cy="1601640"/>
          </a:xfrm>
          <a:prstGeom prst="rect">
            <a:avLst/>
          </a:prstGeom>
          <a:ln w="0">
            <a:noFill/>
          </a:ln>
        </p:spPr>
      </p:pic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511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Monotype Corsiva"/>
              </a:rPr>
              <a:t>        </a:t>
            </a:r>
            <a:r>
              <a:rPr b="0" lang="ru-RU" sz="2400" spc="-1" strike="noStrike">
                <a:solidFill>
                  <a:srgbClr val="0000cc"/>
                </a:solidFill>
                <a:latin typeface="Monotype Corsiva"/>
              </a:rPr>
              <a:t>Закономерности золотой пропорции проявляются в энергетических переходах элементарных частиц, в строении некоторых химических соединений, в планетарных и космических системах, в генных структурах живых организмов, в строении отдельных органов человека и тела в целом, в биоритмах и функционировании головного мозга, в зрительном восприятии. В настоящее время эта пропорция используется для проектирования зданий, мебели, для конструирования автомобилей, летательных аппаратов, в кибернетике ― для создания программ и иг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6443640" y="1844640"/>
            <a:ext cx="1871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147160" cy="1079640"/>
          </a:xfrm>
          <a:prstGeom prst="rect">
            <a:avLst/>
          </a:prstGeom>
          <a:gradFill rotWithShape="0">
            <a:gsLst>
              <a:gs pos="0">
                <a:srgbClr val="2f752f"/>
              </a:gs>
              <a:gs pos="50000">
                <a:srgbClr val="66ff66"/>
              </a:gs>
              <a:gs pos="100000">
                <a:srgbClr val="2f752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Monotype Corsiva"/>
              </a:rPr>
              <a:t>Заключение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« В наше время трудно назвать сферу человеческой деятельности, где бы золотое сечение не находило практическое использование. Оно вездесуще… Сегодня палитра самых разных проявлений золотого сечения обязывает выдвинуть тезис о том, что золотое сечение, есть вовсе не частный случай пропорциональной зависимости, уникальный своими закономерностями среди прочих пропорциональных соотношений, а оно, золотое сечение,― феномен, пронизывающий все уровни организации материальных объектов, обладающих динамическими качествами, то есть общесистемное явление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2400" spc="-1" strike="noStrike">
                <a:solidFill>
                  <a:srgbClr val="ff99ff"/>
                </a:solidFill>
                <a:latin typeface="Book Antiqua"/>
              </a:rPr>
              <a:t>И. П. Шмелё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7797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752f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Математический смысл Золотого сечения.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135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олотое сечение ― гармоническое деление, деление в крайнем и среднем отношении, деление отрезка на две части таким образом, что большая его часть является средней пропорциональной между всем отрезком и его меньшей частью. Чтобы построить золотое сечение отрезка АВ нужно провести полуокружность АЕС радиусом АВ с центром в точке В. Разделив радиус ВС пополам, получим точку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D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. Проведем дугу окружности с центром в точке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D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радиусом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DE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до пересечения с АВ. Точка пересечения Х и есть искома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1619280" y="3500280"/>
            <a:ext cx="5904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282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Monotype Corsiva"/>
              </a:rPr>
              <a:t>Актуальность выбранной темы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unga"/>
              </a:rPr>
              <a:t>При изучении этой темы с математической точки зрения, я узнал, что золотое сечение используется при построении вращающихся пентаграммы, квадратов и треугольников, вычислении косинусов и синусов некоторых углов, а так же при решении занимательных задач. Но оказывается, золотое сечение имеет и глубокий философский смысл. Божественная пропорция неожиданно появляется в разных областях, искусства, архитектуры, явлениях природы и реже в человеческом мышлении. Актуальность этой темы заключается в том, что большинство людей даже не догадываются, что золотое сечение проявляется в тех сферах деятельности, где они непосредственно работают. Поэтому я решил больше узнать об этом необычном явлении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Times New Roman"/>
              </a:rPr>
              <a:t>Золотое сечение в Древней Греци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5472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инято считать, что понятие о золотом сечении ввёл в научный обиход Пифагор, древнегреческий философ и математик. Он старался математически разобрать существо гармонических пропорций. Пифагору приписывают знание арифметической, геометрической и гармонической пропорций, а так же закона золотого сечения. А впервые золотое сечение встречается во 2  книге «Начал» Евклида, где даётся геометрическое построение золотого сечения, равносильное решению квадратного уравнения вида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  <a:ea typeface="新細明體"/>
              </a:rPr>
              <a:t>x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  <a:ea typeface="新細明體"/>
              </a:rPr>
              <a:t>a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  <a:ea typeface="新細明體"/>
              </a:rPr>
              <a:t>x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)=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  <a:ea typeface="新細明體"/>
              </a:rPr>
              <a:t>a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1"/>
          <a:stretch/>
        </p:blipFill>
        <p:spPr>
          <a:xfrm>
            <a:off x="5940360" y="2421000"/>
            <a:ext cx="298296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ff"/>
                </a:solidFill>
                <a:latin typeface="Arial"/>
              </a:rPr>
              <a:t>Золотое сечение и пентаграмма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-324360" y="907920"/>
            <a:ext cx="604836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Monotype Corsiva"/>
              </a:rPr>
              <a:t>        </a:t>
            </a:r>
            <a:r>
              <a:rPr b="0" lang="ru-RU" sz="2300" spc="-1" strike="noStrike">
                <a:solidFill>
                  <a:srgbClr val="66ff66"/>
                </a:solidFill>
                <a:latin typeface="Monotype Corsiva"/>
              </a:rPr>
              <a:t>Правильный пятиугольник называется «пентагон», а звёздчатый пятиугольник, образованный его диагоналями ― «пентаграмма» (Звёздчатый пятиугольник ― она из самых известных и символических геометрических фигур. Точки пересечения диагоналей всегда являются точками золотого сечения. При этом они образуют новый пентагон, в котором можно провести диагонали, пересечения которых образуют ещё один пентагон, и этот процесс может быть продолжен до бесконечности. Таким образом, правильный пятиугольник как бы состоит из бесконечного числа пентагонов, которые образуются точками пересечения диагоналей. В пентаграмме много различных отношений золотой пропорции. Например, отношение диагонали пентагона к его стороне равно золотой пропорци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5796000" y="1916280"/>
            <a:ext cx="31370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2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200"/>
                            </p:stCondLst>
                            <p:childTnLst>
                              <p:par>
                                <p:cTn id="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олотые прямоугольники и треугольники.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43564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Gautami"/>
              </a:rPr>
              <a:t>    </a:t>
            </a:r>
            <a:r>
              <a:rPr b="1" lang="ru-RU" sz="1900" spc="-1" strike="noStrike">
                <a:solidFill>
                  <a:srgbClr val="ffcc00"/>
                </a:solidFill>
                <a:latin typeface="Gautami"/>
              </a:rPr>
              <a:t>Один из изящных способов вычерчивания логарифмической спирали основан на использовании равнобедренного треугольника, стороны которого находятся в золотом отношении к основанию, и прямоугольника, стороны которых находятся в «золотом отношении». Отрезав от золотого прямоугольника квадрат, сторона которого равна меньшей стороне прямоугольника, мы снова получим золотой прямоугольник меньших размеров, а  в золотом треугольнике точка пересечения биссектрисы угла при основании с противолежащей стороной делит эту сторону в среднем и крайнем отношении, при этом весь треугольник разбивается на два меньших треугольника, один из которых подобен исходному. Продолжая неограниченно этот процесс, мы получим бесконечную последовательность вращающихся треугольников и прямоугольников чьи вершины описывают логарифмическую спираль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3306600" cy="218916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2"/>
          <a:stretch/>
        </p:blipFill>
        <p:spPr>
          <a:xfrm>
            <a:off x="6443640" y="3933720"/>
            <a:ext cx="196200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5cbd5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Золотое сечение в Древнем Египт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93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Древние Египтяне выбрали правильный двенадцатигранник ― додекаэдр в качестве главной «гармонической» фигуры мироздания, и строго следуя числовым характеристикам додекаэдра (12 граней, 30 рёбер, 60 плоских углов), египтянам удалось построить чрезвычайно стройный временной календарь ― прообраз современного календаря, а так же системы измерения времени и угловых величин. Эти системы полностью согласовывали с их «Теорией Гармонии», основанной на золотой пропорции, поскольку именно эта пропорция лежит в основе додекаэдра. Отсюда следует, что вот уже много тысячелетий человечество живёт «по золотому сечению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 rot="241800">
            <a:off x="6659280" y="1197000"/>
            <a:ext cx="1952640" cy="207648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2"/>
          <a:stretch/>
        </p:blipFill>
        <p:spPr>
          <a:xfrm rot="698400">
            <a:off x="7020000" y="3789360"/>
            <a:ext cx="1550880" cy="201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66"/>
                </a:solidFill>
                <a:latin typeface="Georgia"/>
              </a:rPr>
              <a:t>Числа Фибоначч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 историей золотого сечения косвенным образом связано имя итальянского математика Фибоначчи. В 1202 году вышел в свет его математический труд «Книга об абаке» (счетной доске), в котором были собраны все известные на то время задачи. Одна из задач гласила: «Сколько пар кроликов в один год от одной пары родятся». Размышляя на эту тему, Фибоначчи выстроил такой ряд циф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яд чисел 0,1,1,2,3,5,8,13,21,34,55 и т.д. известен как ряд Фибоначчи. Особенность последовательности чисел состоит в том, что каждый ее член, начиная с третьего, равен сумме двух предыдущих: 2+3=5,5+8=13. А отношение смежных чисел ряда приближается к отношению золотого деления. Так 34:55=0,618. Это отношение обозначается символом </a:t>
            </a:r>
            <a:r>
              <a:rPr b="1" lang="ru-RU" sz="2000" spc="-1" strike="noStrike">
                <a:solidFill>
                  <a:srgbClr val="0000cc"/>
                </a:solidFill>
                <a:latin typeface="Bookman Old Style"/>
              </a:rPr>
              <a:t>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4" name=""/>
          <p:cNvGraphicFramePr/>
          <p:nvPr/>
        </p:nvGraphicFramePr>
        <p:xfrm>
          <a:off x="539640" y="3429000"/>
          <a:ext cx="8280360" cy="790560"/>
        </p:xfrm>
        <a:graphic>
          <a:graphicData uri="http://schemas.openxmlformats.org/drawingml/2006/table">
            <a:tbl>
              <a:tblPr/>
              <a:tblGrid>
                <a:gridCol w="1800360"/>
                <a:gridCol w="360360"/>
                <a:gridCol w="431640"/>
                <a:gridCol w="360360"/>
                <a:gridCol w="358920"/>
                <a:gridCol w="360360"/>
                <a:gridCol w="431640"/>
                <a:gridCol w="360360"/>
                <a:gridCol w="505080"/>
                <a:gridCol w="503280"/>
                <a:gridCol w="504720"/>
                <a:gridCol w="503280"/>
                <a:gridCol w="504720"/>
                <a:gridCol w="64764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есяцы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И т. д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ары кроликов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И т. д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034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99"/>
                </a:solidFill>
                <a:latin typeface="Tahoma"/>
              </a:rPr>
              <a:t>Философия Золотого сечени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02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Что же представляет собой «золотая пропорция» с позиции философской науки? Это некое отношение между какими–либо противоположными свойствами какого-либо объекта, или, говоря другими словами, количественное соотношение между двумя противоположностями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это отношение количественной характеристики «</a:t>
            </a: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» противоположности, выражающей сущность предмета или явления, к количественной характеристике «(</a:t>
            </a: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)» другой противоположности. Это отношение равно отношению количественной характеристике «</a:t>
            </a: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» всего предмета или явления, к количественной характеристике «</a:t>
            </a: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» противоположности, выражающей сущность предмета. Иначе говоря, оптимальным для устойчивости предмета является такое «угнетение»  одной из противоположностей другой, которое равно «угнетению» всего предмета или явления этой «угнетающей» противоположности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971640" y="2852640"/>
                <a:ext cx="12967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2:28:41Z</dcterms:created>
  <dc:creator>User</dc:creator>
  <dc:description/>
  <dc:language>en-US</dc:language>
  <cp:lastModifiedBy>User</cp:lastModifiedBy>
  <dcterms:modified xsi:type="dcterms:W3CDTF">2004-07-25T18:29:13Z</dcterms:modified>
  <cp:revision>23</cp:revision>
  <dc:subject/>
  <dc:title>  Феномен Золотого сече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