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F505-BEFE-4279-8769-095A9164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1EEE-3E87-4833-9B3A-7FDFC816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EB22-489D-4866-A540-7E7E8E9F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B68D-BD72-4A89-A45D-45D494E6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2EBB-E5C9-4606-8A66-3CA5B127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C128-5871-4338-AE4D-6DA7DDD6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78E1-B8C2-41DE-8849-1DD12A5B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3150-6869-4418-AADA-34B72715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9824-9C8A-4C4C-AA5A-EE5A853A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AA8-F294-493D-9CB9-8C5EFE54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1C6D-8D6A-4542-B65B-706E1CB5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AF26-9CC4-4E4D-BAF3-ECAEBEA4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5788-DD92-4D12-86DC-4758E4DAE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4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1981080"/>
            <a:ext cx="51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Проектная работа по алгебре «Решение иррациональных уравнений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80880"/>
            <a:ext cx="58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Фестиваль исследовательских и творческих работ «Портфолио» 2005-200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4038480"/>
            <a:ext cx="47242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ыполнил: ученик 10 «А» класса Морозов Ива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ОУ «Средняя общеобразовательная школа №108» г.Трёхгорного Челябинской обла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893080" cy="6597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635280" y="620856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497800" cy="6337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635280" y="60642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597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635280" y="62802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47920" y="1600200"/>
            <a:ext cx="58672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данной работе рассматриваются иррациональные уравнения, а также приёмы их решения, которые будут полезны любым ученикам, особенно для подготовки к ЕГЭ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помощью данной работы вы сможете улучшить свои знания по алгебр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2666880" y="6172200"/>
            <a:ext cx="3429000" cy="457200"/>
          </a:xfrm>
          <a:custGeom>
            <a:avLst/>
            <a:gdLst>
              <a:gd name="textAreaLeft" fmla="*/ 29520 w 3429000"/>
              <a:gd name="textAreaRight" fmla="*/ 3399480 w 3429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1890" h="21600">
                <a:moveTo>
                  <a:pt x="0" y="0"/>
                </a:moveTo>
                <a:lnTo>
                  <a:pt x="161890" y="0"/>
                </a:lnTo>
                <a:lnTo>
                  <a:pt x="161890" y="21600"/>
                </a:lnTo>
                <a:lnTo>
                  <a:pt x="0" y="21600"/>
                </a:lnTo>
                <a:close/>
              </a:path>
              <a:path fill="lightenLess" w="161890" h="21600">
                <a:moveTo>
                  <a:pt x="0" y="0"/>
                </a:moveTo>
                <a:lnTo>
                  <a:pt x="161890" y="0"/>
                </a:lnTo>
                <a:lnTo>
                  <a:pt x="160490" y="1400"/>
                </a:lnTo>
                <a:lnTo>
                  <a:pt x="1400" y="1400"/>
                </a:lnTo>
                <a:close/>
              </a:path>
              <a:path fill="darken" w="161890" h="21600">
                <a:moveTo>
                  <a:pt x="161890" y="0"/>
                </a:moveTo>
                <a:lnTo>
                  <a:pt x="161890" y="21600"/>
                </a:lnTo>
                <a:lnTo>
                  <a:pt x="160490" y="20200"/>
                </a:lnTo>
                <a:lnTo>
                  <a:pt x="160490" y="1400"/>
                </a:lnTo>
                <a:close/>
              </a:path>
              <a:path fill="darkenLess" w="161890" h="21600">
                <a:moveTo>
                  <a:pt x="161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0490" y="20200"/>
                </a:lnTo>
                <a:close/>
              </a:path>
              <a:path fill="lighten" w="161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ен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3706920" y="137304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5433840" y="137304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2844720" y="26082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4500720" y="26082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5" action="ppaction://hlinksldjump"/>
          </p:cNvPr>
          <p:cNvSpPr/>
          <p:nvPr/>
        </p:nvSpPr>
        <p:spPr>
          <a:xfrm>
            <a:off x="2843280" y="386064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6" action="ppaction://hlinksldjump"/>
          </p:cNvPr>
          <p:cNvSpPr/>
          <p:nvPr/>
        </p:nvSpPr>
        <p:spPr>
          <a:xfrm>
            <a:off x="1979640" y="1378080"/>
            <a:ext cx="1600200" cy="53316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endshow"/>
          </p:cNvPr>
          <p:cNvSpPr/>
          <p:nvPr/>
        </p:nvSpPr>
        <p:spPr>
          <a:xfrm>
            <a:off x="3635280" y="60642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797040"/>
            <a:ext cx="6183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именение свойств квадратного кор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2108160"/>
            <a:ext cx="7417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равнения содержащие радикал третей степе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3357720"/>
            <a:ext cx="480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ведение новой перемен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1890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ен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7" action="ppaction://hlinksldjump"/>
          </p:cNvPr>
          <p:cNvSpPr/>
          <p:nvPr/>
        </p:nvSpPr>
        <p:spPr>
          <a:xfrm>
            <a:off x="4498920" y="386064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437000"/>
            <a:ext cx="8713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шения, основанные на применении свойств фун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27440" y="50562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84520" y="50562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496000" cy="637236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3635280" y="60642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893080" cy="659772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3635280" y="606420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19308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3851280" y="602136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597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708360" y="5950080"/>
            <a:ext cx="1600200" cy="53316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5977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692520" y="6237360"/>
            <a:ext cx="1600200" cy="53316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337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635280" y="620856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01:31:59Z</dcterms:created>
  <dc:creator>user</dc:creator>
  <dc:description/>
  <dc:language>en-US</dc:language>
  <cp:lastModifiedBy>tester</cp:lastModifiedBy>
  <dcterms:modified xsi:type="dcterms:W3CDTF">2006-01-26T19:00:10Z</dcterms:modified>
  <cp:revision>95</cp:revision>
  <dc:subject/>
  <dc:title>Заголовок слайда отсутствует</dc:title>
</cp:coreProperties>
</file>