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WHOOSH.WAV" ContentType="audio/x-wav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2A09-CF91-4D03-8821-D0B13819F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8A37-F2B5-4995-BCA4-454091225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E172-7DFD-4E7B-BC58-B106D2624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C33F-62AB-4CB4-91A2-B8CA11754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F7793-CD60-403D-A57A-DE931E7D5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67D7F-6482-4FC7-AAE9-03DCFEAE1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04B72-E11E-4404-8E39-2615054FC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B3995-D86F-419A-9FBA-BF4BA8C8C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D533E-4239-4FD5-BC26-6A8D4E3B8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E7A49-4E16-444F-B295-334232A85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B7ECA-606F-4D1D-B0D4-3544A9F43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D697-F6FD-4AC8-AD4B-0A0F60848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CA3AD-5A8D-4E6C-818C-E8C2D5231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17E26-1F10-4EB8-945D-733F57798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6B40F-A8E0-410A-B8A1-DFBD46D8A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1D6DD-056E-43EC-B19C-D7D75AEE7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3DA81-E8BD-4A3B-A294-C5A82B379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EC86-6FBD-4710-8748-6E8FDE323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E494-D3B3-4121-9516-302635074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295A-53C2-4E86-9475-23710CF14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17D2-7601-451C-A9A2-29AA109F8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A26E-8FCC-4495-B08E-0332669E4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2D46-9CE6-4903-A807-25A9016DB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2C5E-8915-4305-ADA0-F0A07B0BC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grapes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Arial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Arial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81EAA-B459-446D-9693-6EA3402276C9}" type="slidenum">
              <a:rPr b="0" lang="ru-RU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Arial"/>
                </a:endParaRPr>
              </a:p>
            </p:txBody>
          </p:sp>
        </p:grpSp>
        <p:pic>
          <p:nvPicPr>
            <p:cNvPr id="55" name="grapes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Arial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C88EE-518E-4CA7-8691-AD955325C9CE}" type="slidenum">
              <a:rPr b="0" lang="ru-RU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buClr>
                <a:srgbClr val="660066"/>
              </a:buClr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660066"/>
              </a:buClr>
              <a:buFont typeface="Impac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660066"/>
              </a:buClr>
              <a:buFont typeface="Impact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ff"/>
                </a:solidFill>
                <a:latin typeface="Impact"/>
              </a:rPr>
              <a:t>Исторические личности глазами наших современников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27672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Impact"/>
              </a:rPr>
              <a:t>Научно-исследовательская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Impact"/>
              </a:rPr>
              <a:t>работа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3581280"/>
            <a:ext cx="2741760" cy="29480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523880" y="1905120"/>
            <a:ext cx="609624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8726400" y="6440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5000">
    <p:dissolve/>
    <p:sndAc>
      <p:stSnd>
        <p:snd r:embed="rId3" name="WHOOSH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ff"/>
                </a:solidFill>
                <a:latin typeface="Impact"/>
              </a:rPr>
              <a:t>Факторы, влияющие на оценку личностей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6600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Знания</a:t>
            </a:r>
            <a:r>
              <a:rPr b="0" lang="ru-RU" sz="2400" spc="-1" strike="noStrike">
                <a:solidFill>
                  <a:srgbClr val="660066"/>
                </a:solidFill>
                <a:latin typeface="Impact"/>
              </a:rPr>
              <a:t>, </a:t>
            </a: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полученные в школе</a:t>
            </a:r>
            <a:r>
              <a:rPr b="0" lang="ru-RU" sz="2400" spc="-1" strike="noStrike">
                <a:solidFill>
                  <a:srgbClr val="660066"/>
                </a:solidFill>
                <a:latin typeface="Impact"/>
              </a:rPr>
              <a:t> 20%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6600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Средства массовой информации (телевидение, газеты, журналы,</a:t>
            </a:r>
            <a:r>
              <a:rPr b="0" lang="ru-RU" sz="2400" spc="-1" strike="noStrike">
                <a:solidFill>
                  <a:srgbClr val="660066"/>
                </a:solidFill>
                <a:latin typeface="Impact"/>
              </a:rPr>
              <a:t> </a:t>
            </a: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радио,</a:t>
            </a:r>
            <a:r>
              <a:rPr b="0" lang="ru-RU" sz="2400" spc="-1" strike="noStrike">
                <a:solidFill>
                  <a:srgbClr val="660066"/>
                </a:solidFill>
                <a:latin typeface="Impact"/>
              </a:rPr>
              <a:t> </a:t>
            </a: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интернет</a:t>
            </a:r>
            <a:r>
              <a:rPr b="0" lang="ru-RU" sz="2400" spc="-1" strike="noStrike">
                <a:solidFill>
                  <a:srgbClr val="660066"/>
                </a:solidFill>
                <a:latin typeface="Impact"/>
              </a:rPr>
              <a:t>) 50%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6600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Прочитанные книги, монографии</a:t>
            </a:r>
            <a:r>
              <a:rPr b="0" lang="ru-RU" sz="2400" spc="-1" strike="noStrike">
                <a:solidFill>
                  <a:srgbClr val="660066"/>
                </a:solidFill>
                <a:latin typeface="Impact"/>
              </a:rPr>
              <a:t> 15%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6600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Другое</a:t>
            </a:r>
            <a:r>
              <a:rPr b="0" lang="ru-RU" sz="2400" spc="-1" strike="noStrike">
                <a:solidFill>
                  <a:srgbClr val="660066"/>
                </a:solidFill>
                <a:latin typeface="Impact"/>
              </a:rPr>
              <a:t> 15%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ff"/>
                </a:solidFill>
                <a:latin typeface="Impact"/>
              </a:rPr>
              <a:t>Цели исследовательской работы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Impact"/>
              </a:rPr>
              <a:t>Выявить факторы, влияющие на оценку личности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marL="332640" indent="-33264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Impact"/>
              </a:rPr>
              <a:t>Определить наиболее популярные исторические личности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marL="332640" indent="-33264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Impact"/>
              </a:rPr>
              <a:t>Установить различия во взглядах на одну и ту же историческую личность среди представителей различных социальных групп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726400" y="6440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6000">
    <p:blinds dir="horz"/>
    <p:sndAc>
      <p:stSnd>
        <p:snd r:embed="rId2" name="WHOOSH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ff"/>
                </a:solidFill>
                <a:latin typeface="Impact"/>
              </a:rPr>
              <a:t>Анализ социологического опроса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660066"/>
              </a:buClr>
              <a:buFont typeface="Impac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Impact"/>
              </a:rPr>
              <a:t>Критерии оценок</a:t>
            </a: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  <a:p>
            <a:pPr lvl="2" marL="1143000" indent="-228600">
              <a:spcBef>
                <a:spcPts val="499"/>
              </a:spcBef>
              <a:buClr>
                <a:srgbClr val="660066"/>
              </a:buClr>
              <a:buFont typeface="Impac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Impact"/>
              </a:rPr>
              <a:t>1-оценка резко отрицательная</a:t>
            </a: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  <a:p>
            <a:pPr lvl="2" marL="1143000" indent="-228600">
              <a:spcBef>
                <a:spcPts val="499"/>
              </a:spcBef>
              <a:buClr>
                <a:srgbClr val="660066"/>
              </a:buClr>
              <a:buFont typeface="Impac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Impact"/>
              </a:rPr>
              <a:t>2-в целом отрицательная</a:t>
            </a: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  <a:p>
            <a:pPr lvl="2" marL="1143000" indent="-228600">
              <a:spcBef>
                <a:spcPts val="499"/>
              </a:spcBef>
              <a:buClr>
                <a:srgbClr val="660066"/>
              </a:buClr>
              <a:buFont typeface="Impac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Impact"/>
              </a:rPr>
              <a:t>3-противоречивая</a:t>
            </a: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  <a:p>
            <a:pPr lvl="2" marL="1143000" indent="-228600">
              <a:spcBef>
                <a:spcPts val="499"/>
              </a:spcBef>
              <a:buClr>
                <a:srgbClr val="660066"/>
              </a:buClr>
              <a:buFont typeface="Impac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Impact"/>
              </a:rPr>
              <a:t>4-в целом положительная</a:t>
            </a: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  <a:p>
            <a:pPr lvl="2" marL="1143000" indent="-228600">
              <a:spcBef>
                <a:spcPts val="499"/>
              </a:spcBef>
              <a:buClr>
                <a:srgbClr val="660066"/>
              </a:buClr>
              <a:buFont typeface="Impac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Impact"/>
              </a:rPr>
              <a:t>5-безусловно, положительная оценка</a:t>
            </a: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25780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p:transition advTm="4000">
    <p:checker dir="horz"/>
    <p:sndAc>
      <p:stSnd>
        <p:snd r:embed="rId2" name="WHOOSH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ff"/>
                </a:solidFill>
                <a:latin typeface="Impact"/>
              </a:rPr>
              <a:t>Группы оцениваемых исторических личностей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1.Революционеры – Пугачев, Ленин, Троцкий,Плеханов </a:t>
            </a: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2.Реформаторы – Александр </a:t>
            </a: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II</a:t>
            </a: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, Витте, Столыпин, Сперанский</a:t>
            </a: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3.Сторонники “сильной руки” - Иван Грозный, Петр Великий, Сталин</a:t>
            </a: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4.Духовные лидеры - А. Сахаров, А Мень, Солженицын</a:t>
            </a: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5.Сторонники стагнации – Николай </a:t>
            </a: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I</a:t>
            </a: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, Николай </a:t>
            </a: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II</a:t>
            </a: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, Брежнев.</a:t>
            </a: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6.Современные политики, бизнесмены - Путин, Жириновский, Березовский, Ходарковский.</a:t>
            </a: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ff"/>
                </a:solidFill>
                <a:latin typeface="Impact"/>
              </a:rPr>
              <a:t>Возрастные характеристики участников опроса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2138400" y="1981080"/>
          <a:ext cx="608652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8400" y="1981080"/>
                    <a:ext cx="60865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4000">
    <p:zoom dir="in"/>
    <p:sndAc>
      <p:stSnd>
        <p:snd r:embed="rId3" name="WHOOSH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ff"/>
                </a:solidFill>
                <a:latin typeface="Impact"/>
              </a:rPr>
              <a:t>Половой состав опрашиваемых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8" name=""/>
          <p:cNvSpPr/>
          <p:nvPr/>
        </p:nvSpPr>
        <p:spPr>
          <a:xfrm>
            <a:off x="1400040" y="2084400"/>
            <a:ext cx="7583760" cy="39085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629160" y="3730680"/>
            <a:ext cx="438120" cy="615960"/>
          </a:xfrm>
          <a:custGeom>
            <a:avLst/>
            <a:gdLst/>
            <a:ahLst/>
            <a:rect l="l" t="t" r="r" b="b"/>
            <a:pathLst>
              <a:path w="276" h="388">
                <a:moveTo>
                  <a:pt x="276" y="220"/>
                </a:moveTo>
                <a:lnTo>
                  <a:pt x="263" y="220"/>
                </a:lnTo>
                <a:lnTo>
                  <a:pt x="263" y="220"/>
                </a:lnTo>
                <a:lnTo>
                  <a:pt x="250" y="220"/>
                </a:lnTo>
                <a:lnTo>
                  <a:pt x="250" y="220"/>
                </a:lnTo>
                <a:lnTo>
                  <a:pt x="250" y="220"/>
                </a:lnTo>
                <a:lnTo>
                  <a:pt x="236" y="207"/>
                </a:lnTo>
                <a:lnTo>
                  <a:pt x="223" y="207"/>
                </a:lnTo>
                <a:lnTo>
                  <a:pt x="223" y="207"/>
                </a:lnTo>
                <a:lnTo>
                  <a:pt x="223" y="207"/>
                </a:lnTo>
                <a:lnTo>
                  <a:pt x="210" y="207"/>
                </a:lnTo>
                <a:lnTo>
                  <a:pt x="210" y="207"/>
                </a:lnTo>
                <a:lnTo>
                  <a:pt x="197" y="194"/>
                </a:lnTo>
                <a:lnTo>
                  <a:pt x="197" y="194"/>
                </a:lnTo>
                <a:lnTo>
                  <a:pt x="197" y="194"/>
                </a:lnTo>
                <a:lnTo>
                  <a:pt x="184" y="194"/>
                </a:lnTo>
                <a:lnTo>
                  <a:pt x="171" y="194"/>
                </a:lnTo>
                <a:lnTo>
                  <a:pt x="171" y="194"/>
                </a:lnTo>
                <a:lnTo>
                  <a:pt x="171" y="181"/>
                </a:lnTo>
                <a:lnTo>
                  <a:pt x="158" y="181"/>
                </a:lnTo>
                <a:lnTo>
                  <a:pt x="158" y="181"/>
                </a:lnTo>
                <a:lnTo>
                  <a:pt x="158" y="181"/>
                </a:lnTo>
                <a:lnTo>
                  <a:pt x="144" y="168"/>
                </a:lnTo>
                <a:lnTo>
                  <a:pt x="144" y="168"/>
                </a:lnTo>
                <a:lnTo>
                  <a:pt x="144" y="168"/>
                </a:lnTo>
                <a:lnTo>
                  <a:pt x="131" y="168"/>
                </a:lnTo>
                <a:lnTo>
                  <a:pt x="131" y="168"/>
                </a:lnTo>
                <a:lnTo>
                  <a:pt x="118" y="168"/>
                </a:lnTo>
                <a:lnTo>
                  <a:pt x="118" y="155"/>
                </a:lnTo>
                <a:lnTo>
                  <a:pt x="118" y="155"/>
                </a:lnTo>
                <a:lnTo>
                  <a:pt x="118" y="155"/>
                </a:lnTo>
                <a:lnTo>
                  <a:pt x="105" y="155"/>
                </a:lnTo>
                <a:lnTo>
                  <a:pt x="105" y="155"/>
                </a:lnTo>
                <a:lnTo>
                  <a:pt x="105" y="142"/>
                </a:lnTo>
                <a:lnTo>
                  <a:pt x="92" y="142"/>
                </a:lnTo>
                <a:lnTo>
                  <a:pt x="92" y="142"/>
                </a:lnTo>
                <a:lnTo>
                  <a:pt x="92" y="142"/>
                </a:lnTo>
                <a:lnTo>
                  <a:pt x="79" y="129"/>
                </a:lnTo>
                <a:lnTo>
                  <a:pt x="79" y="129"/>
                </a:lnTo>
                <a:lnTo>
                  <a:pt x="79" y="129"/>
                </a:lnTo>
                <a:lnTo>
                  <a:pt x="66" y="129"/>
                </a:lnTo>
                <a:lnTo>
                  <a:pt x="66" y="129"/>
                </a:lnTo>
                <a:lnTo>
                  <a:pt x="66" y="116"/>
                </a:lnTo>
                <a:lnTo>
                  <a:pt x="53" y="116"/>
                </a:lnTo>
                <a:lnTo>
                  <a:pt x="53" y="116"/>
                </a:lnTo>
                <a:lnTo>
                  <a:pt x="53" y="116"/>
                </a:lnTo>
                <a:lnTo>
                  <a:pt x="53" y="103"/>
                </a:lnTo>
                <a:lnTo>
                  <a:pt x="53" y="103"/>
                </a:lnTo>
                <a:lnTo>
                  <a:pt x="53" y="103"/>
                </a:lnTo>
                <a:lnTo>
                  <a:pt x="39" y="103"/>
                </a:lnTo>
                <a:lnTo>
                  <a:pt x="39" y="103"/>
                </a:lnTo>
                <a:lnTo>
                  <a:pt x="39" y="90"/>
                </a:lnTo>
                <a:lnTo>
                  <a:pt x="39" y="90"/>
                </a:lnTo>
                <a:lnTo>
                  <a:pt x="39" y="90"/>
                </a:lnTo>
                <a:lnTo>
                  <a:pt x="26" y="90"/>
                </a:lnTo>
                <a:lnTo>
                  <a:pt x="26" y="77"/>
                </a:lnTo>
                <a:lnTo>
                  <a:pt x="26" y="77"/>
                </a:lnTo>
                <a:lnTo>
                  <a:pt x="26" y="77"/>
                </a:lnTo>
                <a:lnTo>
                  <a:pt x="26" y="77"/>
                </a:lnTo>
                <a:lnTo>
                  <a:pt x="26" y="77"/>
                </a:lnTo>
                <a:lnTo>
                  <a:pt x="13" y="64"/>
                </a:lnTo>
                <a:lnTo>
                  <a:pt x="13" y="64"/>
                </a:lnTo>
                <a:lnTo>
                  <a:pt x="13" y="64"/>
                </a:lnTo>
                <a:lnTo>
                  <a:pt x="13" y="51"/>
                </a:lnTo>
                <a:lnTo>
                  <a:pt x="13" y="51"/>
                </a:lnTo>
                <a:lnTo>
                  <a:pt x="13" y="51"/>
                </a:lnTo>
                <a:lnTo>
                  <a:pt x="13" y="51"/>
                </a:lnTo>
                <a:lnTo>
                  <a:pt x="0" y="38"/>
                </a:lnTo>
                <a:lnTo>
                  <a:pt x="0" y="38"/>
                </a:lnTo>
                <a:lnTo>
                  <a:pt x="0" y="38"/>
                </a:lnTo>
                <a:lnTo>
                  <a:pt x="0" y="38"/>
                </a:lnTo>
                <a:lnTo>
                  <a:pt x="0" y="38"/>
                </a:lnTo>
                <a:lnTo>
                  <a:pt x="0" y="26"/>
                </a:lnTo>
                <a:lnTo>
                  <a:pt x="0" y="26"/>
                </a:lnTo>
                <a:lnTo>
                  <a:pt x="0" y="26"/>
                </a:lnTo>
                <a:lnTo>
                  <a:pt x="0" y="26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68"/>
                </a:lnTo>
                <a:lnTo>
                  <a:pt x="0" y="181"/>
                </a:lnTo>
                <a:lnTo>
                  <a:pt x="0" y="181"/>
                </a:lnTo>
                <a:lnTo>
                  <a:pt x="0" y="181"/>
                </a:lnTo>
                <a:lnTo>
                  <a:pt x="0" y="181"/>
                </a:lnTo>
                <a:lnTo>
                  <a:pt x="0" y="181"/>
                </a:lnTo>
                <a:lnTo>
                  <a:pt x="0" y="194"/>
                </a:lnTo>
                <a:lnTo>
                  <a:pt x="0" y="194"/>
                </a:lnTo>
                <a:lnTo>
                  <a:pt x="0" y="194"/>
                </a:lnTo>
                <a:lnTo>
                  <a:pt x="0" y="194"/>
                </a:lnTo>
                <a:lnTo>
                  <a:pt x="0" y="207"/>
                </a:lnTo>
                <a:lnTo>
                  <a:pt x="0" y="207"/>
                </a:lnTo>
                <a:lnTo>
                  <a:pt x="0" y="207"/>
                </a:lnTo>
                <a:lnTo>
                  <a:pt x="0" y="207"/>
                </a:lnTo>
                <a:lnTo>
                  <a:pt x="0" y="207"/>
                </a:lnTo>
                <a:lnTo>
                  <a:pt x="13" y="220"/>
                </a:lnTo>
                <a:lnTo>
                  <a:pt x="13" y="220"/>
                </a:lnTo>
                <a:lnTo>
                  <a:pt x="13" y="220"/>
                </a:lnTo>
                <a:lnTo>
                  <a:pt x="13" y="233"/>
                </a:lnTo>
                <a:lnTo>
                  <a:pt x="13" y="233"/>
                </a:lnTo>
                <a:lnTo>
                  <a:pt x="13" y="233"/>
                </a:lnTo>
                <a:lnTo>
                  <a:pt x="13" y="233"/>
                </a:lnTo>
                <a:lnTo>
                  <a:pt x="26" y="246"/>
                </a:lnTo>
                <a:lnTo>
                  <a:pt x="26" y="246"/>
                </a:lnTo>
                <a:lnTo>
                  <a:pt x="26" y="246"/>
                </a:lnTo>
                <a:lnTo>
                  <a:pt x="26" y="246"/>
                </a:lnTo>
                <a:lnTo>
                  <a:pt x="26" y="246"/>
                </a:lnTo>
                <a:lnTo>
                  <a:pt x="26" y="259"/>
                </a:lnTo>
                <a:lnTo>
                  <a:pt x="39" y="259"/>
                </a:lnTo>
                <a:lnTo>
                  <a:pt x="39" y="259"/>
                </a:lnTo>
                <a:lnTo>
                  <a:pt x="39" y="259"/>
                </a:lnTo>
                <a:lnTo>
                  <a:pt x="39" y="272"/>
                </a:lnTo>
                <a:lnTo>
                  <a:pt x="39" y="272"/>
                </a:lnTo>
                <a:lnTo>
                  <a:pt x="53" y="272"/>
                </a:lnTo>
                <a:lnTo>
                  <a:pt x="53" y="272"/>
                </a:lnTo>
                <a:lnTo>
                  <a:pt x="53" y="272"/>
                </a:lnTo>
                <a:lnTo>
                  <a:pt x="53" y="285"/>
                </a:lnTo>
                <a:lnTo>
                  <a:pt x="53" y="285"/>
                </a:lnTo>
                <a:lnTo>
                  <a:pt x="53" y="285"/>
                </a:lnTo>
                <a:lnTo>
                  <a:pt x="66" y="298"/>
                </a:lnTo>
                <a:lnTo>
                  <a:pt x="66" y="298"/>
                </a:lnTo>
                <a:lnTo>
                  <a:pt x="66" y="298"/>
                </a:lnTo>
                <a:lnTo>
                  <a:pt x="79" y="298"/>
                </a:lnTo>
                <a:lnTo>
                  <a:pt x="79" y="311"/>
                </a:lnTo>
                <a:lnTo>
                  <a:pt x="79" y="311"/>
                </a:lnTo>
                <a:lnTo>
                  <a:pt x="92" y="311"/>
                </a:lnTo>
                <a:lnTo>
                  <a:pt x="92" y="311"/>
                </a:lnTo>
                <a:lnTo>
                  <a:pt x="92" y="311"/>
                </a:lnTo>
                <a:lnTo>
                  <a:pt x="105" y="311"/>
                </a:lnTo>
                <a:lnTo>
                  <a:pt x="105" y="324"/>
                </a:lnTo>
                <a:lnTo>
                  <a:pt x="105" y="324"/>
                </a:lnTo>
                <a:lnTo>
                  <a:pt x="118" y="324"/>
                </a:lnTo>
                <a:lnTo>
                  <a:pt x="118" y="324"/>
                </a:lnTo>
                <a:lnTo>
                  <a:pt x="118" y="324"/>
                </a:lnTo>
                <a:lnTo>
                  <a:pt x="118" y="337"/>
                </a:lnTo>
                <a:lnTo>
                  <a:pt x="131" y="337"/>
                </a:lnTo>
                <a:lnTo>
                  <a:pt x="131" y="337"/>
                </a:lnTo>
                <a:lnTo>
                  <a:pt x="144" y="337"/>
                </a:lnTo>
                <a:lnTo>
                  <a:pt x="144" y="350"/>
                </a:lnTo>
                <a:lnTo>
                  <a:pt x="144" y="350"/>
                </a:lnTo>
                <a:lnTo>
                  <a:pt x="158" y="350"/>
                </a:lnTo>
                <a:lnTo>
                  <a:pt x="158" y="350"/>
                </a:lnTo>
                <a:lnTo>
                  <a:pt x="158" y="350"/>
                </a:lnTo>
                <a:lnTo>
                  <a:pt x="171" y="362"/>
                </a:lnTo>
                <a:lnTo>
                  <a:pt x="171" y="362"/>
                </a:lnTo>
                <a:lnTo>
                  <a:pt x="171" y="362"/>
                </a:lnTo>
                <a:lnTo>
                  <a:pt x="184" y="362"/>
                </a:lnTo>
                <a:lnTo>
                  <a:pt x="197" y="362"/>
                </a:lnTo>
                <a:lnTo>
                  <a:pt x="197" y="362"/>
                </a:lnTo>
                <a:lnTo>
                  <a:pt x="197" y="362"/>
                </a:lnTo>
                <a:lnTo>
                  <a:pt x="210" y="375"/>
                </a:lnTo>
                <a:lnTo>
                  <a:pt x="210" y="375"/>
                </a:lnTo>
                <a:lnTo>
                  <a:pt x="223" y="375"/>
                </a:lnTo>
                <a:lnTo>
                  <a:pt x="223" y="375"/>
                </a:lnTo>
                <a:lnTo>
                  <a:pt x="223" y="375"/>
                </a:lnTo>
                <a:lnTo>
                  <a:pt x="236" y="388"/>
                </a:lnTo>
                <a:lnTo>
                  <a:pt x="250" y="388"/>
                </a:lnTo>
                <a:lnTo>
                  <a:pt x="250" y="388"/>
                </a:lnTo>
                <a:lnTo>
                  <a:pt x="250" y="388"/>
                </a:lnTo>
                <a:lnTo>
                  <a:pt x="263" y="388"/>
                </a:lnTo>
                <a:lnTo>
                  <a:pt x="263" y="388"/>
                </a:lnTo>
                <a:lnTo>
                  <a:pt x="276" y="388"/>
                </a:lnTo>
                <a:lnTo>
                  <a:pt x="276" y="22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067280" y="3730680"/>
            <a:ext cx="625320" cy="636480"/>
          </a:xfrm>
          <a:custGeom>
            <a:avLst/>
            <a:gdLst/>
            <a:ahLst/>
            <a:rect l="l" t="t" r="r" b="b"/>
            <a:pathLst>
              <a:path w="394" h="401">
                <a:moveTo>
                  <a:pt x="394" y="0"/>
                </a:moveTo>
                <a:lnTo>
                  <a:pt x="0" y="220"/>
                </a:lnTo>
                <a:lnTo>
                  <a:pt x="0" y="401"/>
                </a:lnTo>
                <a:lnTo>
                  <a:pt x="394" y="168"/>
                </a:lnTo>
                <a:lnTo>
                  <a:pt x="394" y="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629160" y="3297240"/>
            <a:ext cx="1063440" cy="782640"/>
          </a:xfrm>
          <a:custGeom>
            <a:avLst/>
            <a:gdLst/>
            <a:ahLst/>
            <a:rect l="l" t="t" r="r" b="b"/>
            <a:pathLst>
              <a:path w="670" h="493">
                <a:moveTo>
                  <a:pt x="276" y="493"/>
                </a:moveTo>
                <a:lnTo>
                  <a:pt x="263" y="493"/>
                </a:lnTo>
                <a:lnTo>
                  <a:pt x="263" y="493"/>
                </a:lnTo>
                <a:lnTo>
                  <a:pt x="250" y="493"/>
                </a:lnTo>
                <a:lnTo>
                  <a:pt x="250" y="493"/>
                </a:lnTo>
                <a:lnTo>
                  <a:pt x="250" y="493"/>
                </a:lnTo>
                <a:lnTo>
                  <a:pt x="236" y="480"/>
                </a:lnTo>
                <a:lnTo>
                  <a:pt x="223" y="480"/>
                </a:lnTo>
                <a:lnTo>
                  <a:pt x="223" y="480"/>
                </a:lnTo>
                <a:lnTo>
                  <a:pt x="223" y="480"/>
                </a:lnTo>
                <a:lnTo>
                  <a:pt x="210" y="480"/>
                </a:lnTo>
                <a:lnTo>
                  <a:pt x="210" y="480"/>
                </a:lnTo>
                <a:lnTo>
                  <a:pt x="197" y="467"/>
                </a:lnTo>
                <a:lnTo>
                  <a:pt x="197" y="467"/>
                </a:lnTo>
                <a:lnTo>
                  <a:pt x="197" y="467"/>
                </a:lnTo>
                <a:lnTo>
                  <a:pt x="184" y="467"/>
                </a:lnTo>
                <a:lnTo>
                  <a:pt x="171" y="467"/>
                </a:lnTo>
                <a:lnTo>
                  <a:pt x="171" y="467"/>
                </a:lnTo>
                <a:lnTo>
                  <a:pt x="171" y="454"/>
                </a:lnTo>
                <a:lnTo>
                  <a:pt x="158" y="454"/>
                </a:lnTo>
                <a:lnTo>
                  <a:pt x="158" y="454"/>
                </a:lnTo>
                <a:lnTo>
                  <a:pt x="158" y="454"/>
                </a:lnTo>
                <a:lnTo>
                  <a:pt x="144" y="454"/>
                </a:lnTo>
                <a:lnTo>
                  <a:pt x="144" y="454"/>
                </a:lnTo>
                <a:lnTo>
                  <a:pt x="144" y="441"/>
                </a:lnTo>
                <a:lnTo>
                  <a:pt x="131" y="441"/>
                </a:lnTo>
                <a:lnTo>
                  <a:pt x="131" y="441"/>
                </a:lnTo>
                <a:lnTo>
                  <a:pt x="118" y="441"/>
                </a:lnTo>
                <a:lnTo>
                  <a:pt x="118" y="428"/>
                </a:lnTo>
                <a:lnTo>
                  <a:pt x="118" y="428"/>
                </a:lnTo>
                <a:lnTo>
                  <a:pt x="118" y="428"/>
                </a:lnTo>
                <a:lnTo>
                  <a:pt x="105" y="428"/>
                </a:lnTo>
                <a:lnTo>
                  <a:pt x="105" y="428"/>
                </a:lnTo>
                <a:lnTo>
                  <a:pt x="105" y="415"/>
                </a:lnTo>
                <a:lnTo>
                  <a:pt x="92" y="415"/>
                </a:lnTo>
                <a:lnTo>
                  <a:pt x="92" y="415"/>
                </a:lnTo>
                <a:lnTo>
                  <a:pt x="92" y="415"/>
                </a:lnTo>
                <a:lnTo>
                  <a:pt x="79" y="415"/>
                </a:lnTo>
                <a:lnTo>
                  <a:pt x="79" y="415"/>
                </a:lnTo>
                <a:lnTo>
                  <a:pt x="79" y="402"/>
                </a:lnTo>
                <a:lnTo>
                  <a:pt x="66" y="402"/>
                </a:lnTo>
                <a:lnTo>
                  <a:pt x="66" y="402"/>
                </a:lnTo>
                <a:lnTo>
                  <a:pt x="66" y="389"/>
                </a:lnTo>
                <a:lnTo>
                  <a:pt x="53" y="389"/>
                </a:lnTo>
                <a:lnTo>
                  <a:pt x="53" y="389"/>
                </a:lnTo>
                <a:lnTo>
                  <a:pt x="53" y="389"/>
                </a:lnTo>
                <a:lnTo>
                  <a:pt x="53" y="376"/>
                </a:lnTo>
                <a:lnTo>
                  <a:pt x="53" y="376"/>
                </a:lnTo>
                <a:lnTo>
                  <a:pt x="53" y="376"/>
                </a:lnTo>
                <a:lnTo>
                  <a:pt x="39" y="376"/>
                </a:lnTo>
                <a:lnTo>
                  <a:pt x="39" y="376"/>
                </a:lnTo>
                <a:lnTo>
                  <a:pt x="39" y="363"/>
                </a:lnTo>
                <a:lnTo>
                  <a:pt x="39" y="363"/>
                </a:lnTo>
                <a:lnTo>
                  <a:pt x="39" y="363"/>
                </a:lnTo>
                <a:lnTo>
                  <a:pt x="26" y="363"/>
                </a:lnTo>
                <a:lnTo>
                  <a:pt x="26" y="350"/>
                </a:lnTo>
                <a:lnTo>
                  <a:pt x="26" y="350"/>
                </a:lnTo>
                <a:lnTo>
                  <a:pt x="26" y="350"/>
                </a:lnTo>
                <a:lnTo>
                  <a:pt x="26" y="350"/>
                </a:lnTo>
                <a:lnTo>
                  <a:pt x="26" y="350"/>
                </a:lnTo>
                <a:lnTo>
                  <a:pt x="13" y="337"/>
                </a:lnTo>
                <a:lnTo>
                  <a:pt x="13" y="337"/>
                </a:lnTo>
                <a:lnTo>
                  <a:pt x="13" y="337"/>
                </a:lnTo>
                <a:lnTo>
                  <a:pt x="13" y="337"/>
                </a:lnTo>
                <a:lnTo>
                  <a:pt x="13" y="324"/>
                </a:lnTo>
                <a:lnTo>
                  <a:pt x="13" y="324"/>
                </a:lnTo>
                <a:lnTo>
                  <a:pt x="13" y="324"/>
                </a:lnTo>
                <a:lnTo>
                  <a:pt x="0" y="311"/>
                </a:lnTo>
                <a:lnTo>
                  <a:pt x="0" y="311"/>
                </a:lnTo>
                <a:lnTo>
                  <a:pt x="0" y="311"/>
                </a:lnTo>
                <a:lnTo>
                  <a:pt x="0" y="311"/>
                </a:lnTo>
                <a:lnTo>
                  <a:pt x="0" y="311"/>
                </a:lnTo>
                <a:lnTo>
                  <a:pt x="0" y="299"/>
                </a:lnTo>
                <a:lnTo>
                  <a:pt x="0" y="299"/>
                </a:lnTo>
                <a:lnTo>
                  <a:pt x="0" y="299"/>
                </a:lnTo>
                <a:lnTo>
                  <a:pt x="0" y="299"/>
                </a:lnTo>
                <a:lnTo>
                  <a:pt x="0" y="286"/>
                </a:lnTo>
                <a:lnTo>
                  <a:pt x="0" y="286"/>
                </a:lnTo>
                <a:lnTo>
                  <a:pt x="0" y="286"/>
                </a:lnTo>
                <a:lnTo>
                  <a:pt x="0" y="273"/>
                </a:lnTo>
                <a:lnTo>
                  <a:pt x="0" y="273"/>
                </a:lnTo>
                <a:lnTo>
                  <a:pt x="0" y="273"/>
                </a:lnTo>
                <a:lnTo>
                  <a:pt x="0" y="273"/>
                </a:lnTo>
                <a:lnTo>
                  <a:pt x="0" y="273"/>
                </a:lnTo>
                <a:lnTo>
                  <a:pt x="0" y="260"/>
                </a:lnTo>
                <a:lnTo>
                  <a:pt x="0" y="260"/>
                </a:lnTo>
                <a:lnTo>
                  <a:pt x="0" y="260"/>
                </a:lnTo>
                <a:lnTo>
                  <a:pt x="0" y="247"/>
                </a:lnTo>
                <a:lnTo>
                  <a:pt x="0" y="247"/>
                </a:lnTo>
                <a:lnTo>
                  <a:pt x="0" y="247"/>
                </a:lnTo>
                <a:lnTo>
                  <a:pt x="0" y="247"/>
                </a:lnTo>
                <a:lnTo>
                  <a:pt x="0" y="234"/>
                </a:lnTo>
                <a:lnTo>
                  <a:pt x="0" y="234"/>
                </a:lnTo>
                <a:lnTo>
                  <a:pt x="0" y="234"/>
                </a:lnTo>
                <a:lnTo>
                  <a:pt x="0" y="234"/>
                </a:lnTo>
                <a:lnTo>
                  <a:pt x="0" y="234"/>
                </a:lnTo>
                <a:lnTo>
                  <a:pt x="13" y="221"/>
                </a:lnTo>
                <a:lnTo>
                  <a:pt x="13" y="221"/>
                </a:lnTo>
                <a:lnTo>
                  <a:pt x="13" y="221"/>
                </a:lnTo>
                <a:lnTo>
                  <a:pt x="13" y="221"/>
                </a:lnTo>
                <a:lnTo>
                  <a:pt x="13" y="208"/>
                </a:lnTo>
                <a:lnTo>
                  <a:pt x="13" y="208"/>
                </a:lnTo>
                <a:lnTo>
                  <a:pt x="13" y="208"/>
                </a:lnTo>
                <a:lnTo>
                  <a:pt x="26" y="195"/>
                </a:lnTo>
                <a:lnTo>
                  <a:pt x="26" y="195"/>
                </a:lnTo>
                <a:lnTo>
                  <a:pt x="26" y="195"/>
                </a:lnTo>
                <a:lnTo>
                  <a:pt x="26" y="195"/>
                </a:lnTo>
                <a:lnTo>
                  <a:pt x="26" y="195"/>
                </a:lnTo>
                <a:lnTo>
                  <a:pt x="26" y="182"/>
                </a:lnTo>
                <a:lnTo>
                  <a:pt x="39" y="182"/>
                </a:lnTo>
                <a:lnTo>
                  <a:pt x="39" y="182"/>
                </a:lnTo>
                <a:lnTo>
                  <a:pt x="39" y="182"/>
                </a:lnTo>
                <a:lnTo>
                  <a:pt x="39" y="169"/>
                </a:lnTo>
                <a:lnTo>
                  <a:pt x="39" y="169"/>
                </a:lnTo>
                <a:lnTo>
                  <a:pt x="53" y="169"/>
                </a:lnTo>
                <a:lnTo>
                  <a:pt x="53" y="169"/>
                </a:lnTo>
                <a:lnTo>
                  <a:pt x="53" y="169"/>
                </a:lnTo>
                <a:lnTo>
                  <a:pt x="53" y="156"/>
                </a:lnTo>
                <a:lnTo>
                  <a:pt x="53" y="156"/>
                </a:lnTo>
                <a:lnTo>
                  <a:pt x="53" y="156"/>
                </a:lnTo>
                <a:lnTo>
                  <a:pt x="66" y="156"/>
                </a:lnTo>
                <a:lnTo>
                  <a:pt x="66" y="143"/>
                </a:lnTo>
                <a:lnTo>
                  <a:pt x="66" y="143"/>
                </a:lnTo>
                <a:lnTo>
                  <a:pt x="79" y="143"/>
                </a:lnTo>
                <a:lnTo>
                  <a:pt x="79" y="143"/>
                </a:lnTo>
                <a:lnTo>
                  <a:pt x="79" y="143"/>
                </a:lnTo>
                <a:lnTo>
                  <a:pt x="92" y="130"/>
                </a:lnTo>
                <a:lnTo>
                  <a:pt x="92" y="130"/>
                </a:lnTo>
                <a:lnTo>
                  <a:pt x="92" y="130"/>
                </a:lnTo>
                <a:lnTo>
                  <a:pt x="105" y="130"/>
                </a:lnTo>
                <a:lnTo>
                  <a:pt x="105" y="117"/>
                </a:lnTo>
                <a:lnTo>
                  <a:pt x="105" y="117"/>
                </a:lnTo>
                <a:lnTo>
                  <a:pt x="118" y="117"/>
                </a:lnTo>
                <a:lnTo>
                  <a:pt x="118" y="117"/>
                </a:lnTo>
                <a:lnTo>
                  <a:pt x="118" y="117"/>
                </a:lnTo>
                <a:lnTo>
                  <a:pt x="118" y="104"/>
                </a:lnTo>
                <a:lnTo>
                  <a:pt x="131" y="104"/>
                </a:lnTo>
                <a:lnTo>
                  <a:pt x="131" y="104"/>
                </a:lnTo>
                <a:lnTo>
                  <a:pt x="144" y="104"/>
                </a:lnTo>
                <a:lnTo>
                  <a:pt x="144" y="91"/>
                </a:lnTo>
                <a:lnTo>
                  <a:pt x="144" y="91"/>
                </a:lnTo>
                <a:lnTo>
                  <a:pt x="158" y="91"/>
                </a:lnTo>
                <a:lnTo>
                  <a:pt x="158" y="91"/>
                </a:lnTo>
                <a:lnTo>
                  <a:pt x="158" y="91"/>
                </a:lnTo>
                <a:lnTo>
                  <a:pt x="171" y="91"/>
                </a:lnTo>
                <a:lnTo>
                  <a:pt x="171" y="78"/>
                </a:lnTo>
                <a:lnTo>
                  <a:pt x="171" y="78"/>
                </a:lnTo>
                <a:lnTo>
                  <a:pt x="184" y="78"/>
                </a:lnTo>
                <a:lnTo>
                  <a:pt x="197" y="78"/>
                </a:lnTo>
                <a:lnTo>
                  <a:pt x="197" y="78"/>
                </a:lnTo>
                <a:lnTo>
                  <a:pt x="197" y="78"/>
                </a:lnTo>
                <a:lnTo>
                  <a:pt x="210" y="65"/>
                </a:lnTo>
                <a:lnTo>
                  <a:pt x="210" y="65"/>
                </a:lnTo>
                <a:lnTo>
                  <a:pt x="223" y="65"/>
                </a:lnTo>
                <a:lnTo>
                  <a:pt x="223" y="65"/>
                </a:lnTo>
                <a:lnTo>
                  <a:pt x="223" y="65"/>
                </a:lnTo>
                <a:lnTo>
                  <a:pt x="236" y="65"/>
                </a:lnTo>
                <a:lnTo>
                  <a:pt x="250" y="52"/>
                </a:lnTo>
                <a:lnTo>
                  <a:pt x="250" y="52"/>
                </a:lnTo>
                <a:lnTo>
                  <a:pt x="250" y="52"/>
                </a:lnTo>
                <a:lnTo>
                  <a:pt x="263" y="52"/>
                </a:lnTo>
                <a:lnTo>
                  <a:pt x="263" y="52"/>
                </a:lnTo>
                <a:lnTo>
                  <a:pt x="276" y="52"/>
                </a:lnTo>
                <a:lnTo>
                  <a:pt x="276" y="39"/>
                </a:lnTo>
                <a:lnTo>
                  <a:pt x="276" y="39"/>
                </a:lnTo>
                <a:lnTo>
                  <a:pt x="289" y="39"/>
                </a:lnTo>
                <a:lnTo>
                  <a:pt x="302" y="39"/>
                </a:lnTo>
                <a:lnTo>
                  <a:pt x="302" y="39"/>
                </a:lnTo>
                <a:lnTo>
                  <a:pt x="315" y="39"/>
                </a:lnTo>
                <a:lnTo>
                  <a:pt x="315" y="39"/>
                </a:lnTo>
                <a:lnTo>
                  <a:pt x="315" y="39"/>
                </a:lnTo>
                <a:lnTo>
                  <a:pt x="328" y="26"/>
                </a:lnTo>
                <a:lnTo>
                  <a:pt x="341" y="26"/>
                </a:lnTo>
                <a:lnTo>
                  <a:pt x="341" y="26"/>
                </a:lnTo>
                <a:lnTo>
                  <a:pt x="355" y="26"/>
                </a:lnTo>
                <a:lnTo>
                  <a:pt x="355" y="26"/>
                </a:lnTo>
                <a:lnTo>
                  <a:pt x="355" y="26"/>
                </a:lnTo>
                <a:lnTo>
                  <a:pt x="368" y="26"/>
                </a:lnTo>
                <a:lnTo>
                  <a:pt x="381" y="26"/>
                </a:lnTo>
                <a:lnTo>
                  <a:pt x="381" y="26"/>
                </a:lnTo>
                <a:lnTo>
                  <a:pt x="394" y="13"/>
                </a:lnTo>
                <a:lnTo>
                  <a:pt x="407" y="13"/>
                </a:lnTo>
                <a:lnTo>
                  <a:pt x="407" y="13"/>
                </a:lnTo>
                <a:lnTo>
                  <a:pt x="407" y="13"/>
                </a:lnTo>
                <a:lnTo>
                  <a:pt x="420" y="13"/>
                </a:lnTo>
                <a:lnTo>
                  <a:pt x="420" y="13"/>
                </a:lnTo>
                <a:lnTo>
                  <a:pt x="433" y="13"/>
                </a:lnTo>
                <a:lnTo>
                  <a:pt x="446" y="13"/>
                </a:lnTo>
                <a:lnTo>
                  <a:pt x="446" y="13"/>
                </a:lnTo>
                <a:lnTo>
                  <a:pt x="460" y="13"/>
                </a:lnTo>
                <a:lnTo>
                  <a:pt x="473" y="13"/>
                </a:lnTo>
                <a:lnTo>
                  <a:pt x="473" y="13"/>
                </a:lnTo>
                <a:lnTo>
                  <a:pt x="486" y="0"/>
                </a:lnTo>
                <a:lnTo>
                  <a:pt x="486" y="0"/>
                </a:lnTo>
                <a:lnTo>
                  <a:pt x="486" y="0"/>
                </a:lnTo>
                <a:lnTo>
                  <a:pt x="499" y="0"/>
                </a:lnTo>
                <a:lnTo>
                  <a:pt x="512" y="0"/>
                </a:lnTo>
                <a:lnTo>
                  <a:pt x="512" y="0"/>
                </a:lnTo>
                <a:lnTo>
                  <a:pt x="525" y="0"/>
                </a:lnTo>
                <a:lnTo>
                  <a:pt x="538" y="0"/>
                </a:lnTo>
                <a:lnTo>
                  <a:pt x="538" y="0"/>
                </a:lnTo>
                <a:lnTo>
                  <a:pt x="551" y="0"/>
                </a:lnTo>
                <a:lnTo>
                  <a:pt x="565" y="0"/>
                </a:lnTo>
                <a:lnTo>
                  <a:pt x="565" y="0"/>
                </a:lnTo>
                <a:lnTo>
                  <a:pt x="565" y="0"/>
                </a:lnTo>
                <a:lnTo>
                  <a:pt x="578" y="0"/>
                </a:lnTo>
                <a:lnTo>
                  <a:pt x="578" y="0"/>
                </a:lnTo>
                <a:lnTo>
                  <a:pt x="591" y="0"/>
                </a:lnTo>
                <a:lnTo>
                  <a:pt x="604" y="0"/>
                </a:lnTo>
                <a:lnTo>
                  <a:pt x="604" y="0"/>
                </a:lnTo>
                <a:lnTo>
                  <a:pt x="617" y="0"/>
                </a:lnTo>
                <a:lnTo>
                  <a:pt x="630" y="0"/>
                </a:lnTo>
                <a:lnTo>
                  <a:pt x="630" y="0"/>
                </a:lnTo>
                <a:lnTo>
                  <a:pt x="643" y="0"/>
                </a:lnTo>
                <a:lnTo>
                  <a:pt x="656" y="0"/>
                </a:lnTo>
                <a:lnTo>
                  <a:pt x="656" y="0"/>
                </a:lnTo>
                <a:lnTo>
                  <a:pt x="670" y="0"/>
                </a:lnTo>
                <a:lnTo>
                  <a:pt x="670" y="273"/>
                </a:lnTo>
                <a:lnTo>
                  <a:pt x="276" y="49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774880" y="3606840"/>
            <a:ext cx="895320" cy="266760"/>
          </a:xfrm>
          <a:custGeom>
            <a:avLst/>
            <a:gdLst/>
            <a:ahLst/>
            <a:rect l="l" t="t" r="r" b="b"/>
            <a:pathLst>
              <a:path w="43" h="13">
                <a:moveTo>
                  <a:pt x="0" y="13"/>
                </a:moveTo>
                <a:lnTo>
                  <a:pt x="0" y="10"/>
                </a:lnTo>
                <a:lnTo>
                  <a:pt x="4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36960" y="3832200"/>
            <a:ext cx="1689120" cy="720720"/>
          </a:xfrm>
          <a:custGeom>
            <a:avLst/>
            <a:gdLst/>
            <a:ahLst/>
            <a:rect l="l" t="t" r="r" b="b"/>
            <a:pathLst>
              <a:path w="1064" h="454">
                <a:moveTo>
                  <a:pt x="1064" y="0"/>
                </a:moveTo>
                <a:lnTo>
                  <a:pt x="1064" y="13"/>
                </a:lnTo>
                <a:lnTo>
                  <a:pt x="1064" y="13"/>
                </a:lnTo>
                <a:lnTo>
                  <a:pt x="1064" y="13"/>
                </a:lnTo>
                <a:lnTo>
                  <a:pt x="1064" y="13"/>
                </a:lnTo>
                <a:lnTo>
                  <a:pt x="1064" y="13"/>
                </a:lnTo>
                <a:lnTo>
                  <a:pt x="1064" y="26"/>
                </a:lnTo>
                <a:lnTo>
                  <a:pt x="1064" y="26"/>
                </a:lnTo>
                <a:lnTo>
                  <a:pt x="1064" y="26"/>
                </a:lnTo>
                <a:lnTo>
                  <a:pt x="1051" y="26"/>
                </a:lnTo>
                <a:lnTo>
                  <a:pt x="1051" y="39"/>
                </a:lnTo>
                <a:lnTo>
                  <a:pt x="1051" y="39"/>
                </a:lnTo>
                <a:lnTo>
                  <a:pt x="1051" y="39"/>
                </a:lnTo>
                <a:lnTo>
                  <a:pt x="1051" y="39"/>
                </a:lnTo>
                <a:lnTo>
                  <a:pt x="1051" y="39"/>
                </a:lnTo>
                <a:lnTo>
                  <a:pt x="1051" y="52"/>
                </a:lnTo>
                <a:lnTo>
                  <a:pt x="1051" y="52"/>
                </a:lnTo>
                <a:lnTo>
                  <a:pt x="1051" y="52"/>
                </a:lnTo>
                <a:lnTo>
                  <a:pt x="1051" y="65"/>
                </a:lnTo>
                <a:lnTo>
                  <a:pt x="1037" y="65"/>
                </a:lnTo>
                <a:lnTo>
                  <a:pt x="1037" y="65"/>
                </a:lnTo>
                <a:lnTo>
                  <a:pt x="1037" y="65"/>
                </a:lnTo>
                <a:lnTo>
                  <a:pt x="1037" y="78"/>
                </a:lnTo>
                <a:lnTo>
                  <a:pt x="1037" y="78"/>
                </a:lnTo>
                <a:lnTo>
                  <a:pt x="1037" y="78"/>
                </a:lnTo>
                <a:lnTo>
                  <a:pt x="1037" y="78"/>
                </a:lnTo>
                <a:lnTo>
                  <a:pt x="1037" y="78"/>
                </a:lnTo>
                <a:lnTo>
                  <a:pt x="1024" y="91"/>
                </a:lnTo>
                <a:lnTo>
                  <a:pt x="1024" y="91"/>
                </a:lnTo>
                <a:lnTo>
                  <a:pt x="1024" y="91"/>
                </a:lnTo>
                <a:lnTo>
                  <a:pt x="1024" y="91"/>
                </a:lnTo>
                <a:lnTo>
                  <a:pt x="1011" y="104"/>
                </a:lnTo>
                <a:lnTo>
                  <a:pt x="1011" y="104"/>
                </a:lnTo>
                <a:lnTo>
                  <a:pt x="1011" y="104"/>
                </a:lnTo>
                <a:lnTo>
                  <a:pt x="1011" y="104"/>
                </a:lnTo>
                <a:lnTo>
                  <a:pt x="1011" y="104"/>
                </a:lnTo>
                <a:lnTo>
                  <a:pt x="998" y="117"/>
                </a:lnTo>
                <a:lnTo>
                  <a:pt x="998" y="117"/>
                </a:lnTo>
                <a:lnTo>
                  <a:pt x="998" y="117"/>
                </a:lnTo>
                <a:lnTo>
                  <a:pt x="998" y="130"/>
                </a:lnTo>
                <a:lnTo>
                  <a:pt x="985" y="130"/>
                </a:lnTo>
                <a:lnTo>
                  <a:pt x="985" y="130"/>
                </a:lnTo>
                <a:lnTo>
                  <a:pt x="985" y="130"/>
                </a:lnTo>
                <a:lnTo>
                  <a:pt x="972" y="130"/>
                </a:lnTo>
                <a:lnTo>
                  <a:pt x="972" y="130"/>
                </a:lnTo>
                <a:lnTo>
                  <a:pt x="972" y="143"/>
                </a:lnTo>
                <a:lnTo>
                  <a:pt x="972" y="143"/>
                </a:lnTo>
                <a:lnTo>
                  <a:pt x="972" y="143"/>
                </a:lnTo>
                <a:lnTo>
                  <a:pt x="959" y="143"/>
                </a:lnTo>
                <a:lnTo>
                  <a:pt x="959" y="156"/>
                </a:lnTo>
                <a:lnTo>
                  <a:pt x="959" y="156"/>
                </a:lnTo>
                <a:lnTo>
                  <a:pt x="945" y="156"/>
                </a:lnTo>
                <a:lnTo>
                  <a:pt x="945" y="156"/>
                </a:lnTo>
                <a:lnTo>
                  <a:pt x="945" y="156"/>
                </a:lnTo>
                <a:lnTo>
                  <a:pt x="932" y="169"/>
                </a:lnTo>
                <a:lnTo>
                  <a:pt x="919" y="169"/>
                </a:lnTo>
                <a:lnTo>
                  <a:pt x="919" y="169"/>
                </a:lnTo>
                <a:lnTo>
                  <a:pt x="919" y="169"/>
                </a:lnTo>
                <a:lnTo>
                  <a:pt x="906" y="182"/>
                </a:lnTo>
                <a:lnTo>
                  <a:pt x="906" y="182"/>
                </a:lnTo>
                <a:lnTo>
                  <a:pt x="906" y="182"/>
                </a:lnTo>
                <a:lnTo>
                  <a:pt x="893" y="182"/>
                </a:lnTo>
                <a:lnTo>
                  <a:pt x="893" y="182"/>
                </a:lnTo>
                <a:lnTo>
                  <a:pt x="893" y="182"/>
                </a:lnTo>
                <a:lnTo>
                  <a:pt x="880" y="195"/>
                </a:lnTo>
                <a:lnTo>
                  <a:pt x="880" y="195"/>
                </a:lnTo>
                <a:lnTo>
                  <a:pt x="867" y="195"/>
                </a:lnTo>
                <a:lnTo>
                  <a:pt x="867" y="195"/>
                </a:lnTo>
                <a:lnTo>
                  <a:pt x="867" y="195"/>
                </a:lnTo>
                <a:lnTo>
                  <a:pt x="854" y="195"/>
                </a:lnTo>
                <a:lnTo>
                  <a:pt x="854" y="208"/>
                </a:lnTo>
                <a:lnTo>
                  <a:pt x="854" y="208"/>
                </a:lnTo>
                <a:lnTo>
                  <a:pt x="840" y="208"/>
                </a:lnTo>
                <a:lnTo>
                  <a:pt x="827" y="208"/>
                </a:lnTo>
                <a:lnTo>
                  <a:pt x="827" y="208"/>
                </a:lnTo>
                <a:lnTo>
                  <a:pt x="827" y="221"/>
                </a:lnTo>
                <a:lnTo>
                  <a:pt x="814" y="221"/>
                </a:lnTo>
                <a:lnTo>
                  <a:pt x="814" y="221"/>
                </a:lnTo>
                <a:lnTo>
                  <a:pt x="801" y="221"/>
                </a:lnTo>
                <a:lnTo>
                  <a:pt x="801" y="221"/>
                </a:lnTo>
                <a:lnTo>
                  <a:pt x="801" y="221"/>
                </a:lnTo>
                <a:lnTo>
                  <a:pt x="788" y="221"/>
                </a:lnTo>
                <a:lnTo>
                  <a:pt x="775" y="234"/>
                </a:lnTo>
                <a:lnTo>
                  <a:pt x="775" y="234"/>
                </a:lnTo>
                <a:lnTo>
                  <a:pt x="762" y="234"/>
                </a:lnTo>
                <a:lnTo>
                  <a:pt x="762" y="234"/>
                </a:lnTo>
                <a:lnTo>
                  <a:pt x="762" y="234"/>
                </a:lnTo>
                <a:lnTo>
                  <a:pt x="749" y="234"/>
                </a:lnTo>
                <a:lnTo>
                  <a:pt x="735" y="247"/>
                </a:lnTo>
                <a:lnTo>
                  <a:pt x="735" y="247"/>
                </a:lnTo>
                <a:lnTo>
                  <a:pt x="722" y="247"/>
                </a:lnTo>
                <a:lnTo>
                  <a:pt x="722" y="247"/>
                </a:lnTo>
                <a:lnTo>
                  <a:pt x="722" y="247"/>
                </a:lnTo>
                <a:lnTo>
                  <a:pt x="709" y="247"/>
                </a:lnTo>
                <a:lnTo>
                  <a:pt x="696" y="247"/>
                </a:lnTo>
                <a:lnTo>
                  <a:pt x="696" y="247"/>
                </a:lnTo>
                <a:lnTo>
                  <a:pt x="683" y="247"/>
                </a:lnTo>
                <a:lnTo>
                  <a:pt x="670" y="247"/>
                </a:lnTo>
                <a:lnTo>
                  <a:pt x="670" y="247"/>
                </a:lnTo>
                <a:lnTo>
                  <a:pt x="670" y="260"/>
                </a:lnTo>
                <a:lnTo>
                  <a:pt x="657" y="260"/>
                </a:lnTo>
                <a:lnTo>
                  <a:pt x="657" y="260"/>
                </a:lnTo>
                <a:lnTo>
                  <a:pt x="644" y="260"/>
                </a:lnTo>
                <a:lnTo>
                  <a:pt x="630" y="260"/>
                </a:lnTo>
                <a:lnTo>
                  <a:pt x="630" y="260"/>
                </a:lnTo>
                <a:lnTo>
                  <a:pt x="617" y="260"/>
                </a:lnTo>
                <a:lnTo>
                  <a:pt x="617" y="260"/>
                </a:lnTo>
                <a:lnTo>
                  <a:pt x="617" y="260"/>
                </a:lnTo>
                <a:lnTo>
                  <a:pt x="604" y="260"/>
                </a:lnTo>
                <a:lnTo>
                  <a:pt x="591" y="273"/>
                </a:lnTo>
                <a:lnTo>
                  <a:pt x="591" y="273"/>
                </a:lnTo>
                <a:lnTo>
                  <a:pt x="578" y="273"/>
                </a:lnTo>
                <a:lnTo>
                  <a:pt x="565" y="273"/>
                </a:lnTo>
                <a:lnTo>
                  <a:pt x="565" y="273"/>
                </a:lnTo>
                <a:lnTo>
                  <a:pt x="552" y="273"/>
                </a:lnTo>
                <a:lnTo>
                  <a:pt x="539" y="273"/>
                </a:lnTo>
                <a:lnTo>
                  <a:pt x="539" y="273"/>
                </a:lnTo>
                <a:lnTo>
                  <a:pt x="525" y="273"/>
                </a:lnTo>
                <a:lnTo>
                  <a:pt x="525" y="273"/>
                </a:lnTo>
                <a:lnTo>
                  <a:pt x="525" y="273"/>
                </a:lnTo>
                <a:lnTo>
                  <a:pt x="512" y="273"/>
                </a:lnTo>
                <a:lnTo>
                  <a:pt x="499" y="273"/>
                </a:lnTo>
                <a:lnTo>
                  <a:pt x="499" y="273"/>
                </a:lnTo>
                <a:lnTo>
                  <a:pt x="486" y="273"/>
                </a:lnTo>
                <a:lnTo>
                  <a:pt x="473" y="273"/>
                </a:lnTo>
                <a:lnTo>
                  <a:pt x="473" y="273"/>
                </a:lnTo>
                <a:lnTo>
                  <a:pt x="460" y="273"/>
                </a:lnTo>
                <a:lnTo>
                  <a:pt x="447" y="273"/>
                </a:lnTo>
                <a:lnTo>
                  <a:pt x="447" y="273"/>
                </a:lnTo>
                <a:lnTo>
                  <a:pt x="447" y="273"/>
                </a:lnTo>
                <a:lnTo>
                  <a:pt x="434" y="286"/>
                </a:lnTo>
                <a:lnTo>
                  <a:pt x="434" y="286"/>
                </a:lnTo>
                <a:lnTo>
                  <a:pt x="420" y="286"/>
                </a:lnTo>
                <a:lnTo>
                  <a:pt x="407" y="286"/>
                </a:lnTo>
                <a:lnTo>
                  <a:pt x="407" y="286"/>
                </a:lnTo>
                <a:lnTo>
                  <a:pt x="394" y="286"/>
                </a:lnTo>
                <a:lnTo>
                  <a:pt x="381" y="286"/>
                </a:lnTo>
                <a:lnTo>
                  <a:pt x="381" y="286"/>
                </a:lnTo>
                <a:lnTo>
                  <a:pt x="368" y="286"/>
                </a:lnTo>
                <a:lnTo>
                  <a:pt x="355" y="286"/>
                </a:lnTo>
                <a:lnTo>
                  <a:pt x="355" y="286"/>
                </a:lnTo>
                <a:lnTo>
                  <a:pt x="355" y="273"/>
                </a:lnTo>
                <a:lnTo>
                  <a:pt x="342" y="273"/>
                </a:lnTo>
                <a:lnTo>
                  <a:pt x="342" y="273"/>
                </a:lnTo>
                <a:lnTo>
                  <a:pt x="329" y="273"/>
                </a:lnTo>
                <a:lnTo>
                  <a:pt x="315" y="273"/>
                </a:lnTo>
                <a:lnTo>
                  <a:pt x="315" y="273"/>
                </a:lnTo>
                <a:lnTo>
                  <a:pt x="302" y="273"/>
                </a:lnTo>
                <a:lnTo>
                  <a:pt x="289" y="273"/>
                </a:lnTo>
                <a:lnTo>
                  <a:pt x="289" y="273"/>
                </a:lnTo>
                <a:lnTo>
                  <a:pt x="276" y="273"/>
                </a:lnTo>
                <a:lnTo>
                  <a:pt x="263" y="273"/>
                </a:lnTo>
                <a:lnTo>
                  <a:pt x="263" y="273"/>
                </a:lnTo>
                <a:lnTo>
                  <a:pt x="250" y="273"/>
                </a:lnTo>
                <a:lnTo>
                  <a:pt x="250" y="273"/>
                </a:lnTo>
                <a:lnTo>
                  <a:pt x="250" y="273"/>
                </a:lnTo>
                <a:lnTo>
                  <a:pt x="237" y="273"/>
                </a:lnTo>
                <a:lnTo>
                  <a:pt x="224" y="273"/>
                </a:lnTo>
                <a:lnTo>
                  <a:pt x="224" y="273"/>
                </a:lnTo>
                <a:lnTo>
                  <a:pt x="210" y="273"/>
                </a:lnTo>
                <a:lnTo>
                  <a:pt x="197" y="273"/>
                </a:lnTo>
                <a:lnTo>
                  <a:pt x="197" y="273"/>
                </a:lnTo>
                <a:lnTo>
                  <a:pt x="184" y="260"/>
                </a:lnTo>
                <a:lnTo>
                  <a:pt x="184" y="260"/>
                </a:lnTo>
                <a:lnTo>
                  <a:pt x="184" y="260"/>
                </a:lnTo>
                <a:lnTo>
                  <a:pt x="171" y="260"/>
                </a:lnTo>
                <a:lnTo>
                  <a:pt x="158" y="260"/>
                </a:lnTo>
                <a:lnTo>
                  <a:pt x="158" y="260"/>
                </a:lnTo>
                <a:lnTo>
                  <a:pt x="145" y="260"/>
                </a:lnTo>
                <a:lnTo>
                  <a:pt x="132" y="260"/>
                </a:lnTo>
                <a:lnTo>
                  <a:pt x="132" y="260"/>
                </a:lnTo>
                <a:lnTo>
                  <a:pt x="119" y="260"/>
                </a:lnTo>
                <a:lnTo>
                  <a:pt x="119" y="247"/>
                </a:lnTo>
                <a:lnTo>
                  <a:pt x="119" y="247"/>
                </a:lnTo>
                <a:lnTo>
                  <a:pt x="105" y="247"/>
                </a:lnTo>
                <a:lnTo>
                  <a:pt x="92" y="247"/>
                </a:lnTo>
                <a:lnTo>
                  <a:pt x="92" y="247"/>
                </a:lnTo>
                <a:lnTo>
                  <a:pt x="79" y="247"/>
                </a:lnTo>
                <a:lnTo>
                  <a:pt x="79" y="247"/>
                </a:lnTo>
                <a:lnTo>
                  <a:pt x="79" y="247"/>
                </a:lnTo>
                <a:lnTo>
                  <a:pt x="66" y="247"/>
                </a:lnTo>
                <a:lnTo>
                  <a:pt x="53" y="247"/>
                </a:lnTo>
                <a:lnTo>
                  <a:pt x="53" y="247"/>
                </a:lnTo>
                <a:lnTo>
                  <a:pt x="40" y="234"/>
                </a:lnTo>
                <a:lnTo>
                  <a:pt x="27" y="234"/>
                </a:lnTo>
                <a:lnTo>
                  <a:pt x="27" y="234"/>
                </a:lnTo>
                <a:lnTo>
                  <a:pt x="27" y="234"/>
                </a:lnTo>
                <a:lnTo>
                  <a:pt x="14" y="234"/>
                </a:lnTo>
                <a:lnTo>
                  <a:pt x="14" y="234"/>
                </a:lnTo>
                <a:lnTo>
                  <a:pt x="0" y="221"/>
                </a:lnTo>
                <a:lnTo>
                  <a:pt x="0" y="402"/>
                </a:lnTo>
                <a:lnTo>
                  <a:pt x="14" y="402"/>
                </a:lnTo>
                <a:lnTo>
                  <a:pt x="14" y="402"/>
                </a:lnTo>
                <a:lnTo>
                  <a:pt x="27" y="402"/>
                </a:lnTo>
                <a:lnTo>
                  <a:pt x="27" y="402"/>
                </a:lnTo>
                <a:lnTo>
                  <a:pt x="27" y="402"/>
                </a:lnTo>
                <a:lnTo>
                  <a:pt x="40" y="402"/>
                </a:lnTo>
                <a:lnTo>
                  <a:pt x="53" y="415"/>
                </a:lnTo>
                <a:lnTo>
                  <a:pt x="53" y="415"/>
                </a:lnTo>
                <a:lnTo>
                  <a:pt x="66" y="415"/>
                </a:lnTo>
                <a:lnTo>
                  <a:pt x="79" y="415"/>
                </a:lnTo>
                <a:lnTo>
                  <a:pt x="79" y="415"/>
                </a:lnTo>
                <a:lnTo>
                  <a:pt x="79" y="415"/>
                </a:lnTo>
                <a:lnTo>
                  <a:pt x="92" y="415"/>
                </a:lnTo>
                <a:lnTo>
                  <a:pt x="92" y="415"/>
                </a:lnTo>
                <a:lnTo>
                  <a:pt x="105" y="415"/>
                </a:lnTo>
                <a:lnTo>
                  <a:pt x="119" y="428"/>
                </a:lnTo>
                <a:lnTo>
                  <a:pt x="119" y="428"/>
                </a:lnTo>
                <a:lnTo>
                  <a:pt x="119" y="428"/>
                </a:lnTo>
                <a:lnTo>
                  <a:pt x="132" y="428"/>
                </a:lnTo>
                <a:lnTo>
                  <a:pt x="132" y="428"/>
                </a:lnTo>
                <a:lnTo>
                  <a:pt x="145" y="428"/>
                </a:lnTo>
                <a:lnTo>
                  <a:pt x="158" y="428"/>
                </a:lnTo>
                <a:lnTo>
                  <a:pt x="158" y="428"/>
                </a:lnTo>
                <a:lnTo>
                  <a:pt x="171" y="428"/>
                </a:lnTo>
                <a:lnTo>
                  <a:pt x="184" y="428"/>
                </a:lnTo>
                <a:lnTo>
                  <a:pt x="184" y="428"/>
                </a:lnTo>
                <a:lnTo>
                  <a:pt x="184" y="441"/>
                </a:lnTo>
                <a:lnTo>
                  <a:pt x="197" y="441"/>
                </a:lnTo>
                <a:lnTo>
                  <a:pt x="197" y="441"/>
                </a:lnTo>
                <a:lnTo>
                  <a:pt x="210" y="441"/>
                </a:lnTo>
                <a:lnTo>
                  <a:pt x="224" y="441"/>
                </a:lnTo>
                <a:lnTo>
                  <a:pt x="224" y="441"/>
                </a:lnTo>
                <a:lnTo>
                  <a:pt x="237" y="441"/>
                </a:lnTo>
                <a:lnTo>
                  <a:pt x="250" y="441"/>
                </a:lnTo>
                <a:lnTo>
                  <a:pt x="250" y="441"/>
                </a:lnTo>
                <a:lnTo>
                  <a:pt x="250" y="441"/>
                </a:lnTo>
                <a:lnTo>
                  <a:pt x="263" y="441"/>
                </a:lnTo>
                <a:lnTo>
                  <a:pt x="263" y="441"/>
                </a:lnTo>
                <a:lnTo>
                  <a:pt x="276" y="441"/>
                </a:lnTo>
                <a:lnTo>
                  <a:pt x="289" y="441"/>
                </a:lnTo>
                <a:lnTo>
                  <a:pt x="289" y="441"/>
                </a:lnTo>
                <a:lnTo>
                  <a:pt x="302" y="441"/>
                </a:lnTo>
                <a:lnTo>
                  <a:pt x="315" y="454"/>
                </a:lnTo>
                <a:lnTo>
                  <a:pt x="315" y="454"/>
                </a:lnTo>
                <a:lnTo>
                  <a:pt x="329" y="454"/>
                </a:lnTo>
                <a:lnTo>
                  <a:pt x="342" y="454"/>
                </a:lnTo>
                <a:lnTo>
                  <a:pt x="342" y="454"/>
                </a:lnTo>
                <a:lnTo>
                  <a:pt x="355" y="454"/>
                </a:lnTo>
                <a:lnTo>
                  <a:pt x="355" y="454"/>
                </a:lnTo>
                <a:lnTo>
                  <a:pt x="355" y="454"/>
                </a:lnTo>
                <a:lnTo>
                  <a:pt x="368" y="454"/>
                </a:lnTo>
                <a:lnTo>
                  <a:pt x="381" y="454"/>
                </a:lnTo>
                <a:lnTo>
                  <a:pt x="381" y="454"/>
                </a:lnTo>
                <a:lnTo>
                  <a:pt x="394" y="454"/>
                </a:lnTo>
                <a:lnTo>
                  <a:pt x="407" y="454"/>
                </a:lnTo>
                <a:lnTo>
                  <a:pt x="407" y="454"/>
                </a:lnTo>
                <a:lnTo>
                  <a:pt x="420" y="454"/>
                </a:lnTo>
                <a:lnTo>
                  <a:pt x="434" y="454"/>
                </a:lnTo>
                <a:lnTo>
                  <a:pt x="434" y="454"/>
                </a:lnTo>
                <a:lnTo>
                  <a:pt x="447" y="454"/>
                </a:lnTo>
                <a:lnTo>
                  <a:pt x="447" y="454"/>
                </a:lnTo>
                <a:lnTo>
                  <a:pt x="447" y="454"/>
                </a:lnTo>
                <a:lnTo>
                  <a:pt x="460" y="454"/>
                </a:lnTo>
                <a:lnTo>
                  <a:pt x="473" y="454"/>
                </a:lnTo>
                <a:lnTo>
                  <a:pt x="473" y="454"/>
                </a:lnTo>
                <a:lnTo>
                  <a:pt x="486" y="441"/>
                </a:lnTo>
                <a:lnTo>
                  <a:pt x="499" y="441"/>
                </a:lnTo>
                <a:lnTo>
                  <a:pt x="499" y="441"/>
                </a:lnTo>
                <a:lnTo>
                  <a:pt x="512" y="441"/>
                </a:lnTo>
                <a:lnTo>
                  <a:pt x="525" y="441"/>
                </a:lnTo>
                <a:lnTo>
                  <a:pt x="525" y="441"/>
                </a:lnTo>
                <a:lnTo>
                  <a:pt x="525" y="441"/>
                </a:lnTo>
                <a:lnTo>
                  <a:pt x="539" y="441"/>
                </a:lnTo>
                <a:lnTo>
                  <a:pt x="539" y="441"/>
                </a:lnTo>
                <a:lnTo>
                  <a:pt x="552" y="441"/>
                </a:lnTo>
                <a:lnTo>
                  <a:pt x="565" y="441"/>
                </a:lnTo>
                <a:lnTo>
                  <a:pt x="565" y="441"/>
                </a:lnTo>
                <a:lnTo>
                  <a:pt x="578" y="441"/>
                </a:lnTo>
                <a:lnTo>
                  <a:pt x="591" y="441"/>
                </a:lnTo>
                <a:lnTo>
                  <a:pt x="591" y="441"/>
                </a:lnTo>
                <a:lnTo>
                  <a:pt x="604" y="441"/>
                </a:lnTo>
                <a:lnTo>
                  <a:pt x="617" y="428"/>
                </a:lnTo>
                <a:lnTo>
                  <a:pt x="617" y="428"/>
                </a:lnTo>
                <a:lnTo>
                  <a:pt x="617" y="428"/>
                </a:lnTo>
                <a:lnTo>
                  <a:pt x="630" y="428"/>
                </a:lnTo>
                <a:lnTo>
                  <a:pt x="630" y="428"/>
                </a:lnTo>
                <a:lnTo>
                  <a:pt x="644" y="428"/>
                </a:lnTo>
                <a:lnTo>
                  <a:pt x="657" y="428"/>
                </a:lnTo>
                <a:lnTo>
                  <a:pt x="657" y="428"/>
                </a:lnTo>
                <a:lnTo>
                  <a:pt x="670" y="428"/>
                </a:lnTo>
                <a:lnTo>
                  <a:pt x="670" y="428"/>
                </a:lnTo>
                <a:lnTo>
                  <a:pt x="670" y="428"/>
                </a:lnTo>
                <a:lnTo>
                  <a:pt x="683" y="415"/>
                </a:lnTo>
                <a:lnTo>
                  <a:pt x="696" y="415"/>
                </a:lnTo>
                <a:lnTo>
                  <a:pt x="696" y="415"/>
                </a:lnTo>
                <a:lnTo>
                  <a:pt x="709" y="415"/>
                </a:lnTo>
                <a:lnTo>
                  <a:pt x="722" y="415"/>
                </a:lnTo>
                <a:lnTo>
                  <a:pt x="722" y="415"/>
                </a:lnTo>
                <a:lnTo>
                  <a:pt x="722" y="415"/>
                </a:lnTo>
                <a:lnTo>
                  <a:pt x="735" y="415"/>
                </a:lnTo>
                <a:lnTo>
                  <a:pt x="735" y="415"/>
                </a:lnTo>
                <a:lnTo>
                  <a:pt x="749" y="402"/>
                </a:lnTo>
                <a:lnTo>
                  <a:pt x="762" y="402"/>
                </a:lnTo>
                <a:lnTo>
                  <a:pt x="762" y="402"/>
                </a:lnTo>
                <a:lnTo>
                  <a:pt x="762" y="402"/>
                </a:lnTo>
                <a:lnTo>
                  <a:pt x="775" y="402"/>
                </a:lnTo>
                <a:lnTo>
                  <a:pt x="775" y="402"/>
                </a:lnTo>
                <a:lnTo>
                  <a:pt x="788" y="402"/>
                </a:lnTo>
                <a:lnTo>
                  <a:pt x="801" y="389"/>
                </a:lnTo>
                <a:lnTo>
                  <a:pt x="801" y="389"/>
                </a:lnTo>
                <a:lnTo>
                  <a:pt x="801" y="389"/>
                </a:lnTo>
                <a:lnTo>
                  <a:pt x="814" y="389"/>
                </a:lnTo>
                <a:lnTo>
                  <a:pt x="814" y="389"/>
                </a:lnTo>
                <a:lnTo>
                  <a:pt x="827" y="389"/>
                </a:lnTo>
                <a:lnTo>
                  <a:pt x="827" y="376"/>
                </a:lnTo>
                <a:lnTo>
                  <a:pt x="827" y="376"/>
                </a:lnTo>
                <a:lnTo>
                  <a:pt x="840" y="376"/>
                </a:lnTo>
                <a:lnTo>
                  <a:pt x="854" y="376"/>
                </a:lnTo>
                <a:lnTo>
                  <a:pt x="854" y="376"/>
                </a:lnTo>
                <a:lnTo>
                  <a:pt x="854" y="376"/>
                </a:lnTo>
                <a:lnTo>
                  <a:pt x="867" y="363"/>
                </a:lnTo>
                <a:lnTo>
                  <a:pt x="867" y="363"/>
                </a:lnTo>
                <a:lnTo>
                  <a:pt x="867" y="363"/>
                </a:lnTo>
                <a:lnTo>
                  <a:pt x="880" y="363"/>
                </a:lnTo>
                <a:lnTo>
                  <a:pt x="880" y="363"/>
                </a:lnTo>
                <a:lnTo>
                  <a:pt x="893" y="363"/>
                </a:lnTo>
                <a:lnTo>
                  <a:pt x="893" y="350"/>
                </a:lnTo>
                <a:lnTo>
                  <a:pt x="893" y="350"/>
                </a:lnTo>
                <a:lnTo>
                  <a:pt x="906" y="350"/>
                </a:lnTo>
                <a:lnTo>
                  <a:pt x="906" y="350"/>
                </a:lnTo>
                <a:lnTo>
                  <a:pt x="906" y="350"/>
                </a:lnTo>
                <a:lnTo>
                  <a:pt x="919" y="337"/>
                </a:lnTo>
                <a:lnTo>
                  <a:pt x="919" y="337"/>
                </a:lnTo>
                <a:lnTo>
                  <a:pt x="919" y="337"/>
                </a:lnTo>
                <a:lnTo>
                  <a:pt x="932" y="337"/>
                </a:lnTo>
                <a:lnTo>
                  <a:pt x="945" y="337"/>
                </a:lnTo>
                <a:lnTo>
                  <a:pt x="945" y="337"/>
                </a:lnTo>
                <a:lnTo>
                  <a:pt x="945" y="324"/>
                </a:lnTo>
                <a:lnTo>
                  <a:pt x="959" y="324"/>
                </a:lnTo>
                <a:lnTo>
                  <a:pt x="959" y="324"/>
                </a:lnTo>
                <a:lnTo>
                  <a:pt x="959" y="324"/>
                </a:lnTo>
                <a:lnTo>
                  <a:pt x="972" y="311"/>
                </a:lnTo>
                <a:lnTo>
                  <a:pt x="972" y="311"/>
                </a:lnTo>
                <a:lnTo>
                  <a:pt x="972" y="311"/>
                </a:lnTo>
                <a:lnTo>
                  <a:pt x="972" y="311"/>
                </a:lnTo>
                <a:lnTo>
                  <a:pt x="972" y="311"/>
                </a:lnTo>
                <a:lnTo>
                  <a:pt x="985" y="298"/>
                </a:lnTo>
                <a:lnTo>
                  <a:pt x="985" y="298"/>
                </a:lnTo>
                <a:lnTo>
                  <a:pt x="985" y="298"/>
                </a:lnTo>
                <a:lnTo>
                  <a:pt x="998" y="298"/>
                </a:lnTo>
                <a:lnTo>
                  <a:pt x="998" y="286"/>
                </a:lnTo>
                <a:lnTo>
                  <a:pt x="998" y="286"/>
                </a:lnTo>
                <a:lnTo>
                  <a:pt x="998" y="286"/>
                </a:lnTo>
                <a:lnTo>
                  <a:pt x="1011" y="286"/>
                </a:lnTo>
                <a:lnTo>
                  <a:pt x="1011" y="286"/>
                </a:lnTo>
                <a:lnTo>
                  <a:pt x="1011" y="273"/>
                </a:lnTo>
                <a:lnTo>
                  <a:pt x="1011" y="273"/>
                </a:lnTo>
                <a:lnTo>
                  <a:pt x="1011" y="273"/>
                </a:lnTo>
                <a:lnTo>
                  <a:pt x="1024" y="273"/>
                </a:lnTo>
                <a:lnTo>
                  <a:pt x="1024" y="260"/>
                </a:lnTo>
                <a:lnTo>
                  <a:pt x="1024" y="260"/>
                </a:lnTo>
                <a:lnTo>
                  <a:pt x="1024" y="260"/>
                </a:lnTo>
                <a:lnTo>
                  <a:pt x="1037" y="247"/>
                </a:lnTo>
                <a:lnTo>
                  <a:pt x="1037" y="247"/>
                </a:lnTo>
                <a:lnTo>
                  <a:pt x="1037" y="247"/>
                </a:lnTo>
                <a:lnTo>
                  <a:pt x="1037" y="247"/>
                </a:lnTo>
                <a:lnTo>
                  <a:pt x="1037" y="247"/>
                </a:lnTo>
                <a:lnTo>
                  <a:pt x="1037" y="247"/>
                </a:lnTo>
                <a:lnTo>
                  <a:pt x="1037" y="234"/>
                </a:lnTo>
                <a:lnTo>
                  <a:pt x="1037" y="234"/>
                </a:lnTo>
                <a:lnTo>
                  <a:pt x="1051" y="234"/>
                </a:lnTo>
                <a:lnTo>
                  <a:pt x="1051" y="221"/>
                </a:lnTo>
                <a:lnTo>
                  <a:pt x="1051" y="221"/>
                </a:lnTo>
                <a:lnTo>
                  <a:pt x="1051" y="221"/>
                </a:lnTo>
                <a:lnTo>
                  <a:pt x="1051" y="221"/>
                </a:lnTo>
                <a:lnTo>
                  <a:pt x="1051" y="221"/>
                </a:lnTo>
                <a:lnTo>
                  <a:pt x="1051" y="208"/>
                </a:lnTo>
                <a:lnTo>
                  <a:pt x="1051" y="208"/>
                </a:lnTo>
                <a:lnTo>
                  <a:pt x="1051" y="208"/>
                </a:lnTo>
                <a:lnTo>
                  <a:pt x="1051" y="195"/>
                </a:lnTo>
                <a:lnTo>
                  <a:pt x="1064" y="195"/>
                </a:lnTo>
                <a:lnTo>
                  <a:pt x="1064" y="195"/>
                </a:lnTo>
                <a:lnTo>
                  <a:pt x="1064" y="195"/>
                </a:lnTo>
                <a:lnTo>
                  <a:pt x="1064" y="182"/>
                </a:lnTo>
                <a:lnTo>
                  <a:pt x="1064" y="182"/>
                </a:lnTo>
                <a:lnTo>
                  <a:pt x="1064" y="182"/>
                </a:lnTo>
                <a:lnTo>
                  <a:pt x="1064" y="182"/>
                </a:lnTo>
                <a:lnTo>
                  <a:pt x="1064" y="182"/>
                </a:lnTo>
                <a:lnTo>
                  <a:pt x="1064" y="169"/>
                </a:lnTo>
                <a:lnTo>
                  <a:pt x="1064" y="0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836960" y="3400560"/>
            <a:ext cx="1689120" cy="885600"/>
          </a:xfrm>
          <a:custGeom>
            <a:avLst/>
            <a:gdLst/>
            <a:ahLst/>
            <a:rect l="l" t="t" r="r" b="b"/>
            <a:pathLst>
              <a:path w="1064" h="558">
                <a:moveTo>
                  <a:pt x="394" y="0"/>
                </a:moveTo>
                <a:lnTo>
                  <a:pt x="407" y="0"/>
                </a:lnTo>
                <a:lnTo>
                  <a:pt x="407" y="0"/>
                </a:lnTo>
                <a:lnTo>
                  <a:pt x="420" y="0"/>
                </a:lnTo>
                <a:lnTo>
                  <a:pt x="434" y="0"/>
                </a:lnTo>
                <a:lnTo>
                  <a:pt x="434" y="0"/>
                </a:lnTo>
                <a:lnTo>
                  <a:pt x="447" y="0"/>
                </a:lnTo>
                <a:lnTo>
                  <a:pt x="447" y="0"/>
                </a:lnTo>
                <a:lnTo>
                  <a:pt x="447" y="0"/>
                </a:lnTo>
                <a:lnTo>
                  <a:pt x="460" y="0"/>
                </a:lnTo>
                <a:lnTo>
                  <a:pt x="473" y="0"/>
                </a:lnTo>
                <a:lnTo>
                  <a:pt x="473" y="0"/>
                </a:lnTo>
                <a:lnTo>
                  <a:pt x="486" y="0"/>
                </a:lnTo>
                <a:lnTo>
                  <a:pt x="499" y="0"/>
                </a:lnTo>
                <a:lnTo>
                  <a:pt x="499" y="0"/>
                </a:lnTo>
                <a:lnTo>
                  <a:pt x="512" y="0"/>
                </a:lnTo>
                <a:lnTo>
                  <a:pt x="525" y="0"/>
                </a:lnTo>
                <a:lnTo>
                  <a:pt x="525" y="0"/>
                </a:lnTo>
                <a:lnTo>
                  <a:pt x="525" y="0"/>
                </a:lnTo>
                <a:lnTo>
                  <a:pt x="539" y="0"/>
                </a:lnTo>
                <a:lnTo>
                  <a:pt x="539" y="0"/>
                </a:lnTo>
                <a:lnTo>
                  <a:pt x="552" y="0"/>
                </a:lnTo>
                <a:lnTo>
                  <a:pt x="565" y="0"/>
                </a:lnTo>
                <a:lnTo>
                  <a:pt x="565" y="0"/>
                </a:lnTo>
                <a:lnTo>
                  <a:pt x="578" y="13"/>
                </a:lnTo>
                <a:lnTo>
                  <a:pt x="591" y="13"/>
                </a:lnTo>
                <a:lnTo>
                  <a:pt x="591" y="13"/>
                </a:lnTo>
                <a:lnTo>
                  <a:pt x="604" y="13"/>
                </a:lnTo>
                <a:lnTo>
                  <a:pt x="617" y="13"/>
                </a:lnTo>
                <a:lnTo>
                  <a:pt x="617" y="13"/>
                </a:lnTo>
                <a:lnTo>
                  <a:pt x="617" y="13"/>
                </a:lnTo>
                <a:lnTo>
                  <a:pt x="630" y="13"/>
                </a:lnTo>
                <a:lnTo>
                  <a:pt x="630" y="13"/>
                </a:lnTo>
                <a:lnTo>
                  <a:pt x="644" y="13"/>
                </a:lnTo>
                <a:lnTo>
                  <a:pt x="657" y="13"/>
                </a:lnTo>
                <a:lnTo>
                  <a:pt x="657" y="13"/>
                </a:lnTo>
                <a:lnTo>
                  <a:pt x="670" y="13"/>
                </a:lnTo>
                <a:lnTo>
                  <a:pt x="670" y="26"/>
                </a:lnTo>
                <a:lnTo>
                  <a:pt x="670" y="26"/>
                </a:lnTo>
                <a:lnTo>
                  <a:pt x="683" y="26"/>
                </a:lnTo>
                <a:lnTo>
                  <a:pt x="696" y="26"/>
                </a:lnTo>
                <a:lnTo>
                  <a:pt x="696" y="26"/>
                </a:lnTo>
                <a:lnTo>
                  <a:pt x="709" y="26"/>
                </a:lnTo>
                <a:lnTo>
                  <a:pt x="722" y="26"/>
                </a:lnTo>
                <a:lnTo>
                  <a:pt x="722" y="26"/>
                </a:lnTo>
                <a:lnTo>
                  <a:pt x="722" y="39"/>
                </a:lnTo>
                <a:lnTo>
                  <a:pt x="735" y="39"/>
                </a:lnTo>
                <a:lnTo>
                  <a:pt x="735" y="39"/>
                </a:lnTo>
                <a:lnTo>
                  <a:pt x="749" y="39"/>
                </a:lnTo>
                <a:lnTo>
                  <a:pt x="762" y="39"/>
                </a:lnTo>
                <a:lnTo>
                  <a:pt x="762" y="39"/>
                </a:lnTo>
                <a:lnTo>
                  <a:pt x="762" y="39"/>
                </a:lnTo>
                <a:lnTo>
                  <a:pt x="775" y="52"/>
                </a:lnTo>
                <a:lnTo>
                  <a:pt x="775" y="52"/>
                </a:lnTo>
                <a:lnTo>
                  <a:pt x="788" y="52"/>
                </a:lnTo>
                <a:lnTo>
                  <a:pt x="801" y="52"/>
                </a:lnTo>
                <a:lnTo>
                  <a:pt x="801" y="52"/>
                </a:lnTo>
                <a:lnTo>
                  <a:pt x="801" y="52"/>
                </a:lnTo>
                <a:lnTo>
                  <a:pt x="814" y="65"/>
                </a:lnTo>
                <a:lnTo>
                  <a:pt x="814" y="65"/>
                </a:lnTo>
                <a:lnTo>
                  <a:pt x="827" y="65"/>
                </a:lnTo>
                <a:lnTo>
                  <a:pt x="827" y="65"/>
                </a:lnTo>
                <a:lnTo>
                  <a:pt x="827" y="65"/>
                </a:lnTo>
                <a:lnTo>
                  <a:pt x="840" y="65"/>
                </a:lnTo>
                <a:lnTo>
                  <a:pt x="854" y="65"/>
                </a:lnTo>
                <a:lnTo>
                  <a:pt x="854" y="65"/>
                </a:lnTo>
                <a:lnTo>
                  <a:pt x="854" y="78"/>
                </a:lnTo>
                <a:lnTo>
                  <a:pt x="867" y="78"/>
                </a:lnTo>
                <a:lnTo>
                  <a:pt x="867" y="78"/>
                </a:lnTo>
                <a:lnTo>
                  <a:pt x="867" y="78"/>
                </a:lnTo>
                <a:lnTo>
                  <a:pt x="880" y="78"/>
                </a:lnTo>
                <a:lnTo>
                  <a:pt x="880" y="78"/>
                </a:lnTo>
                <a:lnTo>
                  <a:pt x="893" y="91"/>
                </a:lnTo>
                <a:lnTo>
                  <a:pt x="893" y="91"/>
                </a:lnTo>
                <a:lnTo>
                  <a:pt x="893" y="91"/>
                </a:lnTo>
                <a:lnTo>
                  <a:pt x="906" y="91"/>
                </a:lnTo>
                <a:lnTo>
                  <a:pt x="906" y="104"/>
                </a:lnTo>
                <a:lnTo>
                  <a:pt x="906" y="104"/>
                </a:lnTo>
                <a:lnTo>
                  <a:pt x="919" y="104"/>
                </a:lnTo>
                <a:lnTo>
                  <a:pt x="919" y="104"/>
                </a:lnTo>
                <a:lnTo>
                  <a:pt x="919" y="104"/>
                </a:lnTo>
                <a:lnTo>
                  <a:pt x="932" y="117"/>
                </a:lnTo>
                <a:lnTo>
                  <a:pt x="945" y="117"/>
                </a:lnTo>
                <a:lnTo>
                  <a:pt x="945" y="117"/>
                </a:lnTo>
                <a:lnTo>
                  <a:pt x="945" y="117"/>
                </a:lnTo>
                <a:lnTo>
                  <a:pt x="959" y="130"/>
                </a:lnTo>
                <a:lnTo>
                  <a:pt x="959" y="130"/>
                </a:lnTo>
                <a:lnTo>
                  <a:pt x="959" y="130"/>
                </a:lnTo>
                <a:lnTo>
                  <a:pt x="972" y="130"/>
                </a:lnTo>
                <a:lnTo>
                  <a:pt x="972" y="130"/>
                </a:lnTo>
                <a:lnTo>
                  <a:pt x="972" y="130"/>
                </a:lnTo>
                <a:lnTo>
                  <a:pt x="972" y="143"/>
                </a:lnTo>
                <a:lnTo>
                  <a:pt x="972" y="143"/>
                </a:lnTo>
                <a:lnTo>
                  <a:pt x="985" y="143"/>
                </a:lnTo>
                <a:lnTo>
                  <a:pt x="985" y="143"/>
                </a:lnTo>
                <a:lnTo>
                  <a:pt x="985" y="143"/>
                </a:lnTo>
                <a:lnTo>
                  <a:pt x="998" y="156"/>
                </a:lnTo>
                <a:lnTo>
                  <a:pt x="998" y="156"/>
                </a:lnTo>
                <a:lnTo>
                  <a:pt x="998" y="156"/>
                </a:lnTo>
                <a:lnTo>
                  <a:pt x="998" y="156"/>
                </a:lnTo>
                <a:lnTo>
                  <a:pt x="1011" y="169"/>
                </a:lnTo>
                <a:lnTo>
                  <a:pt x="1011" y="169"/>
                </a:lnTo>
                <a:lnTo>
                  <a:pt x="1011" y="169"/>
                </a:lnTo>
                <a:lnTo>
                  <a:pt x="1011" y="182"/>
                </a:lnTo>
                <a:lnTo>
                  <a:pt x="1011" y="182"/>
                </a:lnTo>
                <a:lnTo>
                  <a:pt x="1024" y="182"/>
                </a:lnTo>
                <a:lnTo>
                  <a:pt x="1024" y="182"/>
                </a:lnTo>
                <a:lnTo>
                  <a:pt x="1024" y="182"/>
                </a:lnTo>
                <a:lnTo>
                  <a:pt x="1024" y="182"/>
                </a:lnTo>
                <a:lnTo>
                  <a:pt x="1037" y="195"/>
                </a:lnTo>
                <a:lnTo>
                  <a:pt x="1037" y="195"/>
                </a:lnTo>
                <a:lnTo>
                  <a:pt x="1037" y="195"/>
                </a:lnTo>
                <a:lnTo>
                  <a:pt x="1037" y="208"/>
                </a:lnTo>
                <a:lnTo>
                  <a:pt x="1037" y="208"/>
                </a:lnTo>
                <a:lnTo>
                  <a:pt x="1037" y="208"/>
                </a:lnTo>
                <a:lnTo>
                  <a:pt x="1037" y="208"/>
                </a:lnTo>
                <a:lnTo>
                  <a:pt x="1037" y="208"/>
                </a:lnTo>
                <a:lnTo>
                  <a:pt x="1051" y="221"/>
                </a:lnTo>
                <a:lnTo>
                  <a:pt x="1051" y="221"/>
                </a:lnTo>
                <a:lnTo>
                  <a:pt x="1051" y="221"/>
                </a:lnTo>
                <a:lnTo>
                  <a:pt x="1051" y="221"/>
                </a:lnTo>
                <a:lnTo>
                  <a:pt x="1051" y="234"/>
                </a:lnTo>
                <a:lnTo>
                  <a:pt x="1051" y="234"/>
                </a:lnTo>
                <a:lnTo>
                  <a:pt x="1051" y="234"/>
                </a:lnTo>
                <a:lnTo>
                  <a:pt x="1051" y="234"/>
                </a:lnTo>
                <a:lnTo>
                  <a:pt x="1051" y="234"/>
                </a:lnTo>
                <a:lnTo>
                  <a:pt x="1051" y="246"/>
                </a:lnTo>
                <a:lnTo>
                  <a:pt x="1064" y="246"/>
                </a:lnTo>
                <a:lnTo>
                  <a:pt x="1064" y="246"/>
                </a:lnTo>
                <a:lnTo>
                  <a:pt x="1064" y="259"/>
                </a:lnTo>
                <a:lnTo>
                  <a:pt x="1064" y="259"/>
                </a:lnTo>
                <a:lnTo>
                  <a:pt x="1064" y="259"/>
                </a:lnTo>
                <a:lnTo>
                  <a:pt x="1064" y="259"/>
                </a:lnTo>
                <a:lnTo>
                  <a:pt x="1064" y="272"/>
                </a:lnTo>
                <a:lnTo>
                  <a:pt x="1064" y="272"/>
                </a:lnTo>
                <a:lnTo>
                  <a:pt x="1064" y="272"/>
                </a:lnTo>
                <a:lnTo>
                  <a:pt x="1064" y="285"/>
                </a:lnTo>
                <a:lnTo>
                  <a:pt x="1064" y="285"/>
                </a:lnTo>
                <a:lnTo>
                  <a:pt x="1064" y="285"/>
                </a:lnTo>
                <a:lnTo>
                  <a:pt x="1064" y="285"/>
                </a:lnTo>
                <a:lnTo>
                  <a:pt x="1064" y="285"/>
                </a:lnTo>
                <a:lnTo>
                  <a:pt x="1064" y="298"/>
                </a:lnTo>
                <a:lnTo>
                  <a:pt x="1064" y="298"/>
                </a:lnTo>
                <a:lnTo>
                  <a:pt x="1064" y="298"/>
                </a:lnTo>
                <a:lnTo>
                  <a:pt x="1051" y="298"/>
                </a:lnTo>
                <a:lnTo>
                  <a:pt x="1051" y="311"/>
                </a:lnTo>
                <a:lnTo>
                  <a:pt x="1051" y="311"/>
                </a:lnTo>
                <a:lnTo>
                  <a:pt x="1051" y="311"/>
                </a:lnTo>
                <a:lnTo>
                  <a:pt x="1051" y="324"/>
                </a:lnTo>
                <a:lnTo>
                  <a:pt x="1051" y="324"/>
                </a:lnTo>
                <a:lnTo>
                  <a:pt x="1051" y="324"/>
                </a:lnTo>
                <a:lnTo>
                  <a:pt x="1051" y="324"/>
                </a:lnTo>
                <a:lnTo>
                  <a:pt x="1051" y="324"/>
                </a:lnTo>
                <a:lnTo>
                  <a:pt x="1051" y="337"/>
                </a:lnTo>
                <a:lnTo>
                  <a:pt x="1037" y="337"/>
                </a:lnTo>
                <a:lnTo>
                  <a:pt x="1037" y="337"/>
                </a:lnTo>
                <a:lnTo>
                  <a:pt x="1037" y="337"/>
                </a:lnTo>
                <a:lnTo>
                  <a:pt x="1037" y="350"/>
                </a:lnTo>
                <a:lnTo>
                  <a:pt x="1037" y="350"/>
                </a:lnTo>
                <a:lnTo>
                  <a:pt x="1037" y="350"/>
                </a:lnTo>
                <a:lnTo>
                  <a:pt x="1037" y="350"/>
                </a:lnTo>
                <a:lnTo>
                  <a:pt x="1037" y="350"/>
                </a:lnTo>
                <a:lnTo>
                  <a:pt x="1024" y="363"/>
                </a:lnTo>
                <a:lnTo>
                  <a:pt x="1024" y="363"/>
                </a:lnTo>
                <a:lnTo>
                  <a:pt x="1024" y="363"/>
                </a:lnTo>
                <a:lnTo>
                  <a:pt x="1024" y="376"/>
                </a:lnTo>
                <a:lnTo>
                  <a:pt x="1011" y="376"/>
                </a:lnTo>
                <a:lnTo>
                  <a:pt x="1011" y="376"/>
                </a:lnTo>
                <a:lnTo>
                  <a:pt x="1011" y="376"/>
                </a:lnTo>
                <a:lnTo>
                  <a:pt x="1011" y="389"/>
                </a:lnTo>
                <a:lnTo>
                  <a:pt x="1011" y="389"/>
                </a:lnTo>
                <a:lnTo>
                  <a:pt x="998" y="389"/>
                </a:lnTo>
                <a:lnTo>
                  <a:pt x="998" y="389"/>
                </a:lnTo>
                <a:lnTo>
                  <a:pt x="998" y="389"/>
                </a:lnTo>
                <a:lnTo>
                  <a:pt x="998" y="402"/>
                </a:lnTo>
                <a:lnTo>
                  <a:pt x="985" y="402"/>
                </a:lnTo>
                <a:lnTo>
                  <a:pt x="985" y="402"/>
                </a:lnTo>
                <a:lnTo>
                  <a:pt x="985" y="402"/>
                </a:lnTo>
                <a:lnTo>
                  <a:pt x="972" y="415"/>
                </a:lnTo>
                <a:lnTo>
                  <a:pt x="972" y="415"/>
                </a:lnTo>
                <a:lnTo>
                  <a:pt x="972" y="415"/>
                </a:lnTo>
                <a:lnTo>
                  <a:pt x="972" y="415"/>
                </a:lnTo>
                <a:lnTo>
                  <a:pt x="972" y="415"/>
                </a:lnTo>
                <a:lnTo>
                  <a:pt x="959" y="428"/>
                </a:lnTo>
                <a:lnTo>
                  <a:pt x="959" y="428"/>
                </a:lnTo>
                <a:lnTo>
                  <a:pt x="959" y="428"/>
                </a:lnTo>
                <a:lnTo>
                  <a:pt x="945" y="428"/>
                </a:lnTo>
                <a:lnTo>
                  <a:pt x="945" y="441"/>
                </a:lnTo>
                <a:lnTo>
                  <a:pt x="945" y="441"/>
                </a:lnTo>
                <a:lnTo>
                  <a:pt x="932" y="441"/>
                </a:lnTo>
                <a:lnTo>
                  <a:pt x="919" y="441"/>
                </a:lnTo>
                <a:lnTo>
                  <a:pt x="919" y="441"/>
                </a:lnTo>
                <a:lnTo>
                  <a:pt x="919" y="441"/>
                </a:lnTo>
                <a:lnTo>
                  <a:pt x="906" y="454"/>
                </a:lnTo>
                <a:lnTo>
                  <a:pt x="906" y="454"/>
                </a:lnTo>
                <a:lnTo>
                  <a:pt x="906" y="454"/>
                </a:lnTo>
                <a:lnTo>
                  <a:pt x="893" y="454"/>
                </a:lnTo>
                <a:lnTo>
                  <a:pt x="893" y="454"/>
                </a:lnTo>
                <a:lnTo>
                  <a:pt x="893" y="454"/>
                </a:lnTo>
                <a:lnTo>
                  <a:pt x="880" y="467"/>
                </a:lnTo>
                <a:lnTo>
                  <a:pt x="880" y="467"/>
                </a:lnTo>
                <a:lnTo>
                  <a:pt x="867" y="467"/>
                </a:lnTo>
                <a:lnTo>
                  <a:pt x="867" y="467"/>
                </a:lnTo>
                <a:lnTo>
                  <a:pt x="867" y="467"/>
                </a:lnTo>
                <a:lnTo>
                  <a:pt x="854" y="480"/>
                </a:lnTo>
                <a:lnTo>
                  <a:pt x="854" y="480"/>
                </a:lnTo>
                <a:lnTo>
                  <a:pt x="854" y="480"/>
                </a:lnTo>
                <a:lnTo>
                  <a:pt x="840" y="480"/>
                </a:lnTo>
                <a:lnTo>
                  <a:pt x="827" y="480"/>
                </a:lnTo>
                <a:lnTo>
                  <a:pt x="827" y="480"/>
                </a:lnTo>
                <a:lnTo>
                  <a:pt x="827" y="493"/>
                </a:lnTo>
                <a:lnTo>
                  <a:pt x="814" y="493"/>
                </a:lnTo>
                <a:lnTo>
                  <a:pt x="814" y="493"/>
                </a:lnTo>
                <a:lnTo>
                  <a:pt x="801" y="493"/>
                </a:lnTo>
                <a:lnTo>
                  <a:pt x="801" y="493"/>
                </a:lnTo>
                <a:lnTo>
                  <a:pt x="801" y="493"/>
                </a:lnTo>
                <a:lnTo>
                  <a:pt x="788" y="506"/>
                </a:lnTo>
                <a:lnTo>
                  <a:pt x="775" y="506"/>
                </a:lnTo>
                <a:lnTo>
                  <a:pt x="775" y="506"/>
                </a:lnTo>
                <a:lnTo>
                  <a:pt x="762" y="506"/>
                </a:lnTo>
                <a:lnTo>
                  <a:pt x="762" y="506"/>
                </a:lnTo>
                <a:lnTo>
                  <a:pt x="762" y="506"/>
                </a:lnTo>
                <a:lnTo>
                  <a:pt x="749" y="506"/>
                </a:lnTo>
                <a:lnTo>
                  <a:pt x="735" y="519"/>
                </a:lnTo>
                <a:lnTo>
                  <a:pt x="735" y="519"/>
                </a:lnTo>
                <a:lnTo>
                  <a:pt x="722" y="519"/>
                </a:lnTo>
                <a:lnTo>
                  <a:pt x="722" y="519"/>
                </a:lnTo>
                <a:lnTo>
                  <a:pt x="722" y="519"/>
                </a:lnTo>
                <a:lnTo>
                  <a:pt x="709" y="519"/>
                </a:lnTo>
                <a:lnTo>
                  <a:pt x="696" y="519"/>
                </a:lnTo>
                <a:lnTo>
                  <a:pt x="696" y="519"/>
                </a:lnTo>
                <a:lnTo>
                  <a:pt x="683" y="519"/>
                </a:lnTo>
                <a:lnTo>
                  <a:pt x="670" y="532"/>
                </a:lnTo>
                <a:lnTo>
                  <a:pt x="670" y="532"/>
                </a:lnTo>
                <a:lnTo>
                  <a:pt x="670" y="532"/>
                </a:lnTo>
                <a:lnTo>
                  <a:pt x="657" y="532"/>
                </a:lnTo>
                <a:lnTo>
                  <a:pt x="657" y="532"/>
                </a:lnTo>
                <a:lnTo>
                  <a:pt x="644" y="532"/>
                </a:lnTo>
                <a:lnTo>
                  <a:pt x="630" y="532"/>
                </a:lnTo>
                <a:lnTo>
                  <a:pt x="630" y="532"/>
                </a:lnTo>
                <a:lnTo>
                  <a:pt x="617" y="532"/>
                </a:lnTo>
                <a:lnTo>
                  <a:pt x="617" y="532"/>
                </a:lnTo>
                <a:lnTo>
                  <a:pt x="617" y="532"/>
                </a:lnTo>
                <a:lnTo>
                  <a:pt x="604" y="545"/>
                </a:lnTo>
                <a:lnTo>
                  <a:pt x="591" y="545"/>
                </a:lnTo>
                <a:lnTo>
                  <a:pt x="591" y="545"/>
                </a:lnTo>
                <a:lnTo>
                  <a:pt x="578" y="545"/>
                </a:lnTo>
                <a:lnTo>
                  <a:pt x="565" y="545"/>
                </a:lnTo>
                <a:lnTo>
                  <a:pt x="565" y="545"/>
                </a:lnTo>
                <a:lnTo>
                  <a:pt x="552" y="545"/>
                </a:lnTo>
                <a:lnTo>
                  <a:pt x="539" y="545"/>
                </a:lnTo>
                <a:lnTo>
                  <a:pt x="539" y="545"/>
                </a:lnTo>
                <a:lnTo>
                  <a:pt x="525" y="545"/>
                </a:lnTo>
                <a:lnTo>
                  <a:pt x="525" y="545"/>
                </a:lnTo>
                <a:lnTo>
                  <a:pt x="525" y="545"/>
                </a:lnTo>
                <a:lnTo>
                  <a:pt x="512" y="545"/>
                </a:lnTo>
                <a:lnTo>
                  <a:pt x="499" y="545"/>
                </a:lnTo>
                <a:lnTo>
                  <a:pt x="499" y="545"/>
                </a:lnTo>
                <a:lnTo>
                  <a:pt x="486" y="545"/>
                </a:lnTo>
                <a:lnTo>
                  <a:pt x="473" y="558"/>
                </a:lnTo>
                <a:lnTo>
                  <a:pt x="473" y="558"/>
                </a:lnTo>
                <a:lnTo>
                  <a:pt x="460" y="558"/>
                </a:lnTo>
                <a:lnTo>
                  <a:pt x="447" y="558"/>
                </a:lnTo>
                <a:lnTo>
                  <a:pt x="447" y="558"/>
                </a:lnTo>
                <a:lnTo>
                  <a:pt x="447" y="558"/>
                </a:lnTo>
                <a:lnTo>
                  <a:pt x="434" y="558"/>
                </a:lnTo>
                <a:lnTo>
                  <a:pt x="434" y="558"/>
                </a:lnTo>
                <a:lnTo>
                  <a:pt x="420" y="558"/>
                </a:lnTo>
                <a:lnTo>
                  <a:pt x="407" y="558"/>
                </a:lnTo>
                <a:lnTo>
                  <a:pt x="407" y="558"/>
                </a:lnTo>
                <a:lnTo>
                  <a:pt x="394" y="558"/>
                </a:lnTo>
                <a:lnTo>
                  <a:pt x="381" y="558"/>
                </a:lnTo>
                <a:lnTo>
                  <a:pt x="381" y="558"/>
                </a:lnTo>
                <a:lnTo>
                  <a:pt x="368" y="558"/>
                </a:lnTo>
                <a:lnTo>
                  <a:pt x="355" y="558"/>
                </a:lnTo>
                <a:lnTo>
                  <a:pt x="355" y="558"/>
                </a:lnTo>
                <a:lnTo>
                  <a:pt x="355" y="558"/>
                </a:lnTo>
                <a:lnTo>
                  <a:pt x="342" y="558"/>
                </a:lnTo>
                <a:lnTo>
                  <a:pt x="342" y="558"/>
                </a:lnTo>
                <a:lnTo>
                  <a:pt x="329" y="558"/>
                </a:lnTo>
                <a:lnTo>
                  <a:pt x="315" y="558"/>
                </a:lnTo>
                <a:lnTo>
                  <a:pt x="315" y="558"/>
                </a:lnTo>
                <a:lnTo>
                  <a:pt x="302" y="545"/>
                </a:lnTo>
                <a:lnTo>
                  <a:pt x="289" y="545"/>
                </a:lnTo>
                <a:lnTo>
                  <a:pt x="289" y="545"/>
                </a:lnTo>
                <a:lnTo>
                  <a:pt x="276" y="545"/>
                </a:lnTo>
                <a:lnTo>
                  <a:pt x="263" y="545"/>
                </a:lnTo>
                <a:lnTo>
                  <a:pt x="263" y="545"/>
                </a:lnTo>
                <a:lnTo>
                  <a:pt x="250" y="545"/>
                </a:lnTo>
                <a:lnTo>
                  <a:pt x="250" y="545"/>
                </a:lnTo>
                <a:lnTo>
                  <a:pt x="250" y="545"/>
                </a:lnTo>
                <a:lnTo>
                  <a:pt x="237" y="545"/>
                </a:lnTo>
                <a:lnTo>
                  <a:pt x="224" y="545"/>
                </a:lnTo>
                <a:lnTo>
                  <a:pt x="224" y="545"/>
                </a:lnTo>
                <a:lnTo>
                  <a:pt x="210" y="545"/>
                </a:lnTo>
                <a:lnTo>
                  <a:pt x="197" y="545"/>
                </a:lnTo>
                <a:lnTo>
                  <a:pt x="197" y="545"/>
                </a:lnTo>
                <a:lnTo>
                  <a:pt x="184" y="545"/>
                </a:lnTo>
                <a:lnTo>
                  <a:pt x="184" y="532"/>
                </a:lnTo>
                <a:lnTo>
                  <a:pt x="184" y="532"/>
                </a:lnTo>
                <a:lnTo>
                  <a:pt x="171" y="532"/>
                </a:lnTo>
                <a:lnTo>
                  <a:pt x="158" y="532"/>
                </a:lnTo>
                <a:lnTo>
                  <a:pt x="158" y="532"/>
                </a:lnTo>
                <a:lnTo>
                  <a:pt x="145" y="532"/>
                </a:lnTo>
                <a:lnTo>
                  <a:pt x="132" y="532"/>
                </a:lnTo>
                <a:lnTo>
                  <a:pt x="132" y="532"/>
                </a:lnTo>
                <a:lnTo>
                  <a:pt x="119" y="532"/>
                </a:lnTo>
                <a:lnTo>
                  <a:pt x="119" y="532"/>
                </a:lnTo>
                <a:lnTo>
                  <a:pt x="119" y="532"/>
                </a:lnTo>
                <a:lnTo>
                  <a:pt x="105" y="519"/>
                </a:lnTo>
                <a:lnTo>
                  <a:pt x="92" y="519"/>
                </a:lnTo>
                <a:lnTo>
                  <a:pt x="92" y="519"/>
                </a:lnTo>
                <a:lnTo>
                  <a:pt x="79" y="519"/>
                </a:lnTo>
                <a:lnTo>
                  <a:pt x="79" y="519"/>
                </a:lnTo>
                <a:lnTo>
                  <a:pt x="79" y="519"/>
                </a:lnTo>
                <a:lnTo>
                  <a:pt x="66" y="519"/>
                </a:lnTo>
                <a:lnTo>
                  <a:pt x="53" y="519"/>
                </a:lnTo>
                <a:lnTo>
                  <a:pt x="53" y="519"/>
                </a:lnTo>
                <a:lnTo>
                  <a:pt x="40" y="506"/>
                </a:lnTo>
                <a:lnTo>
                  <a:pt x="27" y="506"/>
                </a:lnTo>
                <a:lnTo>
                  <a:pt x="27" y="506"/>
                </a:lnTo>
                <a:lnTo>
                  <a:pt x="27" y="506"/>
                </a:lnTo>
                <a:lnTo>
                  <a:pt x="14" y="506"/>
                </a:lnTo>
                <a:lnTo>
                  <a:pt x="14" y="506"/>
                </a:lnTo>
                <a:lnTo>
                  <a:pt x="0" y="506"/>
                </a:lnTo>
                <a:lnTo>
                  <a:pt x="394" y="272"/>
                </a:lnTo>
                <a:lnTo>
                  <a:pt x="394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62720" y="3751200"/>
            <a:ext cx="479520" cy="493920"/>
          </a:xfrm>
          <a:custGeom>
            <a:avLst/>
            <a:gdLst/>
            <a:ahLst/>
            <a:rect l="l" t="t" r="r" b="b"/>
            <a:pathLst>
              <a:path w="23" h="24">
                <a:moveTo>
                  <a:pt x="23" y="0"/>
                </a:moveTo>
                <a:lnTo>
                  <a:pt x="20" y="0"/>
                </a:lnTo>
                <a:lnTo>
                  <a:pt x="0" y="2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93080" y="2330280"/>
            <a:ext cx="1901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Респонденты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128680" y="3997440"/>
            <a:ext cx="166680" cy="164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317680" y="3935520"/>
            <a:ext cx="1000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ccccff"/>
                </a:solidFill>
                <a:latin typeface="Arial"/>
              </a:rPr>
              <a:t>мужчины</a:t>
            </a:r>
            <a:endParaRPr b="0" lang="en-US" sz="1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717280" y="422424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ccff"/>
                </a:solidFill>
                <a:latin typeface="Arial"/>
              </a:rPr>
              <a:t>40%</a:t>
            </a:r>
            <a:endParaRPr b="0" lang="en-US" sz="1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005600" y="3524400"/>
            <a:ext cx="144360" cy="164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155720" y="3462480"/>
            <a:ext cx="1351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женщины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573320" y="375120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ccff"/>
                </a:solidFill>
                <a:latin typeface="Arial"/>
              </a:rPr>
              <a:t>60%</a:t>
            </a:r>
            <a:endParaRPr b="0" lang="en-US" sz="1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505400" y="3395520"/>
            <a:ext cx="135000" cy="716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400040" y="2084400"/>
            <a:ext cx="7583760" cy="39085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transition advTm="2000">
    <p:blinds dir="vert"/>
    <p:sndAc>
      <p:stSnd>
        <p:snd r:embed="rId2" name="WHOOSH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ff"/>
                </a:solidFill>
                <a:latin typeface="Impact"/>
              </a:rPr>
              <a:t>Уровень образования респондентов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295280" y="1981080"/>
          <a:ext cx="7770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981080"/>
                    <a:ext cx="7770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1295280" y="1979640"/>
          <a:ext cx="6782040" cy="4295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1979640"/>
                    <a:ext cx="6782040" cy="42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4000">
    <p:checker dir="horz"/>
    <p:sndAc>
      <p:stSnd>
        <p:snd r:embed="rId5" name="WHOOSH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ff"/>
                </a:solidFill>
                <a:latin typeface="Impact"/>
              </a:rPr>
              <a:t>Рейтинг популярности исторических личностей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066680" y="2052720"/>
          <a:ext cx="7472520" cy="1708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052720"/>
                    <a:ext cx="7472520" cy="17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ff"/>
                </a:solidFill>
                <a:latin typeface="Impact"/>
              </a:rPr>
              <a:t>Выводы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В рейтингах всех социальных групп присутствует Петр </a:t>
            </a: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Старшее поколение отдает предпочтение революционным лидерам </a:t>
            </a: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  хх века</a:t>
            </a: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Мужчины -респонденты давали более строгие оценки, чем женщины</a:t>
            </a: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Самым популярным политиком-современником является В.В. Путин</a:t>
            </a: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В рейтинге всех возрастных групп преобладают полководцы и правители</a:t>
            </a: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 advTm="28000">
    <p:checker dir="horz"/>
    <p:sndAc>
      <p:stSnd>
        <p:snd r:embed="rId1" name="WHOOSH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08T13:07:05Z</dcterms:created>
  <dc:creator>---</dc:creator>
  <dc:description/>
  <dc:language>en-US</dc:language>
  <cp:lastModifiedBy>---</cp:lastModifiedBy>
  <dcterms:modified xsi:type="dcterms:W3CDTF">2006-01-20T18:52:57Z</dcterms:modified>
  <cp:revision>31</cp:revision>
  <dc:subject/>
  <dc:title>Исторические личности глазами старшеклассников </dc:title>
</cp:coreProperties>
</file>