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4E09-DF49-42B2-83EA-7B0EFD6E3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1559-A876-4069-BC16-97E0F19C3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237E-FBD4-434A-B941-E01624174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6CB2-E05A-4FA0-8EE8-25BF4CA55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14391-BCD5-4447-8451-F66CB1EF2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FD4C5-11CF-4067-AE99-C87D075D4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93F52-5537-4968-891B-ADDF8FB31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11125-787D-4628-839A-754F2EB7D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6DE4E-B62A-4374-B950-5D45049B4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5D8F5-6C5B-4D77-AD1E-3EDBEDE5A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C230E-BC8E-48AF-BBE8-FC412C2E1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06F0-F035-487C-A2DC-614BE177C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121D7-099D-45DE-A3D4-6705DE360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035D2-D152-4382-B23E-486C93AFB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95064-A0A7-44FF-80CE-0ECA7F032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331FA-8D72-42E4-8E6D-C2A129255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287DC-C5D8-4C80-9719-35BD78DB4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7D57B3-7B32-40FF-9CDB-F4EB92269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560B89-4B80-4750-AE15-D760C9388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329C2D-5B31-409B-A19E-907BCB51C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EADE13-6334-43C7-92BA-5DF35B454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31A274-384A-49BD-B424-EE0D6AA84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931B-854F-41DC-A9EC-7B824A1ED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A24B18-EECA-44E0-ABA7-F5F4B1792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DDE90F-4FD2-4870-B1D6-0330CAFE2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9741D0-18DF-4BBD-95A8-DBF2C4E83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A00583-CF1A-4564-8FC2-D9BED3592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DAE2ED-6451-41E5-BA49-ABB33D68B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485A6F-88AB-40BE-91A4-92C5DADF9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E3404E-8128-4D4B-AB56-F669D824B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8599A0-C744-4062-86A3-CF8A1013B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BDC3AD-3D69-4C8B-8881-B17C1689D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1D025C-7110-474A-9C69-89E492772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ACA6-BA61-4FCB-BE5D-B2BABE32E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AC1CCD-D5FB-44F5-958A-08A0AF17D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644B0E-92F8-4D2E-89B6-A004B54BE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32F4D9-185F-41A6-B61C-83705A5D0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36D0CD-C32D-466F-8FB2-270A9C1BF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0520CC-DC20-4A0E-BADF-19554BBB5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7CB4BC-6D71-4872-A5A8-D77772C93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AD8644-69BA-4B99-9F81-79853E9C1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DEFA2E-98C9-43CA-B905-661E7C79D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068D49-B56B-4235-B9FB-E8DD0F4F4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B26188-2051-476B-BE7F-82A760E19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5880-A4C5-497B-93D4-FD96068FB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82D7A4-65EA-4839-9D22-1BBCD53FF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2EA347-2514-45F2-ACAE-B7A8BD44C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44DCC3-2862-4A18-AB32-116704BB9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C1F55E-2B29-4EA6-B532-E77E1BEB5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CB2FDD-A903-415A-99A6-AEDF13344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2199CA-A97E-422F-8F9B-F1ECB809E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DA025C-0FD4-47C4-A1F4-E5CFB3441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F1CA69-E496-4232-9949-77B259944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DEB9C0-4DBB-4E5F-B321-70AE8BF59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A79C4D-7248-44D6-8370-E2AD9AD8C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C4B8-3A4B-456A-979C-5234D95A8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E2D155-983A-401E-AB28-8D741449E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7C22A4-DCBA-4DBE-B1F7-F38024A1C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DA26F3-8F63-404C-92D4-5E51A4516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16F5D5-E1EE-42D1-9F94-221FAB7D7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A0BD5D-0D8C-42FC-A56D-5E2D4DA75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D923D3-E02D-46A4-AC8E-A4D69783D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1A62F6-0A80-45E5-B84C-E93542831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60A93E-8413-48AC-96D3-506015BA7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434544-A06F-4F0B-A9F6-9B710AF06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E28EDB-E04C-49FE-9FB5-E6A366C7D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7335-99BD-40B3-BB70-10DC29EF0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E9569D-4A11-4C2C-92C5-3E5E29763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5F5796-5B9B-421D-808F-A6E42D3AA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91B11B-105E-4224-82C5-5EB10E197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7AA75A-A2F2-44FE-AE8D-EBF879FBE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44BA10-F215-40E6-9AE3-2DE295576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445BB2-C514-4E05-952C-A6D27F992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816FF6-AFD6-4D3F-BAA7-523E3A583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2BCF0D-59BE-40A1-B278-5FDFB8F92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C521AE-9F91-43DB-846F-05B09AA42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53852F-8A5C-4D1E-8229-04B5F8202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61C0-E161-4116-B888-84E462106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2DA996-8DC6-4B7C-BD93-FAD274C55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1E5E16-4D42-4AE9-9746-5E69FC9DA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9FCF31-4888-47D6-9FEA-A9FBC3C04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CFD5F5-986F-45E2-9337-1F14C3248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71677B-FBB8-42C6-B590-ED3376861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56194B-3DA3-4F8D-9499-4B6FA1D38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61C13E-B713-45D2-8AD4-29AB01127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5BEA4A-5902-4261-8AB7-4996FF147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930FED-32E9-41AC-A425-4E310D342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907E40-0DEA-485D-B36B-6917474C5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21E9-9577-487C-8BB5-2BEFC34CF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8EBD74-1DD9-4EE5-9F0F-DA1F5B0B5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919000-9BB4-4FC0-97B1-9333CE0E9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0378C1-0430-49C5-B2EF-FB8331F2D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1FDE51-7F3E-43D5-BBC4-6CA9A9F38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CF9090-7049-4290-9E51-6442A8FD4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9B68AF-E2A6-4CEC-823C-9BB8ED2D4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12FBC7-A84F-4B88-ABF1-7CF9E3BB0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C6CCF-F33E-44CA-88D1-B16983802ABA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0E7DB-BE28-424F-9BE7-51B8757C9844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09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7" name="PlaceHolder 1"/>
          <p:cNvSpPr>
            <a:spLocks noGrp="1"/>
          </p:cNvSpPr>
          <p:nvPr>
            <p:ph type="dt" idx="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ftr" idx="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3AC54-43A5-4A99-AF32-237A79B405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159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10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ftr" idx="11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sldNum" idx="1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D077B-2367-43DF-956B-BA1AA9093A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2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2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2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2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2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52EEA-19F8-45DB-8494-91FFB7FE78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31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1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31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32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4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36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7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37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B2628-4040-44D2-BD7B-A18C60194F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5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416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CFE62-F175-4EC3-B595-8500B7E51B8C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9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60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2" name="PlaceHolder 1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48E56-4853-4116-8685-2B50710C7F37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395280" y="549360"/>
            <a:ext cx="822960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66"/>
                </a:solidFill>
                <a:latin typeface="Tahoma"/>
              </a:rPr>
              <a:t>Биомеханические принципы</a:t>
            </a:r>
            <a:br>
              <a:rPr sz="5400"/>
            </a:br>
            <a:r>
              <a:rPr b="1" lang="en-US" sz="5400" spc="-1" strike="noStrike">
                <a:solidFill>
                  <a:srgbClr val="ff0066"/>
                </a:solidFill>
                <a:latin typeface="Tahoma"/>
              </a:rPr>
              <a:t> в технике</a:t>
            </a:r>
            <a:endParaRPr b="1" lang="en-US" sz="5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24000" y="4437000"/>
            <a:ext cx="8229600" cy="19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i="1" lang="en-US" sz="2400" spc="-1" strike="noStrike">
                <a:solidFill>
                  <a:srgbClr val="ffff00"/>
                </a:solidFill>
                <a:latin typeface="Tahoma"/>
              </a:rPr>
              <a:t>Носова Дарья, ученица 10 А класс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ahoma"/>
              </a:rPr>
              <a:t>   </a:t>
            </a:r>
            <a:r>
              <a:rPr b="0" i="1" lang="en-US" sz="2400" spc="-1" strike="noStrike">
                <a:solidFill>
                  <a:srgbClr val="ffff00"/>
                </a:solidFill>
                <a:latin typeface="Tahoma"/>
              </a:rPr>
              <a:t>МОУ «Средняя общеобразовательная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ahoma"/>
              </a:rPr>
              <a:t>школа» №57 г. Курск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04" name="" descr=""/>
          <p:cNvPicPr/>
          <p:nvPr/>
        </p:nvPicPr>
        <p:blipFill>
          <a:blip r:embed="rId1"/>
          <a:stretch/>
        </p:blipFill>
        <p:spPr>
          <a:xfrm>
            <a:off x="755640" y="4005360"/>
            <a:ext cx="1762200" cy="1827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5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5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/>
          </p:nvPr>
        </p:nvSpPr>
        <p:spPr>
          <a:xfrm>
            <a:off x="394920" y="333000"/>
            <a:ext cx="800244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250920" y="77040"/>
            <a:ext cx="8496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Уникальный гидродвижитель паука может послужить образцом для создания компактного, легко управляемого, неприхотливого в эксплуатации вездехода повышенной проходимости и маневренно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2" name="" descr=""/>
          <p:cNvPicPr/>
          <p:nvPr/>
        </p:nvPicPr>
        <p:blipFill>
          <a:blip r:embed="rId1"/>
          <a:stretch/>
        </p:blipFill>
        <p:spPr>
          <a:xfrm>
            <a:off x="1042920" y="1773360"/>
            <a:ext cx="6840720" cy="4933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1" dur="4267" fill="hold"/>
                                        <p:tgtEl>
                                          <p:spTgt spid="5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" restart="whenNotActive" nodeType="interactiveSeq" fill="hold">
                <p:stCondLst>
                  <p:cond evt="onClick">
                    <p:tgtEl>
                      <p:spTgt spid="522"/>
                    </p:tgtEl>
                  </p:cond>
                </p:stCondLst>
                <p:childTnLst>
                  <p:par>
                    <p:cTn id="123" fill="hold">
                      <p:stCondLst>
                        <p:cond evt="onClick">
                          <p:tgtEl>
                            <p:spTgt spid="522"/>
                          </p:tgtEl>
                        </p:cond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6" dur="1" fill="hold"/>
                                        <p:tgtEl>
                                          <p:spTgt spid="5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66"/>
                </a:solidFill>
                <a:latin typeface="Arial"/>
              </a:rPr>
              <a:t>«Стопоходящая машина»</a:t>
            </a:r>
            <a:br>
              <a:rPr sz="4000"/>
            </a:br>
            <a:r>
              <a:rPr b="0" lang="en-US" sz="4000" spc="-1" strike="noStrike">
                <a:solidFill>
                  <a:srgbClr val="66ff66"/>
                </a:solidFill>
                <a:latin typeface="Arial"/>
              </a:rPr>
              <a:t> П. Л. Чебышева 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0" y="1241280"/>
            <a:ext cx="28432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Модель состояла из четырех похожих на греческую букву лямбда ног. Механические ноги  были соединены так, что их кривошипы образовали обыкновенный параллелограмм, в углах которого находились шарниры. Стоило рукой переместить корпус стопохода вперед или назад, как машина приходила в движение. Четыре ноги стопохода перемещались попарно, подобно ногам животного: вторая с четвертой и первая с третье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5" name="" descr=""/>
          <p:cNvPicPr/>
          <p:nvPr/>
        </p:nvPicPr>
        <p:blipFill>
          <a:blip r:embed="rId1"/>
          <a:stretch/>
        </p:blipFill>
        <p:spPr>
          <a:xfrm>
            <a:off x="3059280" y="1873080"/>
            <a:ext cx="5473440" cy="4237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898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898" fill="hold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/>
          </p:nvPr>
        </p:nvSpPr>
        <p:spPr>
          <a:xfrm>
            <a:off x="971280" y="4653000"/>
            <a:ext cx="7848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ffcc66"/>
                </a:solidFill>
                <a:latin typeface="Arial"/>
              </a:rPr>
              <a:t>Этот гигант общей высотой 3,05 </a:t>
            </a:r>
            <a:r>
              <a:rPr b="0" i="1" lang="ru-RU" sz="1800" spc="-1" strike="noStrike">
                <a:solidFill>
                  <a:srgbClr val="ffcc66"/>
                </a:solidFill>
                <a:latin typeface="Arial"/>
              </a:rPr>
              <a:t>м </a:t>
            </a:r>
            <a:r>
              <a:rPr b="0" lang="ru-RU" sz="1800" spc="-1" strike="noStrike">
                <a:solidFill>
                  <a:srgbClr val="ffcc66"/>
                </a:solidFill>
                <a:latin typeface="Arial"/>
              </a:rPr>
              <a:t>имеет массу около полутора тонн. Он снабжен 90-сильным автомобильным мотором, от которого работает гидронасос, питающий гидродвигатели механизмов четырех длинных (более двух метров) «ног». Каждая нога – это трехзвенный рычаг. Движение каждого из сочленений осуществляется отдельным приводом. А управляет всеми этими движениями человек, сидящий в кабине, расположенной в центральной части маши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7" name="" descr=""/>
          <p:cNvPicPr/>
          <p:nvPr/>
        </p:nvPicPr>
        <p:blipFill>
          <a:blip r:embed="rId1"/>
          <a:stretch/>
        </p:blipFill>
        <p:spPr>
          <a:xfrm>
            <a:off x="1476360" y="981000"/>
            <a:ext cx="6408720" cy="3672000"/>
          </a:xfrm>
          <a:prstGeom prst="rect">
            <a:avLst/>
          </a:prstGeom>
          <a:ln w="0">
            <a:noFill/>
          </a:ln>
        </p:spPr>
      </p:pic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Arial"/>
              </a:rPr>
              <a:t>«Шагающий грузовик»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   </a:t>
            </a: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Шагающее колесо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0" name=""/>
          <p:cNvSpPr/>
          <p:nvPr/>
        </p:nvSpPr>
        <p:spPr>
          <a:xfrm>
            <a:off x="324000" y="1229400"/>
            <a:ext cx="8316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                    </a:t>
            </a: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Колесо Мацкерле шагает  с помощью большог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                           </a:t>
            </a: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числа находящихся на обод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                                </a:t>
            </a: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пневматических камер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1" name="" descr=""/>
          <p:cNvPicPr/>
          <p:nvPr/>
        </p:nvPicPr>
        <p:blipFill>
          <a:blip r:embed="rId1"/>
          <a:stretch/>
        </p:blipFill>
        <p:spPr>
          <a:xfrm>
            <a:off x="1619280" y="2349360"/>
            <a:ext cx="6262560" cy="405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ahoma"/>
              </a:rPr>
              <a:t>ВЕЗДЕХОДЫ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533" name=""/>
          <p:cNvGraphicFramePr/>
          <p:nvPr/>
        </p:nvGraphicFramePr>
        <p:xfrm>
          <a:off x="4646520" y="1600200"/>
          <a:ext cx="4032360" cy="4494960"/>
        </p:xfrm>
        <a:graphic>
          <a:graphicData uri="http://schemas.openxmlformats.org/drawingml/2006/table">
            <a:tbl>
              <a:tblPr/>
              <a:tblGrid>
                <a:gridCol w="4032360"/>
              </a:tblGrid>
              <a:tr h="449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99"/>
                          </a:solidFill>
                          <a:latin typeface="Tahoma"/>
                        </a:rPr>
                        <a:t>«Перевертыш»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800"/>
                      </a:b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3600" spc="-1" strike="noStrike">
                <a:solidFill>
                  <a:srgbClr val="ffff99"/>
                </a:solidFill>
                <a:latin typeface="Tahoma"/>
              </a:rPr>
              <a:t>«Шагоход»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5" name=""/>
          <p:cNvSpPr/>
          <p:nvPr/>
        </p:nvSpPr>
        <p:spPr>
          <a:xfrm>
            <a:off x="-1812600" y="1713960"/>
            <a:ext cx="1380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ограни­ченной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-2025720" y="168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7" name="" descr=""/>
          <p:cNvPicPr/>
          <p:nvPr/>
        </p:nvPicPr>
        <p:blipFill>
          <a:blip r:embed="rId1"/>
          <a:stretch/>
        </p:blipFill>
        <p:spPr>
          <a:xfrm>
            <a:off x="179280" y="2205000"/>
            <a:ext cx="4032360" cy="3573360"/>
          </a:xfrm>
          <a:prstGeom prst="rect">
            <a:avLst/>
          </a:prstGeom>
          <a:ln w="0">
            <a:noFill/>
          </a:ln>
        </p:spPr>
      </p:pic>
      <p:sp>
        <p:nvSpPr>
          <p:cNvPr id="538" name=""/>
          <p:cNvSpPr/>
          <p:nvPr/>
        </p:nvSpPr>
        <p:spPr>
          <a:xfrm>
            <a:off x="250920" y="5156280"/>
            <a:ext cx="8497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А</a:t>
            </a:r>
            <a:r>
              <a:rPr b="0" lang="ru-RU" sz="2800" spc="-1" strike="noStrike">
                <a:solidFill>
                  <a:srgbClr val="ffff99"/>
                </a:solidFill>
                <a:latin typeface="Arial"/>
                <a:ea typeface="Times New Roman"/>
              </a:rPr>
              <a:t>ппарат</a:t>
            </a:r>
            <a:r>
              <a:rPr b="0" lang="ru-RU" sz="2800" spc="-1" strike="noStrike">
                <a:solidFill>
                  <a:srgbClr val="ffff99"/>
                </a:solidFill>
                <a:latin typeface="Times New Roman"/>
              </a:rPr>
              <a:t>ы</a:t>
            </a:r>
            <a:r>
              <a:rPr b="0" lang="ru-RU" sz="2800" spc="-1" strike="noStrike">
                <a:solidFill>
                  <a:srgbClr val="ffff99"/>
                </a:solidFill>
                <a:latin typeface="Arial"/>
                <a:ea typeface="Times New Roman"/>
              </a:rPr>
              <a:t>, созданны</a:t>
            </a:r>
            <a:r>
              <a:rPr b="0" lang="ru-RU" sz="2800" spc="-1" strike="noStrike">
                <a:solidFill>
                  <a:srgbClr val="ffff99"/>
                </a:solidFill>
                <a:latin typeface="Times New Roman"/>
              </a:rPr>
              <a:t>е</a:t>
            </a:r>
            <a:r>
              <a:rPr b="0" lang="ru-RU" sz="2800" spc="-1" strike="noStrike">
                <a:solidFill>
                  <a:srgbClr val="ffff99"/>
                </a:solidFill>
                <a:latin typeface="Arial"/>
                <a:ea typeface="Times New Roman"/>
              </a:rPr>
              <a:t> под руководством профессора Г. П. Катыса</a:t>
            </a: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9" name="" descr=""/>
          <p:cNvPicPr/>
          <p:nvPr/>
        </p:nvPicPr>
        <p:blipFill>
          <a:blip r:embed="rId2"/>
          <a:stretch/>
        </p:blipFill>
        <p:spPr>
          <a:xfrm>
            <a:off x="4427640" y="2205000"/>
            <a:ext cx="4449600" cy="3578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6600"/>
                </a:solidFill>
                <a:latin typeface="Tahoma"/>
              </a:rPr>
              <a:t>Землеройные машины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en-US" sz="3200" spc="-1" strike="noStrike">
                <a:solidFill>
                  <a:srgbClr val="ffff99"/>
                </a:solidFill>
                <a:latin typeface="Tahoma"/>
              </a:rPr>
              <a:t>Большой интерес для науки представляют приспособления, которыми снабжены личинки почвообитающих насекомых для прокладывания ходов в почве. Природа наделила их хорошо развитым аппаратом для рыхления или раздвигания частиц грунта и специальными приспособлениями для фиксации положения тел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/>
          </p:nvPr>
        </p:nvSpPr>
        <p:spPr>
          <a:xfrm>
            <a:off x="539640" y="83664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Когда прогресс науки привел к открытию фундаментальных законов не только механики, но и физики, химии, биологии и других отраслей естествознания, оказалось следующее: опираясь на эти законы, кладя их в основу соответствующих технических устройств, можно начать осуществлять одну за другой давнишние мечты человека. Появились аэростаты, затем самолеты, были изобретены подводные лодки и осуществлено множество других замечательных достижений науки и техники. Человек завоевал подобно птицам воздушный океан и подобно рыбам морские глубин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395280" y="1557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Ни одна отрасль техники так не обязана природе своим стремительным развитием, количеством заимствованных у нее идей и методов, средств и видов передвижения, как современный транспорт во всем его многообразии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5435280" y="907560"/>
            <a:ext cx="331308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Опираясь на одну ногу, человек отталкивается носком другой ступни от земли и, сохраняя равновесие, выносит ногу вперед; нога-маятник описывает в воздухе часть окружности и в конце пути плавно опускается на землю. этот принцип движения, вполне возможно, привел человека к созданию колес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07" name="" descr=""/>
          <p:cNvPicPr/>
          <p:nvPr/>
        </p:nvPicPr>
        <p:blipFill>
          <a:blip r:embed="rId1"/>
          <a:stretch/>
        </p:blipFill>
        <p:spPr>
          <a:xfrm>
            <a:off x="539640" y="692280"/>
            <a:ext cx="4681800" cy="547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Arial Black"/>
              </a:rPr>
              <a:t>СУХОПУТНЫЙ ТРАНСПОРТ</a:t>
            </a:r>
            <a:br>
              <a:rPr sz="4000"/>
            </a:br>
            <a:r>
              <a:rPr b="1" lang="en-US" sz="3100" spc="-1" strike="noStrike">
                <a:solidFill>
                  <a:srgbClr val="ff9933"/>
                </a:solidFill>
                <a:latin typeface="Arial Black"/>
              </a:rPr>
              <a:t>Снегоход</a:t>
            </a:r>
            <a:endParaRPr b="1" lang="en-US" sz="31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07552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Какими должны быть машины для передвижения по снежной пустыне? Ответ неожиданно подсказали... пингвины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0" name="" descr=""/>
          <p:cNvPicPr/>
          <p:nvPr/>
        </p:nvPicPr>
        <p:blipFill>
          <a:blip r:embed="rId1"/>
          <a:stretch/>
        </p:blipFill>
        <p:spPr>
          <a:xfrm>
            <a:off x="971640" y="2205000"/>
            <a:ext cx="6985080" cy="453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" dur="8000" fill="hold"/>
                                        <p:tgtEl>
                                          <p:spTgt spid="5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510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510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6" dur="1" fill="hold"/>
                                        <p:tgtEl>
                                          <p:spTgt spid="5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Принцип передвижения пингвинов по рыхлому снегу лег в основу созданного в Горьковском политехническом институте им. А. Жданова под руководством профессора А. Ф. Николаева снегохода с плицевыми движителями. Плицы выдвигаются на необходимую величину, в зависимости от плотности снежного покрова. Водитель плавно с помощью гидросистемы уменьшает дорожный просвет, и машина, как и пингвин, скользит на днище корпуса. Днище покрыто фторопластом, имеющим малый коэффициент сопротивления трения на снегу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68360" y="-17172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 Black"/>
              </a:rPr>
              <a:t>Вибромашина</a:t>
            </a: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785016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Интерес для конструкторов наземных транспортных средств представляет ползание животных и волочение туловища по земле. Оба способа движения основаны на использовании следующих друг за другом импульсов – вибраций — различной продолжительности (частоты) и интенсивности (амплитуды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539640" y="2421000"/>
            <a:ext cx="7993080" cy="4221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10267" fill="hold"/>
                                        <p:tgtEl>
                                          <p:spTgt spid="5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" restart="whenNotActive" nodeType="interactiveSeq" fill="hold">
                <p:stCondLst>
                  <p:cond evt="onClick">
                    <p:tgtEl>
                      <p:spTgt spid="514"/>
                    </p:tgtEl>
                  </p:cond>
                </p:stCondLst>
                <p:childTnLst>
                  <p:par>
                    <p:cTn id="92" fill="hold">
                      <p:stCondLst>
                        <p:cond evt="onClick">
                          <p:tgtEl>
                            <p:spTgt spid="514"/>
                          </p:tgtEl>
                        </p:cond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5" dur="1" fill="hold"/>
                                        <p:tgtEl>
                                          <p:spTgt spid="5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24000" y="33336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Вибромашина не имеет себе равных. При собственной массе свыше двух тонн и с двигателем всего в 14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л. с.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она не только двигалась, но и развивала тягу в тонну. Такого усилия достаточно, чтобы тащить по целине груз массой 6—10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т.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Этот же вибратор без труда взбирался на песчаные откосы недоступной человеку крутизны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66"/>
                </a:solidFill>
                <a:latin typeface="Arial"/>
              </a:rPr>
              <a:t>Прыгающий автомобиль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5105520" y="1412640"/>
            <a:ext cx="403848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Инженер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В. Турик разработал проект бесколесного прыгающего автомобиля, идею создания которого ему подсказал ... кенгуру. Этих животных природа приспособила к быстрому бегу прыжками на задних конечностях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8" name="" descr=""/>
          <p:cNvPicPr/>
          <p:nvPr/>
        </p:nvPicPr>
        <p:blipFill>
          <a:blip r:embed="rId1"/>
          <a:stretch/>
        </p:blipFill>
        <p:spPr>
          <a:xfrm>
            <a:off x="0" y="1557360"/>
            <a:ext cx="5435640" cy="46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8172360" cy="615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0" dur="8867" fill="hold"/>
                                        <p:tgtEl>
                                          <p:spTgt spid="5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" restart="whenNotActive" nodeType="interactiveSeq" fill="hold">
                <p:stCondLst>
                  <p:cond evt="onClick">
                    <p:tgtEl>
                      <p:spTgt spid="519"/>
                    </p:tgtEl>
                  </p:cond>
                </p:stCondLst>
                <p:childTnLst>
                  <p:par>
                    <p:cTn id="112" fill="hold">
                      <p:stCondLst>
                        <p:cond evt="onClick">
                          <p:tgtEl>
                            <p:spTgt spid="519"/>
                          </p:tgtEl>
                        </p:cond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5" dur="1" fill="hold"/>
                                        <p:tgtEl>
                                          <p:spTgt spid="5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2T14:14:43Z</dcterms:created>
  <dc:creator>OEM User</dc:creator>
  <dc:description/>
  <dc:language>en-US</dc:language>
  <cp:lastModifiedBy>OEM User</cp:lastModifiedBy>
  <dcterms:modified xsi:type="dcterms:W3CDTF">2006-12-14T15:02:30Z</dcterms:modified>
  <cp:revision>10</cp:revision>
  <dc:subject/>
  <dc:title>БИОМЕХАНИЧЕСКИЕ ПРИНЦИПЫ В ТЕХНИКЕ </dc:title>
</cp:coreProperties>
</file>