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C3CF-7254-41FC-8040-0AC1CCFAB1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8B8-7839-4652-B84F-DD699D18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4B1-334B-4A78-BE65-D6229109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DC1-A98D-40CB-BC46-49500DB9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37D-3B60-4EF6-8361-9ED4334B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D254-0661-4304-80B1-D1B693D6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65A9-756F-4202-8320-EB18B1F7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9611-5331-4128-A16F-3985CE9A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DAD7-F780-449D-A8D3-C553304A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BAA6-B430-4482-8771-E22A03AA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72C0-F494-47A4-8066-150DE10D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9AA8-2853-4AFC-846A-F9297EA3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5DA-A611-40A8-95BD-FBC64DC2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9F13-EB24-425E-9628-BAA2A523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B2AB-E4D2-41C4-B5D0-220D53E7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3F1D-B84D-4EC3-A969-6F7D44DE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B614-6219-424A-A91D-BF0014C2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9DF6-3D20-4442-AD3B-8669492F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FD2-2422-44DF-98CA-765993CF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623-3C11-4E6E-A1D9-6BB28D4C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062-2253-498F-9ACC-3DD4D513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EE4-4AC5-4708-BDD3-428CDE97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477-1E0F-4695-B904-456F3B50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8FA-9AA4-4AD0-ACD2-5E5A496D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F1F-2FC7-4E92-9E31-38180D76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E89E-4D2A-4201-B87E-83A8A020CD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BCE8-8673-485A-B7A9-A8D8CFA336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92360" y="692280"/>
            <a:ext cx="59436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ервые "Чайки"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5587920" cy="362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Как и все девушки, Валя терпеливо сносила шестидесятиградусную жару термокамеры, казавшиеся вечностью двадцатисекундные перегрузки на центрифуге, вестибулярные тренировки в специально вращающемся кресле, на параллельных качелях, в барабане и многое другое, что придумали медики для будущих космонавтов. Но по-настоящему удовольствие получила лишь от упражнений в реальной невесомости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Королев до последнего момента втайне надеялся, что женскую страницу в книге освоения космоса он откроет именем инженера-летчика Валентины Пономаревой. Но, видно, и Главный конструктор, за которым обычно последнее слово, не был всесильным в этой ситуации. Не сложилось.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алентина Пономарева осталась вторым дублером, так и не слетавшим в космос.  По иронии той же судьбы её муж, Юрий Пономарев, дублировал Виталия Севастьянова, готовился к полету с Петром Климуком, Владимиром Ковалёнком, Анатолием Березовым, но не полетел. В истории отечественной космонавтики семья Пономаревых была и осталась единственной семьей дублеров. Годы изнурительных подготовок – без космического итога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525840" cy="4824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5589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Жанна Ёркин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Жанне Ёркиной (в гражданской жизни преподавателю иностранного языка) не повезло в первый же год: неудачно приземлилась с парашютом и подвернула ногу. Да так, что треснула кость. Неумолимые врачи тут же вынесли свой приговор: к полету не пригодна! Расстроилась Жанна жутко – конец мечте и перспективам. Девушку пожалел инструктор по парашютным прыжкам Николай Никитин. Он осмелился не согласиться со всемогущей космической медициной (в те годы это было сродни криминалу) и уговорил главного хирурга Вооруженных сил страны лечить Ёркину. Уже через три месяца Жанне разрешили прыжки в воду, затем на сушу и даже позволили приводняться в скафандре.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Прыжки в скафандре в море – невероятно трудное дело, - искренне сочувствовал девушкам Николай Федорович Кузнецов. – Смелости и умения тут мало. Нужна незаурядная физическая сила, чтобы в громоздком скафандре отстегнуть замки и освободиться от парашюта, затем развернуть резиновую лодку с аварийном запасом, оказать медицинскую помощь пострадавшему. И до тех пор, пока девушка не сделает это все и не сообщит спасательно-поисковой службе свои точные координаты, её не извлекут из воды и не доставят на берег. Словом, упражнение максимально приближено к чрезвычайным условиям.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Жанна справилась со всеми физическими нагрузками, кроме последней. Первый женский полет, по планам Королева, должен был длиться трое суток. Поэтому годичная подготовка Ёркиной, как и всей пятерки, завершалась трехсуточной тренировкой в полном снаряжении, по полной программе предстоящего полета, со всеми возможными «авариями». Проведя тяжкие трое суток в учебном космическом корабле, Жанна не выдержала и перед самым выходом разулась - сказав поврежденная нога. Врачи, увидя девушку с ботинками в руках, решили её судьбу окончательно и бесповоротно. Шансы полететь в космос стали равны нулю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16360" y="333360"/>
            <a:ext cx="3367080" cy="4608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35280" y="5445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Татьяна Кузнецов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У Татьяны Кузнецовой «земная» жизнь скорее всего тоже сложилась бы куда удачливее. Стенографистке Московского института радиоэлектроники прочили блестящее спортивное будущее. В 19 лет она установила мировой рекорд в групповом комбинированном прыжке ночью, с задержкой раскрытия парашюта. Чуть позже победила во всесоюзных соревнованиях, стала чемпионкой страны, мастером спорта. Готовилась к международным состязанием, но не участвовала – предпочла Центр подготовки космонавтов и призрачную надежду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3419280" cy="468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40000" y="5300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рина Соловьёв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Чемпионка мира по точному приземлению с парашютом Ирина Соловьёва ближе всех – из не слетавшей четверки – к заветной мечте. Государственная комиссия назначила её первым дублером командира корабля «Восток-6» Валентины Терешковой. (Пономареву – вторым). У мужчин-космонавтов, побывавших уже за пределами планеты, был всего один дублер. Но за женщину опасались: все-таки отправляли парашютистку  - не летчика, причем человека мирной профессии. Да и мало что могло произойти в самый последний момент… Всем троим были заказаны индивидуальные скафандры и ложементы. Все трое, уже на космодроме, прошли предстартовую подготовку. И только двое – Валентина Терешкова, Ирина Соловьёва – ночевали в заветном голубом домике, из которого к всемирной известности уже ушли Юрий Гагарин и Герман Титов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Ранним июньским утром 1963 года девушек привезли в здание, где одевали космонавтов. Трудно даже представить всю психологическую сложность момента. Умом Ирина понимала, решение, кому лететь, принято, его не изменить. Но тот факт, что её тоже облачили в скафандр, заставляло биться сердце чуть теплящейся надеждой: а вдруг, как в сказке, произойдет чудо и именно она поднимется в корабль? А рядом Валь Пономарева – с тем же потаенным ожиданием. И тут случилось непредвидимое. Когда на Ирину Соловьёву надевали скафандр, на воротнике костюма порвалась ткань. Специалисты растерялись: что делать?! Посовещавшись, забрали скафандр у вмиг притихшей Пономарёвой, а вместе с ним и остатки её веры в неожиданное чудо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ервное напряжение в Ирине нарастало с каждым витком колес автобуса, везущего её вместе с Валей Терешковой к стартовой площадке. Оранжевый скафандр казался талисманом. Растущая на глазах ракета манила, обещала, дарила удачу. Автобус остановился. Двери открылись. И на ступеньках, поддерживаемая врачами, появилась не она, а Валентина Терешкова. Все. Этот миг лег пропастью между мечтой Ирины Соловьевой и реальностью. Молча вернулась в здание. Молча переоделась. Всегда спокойная, уравновешенная Ирина и в тот день не дала вои чувствам. Хотя по-человечески, наверное, были бы понятны всем и горькие слова и даже обычные бабьи слезы. Но она, как и приунывшие её подруги, верила Главному конструктору. Там, на космодроме, утешая их, он сказал: «Все побываете все. Это год – только начало». А пока … Пока оставалось лишь стоять среди зрителе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3716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Женщины в космосе</a:t>
            </a:r>
            <a:br>
              <a:rPr sz="4000"/>
            </a:b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          …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Плавно отошли стальные фермы, раскрывшись словно лепестки гигантского цветка. Отрывисто прозвучало: «Пуск!» морем полыхнуло ослепляющее пламя. Вихрем закружилась желтая степная пыль, скрыв на какое-то мгновенье ракету. И вот она уже уходит в беспредельную высоту. Взрыв непроизвольных аплодисментов разрывает звеняще-напряженную тишину на смотровой площадке. С Земли ещё виден огненный крест работающих двигателей, а просторы вселенной уже приняли одну из отважной пятерки. В тот момент каждая из оставшихся на Земле была твердо уверена, что и ей улыбнется счастье, и она поднимется над планетой.   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После года сверхчеловеческих физических и моральных нагрузок девчата заслужили отдых. И, конечно, им его предоставили. Но Ирина Соловьёва море и санаторий заменила на … парашютные прыжки. Даже участвовала в соревнованиях на первенство страны и победила. И последующие три года н отдавала чемпионский титул, подтверждая его вновь и вновь. Училась в академии имени Жуковского, куда поступили все вчетвером. Защитила диплом. И все это время готовилась к полётам. Королёв намечал выход женщины в открытый космос, и реальные перспективы согревали душу. Но Сергей Павлович умер… Ситуация резко изменилась. Новое начальство вынашивало свои планы. О женском полете вспоминали все реже и реже и, наконец, вообще забыли. По, поражая мужчин настойчивостью, все девчата продолжали тренироваться. Когда же неопределенность стала невыносимой, четверка решилась на поездку в ЦК. Там их внимательно выслушали, прониклись, позвонили помощнику Главкома по космосу Каманину и попросили прояснить ситуацию. Ответ потряс измучившихся многолетним ожиданием женщин. Оказывается, они безнадежно устарели и более не интересуют высшее руководство. Новый генеральный конструктор Валентин Глушко набирает молодых девушек, перспективных. «Предали… предали…» - эта единственная мысль стучала и била болью, когда возвращались они в родной городок, в миг ставший чужим и неприветливым. 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ачальник Центра подготовки космонавтов Николай Федорович Кузнецов попытался было протестовать, но его и слушать не стали. Первую женскую космическую группу расформировали. Расформировали, потратив колоссальные средства на её подготовку, продержав девчат семь долгих лет в состоянии «готовности номер один». Выдержать такое и не сломаться – право, не нервы, а стальные канаты нужны вместо них. Фактически четверку спасло то самое небо, в которое они так стремились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- Практически это игра со смертью, - Николай Федорович подробно описывал лишь один прыжок из полутора тысяч, сделанных Ириной Соловьёвой ради науки и жизни. – С высоты трех тысяч метров, свободно падая, она расшифровывала, созданную информацию на Земле. Сравнивала её с данными на нагрудном ранце. Определяла, когда раскрыть парашют, и наговаривала свое решение на магнитофон. А Земля в это самое время неслась ей навстречу со скоростью пятидесяти метров в секунду. В таких ситуациях многие мужчины откровенно паникуют, некоторые до конца не могут преодолеть дикий страх перед свободным падением. А Ирина делала это специально. Храбрая женщина… Храбрая женщина защитила диссертацию, получила степень кандидата психологических наук и до 86-го года продолжала прыгать с парашютом, чтобы обезопасить жизнь другим. Растут и дети её – Алёша, Лена. Тоже мечтали о небе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Ирина Соловьёва включилась в работу мужа, Сергея Киселёва . Он разрабатывал программу обеспечения безопасности космонавтов. И Ирина на собственном организме проверяла, как свободное падение при аварии космического корабля влияет на психику космонавта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алентина Пономарёва, став кандидатом технических наук, много лет читала лекции по динамике космического полета. И сожалела, что не удалось ей одним взором охватить нашу матушку-планет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Татьяна Кузнецова до последнего времени руководила геофизической лабораторией в Центре подготовки космонавтов. Сменила фамилию на Пцихелаури, вырастила сын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Жанна Ёркина ещё осенью 63-го стала Жанной Сергечик – женой авиационного инженера. Родила двое детей. Сын летал на гражданских авиалиниях. Дочь выбрала в мужья вертолетчика. Словом, вся семья дышала небом.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…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Четверо девчат однажды круто изменили свою судьбу. Жизнь обошлась с ними не менее круто: приоткрыв дверь Вселенной и оглушительно захлопнув её, оставив лишь горечи мечты. Настолько сильную, что, когда много лет спустя попросили их сфотографироваться, они очень вежливо, но твердо отказались. И все же, мне кажется, их тренировочный опыт не пропал бесследно. Может быть, другим женщинам-космонавтам повезет именно потому, что были эти четверо в истории отечественной космонавтики. Они своей судьбой подсказывали, как жить и действовать, чтобы достичь желанной цели. И вообще, женских характер так же неизвестен, как и таинственный космос. Николай Федорович Кузнецов, повидавший многое и многих на своём веку, в этом согласен. А вы?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В 12 апреля 1961 года в небольшом городке творилось многое. Незнакомые люди останавливались и тискали друг друга в объятиях так, словно дружили с пелёнок, расстались и встретились вновь. Соседи прямо в палисадниках организовывали а-ля фуршет с тостами за здоровье Юрия Гагарина, за могучий Советский Союз.  Весь городок пел и плясал, смеялся и плакал от счастья. До поздней ночи родители не могли загнать своих ребятишек домой.  Возбужденные происходящим, ребята стайками собирались на улицы и, не отрываясь, смотрели в звёздное небо: в каждый сверкающей точке видели космический корабль. Мальчишки чувствовали себя героями, будто сами побывали среди звезд. Ведь они были одного рода-племени с самим Юрием Гагариным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Через два года в звёздную высь поднялась женщина. Тут уж девчонки утерли нос пацанам. Все ходили «Валентинами Терешковыми» и откликались исключительно на «Чайку» - позывное корабля «Восток -6». Это были поистине  удивительные дни. Страна жила, как один человек: с одним сердцем, одной личной радостью, на одном дыхании. Говорят нечто подобное происходило лишь 9 мая 1945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 отряде космонавтов к приходу Кузнецова были четыре девушки. Они дерзнули посягнуть на дело, которое и всегдашние первооткрыватели-мужчины еще толком не знали.  Вот почему было так интересно именно мужское мнение о девчатах, об их жизн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Молодые, милые, решительные и ещё верящие, что полетят, - говорил Николай Федорович своими семилетними наблюдениями за этой четверткой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едь их благословил сам Сергей Павлович Королев! Все знали, он всегда выполняет свои обещания. Если бы не его ранний уход из жизни…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Главный конструктор, проводил первого человека в космос, уже мечтал о продолжительных межпланетных путешествиях. И фантазии Циолковского о космических поселениях в чужих галактиках  тоже не оказались ему абсурдными.  Поэтому вопрос об участии женщин в звездных программах возник сам собой. (Разве без женщин «зацветут яблони на Марсе»?!) Надо отдать должное Королёву – откладывать дела в долгий ящик он не умел. Юрий Гагарин ещё принимал поздравления от всего мира, а Главный конструктор  уже решил подготовить к полету женский экипаж: проверить, как поведет себя женщина, её организм в неземных условиях. Нетерпеливое желание Королёва вполне устраивало и правительство. Начался активный поиск возможных претенденток. Делалось это в строжайшей секретности. Девушки, занимавшиеся в 1961 году в аэроклубах Центральной Росси, наверное, и не подозревали, что они все до одной изучались и проверялись, словно под микроскопом, что любая из них при счастливом стечении обстоятельств могла оказаться в отряде космонавтов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егласный отбор прошли пятеро. И все пятеро однажды получили сногсшибательное приглашение. С ответом их не торопили, но и советоваться, даже с родителями, категорически запрещалось. Выбрать судьбу девушкам предстояло самим. И они её выбрали. ВАЛЕНТИНА ПОНОМАРЕВА, ИРИНА СОЛОВЬЕВА, ВАЛЕНТИНА ТЕРЕШКОВА, ТАТЬЯНА КУЗНЕЦОВА, ЖАННА ЁРКИНА. Медицинская комиссия была строга и придирчива, но противопоказаний ни у одной не обнаружила. И в феврале 1962 года девушки оказались в Центре подготовки космонавтов. Тогда они еще не знали кто первой шагнет с космодрома в славу. Но одно знали точно: о женской судьбе предстоит забыть. Главный конструктор был тверд  и непреклонен: или замуж выходить и рожать детей, или готовиться к полетам, третьего не дано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Вале Пономаревой повезло. У неё уже были муж и сынишка четырех лет. Кстати, это обстоятельство едва не привело к отлучению её от космонавтики. Сам Юрий Гагарин возражал против приема Вали в отряд.  Это сегодня сообщение, что на орбите работают космонавты, воспринимаются в ряду будничных человеческих дел. В те же годы никто не знал, чего ждать от космоса. Неизвестность и смертельная опасность были его синонимами. Вполне обоснованно отборочная комиссия опасалась, что ребенок может потерять мать. Заставило ее согласиться с кандидатурой Пономаревой лишь вмешательство авторитетного теоретика космонавтики Келдыша, под руководством которого Валентина работала после окончания Московского авиационного института. Известный ученый ценил инженерные способности Пономаревой, справедливо полагал, что в будущем разгадывать тайны Вселенной предстоит специалистам самого разного профиля. А ставка на парашютистов – временная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3682800" cy="5040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5805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Валентина Пономарёв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Валентина Пономарева единственная из всей пятерки была летчиком. А каким! Николай Федорович с восхищением профессионала рассказывает о знаменитых воздушных парадах на Тушинском аэродроме столицы. В них принимала участие и Валя Пономарева в составе группы Героя Советского союза Марины Чечневой, любимицы публики тех лет. Девушки на девяти самолетах «Як-18» рисовали в небе на высоте в тысячу метров такие замысловатые фигуры, что у зрителей дух захватывало. Поначалу зрители и не подозревали, что групповой пилотаж выполняют девушки. Когда же  диктор объявил об этом по радио, стадион буквально взрывался овациями, покоренный виртуозным мастерством спортсменок. Сергей Павлович Королев любил эти воздушные парады. В молодости сам участвовал в них на собственном планере. Поэтому, когда в отряд позже всех – из-за отборочных мытарств – прибыла Валентина Пономарева, принял ее с особой теплой. А после года предельно жестких тренировок и вовсе стал боготворить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1T02:58:48Z</dcterms:created>
  <dc:creator>Ученик8</dc:creator>
  <dc:description/>
  <dc:language>en-US</dc:language>
  <cp:lastModifiedBy>Куканова</cp:lastModifiedBy>
  <dcterms:modified xsi:type="dcterms:W3CDTF">2007-01-29T16:06:08Z</dcterms:modified>
  <cp:revision>10</cp:revision>
  <dc:subject/>
  <dc:title>Женщины в космосе</dc:title>
</cp:coreProperties>
</file>