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463-44EA-4935-A30A-0B0C1987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3C0-D414-4AF9-87D1-4FB48530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B13-6959-416F-8B25-3742FBC0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F7D-3B35-40C0-9D40-40601AE1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924-43E2-48A5-8D90-BE76C7DC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65B-AD74-49E3-9E0F-45D488C5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B78-D406-4374-B9FE-D02DFA7D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789-94F9-4E01-92E5-4CCC5D88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683-369D-41AF-A53D-66EBDA4D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411-41E5-4C7A-9D41-0724EB78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749-EE89-401D-8F41-852E394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E76-9329-42EF-9C5E-519153BB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AB72-2CC3-4506-A7F4-4E2976DA8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ino-teatr.ru/teatr/42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9083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4520" y="212760"/>
            <a:ext cx="64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ЕСТИВАЛЬ  ИССЛЕДОВАТЕЛЬСКИХ И ТВОРЧЕСКИХ  РАБОТ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ЧАЩИХСЯ «ПОРТФОЛИО»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3400" y="595620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осква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170028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Те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ценическое воплощение комедии Н.В.Гоголя «Ревизор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18520" y="3568680"/>
            <a:ext cx="53593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ыполнили: Горохов Сергей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горевич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талин Константин Сергеевич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ченики 10 «А»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ласса лицея №1571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Губенко Елена Васильевна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лицея №15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55640" y="2205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визо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лестаков — Виталий Чет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2162160" cy="493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44000" y="115920"/>
            <a:ext cx="8675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родничий А. Шевченков хорош, фактурен, чрезвычайно энергичен, очень убедителен, мимикой и жестом обладает завидными, эмоционален, но держит ситуацию под контролем: несмотря на общий ажиотаж, за женой сбегал весьма вовремя. А как повёл за собой благородное собрание в полуфинале, когда для снятия напряжения накрыт был щедрый стол, а неуёмный почтмейстер прискакал с изобличающим письмом и испортил людям такую радость! В момент же изображения действием способов сдерживания народных масс, рвущихся на поклон к Ревизору, поразил не только нас, но и Держиморду, а поразить такого человека - дорогого стои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арин - Держиморда, ближайший подчинённый, верный, надёжный и вездесущий - вплоть до спальни. Он держал всё, что полагается: осмысленное выражение лица, ослабевшего патрона и женщин, город в целом, ретивых и нерадивых, в частности. Слуга, телохранитель, ключник, мануальный терапевт, внимательный слушатель, невозмутимый красавец и молчун с быстрой реакцией, отменными манерами, умеющий в равной степени изящно носить фрак и чётко и тихо сработать, где надо - ему бы ещё джип и гранатомёт - ну просто мечта всех новых русски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ван Александрович Хлестаков – В.Четков - поразил нас изяществом необыкновенным, лёгкостью чрезвычайной не только в мыслях, но и во всей игре, даже не Питерским, а Парижским обращением, французским прононсом, удивлённо поднятой бровью, богатством жестов и интонаций. Перед нами предстаёт настоящий хамелеон, который по ходу действия пьесы из дурачка, большого ребёнка превращается в неукротимого монс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чень нехрестоматийно решён судья Ляпкин-Тяпкин в исполнении Андрея Мерзликина. Здесь это умный, ироничный, такой дьявол-искуситель, который лишь ловко подыгрывает партию «второй скрипки», а на самом деле сгорает от нетерпения в ожидании минуты, когда сможет сам начать упиваться вла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 что вытворяет парочка Анна Андреевна — Марья Антоновна! Томная, смуглая со страусиным пером, немного рассеянная, леди-мамаша (Елена Медведева) и дикая, шальная, с безумной улыбкой аппетитная пышка-дочка (Оксана Голубева) — обе актрисы играют бесстрашно и талантлив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визо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рья Антоновна — Оксана Голубе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лестаков — Виталий Четков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на Андреевна — Елена Медвед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43927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80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 эпизодических персонажей необходимо отметить совершенно бесподобных слугу трактирного - Б.Эстрин и Абдулина, купца – С.Дурсунов. Каждый в своем роде неподражаемо колоритен - ну просто находка режиссёр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Бобчинский и Добчинский, оба низенькие, коротенькие, очень любопытные; чрезвычайно похожи друг на друга; оба с небольшими брюшками; оба говорят скороговоркою и чрезвычайно много помогают жестами и руками. Добчинский немножко выше и сурьёзнее Бобчинского, но Бобчинский развязнее и живее Добчинского»,- так описывает своих героев сам автор. Учитывая это Газаров и увидел их  по-своему оригинально. Он изображает сразу двух персонажей городских помещиков Добчинского и Бобчинского, их играет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ин(!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актёр  К. Анисимов. Нам очень понравился этот режиссёрский приём, это смотрелось очень даже комично и оригина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 финалу выходки героев уже никого не удивляют, а при прочтении перехваченного почтмейстером Шпекиным (Александр Копылов) письма немало смешат публику. Тут уже гоголевский текст звучит чётко и добротно, словно подводя черту под недавним безумством персонажей. После отъезда молодого лихача все вновь тесно скучились около городничего, чувствуя его силу, но обоюдное разоблачение персонажей как-то естественным образом выталкивает Антона Антоновича в центр порочного круга. Нам очень хочется отметить великолепную режиссёрскую находку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«немая сцена» поставлена  комично и интересно, за что режиссёру хотим выразить огромную благодарность. За стеклянной дверцей гардероба скучились с глупыми гримасами герои комедии, и только Антон Антонович в красном камзоле остаётся один, опозоренный и покинутый всеми. Казалось, что эта сцена будет длится вечно. Этот эпизод нам запомнится надол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3640" y="807840"/>
            <a:ext cx="850716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согласились с отзывом одного из зрител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Ревизор» Газарова поставлен в жанре фарса или, вернее, хоть и ненаучно это прозвучит, в жанре полного идиотизма. Но какой же это весёлый, обаятельный идиотизм… Масса фантазии, много точных и смешных мелочей, в общем, чувствуется, что над спектаклем работали, не халтуря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4040" y="2421000"/>
            <a:ext cx="1876320" cy="280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56898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Отзы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42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пектакли и сам театр очень нравятся. Мы посмотрели в этом театре уже три постановки и просто влюбились в театр и актёров. Игра актеров завораживает уже с первой минуты. Небольшой зрительный зал способствует ощущению сопричастности с действием , происходящим на сцене. Мимика, жесты, пластика актёров на самом высоком уровне. Реплики и фразы современны, злободневны и самое главное без пошлости (чем не могут похвастаться многие другие театр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4.10.2005, Эльвира                                                                                                                                      Советую посмотреть всем! Актеры-супер! Добчинский и Бобчинский - играет молодой перспективный актёр Анисимов. Играет так, что запоминается раз и навсегда! Городничий - известный актер Шевченков Алексей! Сильнейший и талантливейший актёр! Ревизор - Четков. Легкий, ироничный, супер! Юмор + классика! Идите на Ревизора !!!!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02.05.2005, Мария                                                                                                                                                  Спектакль просто замечательный, актеры талантливы, всем советую посмотреть. Спектакль для всей семьи : никому не будет скуч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04.04.2005, Мария                                                                                                                                        Ходили с детьми 8-го класса, эмоции противоречивые, конечно Гоголь бы в гробу перевернулся, но для современной молодежи классику наверно надо ставить так, для того, чтобы они поняли, что классика это не скучно, это три часа гомерического хохота, а потом Городничий в лучах света: `Над кем смеетесь...` Дети ждали немую сцену, но не дождались. Из плюсов: обожаемый детьми Мерзликин из «Бумера» играет Ляпкина-Тяпкина, дети лежат. Кстати, хорошо играет, дети сказали, что хотят пойти еще и на `Женитьбу Фигаро`. Актеры замечательные. Бобчинского не ждите, Бобчинский - это второе Я Добчинского, у которого раздвоение личности. Полный зал детей сидел, не скажу, что тишина была гробовая, но для такого количества детей было очень тихо, только после перерыва сделала пару замечаний по поводу сухариков. А вообще спектакль понравил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8281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9.03.2005, Стрекоза                                                                                                                           Блестяще! Спасибо режиссеру, актерам и Гого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4.01.05, Natuccia                                                                                                                        Прикольно!!! Ребята просто молодцы. Игра отличная. Была на спектакле 4 раза. Каждый раз улавливаешь какие-то новые забавные мом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6.01.2002, Малыш                                                                                                                                                    Очень хороший спектакль !!! К-к-ласс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1.04.2001, Александр                                                                                                                                           Мне очень понравилось! Незнакомые молодые актеры, новые ощущения. Честно говоря все время проводила параллель с фильмом , где городничего играет Михалков, Хлестакова Миронов. Опасалась, что будет жалкая пародия, но получилось ни чуть не хуже. Несмотря на знание сюжета было интересно смотреть! Брав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06.05.2000, Анна                                                                                                                                                          Все молоды - и это приятно удивляе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4.04.2000, Алексей                                                                                                                                 Прикольно, я угора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8.03.2000, Панкрат                                                                                                                                         Лучшего исполнения Добчинского и Бобчинского вы просто не найдете. Стоит сходить, чтобы посмотреть на игру Игната Акрачкова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9.02.2000, Наташенька                                                                                                                                                                        Вещь полная достоинства, особенно в новой редакции. Супер зал. Хочу еще. Во всяком случае это не школьная тягомотина, а полный прико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38040" y="1684080"/>
            <a:ext cx="846792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тая отзывы, можно понять, что спектакль поставлен великолепно. Мы согласны со зрителями. Мы тоже считаем, что «Ревизор» у Джигарханяна обыгран великолепно. Даже не хотелось уходить на антракт, все были в напряжении, ждали, какой же ещё приём приготовил нам режиссёр. И в завершении спектакля великолепная «немая сцена», поразившая всех зр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ы настоятельно советуем сходить всем в театр                       А. Джигарханяна на постановку «Ревизора». Уверяем, что останутся только хорошие впечат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68000" y="556920"/>
            <a:ext cx="47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hruti"/>
              </a:rPr>
              <a:t>Российский Государственный Театр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Shruti"/>
              </a:rPr>
              <a:t>«На Покров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569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Forte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его мая мы ходили на спектакль "Ревизор" в                                          театр на Покровке. Очень понравилось то, что                                           режиссёр Арцибашев волен с текстом, и спектакль                                 совмещает два времени - гоголевское и сегодняш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.Карпова ("Экран и сцена«) отмечает: «Арцибашев с классиками дерзок и почтителен. Он не погружает известные тексты в сегодняшнее восприятие и не смакует былое. У него свой путь и свой опыт. Он испытывает старые драмы всем арсеналом современного театра и нынешних представлений - и счастлив, когда результаты опыта доказывают прочность пьес. Издевательская сатира и философские раздумья облекаются в форму притягательной комедии. Комедии об одном сплоченном семейств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944720" cy="1150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С. Н. Арцибашев"/>
          <p:cNvPicPr/>
          <p:nvPr/>
        </p:nvPicPr>
        <p:blipFill>
          <a:blip r:embed="rId2"/>
          <a:stretch/>
        </p:blipFill>
        <p:spPr>
          <a:xfrm>
            <a:off x="7124760" y="189000"/>
            <a:ext cx="1724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94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"Российский государственный театр на Покровке под руководством Сергея Арцибашева" открылся в сентябре 1991 года. Среди театральных режиссёров, которые относятся к поколению сорокалетних, С. Арцибашев - один из признанных лидеров. Ученик М.И. Кнебель , выпускник ГИТИСа (ныне РАТИ ), в практическом освоении профессии он впитал уроки                                            Ю. П. Любимова и А. В. Эфроса , которые возглавили поиски 70-80 гг. Дебютировал на столичной сцене спектаклем " Надежды маленький оркестрик ... " (по одноактным пьесам А. Володина, С. Злотникова , Л. Петрушевской ) в 1980 г. в Театре на Таганке очередным режиссёром и актёром. Самостоятельность, другой взгляд на мир обособляли С. Арцибашева от того поэтическо-политического театра, который создавал Юрий Любимов. Но в Арцибашеве он увидел человека не просто одарённого, но и профессио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 первых шагов в профессии С. Арцибашев создавал свой Театр. Это понятие тогда складывалось скорее как категория эстетическая, с созданием собственного "Театра на Покровке" это понятие закрепилось и стало началом нового этапа и в творчестве режиссёра        С. Арцибашева, и в развитии эстетики малых сцен и камерных театров. Для дебюта была выбрана одна из самых известных пьес А.П. Чехова "Три сестры ", для постановки которой был накоплен и общекультурный , и собственно театральный багаж С. Арцибашева. Режиссёр строит спектакль как совместную акцию драматург - актёр - зритель , адаптируя действие и к участию зрителей в самом спектакле , и к восприятию этого спектакля именно сегодняшним человеком. От результата , который превзошёл все ожидания , зависела дальнейшая судьба Театра, его творческий почерк и пути развития. В репертуаре "Театра на Покровке" нет ничего случайного , однодневного , основа его - русская классика: Гоголь и Островский, Чехов и Тургенев, Пушкин, Арцибашев и Цветаева . Режиссёр вчитывается в автора, создавая другой мир - театральный. Режиссёр Арцибашев не стремится удивить зрителя , он просто открывает им  другого Чехова, другого Гоголя, другого Островского, другого Тургенева. Классика в "Театре на Покровке" перестаёт быть образно-хрестоматийной , герои классической драматургии становятся собеседниками -современниками. Осовременивание - не способ эпатажа , это иная форма прочтения, когда режиссёр, используя весь арсенал современного Театра устраивает настоящее пиршество русской речи и музыки, выразительных лиц, танцев и житейских движений , чистых душевных переливов и виртуозного представления.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рама несбывшихся иллюзий , помноженных на страх - таков  «Ревизор»   Н. Гоголя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Оглавле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Всту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О постановке спектакля по комедии Н.В. Гоголя «Ревизор» в театре А. Джигарханяна</a:t>
            </a: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а) немного о самом театре и об А. Джигарханя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б) атмосфера на сце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в) актёрский ансамб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г) отзывы зр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О постановке спектакля по комедии Н.В. Гоголя «Ревизор» в театре «на Покровке»</a:t>
            </a: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а) о театре и о его руководи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б) постановка спектакля и игра актё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в) отзывы зр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г) наши фотограф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elix Titling"/>
              </a:rPr>
              <a:t>Список используем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79520" y="465120"/>
          <a:ext cx="853416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65120"/>
                    <a:ext cx="853416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477720"/>
            <a:ext cx="8424720" cy="63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т какой отзыв оставил один из зрителей после просмотра «Ревизора» в  театре «На Покровке»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Вчера я смотрела "Ревизора" в театре-студии на Покровке. Честно говоря, я не люблю классику как таковую. По всей видимости, последствия школьной программы. У меня были неплохие учителя, особенно в 67 школе, но все равно стойкая нелюбовь к классике присутствует. Короче, идти мне не хотелось, особенно в – 20 градусов  по Цельсию. Но были билеты и необходимость вывести Ваню в театральный свет. Я пошла и не пожалела ни одной секунды. После спектакля Ваня проблеял что-то невразумительное. По-моему, спектакль ему более или менее показался. А мне и папе он прямо-таки очень понравился… Звонков, например, нет вообще. Пока мы пили кофе в буфете, я переживала не пропустим ли мы звонок. Мой папа, как знаток этого театра, сказал загадочно, что нас пригласят. И правда, пришла очень приятная женщина-администратор и спросила: «Все ли допили кофе? Тогда пора начинать!» Спектакль достаточно длинный – два с половиной часа.  Но я совершенно не заскучала. Совсем напротив. Постановка сделана с большим чувством юмора. Действие захватывающее и живое. Актёры играют просто великолепно. Недавно я была в "Современнике" на спектакле с Ахеджаковой, которую очень люблю. Честно говоря, там я откровенно скучала. А здесь ловила себя на том, что слушала открыв рот. Всем советую сходить на этот спектакль, останется только хорошее впечатлен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ольшинство отзывов и рецензий такие же, потому что трудно оценить спектакль по-другому.  Мы, безусловно, согласны со словами зрителя в оценке спектакля и сами хотим порекомендовать посетить студию и этот спектакль в час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Здание теа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1800" y="1019160"/>
            <a:ext cx="73389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3395520" cy="4522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2266920" cy="302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219640" y="3502080"/>
            <a:ext cx="2305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2378160" cy="3164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2024280" cy="2693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2024280" cy="269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3280" y="260280"/>
            <a:ext cx="23781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395880" cy="4522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035600" cy="3029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36766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888000" cy="2975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322880" cy="3243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3889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Rockwell Extra Bold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410840"/>
            <a:ext cx="835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Forte"/>
              </a:rPr>
              <a:t>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ень хочется сказать, что в обоих театрах, с нашей точки зрения, постановка просто великолепная и заворажива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кже очень понравилась эта режиссёрская самостоя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спокойное отхождение от сюжета сделал спектакли  более совреме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всё-таки предпочтение мы отдаём театру А. Джигарханяна, потому что постановка его спектакля отличается большей зрелищностью и красочностью, да и сам театр нам понравился больше с точки зрения царившей в нём атмосферы и внутреннего офор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медия «Ревизор» Н.В.Гоголя бессмертна, она всегда будет существовать и нравиться всем поколениям. И мы надеемся, что                  кто-то всё-таки сможет поставить этот спектакль даже ещё лучше, чем в этих двух теа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elix Titling"/>
              </a:rPr>
              <a:t>Всту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358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4800" spc="-1" strike="noStrike">
                <a:solidFill>
                  <a:srgbClr val="000000"/>
                </a:solidFill>
                <a:latin typeface="Forte"/>
              </a:rPr>
              <a:t>П</a:t>
            </a:r>
            <a:r>
              <a:rPr b="0" i="1" lang="ru-RU" sz="1900" spc="-1" strike="noStrike">
                <a:solidFill>
                  <a:srgbClr val="000000"/>
                </a:solidFill>
                <a:latin typeface="Forte"/>
              </a:rPr>
              <a:t>осле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прочтения комедии Н.В.Гоголя «Ревизор»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мы решили пойти в театр на этот спектакль. Сначала мы посетили Московский драматический театр под руководством                         Армена Джигарханяна. Постановка спектакля нам очень понравилась. На сцене царит особая атмосфера, играет великолепный актёрский ансамбль. Да и сам театр очень приятный, особенно когда смотришь постановку одного из своих любимых произведений и нам стало интересно узнать,  как же ставят этот спектакль в других театр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осетив театр на Покровке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мы решили сделать эту работу, где мы сравниваем постановки  этой комедии в разных театрах. В нашей работе мы расскажем об этих двух постановках и выскажем свое мнен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1280" y="981000"/>
            <a:ext cx="489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doni MT Black"/>
              </a:rPr>
              <a:t>Московский драматический театр под  руководством                    Армена Джигархан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Театр Армена Джигарханя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208908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52400" cy="2305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2673360"/>
            <a:ext cx="864072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сковский драматический театр под руководством Армена Джигарханяна был образован 12 марта 1996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ряду подобных маленьких театров театр Джигарханяна сразу занял особое место благодаря сплаву энтузиазма и молодости начинающих актёров с мудростью и опытом Народного Артиста СССР Армена Джигарханя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сегодняшний день труппа театр Джигарханяна насчитывает 40 актеров.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репертуаре театра на сегодняшний день: «Ревизор» Н.В. Гоголя (режиссер Сергей Газаров) – обращение к русской классике, так актуальной и в наши дни; спектакль «Возвращение домой» по пьесе английского драматурга Гарольда Пинтера – «…это вещь экстраординарной силы, прекрасно сыгранная и поставленная с откровенной безжалостностью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 еатр Джигарханяна живёт не только своей театральной жизнью. Он принимает участие в различных благотворительных программах. Уже пятый год подряд театр выступает спонсором Московского детского фестиваля «Мастера», который проводят Московский Фонд «Горожане» и «Общая газета» при поддержке Комитета общественных связей Правительства Москв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конце апреля 2000 года Армен Борисович Джигарханян стал Лауреатом Московского международного театрально-телевизионного фестиваля «Артист конца ХХ века», посвящённого 75-летию И.М. Смоктуновского. Он был удостоен этого звания за роль Макса в спектакле «Возвращение домой». Успех великого мастера по праву разделили с ним его партнёры – молодые актеры театра. И очень символичным явилось то, что в новый век театр вступил молодым коллективом с новыми идеями на новой московской сце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0643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Forte"/>
              </a:rPr>
              <a:t>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ргей Газаров - режиссёр абсолютно современный. Ритм его постановок всецело соответствует ритму нашей жизни, событийность чрезвычайно насыщенна - зритель не отпускается ни на минутку: динамика спектакля поглощает всё внимание. Ни поёрзать, ни пошептаться - того и гляди пропустишь очередной умопомрачительный пируэт. Все, что происходит на сцене - из нашего времени, хоть и описано Н.В.Гоголем сто пятьдесят лет назад. Спектакль необычайно живой - эту живость привносит мило порхающий в диком переполохе уездного города Хлестаков. Являясь абсолютной противоположностью всем остальным, почтенным и не почтенным, но очень земным персонажем, он ещё больше подчеркивает нелепость ситуации и совершеннейший клин, возникший в умах и делах почтенных людей уездного го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азаров обыгрывает всех и вся: текст и ситуации автора, внешние типажи, манеры и характеры актёров, буквально каждый миллиметр обстановки: мирное кресло-качалка побывало в таких положениях, что старик Фрейд отдыхает. И яблоки греха, аккуратно уложенные в вазу, падают и катятся по сце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жиссёрские находки С. Газа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508360" y="2060280"/>
            <a:ext cx="327636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визо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на Андреевна — Елена Медведе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лестаков — Виталий Че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43657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88000" y="2205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визо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лестаков — Виталий Четков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рья Антоновна — Оксана Голуб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965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Игра актёров завораживает уже с первой минуты. Небольшой зрительный зал способствует ощущению сопричастности с действием , происходящим на сцене. Мимика, жесты, пластика актёров на самом высоком уровне. Реплики и фразы современны, злободневны и, самое главное, без пошлости (чем не могут похвастаться многие другие театры). Совершенно замечательная сценография - небольшое, но ёмкое пространство сцены уставлено по периметру шкафами разных калибров - незыблемыми символами уездного быта. В них неожиданно возникают комнаты, гостиничные номера и даже приёмные залы. Двери шкафов используются как двери непосредственно, как зеркала, дымовые завесы, разделительные барьеры, окна в мир - короче, как надо по ходу действия, так и используются. Заветные ящички тоже, разумеется, задействован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Актёрский ансамбль весьма слажен. Чётко отработанное синхронное движение мощной волной обрушивается на зрителей. Энергетика захлёстывает, а разные вспомогательные моменты вызывают эмоций не меньше, если не больше, чем основные события. Гоголь в спектакле действительно многолик и многопланов, и самый положительный из всех героев - Смех - не покидает действие ни на минут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067280" y="22050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визо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ржиморда — Станислав Эвентов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родничий — Алексей Шевчен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647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3:46:18Z</dcterms:created>
  <dc:creator>noname</dc:creator>
  <dc:description/>
  <dc:language>en-US</dc:language>
  <cp:lastModifiedBy>Андрей</cp:lastModifiedBy>
  <dcterms:modified xsi:type="dcterms:W3CDTF">2007-02-10T09:22:34Z</dcterms:modified>
  <cp:revision>72</cp:revision>
  <dc:subject/>
  <dc:title>     </dc:title>
</cp:coreProperties>
</file>