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619-0A7A-4AAE-ADFC-0B028ADA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49D-AB6E-4A6F-B827-5E338674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41B-23D8-4E44-BB95-652B9FDB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177-03F8-41E2-8645-BEB34D59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9AF5-8C5F-4B93-A6A8-ADD448B1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BE45-15A0-4F29-9FA0-094B0AC6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8D4E-7194-4BFE-A08F-AF77EE01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A27C-2294-41C1-BEE1-19F4F1F6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A723-7070-49D2-B3D8-3C9F9AA2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10BF-1FFA-4E22-A160-DFF5AA7D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4049-8741-42EA-A23F-44410590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474-D277-4390-B82A-7025401B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E7E6-D8B9-4AE8-A3B7-9B09B89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C9FA-D34F-4054-9430-700E44D7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0458-FE41-4E7C-9E61-66BE11AD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CFB7-99EA-409D-AAFA-F6C45023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D0D8-A0A1-4132-9A7C-69C84F31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DC6-37D2-48CD-B985-32431481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450-E8F6-4341-8A3F-37182ADE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B1D-2D77-4CE8-B485-ED856B9D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663-3D70-42DA-8D32-329E87A3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124-65A4-439A-8E5C-71F78B9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CB6-3F91-4E37-96E0-656E07F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97B-10D5-409A-B74C-ED38857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F086-3BEB-4F40-B0FE-4A6F713A2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3476-2872-454D-9670-FFF3A4AEA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64000" y="5950080"/>
            <a:ext cx="5580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оробьевой Екатерины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10 «М» класс, гимназия№57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учно-практическая работа на тем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ветовой тип поведения человека и его компенсаторные реакци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ак же, как в мире наших ощущений цвета являются интервалом между незримыми светом и тьмой, так и в мире наших чувств мы имеем внутреннюю радугу, которая рождается между внутренним светом и внутренней тьмой… Именно в эту сферу мы вступаем, когда имеем дело с цветом, ибо Цвет и Чувство – две стороны одной медали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иана Колло Д’Эрб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стирование 9 м кла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1989000"/>
          <a:ext cx="7345440" cy="35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34544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стирование 9 в кла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87280" y="2276640"/>
          <a:ext cx="6840720" cy="368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76640"/>
                    <a:ext cx="684072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стирование 10 м кла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042920" y="2060640"/>
          <a:ext cx="7058160" cy="378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705816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стирование 10 у кла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71640" y="1916280"/>
          <a:ext cx="6840360" cy="38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16280"/>
                    <a:ext cx="6840360" cy="38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ветовые типы поведения </a:t>
            </a:r>
            <a:br>
              <a:rPr sz="40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(по М. Люшеру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600200"/>
          <a:ext cx="8229240" cy="4525920"/>
        </p:xfrm>
        <a:graphic>
          <a:graphicData uri="http://schemas.openxmlformats.org/drawingml/2006/table">
            <a:tbl>
              <a:tblPr/>
              <a:tblGrid>
                <a:gridCol w="1621440"/>
                <a:gridCol w="1565280"/>
                <a:gridCol w="1727280"/>
                <a:gridCol w="1594440"/>
                <a:gridCol w="17208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ный ти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елтый ти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леный ти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ний ти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 (Очень хочу этого…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ьные переживания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влад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исимость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ход от проблем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имость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да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овлетворе-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урманен-ность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Хотел бы…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бужд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ь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виж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обод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ен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ытие (расцвет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ость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ертность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управле-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ой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слабл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вольств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х (Не хочу этого ни за что…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щ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сыщ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ность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рат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т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ерянность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ужд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ук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чужде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иночество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потеза в процессе исследования подтвердилась и поведение каждого человека возможно объяснить с  помощью теории цветового воздействия на физиологический тип нервной систем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9440" y="1699920"/>
            <a:ext cx="8436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ней – наше зеркало. Смотри, как схож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ушевный мир и радуги убранство. 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 радуга и жизнь – одно и то же!”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ёте,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Фауст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08:52:47Z</dcterms:created>
  <dc:creator>Olga</dc:creator>
  <dc:description/>
  <dc:language>en-US</dc:language>
  <cp:lastModifiedBy>Ученик-06</cp:lastModifiedBy>
  <dcterms:modified xsi:type="dcterms:W3CDTF">2007-01-30T09:20:41Z</dcterms:modified>
  <cp:revision>5</cp:revision>
  <dc:subject/>
  <dc:title>Воробьёва Екатерина</dc:title>
</cp:coreProperties>
</file>