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wmf" ContentType="image/x-wmf"/>
  <Override PartName="/ppt/media/image45.jpeg" ContentType="image/jpeg"/>
  <Override PartName="/ppt/media/image31.jpeg" ContentType="image/jpeg"/>
  <Override PartName="/ppt/media/image25.jpeg" ContentType="image/jpeg"/>
  <Override PartName="/ppt/media/image58.jpeg" ContentType="image/jpeg"/>
  <Override PartName="/ppt/media/image14.wmf" ContentType="image/x-wmf"/>
  <Override PartName="/ppt/media/image11.wmf" ContentType="image/x-wmf"/>
  <Override PartName="/ppt/media/image54.png" ContentType="image/png"/>
  <Override PartName="/ppt/media/image19.gif" ContentType="image/gif"/>
  <Override PartName="/ppt/media/image41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9.wmf" ContentType="image/x-wmf"/>
  <Override PartName="/ppt/media/image49.png" ContentType="image/png"/>
  <Override PartName="/ppt/media/image3.jpeg" ContentType="image/jpeg"/>
  <Override PartName="/ppt/media/image60.jpeg" ContentType="image/jpeg"/>
  <Override PartName="/ppt/media/image37.jpeg" ContentType="image/jpeg"/>
  <Override PartName="/ppt/media/image50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27.jpeg" ContentType="image/jpeg"/>
  <Override PartName="/ppt/media/image17.wmf" ContentType="image/x-wmf"/>
  <Override PartName="/ppt/media/image15.jpeg" ContentType="image/jpeg"/>
  <Override PartName="/ppt/media/image5.jpeg" ContentType="image/jpeg"/>
  <Override PartName="/ppt/media/image61.png" ContentType="image/png"/>
  <Override PartName="/ppt/media/image24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7.jpeg" ContentType="image/jpeg"/>
  <Override PartName="/ppt/media/image4.png" ContentType="image/png"/>
  <Override PartName="/ppt/media/image20.jpeg" ContentType="image/jpeg"/>
  <Override PartName="/ppt/media/image12.wmf" ContentType="image/x-wmf"/>
  <Override PartName="/ppt/media/image30.jpeg" ContentType="image/jpeg"/>
  <Override PartName="/ppt/media/image32.jpeg" ContentType="image/jpeg"/>
  <Override PartName="/ppt/media/image33.png" ContentType="image/png"/>
  <Override PartName="/ppt/media/image10.wmf" ContentType="image/x-wmf"/>
  <Override PartName="/ppt/media/image56.jpeg" ContentType="image/jpeg"/>
  <Override PartName="/ppt/media/image34.jpeg" ContentType="image/jpeg"/>
  <Override PartName="/ppt/media/image35.jpeg" ContentType="image/jpeg"/>
  <Override PartName="/ppt/media/image13.wmf" ContentType="image/x-wmf"/>
  <Override PartName="/ppt/media/image40.jpeg" ContentType="image/jpeg"/>
  <Override PartName="/ppt/media/image44.png" ContentType="image/png"/>
  <Override PartName="/ppt/media/image28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media/image1.png" ContentType="image/png"/>
  <Override PartName="/ppt/media/image52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21D-8E15-46F4-8E1F-B2AC365B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D0B-1B1F-4173-8FE3-FCAEDB16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447-6338-4CCC-96B0-A0A9A936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2CE-E89A-49D4-9B12-006877AF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826-9D4E-456B-973A-BCA599CE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756-FBAB-4DE2-B095-FB764BF0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1E8-5F53-4B65-A4D8-F9D0B819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444-AE38-4C4D-AF07-3AB562EA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B7F-858A-4B19-AFF8-8DFC0F75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9F2-F432-4808-A719-239EBF54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FC3-40B8-44F6-A5B9-9A2EED8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506-B9B3-4850-B686-46D90F90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8243-4C9B-42C3-A4B5-D27E30EDA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image" Target="../media/image32.jpe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/&#1060;&#1045;&#1040;&#1053;&#1054;.doc" TargetMode="External"/><Relationship Id="rId2" Type="http://schemas.openxmlformats.org/officeDocument/2006/relationships/hyperlink" Target="file:///&#1055;&#1088;&#1080;&#1083;&#1086;&#1078;&#1077;&#1085;&#1080;&#1103;/&#1060;&#1045;&#1040;&#1053;&#1054;.doc" TargetMode="External"/><Relationship Id="rId3" Type="http://schemas.openxmlformats.org/officeDocument/2006/relationships/hyperlink" Target="file:///&#1055;&#1088;&#1080;&#1083;&#1086;&#1078;&#1077;&#1085;&#1080;&#1103;/&#1060;&#1045;&#1040;&#1053;&#1054;.doc" TargetMode="External"/><Relationship Id="rId4" Type="http://schemas.openxmlformats.org/officeDocument/2006/relationships/hyperlink" Target="file:///&#1055;&#1088;&#1080;&#1083;&#1086;&#1078;&#1077;&#1085;&#1080;&#1103;/&#1060;&#1045;&#1040;&#1053;&#1054;.doc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/&#1043;&#1048;&#1055;&#1040;&#1058;&#1048;&#1071;.doc" TargetMode="External"/><Relationship Id="rId2" Type="http://schemas.openxmlformats.org/officeDocument/2006/relationships/hyperlink" Target="file:///&#1055;&#1088;&#1080;&#1083;&#1086;&#1078;&#1077;&#1085;&#1080;&#1103;/&#1043;&#1048;&#1055;&#1040;&#1058;&#1048;&#1071;.doc" TargetMode="External"/><Relationship Id="rId3" Type="http://schemas.openxmlformats.org/officeDocument/2006/relationships/hyperlink" Target="file:///&#1055;&#1088;&#1080;&#1083;&#1086;&#1078;&#1077;&#1085;&#1080;&#1103;/&#1043;&#1048;&#1055;&#1040;&#1058;&#1048;&#1071;.doc" TargetMode="External"/><Relationship Id="rId4" Type="http://schemas.openxmlformats.org/officeDocument/2006/relationships/hyperlink" Target="file:///&#1055;&#1088;&#1080;&#1083;&#1086;&#1078;&#1077;&#1085;&#1080;&#1103;/&#1043;&#1048;&#1055;&#1040;&#1058;&#1048;&#1071;.doc" TargetMode="External"/><Relationship Id="rId5" Type="http://schemas.openxmlformats.org/officeDocument/2006/relationships/hyperlink" Target="file:///&#1055;&#1088;&#1080;&#1083;&#1086;&#1078;&#1077;&#1085;&#1080;&#1103;/&#1043;&#1048;&#1055;&#1040;&#1058;&#1048;&#1071;.doc" TargetMode="External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/&#1069;&#1084;&#1080;&#1083;&#1080;%20&#1076;&#1102;%20&#1064;&#1072;&#1090;&#1083;&#1077;.doc" TargetMode="External"/><Relationship Id="rId2" Type="http://schemas.openxmlformats.org/officeDocument/2006/relationships/hyperlink" Target="file:///&#1055;&#1088;&#1080;&#1083;&#1086;&#1078;&#1077;&#1085;&#1080;&#1103;/&#1069;&#1084;&#1080;&#1083;&#1080;%20&#1076;&#1102;%20&#1064;&#1072;&#1090;&#1083;&#1077;.doc" TargetMode="External"/><Relationship Id="rId3" Type="http://schemas.openxmlformats.org/officeDocument/2006/relationships/hyperlink" Target="file:///&#1055;&#1088;&#1080;&#1083;&#1086;&#1078;&#1077;&#1085;&#1080;&#1103;/&#1069;&#1084;&#1080;&#1083;&#1080;%20&#1076;&#1102;%20&#1064;&#1072;&#1090;&#1083;&#1077;.doc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/&#1040;&#1085;&#1100;&#1077;&#1079;&#1080;%20&#1052;&#1072;&#1088;&#1080;&#1103;%20&#1043;&#1072;&#1101;&#1090;&#1072;&#1085;&#1072;.doc" TargetMode="External"/><Relationship Id="rId2" Type="http://schemas.openxmlformats.org/officeDocument/2006/relationships/hyperlink" Target="file:///&#1055;&#1088;&#1080;&#1083;&#1086;&#1078;&#1077;&#1085;&#1080;&#1103;/&#1040;&#1085;&#1100;&#1077;&#1079;&#1080;%20&#1052;&#1072;&#1088;&#1080;&#1103;%20&#1043;&#1072;&#1101;&#1090;&#1072;&#1085;&#1072;.doc" TargetMode="External"/><Relationship Id="rId3" Type="http://schemas.openxmlformats.org/officeDocument/2006/relationships/hyperlink" Target="file:///&#1055;&#1088;&#1080;&#1083;&#1086;&#1078;&#1077;&#1085;&#1080;&#1103;/&#1040;&#1085;&#1100;&#1077;&#1079;&#1080;%20&#1052;&#1072;&#1088;&#1080;&#1103;%20&#1043;&#1072;&#1101;&#1090;&#1072;&#1085;&#1072;.doc" TargetMode="External"/><Relationship Id="rId4" Type="http://schemas.openxmlformats.org/officeDocument/2006/relationships/hyperlink" Target="file:///&#1055;&#1088;&#1080;&#1083;&#1086;&#1078;&#1077;&#1085;&#1080;&#1103;/&#1040;&#1085;&#1100;&#1077;&#1079;&#1080;%20&#1052;&#1072;&#1088;&#1080;&#1103;%20&#1043;&#1072;&#1101;&#1090;&#1072;&#1085;&#1072;.doc" TargetMode="External"/><Relationship Id="rId5" Type="http://schemas.openxmlformats.org/officeDocument/2006/relationships/hyperlink" Target="file:///&#1055;&#1088;&#1080;&#1083;&#1086;&#1078;&#1077;&#1085;&#1080;&#1103;/&#1040;&#1085;&#1100;&#1077;&#1079;&#1080;%20&#1052;&#1072;&#1088;&#1080;&#1103;%20&#1043;&#1072;&#1101;&#1090;&#1072;&#1085;&#1072;.doc" TargetMode="External"/><Relationship Id="rId6" Type="http://schemas.openxmlformats.org/officeDocument/2006/relationships/hyperlink" Target="file:///&#1055;&#1088;&#1080;&#1083;&#1086;&#1078;&#1077;&#1085;&#1080;&#1103;/&#1040;&#1085;&#1100;&#1077;&#1079;&#1080;%20&#1052;&#1072;&#1088;&#1080;&#1103;%20&#1043;&#1072;&#1101;&#1090;&#1072;&#1085;&#1072;.doc" TargetMode="External"/><Relationship Id="rId7" Type="http://schemas.openxmlformats.org/officeDocument/2006/relationships/hyperlink" Target="file:///&#1055;&#1088;&#1080;&#1083;&#1086;&#1078;&#1077;&#1085;&#1080;&#1103;/&#1040;&#1085;&#1100;&#1077;&#1079;&#1080;%20&#1052;&#1072;&#1088;&#1080;&#1103;%20&#1043;&#1072;&#1101;&#1090;&#1072;&#1085;&#1072;.doc" TargetMode="External"/><Relationship Id="rId8" Type="http://schemas.openxmlformats.org/officeDocument/2006/relationships/image" Target="../media/image43.jpe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/&#1050;&#1072;&#1088;&#1086;&#1083;&#1080;&#1085;%20&#1043;&#1077;&#1088;&#1096;&#1077;&#1083;&#1100;.doc" TargetMode="External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/&#1057;&#1086;&#1092;&#1080;%20&#1046;&#1077;&#1088;&#1084;&#1077;&#1085;.doc" TargetMode="External"/><Relationship Id="rId2" Type="http://schemas.openxmlformats.org/officeDocument/2006/relationships/hyperlink" Target="file:///&#1055;&#1088;&#1080;&#1083;&#1086;&#1078;&#1077;&#1085;&#1080;&#1103;/&#1057;&#1086;&#1092;&#1080;%20&#1046;&#1077;&#1088;&#1084;&#1077;&#1085;.doc" TargetMode="External"/><Relationship Id="rId3" Type="http://schemas.openxmlformats.org/officeDocument/2006/relationships/hyperlink" Target="file:///&#1055;&#1088;&#1080;&#1083;&#1086;&#1078;&#1077;&#1085;&#1080;&#1103;/&#1057;&#1086;&#1092;&#1080;%20&#1046;&#1077;&#1088;&#1084;&#1077;&#1085;.doc" TargetMode="External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/&#1052;&#1101;&#1088;&#1080;%20&#1060;&#1077;&#1088;&#1092;&#1072;&#1082;&#1089;%20&#1057;&#1086;&#1084;&#1077;&#1088;&#1074;&#1080;&#1083;&#1100;.doc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103;/&#1041;&#1072;&#1081;&#1088;&#1086;&#1085;%20&#1040;&#1076;&#1072;%20&#1040;&#1074;&#1075;&#1091;&#1089;&#1090;&#1072;.doc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file:///&#1055;&#1088;&#1080;&#1083;&#1086;&#1078;&#1077;&#1085;&#1080;&#1103;/&#1045;&#1083;&#1080;&#1079;&#1072;&#1074;&#1077;&#1090;&#1072;%20&#1060;&#1077;&#1076;&#1086;&#1088;&#1086;&#1074;&#1085;&#1072;%20&#1051;&#1080;&#1090;&#1074;&#1080;&#1085;&#1086;&#1074;&#1072;.doc" TargetMode="External"/><Relationship Id="rId3" Type="http://schemas.openxmlformats.org/officeDocument/2006/relationships/hyperlink" Target="file:///&#1055;&#1088;&#1080;&#1083;&#1086;&#1078;&#1077;&#1085;&#1080;&#1103;/&#1045;&#1083;&#1080;&#1079;&#1072;&#1074;&#1077;&#1090;&#1072;%20&#1060;&#1077;&#1076;&#1086;&#1088;&#1086;&#1074;&#1085;&#1072;%20&#1051;&#1080;&#1090;&#1074;&#1080;&#1085;&#1086;&#1074;&#1072;.doc" TargetMode="External"/><Relationship Id="rId4" Type="http://schemas.openxmlformats.org/officeDocument/2006/relationships/hyperlink" Target="file:///&#1055;&#1088;&#1080;&#1083;&#1086;&#1078;&#1077;&#1085;&#1080;&#1103;/&#1057;&#1054;&#1060;&#1068;&#1071;%20&#1042;&#1040;&#1057;&#1048;&#1051;&#1068;&#1045;&#1042;&#1053;&#1040;%20&#1050;&#1054;&#1042;&#1040;&#1051;&#1045;&#1042;&#1057;&#1050;&#1040;&#1071;.doc" TargetMode="External"/><Relationship Id="rId5" Type="http://schemas.openxmlformats.org/officeDocument/2006/relationships/hyperlink" Target="file:///&#1055;&#1088;&#1080;&#1083;&#1086;&#1078;&#1077;&#1085;&#1080;&#1103;/&#1057;&#1054;&#1060;&#1068;&#1071;%20&#1042;&#1040;&#1057;&#1048;&#1051;&#1068;&#1045;&#1042;&#1053;&#1040;%20&#1050;&#1054;&#1042;&#1040;&#1051;&#1045;&#1042;&#1057;&#1050;&#1040;&#1071;.doc" TargetMode="External"/><Relationship Id="rId6" Type="http://schemas.openxmlformats.org/officeDocument/2006/relationships/hyperlink" Target="file:///&#1055;&#1088;&#1080;&#1083;&#1086;&#1078;&#1077;&#1085;&#1080;&#1103;/&#1071;&#1085;&#1086;&#1074;&#1089;&#1082;&#1072;&#1103;.doc" TargetMode="External"/><Relationship Id="rId7" Type="http://schemas.openxmlformats.org/officeDocument/2006/relationships/hyperlink" Target="file:///&#1055;&#1088;&#1080;&#1083;&#1086;&#1078;&#1077;&#1085;&#1080;&#1103;/&#1071;&#1085;&#1086;&#1074;&#1089;&#1082;&#1072;&#1103;.doc" TargetMode="External"/><Relationship Id="rId8" Type="http://schemas.openxmlformats.org/officeDocument/2006/relationships/hyperlink" Target="file:///&#1055;&#1088;&#1080;&#1083;&#1086;&#1078;&#1077;&#1085;&#1080;&#1103;/&#1055;&#1077;&#1083;&#1072;&#1075;&#1077;&#1103;%20&#1071;&#1082;&#1086;&#1074;&#1083;&#1077;&#1074;&#1085;&#1072;%20&#1055;&#1086;&#1083;&#1091;&#1073;&#1072;&#1088;&#1080;&#1085;&#1086;&#1074;&#1072;.doc" TargetMode="External"/><Relationship Id="rId9" Type="http://schemas.openxmlformats.org/officeDocument/2006/relationships/hyperlink" Target="file:///&#1055;&#1088;&#1080;&#1083;&#1086;&#1078;&#1077;&#1085;&#1080;&#1103;/&#1055;&#1077;&#1083;&#1072;&#1075;&#1077;&#1103;%20&#1071;&#1082;&#1086;&#1074;&#1083;&#1077;&#1074;&#1085;&#1072;%20&#1055;&#1086;&#1083;&#1091;&#1073;&#1072;&#1088;&#1080;&#1085;&#1086;&#1074;&#1072;.doc" TargetMode="External"/><Relationship Id="rId10" Type="http://schemas.openxmlformats.org/officeDocument/2006/relationships/hyperlink" Target="file:///&#1055;&#1088;&#1080;&#1083;&#1086;&#1078;&#1077;&#1085;&#1080;&#1103;/&#1055;&#1077;&#1083;&#1072;&#1075;&#1077;&#1103;%20&#1071;&#1082;&#1086;&#1074;&#1083;&#1077;&#1074;&#1085;&#1072;%20&#1055;&#1086;&#1083;&#1091;&#1073;&#1072;&#1088;&#1080;&#1085;&#1086;&#1074;&#1072;.doc" TargetMode="External"/><Relationship Id="rId11" Type="http://schemas.openxmlformats.org/officeDocument/2006/relationships/hyperlink" Target="file:///&#1055;&#1088;&#1080;&#1083;&#1086;&#1078;&#1077;&#1085;&#1080;&#1103;/&#1055;&#1077;&#1083;&#1072;&#1075;&#1077;&#1103;%20&#1071;&#1082;&#1086;&#1074;&#1083;&#1077;&#1074;&#1085;&#1072;%20&#1055;&#1086;&#1083;&#1091;&#1073;&#1072;&#1088;&#1080;&#1085;&#1086;&#1074;&#1072;.doc" TargetMode="External"/><Relationship Id="rId12" Type="http://schemas.openxmlformats.org/officeDocument/2006/relationships/hyperlink" Target="file:///&#1055;&#1088;&#1080;&#1083;&#1086;&#1078;&#1077;&#1085;&#1080;&#1103;/&#1055;&#1077;&#1083;&#1072;&#1075;&#1077;&#1103;%20&#1071;&#1082;&#1086;&#1074;&#1083;&#1077;&#1074;&#1085;&#1072;%20&#1055;&#1086;&#1083;&#1091;&#1073;&#1072;&#1088;&#1080;&#1085;&#1086;&#1074;&#1072;.doc" TargetMode="External"/><Relationship Id="rId13" Type="http://schemas.openxmlformats.org/officeDocument/2006/relationships/image" Target="../media/image39.png"/><Relationship Id="rId14" Type="http://schemas.openxmlformats.org/officeDocument/2006/relationships/image" Target="../media/image28.png"/><Relationship Id="rId15" Type="http://schemas.openxmlformats.org/officeDocument/2006/relationships/image" Target="../media/image38.pn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35.jpeg"/><Relationship Id="rId19" Type="http://schemas.openxmlformats.org/officeDocument/2006/relationships/image" Target="../media/image52.jpeg"/><Relationship Id="rId2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5013000"/>
            <a:ext cx="6908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Автор: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Ольга Сазонова, 6 А класс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Руководитель: Левищенко О. П.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МОУ «Средняя общеобразовательная школа № 59» г. Курск - 2007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189000"/>
            <a:ext cx="7705800" cy="446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 Cyr"/>
              </a:rPr>
              <a:t>Женщины -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 Cyr"/>
              <a:ea typeface="Times New Roman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 Cyr"/>
              </a:rPr>
              <a:t>математик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 Cyr"/>
              <a:ea typeface="Times New Roman Cyr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ОНИ – ВЕЛИКИЕ МАТЕМАТ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ИЗ НИХ ЗНАЮТ И ПОМНЯТ ПОТОМ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СРЕДИ НИХ БОЛЬШЕ: МУЖЧИН ИЛИ ЖЕНЩ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МЫ ТАК МАЛО ЗНАЕМ О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икие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10920" y="1196640"/>
            <a:ext cx="453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росмотрела много книг, энциклопедий, словарей и справочников, русско- и англо – язычных сайтов в поисках известных женщин математ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ачала мне казалось, что я найду в истории не более десятка известных женщин математиков. Но мой список рос и, наконец, составил 176 человек. </a:t>
            </a: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(Спис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равнения – самый большой список (который я нашла) известных мужчин математиков составляет 84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же они, известные математ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о из них назовет человек, не занимающийся математи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164360" y="3789360"/>
            <a:ext cx="167976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20714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Знаете ли вы математиков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5338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, чтобы узнать, кто из великих математиков сегодня наиболее узнаваем, было решено провести опрос. Нужно было назв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ематиков муж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ематиков женщ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составлена анкета. В опросе приняли учас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ики –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3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уденты –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5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и –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3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чайные прохожие –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2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: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1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редлагаю ознакомиться с результатами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1160" y="1844640"/>
            <a:ext cx="2938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атематики, которых знают школь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00000" y="1278000"/>
          <a:ext cx="7489800" cy="54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78000"/>
                    <a:ext cx="748980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атематики, которых знают студ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16000" y="1333440"/>
          <a:ext cx="7488360" cy="548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333440"/>
                    <a:ext cx="7488360" cy="548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атематики, которых знают учителя и преподав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042920" y="1279440"/>
          <a:ext cx="7561440" cy="553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279440"/>
                    <a:ext cx="756144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атематики, которых знают прохож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42920" y="1281240"/>
          <a:ext cx="7489800" cy="54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281240"/>
                    <a:ext cx="7489800" cy="54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тепень узнаваемости математиков муж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116000" y="1320840"/>
          <a:ext cx="748836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320840"/>
                    <a:ext cx="7488360" cy="55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А есть ли великие женщины - математ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 с женщинами математиками при опросе оказалась гораздо более сложной. Кроме Софьи Ковалевской школьники и прохожие не смогли вспомнить никого. Студенты добавили к списку Софию Пиккард, а учителя и преподаватели: Гипатию и Софи Жермен. На этом список закон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тепень узнаваемости математиков -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32000" y="1317600"/>
          <a:ext cx="6985080" cy="54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17600"/>
                    <a:ext cx="6985080" cy="54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ecff"/>
                </a:solidFill>
                <a:latin typeface="Arial"/>
              </a:rPr>
              <a:t>О математика земная,</a:t>
            </a:r>
            <a:br>
              <a:rPr sz="2400"/>
            </a:br>
            <a:r>
              <a:rPr b="0" i="1" lang="ru-RU" sz="2400" spc="-1" strike="noStrike">
                <a:solidFill>
                  <a:srgbClr val="ccecff"/>
                </a:solidFill>
                <a:latin typeface="Arial"/>
              </a:rPr>
              <a:t>Гордись, прекрасная, собой.</a:t>
            </a:r>
            <a:br>
              <a:rPr sz="2400"/>
            </a:br>
            <a:r>
              <a:rPr b="0" i="1" lang="ru-RU" sz="2400" spc="-1" strike="noStrike">
                <a:solidFill>
                  <a:srgbClr val="ccecff"/>
                </a:solidFill>
                <a:latin typeface="Arial"/>
              </a:rPr>
              <a:t>Ты всем наукам мать родная,</a:t>
            </a:r>
            <a:br>
              <a:rPr sz="2400"/>
            </a:br>
            <a:r>
              <a:rPr b="0" i="1" lang="ru-RU" sz="2400" spc="-1" strike="noStrike">
                <a:solidFill>
                  <a:srgbClr val="ccecff"/>
                </a:solidFill>
                <a:latin typeface="Arial"/>
              </a:rPr>
              <a:t>И дорожат они тобой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417080" cy="4865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колько лет женщины занимаются математ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ие данные неопровержимо свидетельствуют: женщины-ученые существовали в каждой культуре на протяжении всей истории развития общества, однако определенных успехов они могли добиваться только в той среде, где имелось позитивное отношение к научным занятиям и система образования, доступная для 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50000" y="1413000"/>
            <a:ext cx="3644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Динамика появления женщин математ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00000" y="1244520"/>
          <a:ext cx="7775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44520"/>
                    <a:ext cx="7775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Этапы развития женск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40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Фра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исательница Кристина Пизанская сделала предположение, что в результате хорошего образования женщины могли бы стать равными мужчин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61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нгл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Уорд открывает первые школы для дев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678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Ита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университете Падуи ученому Елене Лукреции Корнаро Пископии присваивается звание доктора философских нау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76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Росс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Петербурге открыт Смольный институт благородных девиц - первое в России привилегированное среднее общеобразовательное учебное заведение для женщи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82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крыты первые государственные школы для дев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8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Фра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альное школьное образование распространяется теперь и на  дев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85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крывается первый в мире женский медицинский коллед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85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Росс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крываются первые женские училищ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87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 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крылись Бестужевские высшие женские кур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88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арвардский университет открывает прием девушек на общих основан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88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Япо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крывается первая Высшая женская шко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88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еликобрит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ксфордский университет начал принимать женщин в качестве студенток, но дипломы выпускницам не выдавались до 19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88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дицинский колледж в Бомбее начал принимать женщин-студен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90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Фра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изик Мари Кюри стала первой женщиной-ученым, получившей Нобелевскую прем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190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Герм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ейдельбергский и Фрайбургский университеты начинают принимать женщ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Доля женщин-математиков по стра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63640" y="1220760"/>
          <a:ext cx="597708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20760"/>
                    <a:ext cx="59770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еография проживания женщин-математ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4170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Биограф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240" y="3412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885080" y="3412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619280" y="2708280"/>
            <a:ext cx="1396800" cy="1409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916360" y="1413000"/>
            <a:ext cx="1041120" cy="145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211400" cy="1531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6732720" y="1125360"/>
            <a:ext cx="1224000" cy="1584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1042920" y="4869000"/>
            <a:ext cx="1128960" cy="1722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50920" y="3573360"/>
            <a:ext cx="1320840" cy="134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6372360" y="5516640"/>
            <a:ext cx="896760" cy="106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3203640" y="2924280"/>
            <a:ext cx="952560" cy="1333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2843280" y="4221000"/>
            <a:ext cx="143820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7524720" y="4797360"/>
            <a:ext cx="1428840" cy="191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8028000" y="2060640"/>
            <a:ext cx="95256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1835280" y="1197000"/>
            <a:ext cx="1120680" cy="150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1908000" y="4005360"/>
            <a:ext cx="95256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6189840" y="2627280"/>
            <a:ext cx="1261800" cy="180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995640" y="1557360"/>
            <a:ext cx="1270080" cy="1778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9"/>
          <a:stretch/>
        </p:blipFill>
        <p:spPr>
          <a:xfrm>
            <a:off x="5219640" y="2600280"/>
            <a:ext cx="95256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0"/>
          <a:stretch/>
        </p:blipFill>
        <p:spPr>
          <a:xfrm>
            <a:off x="7236000" y="3357720"/>
            <a:ext cx="1360440" cy="158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1"/>
          <a:stretch/>
        </p:blipFill>
        <p:spPr>
          <a:xfrm>
            <a:off x="4140360" y="3500280"/>
            <a:ext cx="1158840" cy="1622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2"/>
          <a:stretch/>
        </p:blipFill>
        <p:spPr>
          <a:xfrm>
            <a:off x="6124680" y="3860640"/>
            <a:ext cx="105552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еано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 – V вв. до н.э.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ано – ученица и жена древнегреческого философа, великого математика и мудреца – Пифагора, жившая в VI – V вв. до н.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ано прониклась идеями мужа с такой полнотой, что после его смерти она стала центром пифагорейского ордена, и один из греческих авторов приводит, как авторитет, ее мнение относительно учения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ано дала Пифагору двух сыновей и дочь, все они были верными последователями своего Великого от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940360" y="2205000"/>
            <a:ext cx="2881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ипатия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Александрийская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(370-415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844640"/>
            <a:ext cx="41716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атия Александрийская - греческий математик, философ. Дочь ученого Теона. Руководительница школы неоплатоников в Александ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занималась просветительской и полемической деятель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атия погибла в 415 году от рук религиозных фанат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на достигла таких высот познания, что превзошла всех философов своего времени» С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250920" y="1773360"/>
            <a:ext cx="417672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Елена Лукреция Корнаро Пископи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(1646-1684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женщина в мире, получившая степень доктора философии (Ph.D.) в университете Паду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была первой в мире женщиной студент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дуанском университете стоит ее скульптурный памят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3480" y="1557360"/>
            <a:ext cx="32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мили, маркиз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ю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Шатле </a:t>
            </a:r>
            <a:br>
              <a:rPr sz="4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706 – 174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95640" y="1600200"/>
            <a:ext cx="4897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706 году 17 декабря родилась Габриэль-Эмилия ле Тоннелье де Бретей, позднее ставшая маркизой дю Шатле. Занимаясь самообразованием, маркиза дю Шатле сделалась выдающимся математиком. Это был один из блистательнейших женских интеллектов XVIII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или де Шатле была одной из тех женщин, чей вклад способствовал формированию курса математики. И хотя она не создала собственного оригинального учения, ее работа внесла значительный вклад в развитие математической на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на была великим человеком, чья единственная вина состояла в том, что она -  женщин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ьтер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68280" y="1413000"/>
            <a:ext cx="3414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356000" y="333360"/>
            <a:ext cx="4608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я зовут Ольга Сазонова.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ff"/>
                </a:solidFill>
                <a:latin typeface="Arial"/>
              </a:rPr>
              <a:t>Я увлекаюсь математикой и не только. Еще я очень люблю историю и литературу. Но математика вызывает у меня настоящее восхищ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ff"/>
                </a:solidFill>
                <a:latin typeface="Arial"/>
              </a:rPr>
              <a:t>Тема «Женщины - математики» вызывала у меня огромный интерес, так как она находится в самом центре моих интере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ff"/>
                </a:solidFill>
                <a:latin typeface="Arial"/>
              </a:rPr>
              <a:t>Она касается математики, истории и даже психологии. Мне было очень интересно проводить опрос, искать  и переводить с английского языка биографии женщин математиков, сравнивать и анализ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ff"/>
                </a:solidFill>
                <a:latin typeface="Arial"/>
              </a:rPr>
              <a:t>Для себя я нашла ответы на вопросы. Предлагаю и Вам, вместе со мной, проделать этот п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90060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рия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аетана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гнеси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1718-1799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ьези Мария Гаэтана (16.5.1718–9.1.1799) –итальянский математик. Родилась в Мил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руководством отца, профессора Болонского университета, изучала математику, древние и восточные язы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750г. заняла кафедру математики в Болон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ниге “Основания анализа” (1748г.) Аньези, в частности, доказала, что любое куб. уравнение имеет три кор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ее честь плоскую кривую, выраженную уравнением Y=a3/(x2+a2) назвали “локон Аньези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900000" y="1268280"/>
            <a:ext cx="2965680" cy="345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900000" y="4968720"/>
            <a:ext cx="295128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ролина Лукреция Гершель </a:t>
            </a:r>
            <a:br>
              <a:rPr sz="4000"/>
            </a:b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(1750-1848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олина Лукреция Гершель британский астроном, сестра и помощница Вильяма Герш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ась 16 марта 1750 в Ганновере. Первая женщина – астроном, открывшая 8 комет и несколько тум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28 Лондонское королевское астрономическое общество наградило ее Золотой медалью, и избрало своим почетным членом. Ее имя занесено на карту Лу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05480" y="1413000"/>
            <a:ext cx="1704960" cy="2016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381720" y="3141720"/>
            <a:ext cx="24526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офия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Жермен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(1776-1831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88000" y="1341360"/>
            <a:ext cx="4032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а выдающимся математиком и добилась важных результатов в теории чисел и теории упругости. В 1816 г. вывела дифференциальное уравнение изгиба пласт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прочитать книгу И.Ньютона «Математические начала натуральной философии», она изучила латинский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ималась теорией чисел. Вывела несколько формул, которым присвоено ее и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которых условиях доказала теорему Фер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74680" y="1628640"/>
            <a:ext cx="4164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эри Ферфакс Сомервилл 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(1780-1872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ерфакс Мэри Сомервилл была одной из самых замечательных женщин - учены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на начала свою жизнь как типичная девушка из шотландского высшего общества. Но ее отличали выдающиеся математические интересы и способност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смотря на отсутствие у нее формального обучения, ей удалось подготовить интересные математические и физические работ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на занималась математикой вплоть до самой смерти. Умерла она в возрасте 98 лет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30880" y="1844640"/>
            <a:ext cx="27781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айрон Ада Августа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(1815 - 185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 Августа Байрон родилась 10 декабря 1815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день считается Днём программиста в честь родившейся также в этот день первой представительницы этой не слишком древней профессии Ады Августы Лавлейс, единственной дочери прославленного английского поэта Джорджа Гордона Байрона и его супруги Аннабеллы Милбэ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430960" y="1628640"/>
            <a:ext cx="3106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Русские женщины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89040" y="1268280"/>
            <a:ext cx="1338480" cy="18734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7280" y="1268280"/>
            <a:ext cx="471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Елизавета Федоровна Литвинов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(1845-19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офья Васильевна Ковалевская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(1850-18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ежда Николаевна Гернет    (1877- 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Софья Александровна Яновская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(1896-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вдия Яковлевна Латышева (1897 - 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елагея Яковлевна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Полубаринова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Кочина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(1899-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на Карловна Бари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01-1961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мила Всеволодовна Келдыш                                  (1904 -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ьга Александровна Ладыжевск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22-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ьга Арсентьевна Олейни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25-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3"/>
          <a:stretch/>
        </p:blipFill>
        <p:spPr>
          <a:xfrm>
            <a:off x="395280" y="1341360"/>
            <a:ext cx="952560" cy="1333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4"/>
          <a:stretch/>
        </p:blipFill>
        <p:spPr>
          <a:xfrm>
            <a:off x="266760" y="2852640"/>
            <a:ext cx="1081080" cy="1513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952560" cy="1333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6"/>
          <a:stretch/>
        </p:blipFill>
        <p:spPr>
          <a:xfrm>
            <a:off x="324000" y="4437000"/>
            <a:ext cx="1533240" cy="2190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7"/>
          <a:stretch/>
        </p:blipFill>
        <p:spPr>
          <a:xfrm>
            <a:off x="3203640" y="1341360"/>
            <a:ext cx="1054080" cy="1511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8"/>
          <a:stretch/>
        </p:blipFill>
        <p:spPr>
          <a:xfrm>
            <a:off x="3187800" y="3068640"/>
            <a:ext cx="128592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9"/>
          <a:stretch/>
        </p:blipFill>
        <p:spPr>
          <a:xfrm>
            <a:off x="2289240" y="5084640"/>
            <a:ext cx="111744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Кто более способен к математике: мужчины или женщины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47640" y="1557000"/>
            <a:ext cx="63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Способности – индивидуально-психологические особенности личности, являющиеся условиями успешного выполнения определённой деятельности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Под способностями к изучению математики мы понимаем индивидуально-психологические особенности (прежде всего особенности умственной деятельности), отвечающие требованиям учебной математической деятельности и обусловливающие на прочих равных условиях успешность творческого овладения математикой как учебным предметом, в частности относительно быстрое, легкое и глубокое овладение знаниями, умениями и навыками в области математики»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. А. Крутец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4292640"/>
            <a:ext cx="1571400" cy="2185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596360" y="1484280"/>
            <a:ext cx="1317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Как создаются стереотип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зидент Гарвар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авно президент Гарвардского университета произвел фурор, заявив, что из-за генетических факторов женщины обладают меньшими, по сравнению с мужчинами, способностями к математике и естественным наукам, а дискриминация больше не препятствует карьере женщин-ученых. </a:t>
            </a:r>
            <a:r>
              <a:rPr b="0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Подроб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гоистичны, ленивы или ту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ы занимаются наукой более 4 000 лет. Для того, чтобы найти их имена и их достижения потребовалось не малое количество времени, но как говорится, «кто ищет - тот всегда найдёт». О многих ли вы слышали из этого списка, о двух, трёх? Как видите упоминания о научных трудах женщины, простираются ещё до рождества Христова, но если примерно представить появление на свет УМНЫХ и ПОЛЕЗНЫХ, то получится; что такого рода женщина рождалась раз в 300 лет!  (Выступление на форум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ереотип о том, что женщины на генетическом уровне менее способны к ма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надском Ванкувере проводился эксперимент над группой из 220 девушек, чтобы понять влияние этого стереотипа на женское сознание. Благодаря исследованию, проведенному группой психологов во главе со Стивеном Гейном в University of British Columbia, оказалось, что чем больше рассказывать девушке о том, насколько она генетически неспособна к математике и женственна, тем менее она способна к техническим нау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 группы – каждая из 55 девушек - должны были выполнять тесты по математике и письменности. Девушки, которым ничего не говорили про мужское превосходство в математике, писали математический тест лучше тех, для кого рассказывали, что исторически мальчикам преподаватели уделяют больше внимания на уроках математики. Хуже всех писали тесты те, кому настойчиво говорили, что женщина и математика – две вещи несовмест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того – между двумя математическими тестами девушки выполняли задание по данному им тексту. Когда текст был о неспособности женщин к техническим наукам или о том, как прекрасно быть женственной и домашней (без упоминания наук), баллы за последующий математический тест значительно снижались. «Незамутненные» стереотипами девушки писали тесты практически в два раза лучше остальных. Исследователи также выяснили, что когда ссылаешься на «генетическую предрасположенность», люди автоматически верят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Женщины-математики предпочитают обходиться без макия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, решившие сделать карьеру в типично мужских областях знаний, подвергаются давлению огромного количества стереотипов и предрассудков. Это диктует им правила поведения даже в таких мелочах, как использование космет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недавно проведенного исследования свидетельствуют, что в областях знаний, где доминируют мужчины, слабый пол стремится завуалировать типично женские качества, чтобы выглядеть более убедительно. Например, женщины-математики предпочитают обходиться без макия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спользование косметики не означает, что вы полный ноль в математике», — говорит Эмили Пронин (Emily Pronin), психолог, чья работа «Раздвоение личности как ответ на угрозу стереотипного мышления: женщины и математика» опубликована недавно в журнале Экспериментальной Социальной Психологии. — «Но макияж несовместим со стереотипом о том, как должен выглядеть серьезный математик». </a:t>
            </a: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Подроб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9999"/>
                </a:solidFill>
                <a:latin typeface="Arial"/>
              </a:rPr>
              <a:t>Тема, которую я выбрала, очень заинтересовала меня сразу с нескольких сторон. Это определило цель и задачи проекта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ccff"/>
                </a:solidFill>
                <a:uFillTx/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: изучить роль женщин в сфере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ccff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9ccff"/>
                </a:solidFill>
                <a:latin typeface="Arial"/>
              </a:rPr>
              <a:t>Определить роль женщин в истории математик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9ccff"/>
                </a:solidFill>
                <a:latin typeface="Arial"/>
              </a:rPr>
              <a:t>Познакомиться с историческими и биографическими материалами по те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9ccff"/>
                </a:solidFill>
                <a:latin typeface="Arial"/>
              </a:rPr>
              <a:t>Рассмотреть проблему формирования математических способностей у мужчин и женщи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9ccff"/>
                </a:solidFill>
                <a:latin typeface="Arial"/>
              </a:rPr>
              <a:t>Изучить восприятие выдающихся математиков нашими современник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9ccff"/>
                </a:solidFill>
                <a:latin typeface="Arial"/>
              </a:rPr>
              <a:t>Остановиться на вопросе обучения математике в современной школ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ес при рождении определяет способности к матема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оябрьском выпуске газеты Times  в 2006 году опубликованы результаты научной работы, проведенной Лондонским институтом здоровья ребенка. Оказывается, что вес ребенка при рождении имеет прямое отношение к его математическим способност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лишний килограмм улучшает результаты тестов по математике в среднем почти на 5%. Как выяснили ученые, дети, родившиеся с весом менее двух с половиной килограммов, успевали по математике и другим школьным предметам значительно хуже, чем более упитанные при рождении младен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ученые установили, что на развитие способностей заметное влияние оказывают условия жизни - чем лучше социальная обстановка, в которой растет ребенок, тем больших успехов он добивается в математике. Выводы были сделаны в результате наблюдения за 11 тысячами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- первое детальное изучение взаимосвязи веса ребенка при рождении и его социального положения с достижениями человека в последующие г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980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ужчины и женщины равны в своих математических способностя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нщины, если и выбирают научную карьеру, то почти никогда не связывают жизнь с математикой, говорят исследователи из университета Мичигана. </a:t>
            </a:r>
            <a:r>
              <a:rPr b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Подроб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йдите на математический факультет любого университета, и вы увидите, как мало там девушек. А, между тем, способности женщин в математических науках не ниже, чем у мужчин! Жаклин Эккле (Jacquelynne Eccles), профессор психологии из Мичиганского университета, провела шесть широкомасштабных опросов студентов и школьников, выявляя их способности, склонности и интере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а показала, что ученики старших классов (как юноши, так и девушки) с личностной ориентацией в качестве профильных предметов выбирали естественные либо социальные науки, избегая физики, математики, астрономии. "У девочек прослеживается тенденция преуменьшать свои математические способности, несмотря на хорошую успеваемость", — говорит Эккле. — "Но не оценка математических способностей влияет на выбор профессии, а стремление работать с людьми и представление о математике как теоретической, а не прикладной области знаний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ужчины и женщины равны в своих математических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атематическими способностя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ледует понимать специальные особые способности, которые необходимы для успешного выполнения математическ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атематические способ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являются не единым образованием, а имеют сложную многогранную структур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спешность математическ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висит не от отдельно взятой способности, а от комплекса способ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атематическая одарён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полагает наличие определённых природных предпосылок и проявляется только в творческ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аждый челове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ладает в определенной мер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атематическими способностя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83160" cy="361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587700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580536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Оценить и развить эти способности — задача школы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Зачем в школе нужна математ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518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следнее время во многих странах наблюдается значительный рост интереса к проблемам математического образования. Это связано с тем, ч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начение математики в жизни человеческого общества возрастает с каждым днё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уровень развития математики является необходимым условием подъёма и эффективности целого ряда важнейших областей знаний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ие методы и математический стиль мышления проникают всю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ждым годом математика будет находить всё более широкое применение в разнообразных областях челове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Всё это ставит задачу развития в школе математических способностей, склонностей и интере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651640" y="1197000"/>
            <a:ext cx="31669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Кто в школе учит математи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475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оссии среди учителей математики 95% женщин и 5% мужч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плохо или хорош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ругих странах в школах соотношение друго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а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нщи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жч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ингапу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7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онкон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3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по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2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е кажется, что большое количество женщин в школе не отрицательный, а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оложительный факто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 них есть психологические особенности, которые помогают им лучше понимать учеников и передавать им знания. Кроме того, в нашей стране это устойчивая культурная тради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ь именно женщины - учителя уже много лет в наших школах учат и развивают те математические способности и у мальчиков, и у девочек, которые сегодня так нуж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508720" y="2185920"/>
            <a:ext cx="330516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Проблемы математики в школе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1600200"/>
            <a:ext cx="40384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интереса к матема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мение применять полученные знания на прак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самостоятельной и творческой математическ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3673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Как они решаются у на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 классный руководитель – женщина (Левищенко Ольга Петровн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наш любимый учитель, а математика (по опросу в конце прошлого года) – любимый предмет у 87% учеников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45200" y="1268280"/>
            <a:ext cx="3336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Как они решаются у на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изучаем математику не только в форме привычных уроков. У нас были необычные у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– путешеств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– спектакль (посвященный Архимеду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– олимпи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– интеллектуальный мараф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выпускали номер классной печатной газеты, посвященный МАТЕ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Что мы еще можем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работы над проектом я пришла к выводу, что мы мало знаем математиков (как женщин, так и мужч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мы решили пров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ик к 8 марта «Великие женщины-математики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торину «Кто это?» (о выдающихся математиках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шрутную игру «Путешествие в страну математики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ий урок по истории средних веков «Великие ученые математики Востока и Запад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вечный спор, кто умнее - мужчины или женщины, до сих пор не решен и ведется с переменным успехом. Тема «Женщины математики» неизбежно оказалась в контексте этого сп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сожалению, имен женщин, внесших существенный вклад в математику и двигавших ее вперед, встречается очень мало. Чаще всего доступные нам о них исторические сведения состоят из имени и даты рождения и смерти. Сведений о жизни и научной деятельности практически нет и найти их сложно. Не удивительно, в такой ситуации, что знают только Ковалевскую. Причем не о ней, а ее и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оследние годы мировое сообщество стало понимать, что роль женщин в будущем должна кардинально изменитьс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касается и роли женщины в науке, в том числе и в мате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549360"/>
            <a:ext cx="820872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ключе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ЪЕКТ, ПРЕДМЕТ,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ИПОТ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 исследования: </a:t>
            </a:r>
            <a:r>
              <a:rPr b="0" lang="ru-RU" sz="2300" spc="-1" strike="noStrike">
                <a:solidFill>
                  <a:srgbClr val="99ccff"/>
                </a:solidFill>
                <a:latin typeface="Arial"/>
              </a:rPr>
              <a:t>роль женщин в наук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сследования: </a:t>
            </a:r>
            <a:r>
              <a:rPr b="0" lang="ru-RU" sz="2300" spc="-1" strike="noStrike">
                <a:solidFill>
                  <a:srgbClr val="99ccff"/>
                </a:solidFill>
                <a:latin typeface="Arial"/>
              </a:rPr>
              <a:t>женщины - математи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теза: </a:t>
            </a:r>
            <a:r>
              <a:rPr b="0" lang="ru-RU" sz="2300" spc="-1" strike="noStrike">
                <a:solidFill>
                  <a:srgbClr val="99ccff"/>
                </a:solidFill>
                <a:latin typeface="Arial"/>
              </a:rPr>
              <a:t>роль и место, которые занимают женщины в науке (в частности в математике) определяется их положением в обществе и системой образова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: </a:t>
            </a:r>
            <a:r>
              <a:rPr b="0" lang="ru-RU" sz="2300" spc="-1" strike="noStrike">
                <a:solidFill>
                  <a:srgbClr val="99ccff"/>
                </a:solidFill>
                <a:latin typeface="Arial"/>
              </a:rPr>
              <a:t>опрос, сравнительный анализ, теоретический анализ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ное исследование позволило решить поставленные задачи и сделать несколько вывод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ccff"/>
                </a:solidFill>
                <a:latin typeface="Arial"/>
              </a:rPr>
              <a:t>В истории математики женщины занимают существенное и достойное место. Они внесли большой вклад в развитие этой науки. К сожалению, информации о них мало. Никто и нигде (школа, институт, СМИ) не ставит задачу рассказать о ни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ccff"/>
                </a:solidFill>
                <a:latin typeface="Arial"/>
              </a:rPr>
              <a:t>Собран большой библиографический материал по теме. Составлен список из 176 имен женщин математиков. Составлено 20 библиографических справок о женщинах математиках и определена география их прожива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ccff"/>
                </a:solidFill>
                <a:latin typeface="Arial"/>
              </a:rPr>
              <a:t>В результате анализа литературы и результатов психологических исследований сделан вывод о том, что мужчины и женщины равны в своих математических способностя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ccff"/>
                </a:solidFill>
                <a:latin typeface="Arial"/>
              </a:rPr>
              <a:t>В результате опроса выяснено, что математиков мужчин знают лучше, чем математиков женщин. Но и тех, и других знают плохо. Если же и знают, то только им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ccff"/>
                </a:solidFill>
                <a:latin typeface="Arial"/>
              </a:rPr>
              <a:t>Роль развития математических способностей принадлежит школе. Она же может развить и интерес к математике, в том числе и с использованием исторических сведений о женщинах математиках. Для этого разработано 4 внеклассных мероприятия по тематике проек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7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йвазова С. Русские женщины в лабиринте равноправия. М.,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нольд В.И. Нужна ли школьная математика? Стенограмма пленарного доклада (Дубна, 21 сентября 2000 г.) . – М.: МЦНМО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шмакова И.Г., Демидов С.С.,Успенский В.А. Жажда ясности // Вопросы истории естествознания и техники. Жизнь и деятельность С.А. Яновской. - М., 1996. - N 4. - С.108-11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гданова Н.Ф. Женщины в науке: вчера, сегодня, завтра // СоцИс. - 2004. - N 1. - С.103-1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н-дер-Варден Б.Л. Пробуждающаяся наука. Математика Древнего Египта, Вавилона и Греции. М., 197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годский М. Я. Арифметика и алгебра в древнем мире. М.: Наука, 196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нзбург В. Удельный вес прекрасной половины. Женщины в Российской науке. // Лит. газ. - 2003. - 26 февр.-3 марта. - C.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ейзер Г.И. История математики в школе. М., 2002. 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24000" y="765000"/>
            <a:ext cx="380052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исок литературы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16000" y="1557360"/>
            <a:ext cx="7201080" cy="21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0920" y="0"/>
            <a:ext cx="8713800" cy="191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Математика - царица всех на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40072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 - наука о величинах, их свойствах и законах их соединения; математику разделяется на чистую и прикладную. Чистая математика заключает в себе: арифметику, алгебру, высший анализ (учение о функциях, бесконечно малых. дифференциальное, интегральное и вариационное исчисления), теорию чисел, геометрию с тригонометрией. В прикладную математику входят: механика с приложением ее к архитектуре, машиностроению, гидродинамике и гидравлике, начертательная геометрия, геодезия и оптика, астроно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ки началось с создания практических способов счета и измерения. Знакомством с первоначальными истинами обладали уже древние индусы, халдеи и египтяне, причем первые два народа преимущественно занимались алгеброй и арифметикой, последние – геометр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я получила вполне научный характер у греков и была доведена до высокого совершенства. Время римского владычества и средние века - время упадка математики. Сохранить и отчасти восполнить математику древних выпало на долю арабов, у которых южная Европа начала заимствовать математические науки с XIII 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42472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 не только формул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 - это не только формулы и теоремы, а еще и те люди, которые ей занимаются, те люди, которые всю душу вкладывают в ее развитие. И никак нельзя, говоря о математике, не упомянуть о тех, кто ей посвятил всю жизнь и донес ее до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имена нельзя забывать. Эти люди отдали свою жизнь науке. Ради нас, ради своих потомков … Так что наш долг - помнить их и продолжать их де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это касается женщин математ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4290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7:38:56Z</dcterms:created>
  <dc:creator>Gimnaziy</dc:creator>
  <dc:description/>
  <dc:language>en-US</dc:language>
  <cp:lastModifiedBy>ЛЕЩ</cp:lastModifiedBy>
  <dcterms:modified xsi:type="dcterms:W3CDTF">2007-01-22T15:55:19Z</dcterms:modified>
  <cp:revision>294</cp:revision>
  <dc:subject/>
  <dc:title>Слайд 1</dc:title>
</cp:coreProperties>
</file>