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067-0CEA-4BB7-9ECF-65528A48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5C0-27BF-43FB-8847-433F265E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066-832D-4A2D-A414-D74EB9B6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412-D4BF-42AB-A476-4BE7CCE3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12C5-90CE-447F-ABED-F46255A8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2A0D-578B-4931-BEE7-577DE68D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4061-CA98-4AD5-BCDC-0E6210C6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DC09-C908-473B-BEBC-F9EBF8F0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005A-9111-4EAE-8521-A6AED051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4211-70D5-4A01-9991-FAC1E6D7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D0F3-3B6D-4F7E-9C9B-A5A783C2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249-59C3-46CA-8EB3-7929C36E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1949-CF35-46E2-8E79-F098EBC4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9AD4-2DCE-42B7-B916-11A30C3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A8CF-5D11-4812-AFC7-DD8EDCE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9D9D-A6E4-4E29-A7D1-084F06A3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8A96-CA94-4423-832D-6288BBE6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F3C-BCA9-422D-985A-A7138963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80C-5F4E-4A40-8FEA-F8DF0DE1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C44-D37C-4299-8CBC-02B500D0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FE3-22CF-4246-B62B-A935DF80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6E5-FF20-48E1-821E-015CAB29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3C5-855A-4D09-9820-5A6B556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2F2-EB9E-4E15-A623-D5B8A03A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F3C8-DD37-42D5-A7AF-5588179FF587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20D6-76D1-4F07-A597-8C591BB76587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7;&#1088;&#1086;&#1077;&#1082;&#1090;&#1080;&#1088;&#1086;&#1074;&#1072;&#1085;&#1080;&#1077;.pps" TargetMode="External"/><Relationship Id="rId2" Type="http://schemas.openxmlformats.org/officeDocument/2006/relationships/hyperlink" Target="file:///&#1092;&#1080;&#1083;&#1086;&#1089;&#1086;&#1092;&#1080;&#1103;.pps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4;&#1074;&#1091;&#1093;&#1084;&#1077;&#1088;&#1085;&#1072;&#1103;%20&#1089;&#1080;&#1089;&#1090;&#1077;&#1084;&#1072;%20&#1082;&#1086;&#1086;&#1088;&#1076;&#1080;&#1085;&#1072;&#1090;1.pps" TargetMode="External"/><Relationship Id="rId2" Type="http://schemas.openxmlformats.org/officeDocument/2006/relationships/hyperlink" Target="file:///&#1058;&#1088;&#1077;&#1093;&#1084;&#1077;&#1088;&#1085;&#1072;&#1103;%20&#1089;&#1080;&#1089;&#1090;&#1077;&#1084;&#1072;%20&#1082;&#1086;&#1086;&#1088;&#1076;&#1080;&#1085;&#1072;&#1090;.pps" TargetMode="External"/><Relationship Id="rId3" Type="http://schemas.openxmlformats.org/officeDocument/2006/relationships/hyperlink" Target="file:///&#1063;&#1077;&#1090;&#1099;&#1088;&#1105;&#1093;&#1084;&#1077;&#1088;&#1085;&#1072;&#1103;.pps" TargetMode="External"/><Relationship Id="rId4" Type="http://schemas.openxmlformats.org/officeDocument/2006/relationships/hyperlink" Target="file:///&#1087;&#1086;&#1083;&#1103;&#1088;&#1085;&#1072;&#1103;.ppt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0;&#1088;&#1086;&#1089;&#1089;&#1074;&#1086;&#1088;&#1076;.doc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ultcorp.ru/doc" TargetMode="External"/><Relationship Id="rId2" Type="http://schemas.openxmlformats.org/officeDocument/2006/relationships/hyperlink" Target="http://www.cultcorp.ru/doc" TargetMode="External"/><Relationship Id="rId3" Type="http://schemas.openxmlformats.org/officeDocument/2006/relationships/hyperlink" Target="http://www.cultcorp.ru/doc" TargetMode="External"/><Relationship Id="rId4" Type="http://schemas.openxmlformats.org/officeDocument/2006/relationships/hyperlink" Target="http://www.cultcorp.ru/doc" TargetMode="External"/><Relationship Id="rId5" Type="http://schemas.openxmlformats.org/officeDocument/2006/relationships/hyperlink" Target="http://www.cultcorp.ru/doc" TargetMode="External"/><Relationship Id="rId6" Type="http://schemas.openxmlformats.org/officeDocument/2006/relationships/hyperlink" Target="http://www.cultcorp.ru/doc" TargetMode="External"/><Relationship Id="rId7" Type="http://schemas.openxmlformats.org/officeDocument/2006/relationships/hyperlink" Target="http://www.cultcorp.ru/doc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51080" y="718920"/>
            <a:ext cx="4584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Координаты</a:t>
            </a:r>
            <a:br>
              <a:rPr sz="4800"/>
            </a:b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вокруг на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74680" y="3890520"/>
            <a:ext cx="23875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Сычёва 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Беспёрстов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Васильева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24040" y="693720"/>
            <a:ext cx="1795320" cy="1797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176" name="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/>
              <a:ahLst/>
              <a:rect l="l" t="t" r="r" b="b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184" name="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/>
              <a:ahLst/>
              <a:rect l="l" t="t" r="r" b="b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192" name="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/>
              <a:ahLst/>
              <a:rect l="l" t="t" r="r" b="b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200" name="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/>
              <a:ahLst/>
              <a:rect l="l" t="t" r="r" b="b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208" name="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/>
              <a:ahLst/>
              <a:rect l="l" t="t" r="r" b="b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216" name="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/>
              <a:ahLst/>
              <a:rect l="l" t="t" r="r" b="b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224" name="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226" name="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/>
                <a:ahLst/>
                <a:rect l="l" t="t" r="r" b="b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233" name="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/>
              <a:ahLst/>
              <a:rect l="l" t="t" r="r" b="b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85840" y="1106280"/>
            <a:ext cx="491976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Цель работы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3909960"/>
            <a:ext cx="5456520" cy="13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асширить и углубить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знания по теме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Координатная плоскость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16640" y="4378320"/>
            <a:ext cx="1339920" cy="2007720"/>
            <a:chOff x="7316640" y="4378320"/>
            <a:chExt cx="1339920" cy="2007720"/>
          </a:xfrm>
        </p:grpSpPr>
        <p:sp>
          <p:nvSpPr>
            <p:cNvPr id="121" name=""/>
            <p:cNvSpPr/>
            <p:nvPr/>
          </p:nvSpPr>
          <p:spPr>
            <a:xfrm rot="18900000">
              <a:off x="7561440" y="4558680"/>
              <a:ext cx="32364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100000">
              <a:off x="7484760" y="4481280"/>
              <a:ext cx="495360" cy="491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43960" y="5721120"/>
              <a:ext cx="457200" cy="45684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6200000">
              <a:off x="7608960" y="534780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782120" y="6065640"/>
              <a:ext cx="312480" cy="317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100000">
              <a:off x="7464240" y="5003280"/>
              <a:ext cx="71604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37600" y="5754240"/>
              <a:ext cx="318960" cy="631800"/>
            </a:xfrm>
            <a:custGeom>
              <a:avLst/>
              <a:gdLst/>
              <a:ahLst/>
              <a:rect l="l" t="t" r="r" b="b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35280" y="780840"/>
            <a:ext cx="318312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Задач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8280" y="2421000"/>
            <a:ext cx="7826400" cy="31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дборка материала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Реферат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резентация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россворд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оординатный рисунок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Социологический опрос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оординатные загадки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31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Рене Декарт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46360" y="1325520"/>
            <a:ext cx="4383000" cy="55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1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11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ДЕКАРТ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(Descartes) Рене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11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атинизированное — Картезий - Cartesius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1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Родился 31 марта 1596, Лаэ, Турень, Франция 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Умер 11 февраля 1650, Стокгольм,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11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Французский философ, математик, физик и физиолог, основатель новоевропейского рационализма и один из влиятельнейших метафизиков Нового времен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1440" y="1376280"/>
            <a:ext cx="3355920" cy="4722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874440"/>
            <a:ext cx="65278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Где используется система координат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4640" y="2773440"/>
            <a:ext cx="4600800" cy="28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строномия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Географ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Проектирование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Философии быт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967440" y="4782600"/>
            <a:ext cx="1726920" cy="1543680"/>
            <a:chOff x="6967440" y="4782600"/>
            <a:chExt cx="1726920" cy="1543680"/>
          </a:xfrm>
        </p:grpSpPr>
        <p:sp>
          <p:nvSpPr>
            <p:cNvPr id="144" name=""/>
            <p:cNvSpPr/>
            <p:nvPr/>
          </p:nvSpPr>
          <p:spPr>
            <a:xfrm flipH="1">
              <a:off x="6967440" y="5451480"/>
              <a:ext cx="325440" cy="322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8900000">
              <a:off x="7174800" y="5595480"/>
              <a:ext cx="498600" cy="4953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3500000">
              <a:off x="7299360" y="4938840"/>
              <a:ext cx="746280" cy="731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91080" y="514188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13500000">
              <a:off x="7831440" y="5463360"/>
              <a:ext cx="714240" cy="714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37240" y="5845320"/>
              <a:ext cx="657360" cy="347400"/>
            </a:xfrm>
            <a:custGeom>
              <a:avLst/>
              <a:gdLst/>
              <a:ahLst/>
              <a:rect l="l" t="t" r="r" b="b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02240" y="54626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43080" y="190440"/>
            <a:ext cx="683568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Системы координат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бывают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9080" y="1794960"/>
            <a:ext cx="4485960" cy="386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дномер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Двухмерная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Трехмер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  <a:hlinkClick r:id="rId3"/>
              </a:rPr>
              <a:t>Четырёхмер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  <a:hlinkClick r:id="rId4"/>
              </a:rPr>
              <a:t>Поляр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048440" y="4619520"/>
            <a:ext cx="1411200" cy="2067840"/>
            <a:chOff x="7048440" y="4619520"/>
            <a:chExt cx="1411200" cy="2067840"/>
          </a:xfrm>
        </p:grpSpPr>
        <p:sp>
          <p:nvSpPr>
            <p:cNvPr id="154" name=""/>
            <p:cNvSpPr/>
            <p:nvPr/>
          </p:nvSpPr>
          <p:spPr>
            <a:xfrm flipH="1" rot="2700000">
              <a:off x="7833240" y="555948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13500000">
              <a:off x="7242840" y="582480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16200000">
              <a:off x="7620120" y="462096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5400000">
              <a:off x="7738920" y="508464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8100000">
              <a:off x="7580520" y="517284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48440" y="5327640"/>
              <a:ext cx="687240" cy="234720"/>
            </a:xfrm>
            <a:custGeom>
              <a:avLst/>
              <a:gdLst/>
              <a:ahLst/>
              <a:rect l="l" t="t" r="r" b="b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51640" y="467676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0560" y="31608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Результат проделанной работы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4200" y="2506680"/>
            <a:ext cx="7826400" cy="30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резентация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ферат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Кроссворд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оординатный рисунок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циологический опрос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оординатные загадки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5680" y="379080"/>
            <a:ext cx="4203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Заключение</a:t>
            </a: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6800" y="1808280"/>
            <a:ext cx="78264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 результате проделанной работы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мы узнали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Что такое координатная плоскость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Где используются координаты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кие системы координат бывают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Где мы встречаемся с ними в жизни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166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20840" y="950760"/>
            <a:ext cx="5410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Литература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2320" y="2696760"/>
            <a:ext cx="730548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БЭКМ, БЭ, </a:t>
            </a: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3"/>
              </a:rPr>
              <a:t>www</a:t>
            </a: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5"/>
              </a:rPr>
              <a:t>cultcorp</a:t>
            </a: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7"/>
              </a:rPr>
              <a:t>ru/doc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Л. Босова.Учебник информатики за 5 класс. «Бином», 2005г. Стр.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29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1:10Z</dcterms:created>
  <dc:creator>Oleg</dc:creator>
  <dc:description/>
  <dc:language>en-US</dc:language>
  <cp:lastModifiedBy>женёк</cp:lastModifiedBy>
  <dcterms:modified xsi:type="dcterms:W3CDTF">2007-01-28T12:04:52Z</dcterms:modified>
  <cp:revision>33</cp:revision>
  <dc:subject/>
  <dc:title>Координаты вокруг н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