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17F-546C-4049-BB27-4844387F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BDF-8CE7-4F82-B96C-6B42716D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182-9A59-449F-9D9E-C830934E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CFB-B4A8-4BE3-B7FF-2A8591F2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D970-83C0-45A6-9366-BE2BD550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A8B5-DFC0-4042-A6E8-ABCFDD4A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E4EB-EA6F-4EC7-94AA-2326B638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815B-F12B-4120-9EF8-96D07698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4B9F-6EC6-404A-9E2B-B6BAF9BA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8B22-93B2-4012-9550-52A60B6A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F953-282D-4606-BCBB-8D69B586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FD4-BF04-4CF4-BBF5-0FEEC6F7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6584-C942-4DD8-A128-14AD1B88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F650-417B-43B9-B2E3-462BB0E8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4DAB-87D3-4B6D-9E54-B3954DF7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0BAB-341C-481F-B8AD-A5A9E303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47D4-EB51-424C-BF26-7534B29A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145-B621-47AE-8B6E-E539A891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46B-F81B-45E2-AF29-10E681F7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28B-DB22-4655-8208-EDC25E0B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AD5-8866-4BF7-B04E-97CC4BDF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95C-CAB9-4F22-8E9E-2ACAD62B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013-6CE9-42B4-A862-97011944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08E-2FEE-416E-AC54-AFC83A69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3455-FF2C-4A95-B875-DA3122AA68AD}" type="slidenum">
              <a:rPr b="0" lang="en-US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7C0E-F1D9-4B70-8068-9E424191DCF3}" type="slidenum">
              <a:rPr b="0" lang="en-US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лярна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Полярная система координат используется при создании компас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Определение место нахождения на карте, глобусе, земле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4:15:34Z</dcterms:created>
  <dc:creator>Lazy ReLax</dc:creator>
  <dc:description/>
  <dc:language>en-US</dc:language>
  <cp:lastModifiedBy>Lazy ReLax</cp:lastModifiedBy>
  <dcterms:modified xsi:type="dcterms:W3CDTF">2007-01-25T14:55:28Z</dcterms:modified>
  <cp:revision>2</cp:revision>
  <dc:subject/>
  <dc:title>полярная</dc:title>
</cp:coreProperties>
</file>