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993-DBFC-404E-B69C-CFA885ED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2E4-ED0F-4029-9929-193BA6B6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706F0-BD35-4EF5-A3C6-1E2B2955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9538C-5D18-483B-923A-F55AF471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7FD5-EE0E-44D8-8214-BCD35E77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190FA-AD41-472A-B746-351CEC4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0C362-2980-4137-B9E1-F5B47E8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9B0B9-3ABB-4E55-9BC7-AD7179D2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D777A-5AE2-4A13-A938-F4F7D222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255D6-80ED-435C-B85C-A3BA360C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7DB86-F3A5-4F3C-BF1D-2C6D737E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068E2-9516-4183-AB8B-FC3D1538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90B-E70F-4F4D-A1A3-B15EC07E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57CDC2-6EDC-4607-911C-62FD9D28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1AB685-6DC9-4F33-A084-5316B095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8E870B-89DF-4682-AC30-4468DBB3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AA5A96-6B6E-4B72-8CAA-0B0F6A66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89AD25-144C-4DD6-B9BE-EC17433F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588228-4C09-4C53-B40C-E52CAD51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4A5212-AD88-4B26-B4A3-AED26106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1031EB-7CD0-40BA-9956-0DEEB022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2119A6-89DD-43AA-918D-3DD31270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4319C6-9416-4D48-956B-1D1385FE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7D6-8A2B-46B4-97A1-D0D6D86C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7DDAB1-1EE1-40BD-B36D-6E3FE7B0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D4AAD-92C9-4DC7-AFAE-958444E4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B1DBA-D776-42A7-A0EE-9FDBD286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E839A-6C24-4991-A1CD-7F23CDE4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887B5-EC72-4D14-B76E-2571E314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43710-2C84-43DE-B931-BE589F88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6C8A9-9AD4-4A1A-B44E-3076986F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1A6F5-D004-40D0-8826-172CECE4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81511-CEC0-41AF-9BEF-7FA9383A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30163-C3F5-4C64-A416-E43606F7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7A16-EE7C-41D4-9D8D-903358B8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7FBA8-95A3-4D4B-A197-6B14936D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A589A-AC0F-4CB7-BF30-F41EB5FF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9D57D-8C47-465B-9384-AE8E5641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63F0B-7DA0-4CEF-9B0B-525C66C4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0FB08-CD94-4995-AD1F-937FB3E8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CA907-C213-439C-91CC-D6916B6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FF562-D79E-4955-B395-8D8FAAFE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7C917-8097-4145-9C5F-11DA7187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5C079-C214-4F36-B38D-AD86FF5A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46C01-D391-4233-B0DC-583BEE5A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B05F-797F-45EF-A623-F2D53ACC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0C100-4F8A-4A9A-B70F-03EFF4C7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DA0C5-F462-44B1-A648-339FC2C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8D422-93A4-4B54-9DF8-FFB61387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5DD08-E72D-44A8-87B2-97465AE5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0CA37-25A1-4B1C-863C-BBA6CA32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C0BCC-736C-4BC7-B50C-18F4FD42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62C6A-D1F1-443F-BE81-011C0ED5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B9D34-DD04-42BD-A15A-B6FD37BC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47B2E-CC53-481C-8BAB-6D626730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4D6E41-5A87-4937-BB6B-30551A40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8525-0DCB-4784-98E1-285F8298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6601F-7C53-4876-8BE3-0911A927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F93E9-1701-4AB8-AA63-C5F3F1C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C1A5C-E754-44C2-BD5D-D79813E8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C19B9-3978-4E58-8A53-FCAAEFBF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210D66-5786-4A48-A839-EA1E9C04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730F0-7784-4C03-9CEF-38AA2AB3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9185A-D50E-4E9D-B47B-33D8C46B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F231F-26BA-4688-958D-8FC8E43B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01756-64B6-4942-9418-E336A97F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8D679-2EA8-44AD-819A-35941CAF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36BE-29ED-4201-B01B-442299A5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B2616-6FC0-4BE7-9CDB-D81301B0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9DA2B-D95A-4F3B-BBCE-4A3BBDAE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E86D0-2297-4C24-BAAB-294A53C4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EBFAF-2B9C-476E-A795-014797C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290E3-561B-479A-AF7B-71369A65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6AEFB-0C3B-45BF-805A-BC3D1715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96457-63AB-48CB-B564-04A7DCCF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11AD0-6B82-4F7B-8C17-BDDF074A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F1823-15B8-4AD1-8A61-8C144360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9C5E70-DB19-4B9D-89FF-B3ECD24A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2FFC-C4AA-4EAF-9CF1-C9A57D2B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36E3DD-436B-46F3-838D-0AFF469A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7CA7D6-E6E8-4B35-8A9D-46290AB2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72B0A0-F1D7-4294-BF2C-FB5EC58A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F76EBF-391A-4D55-B72A-81ACD0BB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C4B40D-B755-4712-B4E6-B6BED19E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A30956-2457-4327-A5E0-94130E09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4712BA-FF93-4BCA-8899-4464CD9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287B83-73F0-49E5-9A71-EA89E6B3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52AB1C-ED3B-4B4C-989A-0B7241F2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345143-F590-4BE0-836D-03BBC211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B231-1A17-45F8-8F98-3B79CAF4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AE265F-FCE8-4C79-8951-E8210309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42471-0FAC-4E02-AA18-34733F57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06433-4E57-4D9B-817C-88C03485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DD0B7-9631-499E-BA11-12F09D1B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F373A-DB71-49FC-8425-0EBAD4D0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4E29C-DD87-471D-A148-53B6174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39329-3101-4ADA-9DC1-2BAAFF8C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03591-45D3-4249-9BD9-4832088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A5E16-3DE1-4E82-BB27-0C24611F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8054A-A8E8-4A86-8B86-A1DF236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178E-AF63-4C92-B71C-07F9243D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C2484-80FD-45FB-B287-6D7A4FE0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0BBBA-2A3A-4AA4-AE17-B0D2C892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D20E07-FC14-4E7F-8E54-3BDE2026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40658-B841-4A3E-B9A5-FCF1A258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83DF4-7E15-49A0-858F-900FB18A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66BF5-0FD3-41B7-81A2-AE216D0A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E4731-5D11-4467-8F4F-922C8129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6B3C8-A00B-4A73-BE8C-32DBAD9A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619B48-8D0A-4A86-82B7-A8ED026F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FDA8D-A11D-48A8-8233-35816FDB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5E5-0782-4AB3-AD7C-13BE7E0B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595-FCB1-42BD-9FF9-6BFE655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185BA-133F-488F-A7A0-12800B6E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B95A8-4C82-4875-A746-AD7BB53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F92AA-F5D2-40E7-8EF5-ECFBDD59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4E4B02-6FFF-458E-BC3F-477ABE46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E0E44-1620-47DC-8793-1F95E9D6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CFB8A9-C78A-4DBF-B89A-062CA2DA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8CD14-0442-4ADD-8BE2-BEC23464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15111-6E3F-4F07-A89E-C6E74921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56716-06CF-4CD6-862A-C447C791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CF6CF-7555-4414-BF7E-1FA28D8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864A-C64C-4CB0-8A5F-4555B104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B0EEC-85E4-4CA1-86E3-2B5F71A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A3E31-832C-43A3-8A34-E307BCD0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89973-4ABA-421A-ADCB-7C88B4E1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7065EA-318B-4507-BC19-71869F6F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0C33F-E9D6-4002-853E-DA9AD87F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D5425-222F-4AFC-ABC1-82ADF0DA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D5263-9CE5-4C94-BDEC-AA7F271C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8544D5-89B8-4233-81BF-E3EC4AFB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DFE03-8AC4-4EDF-BB8B-72498161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C21B32-8B9A-4DED-87FE-1964A51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6C35-B17F-4C25-8EE1-A742972D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397A9-D5E9-4DB6-A744-90D59939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2980D-FDD5-4F9E-871C-DC1C09D8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D4CE1-828E-44DD-8C33-84412DF6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EA654-408E-495B-838A-85CEF56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A01BB-FD80-4932-BDDE-94CDBBE3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5A69A-4206-47C2-8CF4-558D05E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37D56-D3F1-4817-84B1-06A3E05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0096D-137C-4DA0-A078-2A01D3CC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54E50-0E43-4740-AFC1-045EDEF6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9FFF9-EC30-4A10-AF8C-A21462B1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AA1A-5174-4BF5-BA03-1BCA8272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35326F-13F6-4F8D-A5EF-35293C8E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2BF3BC-AC77-446F-B6EF-53D62512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736BD-DCA8-4047-92A0-5F8637CB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A0312-0AEA-42AF-9A10-C2D983DD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F90EAC-AFE4-46B1-A984-376319E8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66B6A1-FF58-48E6-BF46-CEBE993D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46428-107D-4FFE-B2EF-E7E17A24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16632-3DD8-466A-90C6-8AC5B75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96B78-9A7A-4CC7-AF39-CEAECFAF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D307EE-C331-45CD-ADA8-69D141ED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5118-2BB3-4F78-ACFD-5D00D216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E9D5F-22CF-47E8-91D5-F45065E6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64ED-48E1-4228-8EB7-C8F07853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D863-0D61-4B61-99ED-33437206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27AB-F128-4969-90A8-56554B11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E9A3-A0D8-4B0A-8E41-E9E1F6FB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63BF-4323-46D2-B40F-1319B1EB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B2B-6A0F-4C45-8125-44E0C03A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31CE-C557-4064-B95E-F94B0747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796B-BEBF-4C3F-9B0A-AFC30C75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3E53-4563-41D0-BBE9-C9EF7EB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3F7A-A28B-4B36-A1CD-C6BB5F90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4610-347E-4B13-A56D-4F627761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2A5D-D63F-42F4-84BC-457A12EB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B984-3EF1-4077-88AA-D2563BD5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A0F92-C6D6-4E10-8307-F4E6CE66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9FA7-B066-446D-A31E-36CCAC0A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24CED-7166-44C4-BB6E-074186DE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64F-0B16-4BFF-A1F1-4E997C52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678ED-EB7A-4F4F-B39B-68497195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84D5-A179-43AF-8329-9AF5D2A8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347F-8BAF-4C26-992B-F5D8319F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0043-12FC-4971-9B0D-7F8FCEE7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CA713-BF06-42CD-9ED9-BFD2E8F7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4533-626A-4C96-A27D-6021B0A8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B894-F8A3-48E9-B5AD-A07EF7D3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4E44-B9C9-42CB-B5E6-90773E02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F8FD-B171-4068-91AD-F8BFF91D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B030B-4158-4330-A14D-7175A9A9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9E9-7F3A-4FB0-8010-7BA15A50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19EB-391C-4855-88D6-D7B103BD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7359B-DFFA-4E73-9792-4ACDF729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EBF16-60A6-489E-8782-98212B62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9EB98-D516-4204-B356-E2A124F8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81803-4B73-4B0B-B07E-CEF19F24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489E-C837-434A-A2C8-38BCC57D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FA87-72CC-4517-A856-3AF0176E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80A6-2993-48CD-8862-2FD62D6E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AD668-5CA5-4D5F-A586-5BBE5C0E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9A24C-85D9-46C8-8244-65854EC3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E9E-CFD9-4CD6-B547-683D5795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23B57-2EC5-4B4E-9E08-5B9BD49B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A43CB-DC78-40D0-A041-50D47C9B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5486C-89E2-461C-8375-E3CB2C57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C9F6-99F8-4B6B-9DE8-BD55663A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CE92E-9DF9-485C-85EC-1AC9C9AC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05A6D-C044-4FB3-B938-7C03A96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160E4-0C20-4EC6-9F0B-52C32C1D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0BB16-AFE4-4E3E-8D05-419AB71C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6BD7-8136-4F4B-8F25-6D1376AD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6D7B-2B34-4437-8475-EAAF7CA9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F4D-FCD0-43A4-947B-81872C75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04259-5F17-492B-A4EB-9953DD1C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8985D-672D-4B78-8AD8-208C0B9C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E871-E62F-447F-BDF6-C12B530B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53FA4-997D-4228-AD98-6D1F6151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415DB-A0BE-4014-A46C-C41B4765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14327-9F7C-49DB-B913-7B3FC1F2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5DD6E-C0C5-46B2-8B6C-0670008D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2C99-94BE-4DA6-ADFA-783215BC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CB20B-1EE7-4914-9427-F0949B10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06A7A-A2EC-4393-8492-68854BF6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E20-6965-434F-AF9F-4A03907D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89A3-CA5A-440F-9719-C0AC210A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CE623-509A-4D2D-B80C-2480BEF4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A01C-40CF-4E34-A3E8-68CB4319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285C9-65A9-4571-AE23-DB93632A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27D0-49D7-492E-975C-A786E0BF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E70B0-17CC-4519-902E-2EBAC753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F35B8-9F9E-4D38-82F6-711C6959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F005-9B30-44D1-92F7-DF4CB650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C1CDD-3EA2-4770-A7F3-1A25FF92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2E513-B64F-45FD-AD74-81E3E8F9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8BB-89BD-4F16-8C40-C8EC2BE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0FAB4-B7B5-4DD8-88E1-8856435E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CDB34-CE92-4F19-93A5-0372701E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46FE8-9F4C-44CC-8465-56927A9F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8C1B7-6B63-4FD5-A786-97DE83D9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2C157-C3D6-416A-AE9C-4D942525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7A13-22F2-4352-A9FE-B34C1B36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B6F04-4439-417A-A810-2829D4EE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388CD-71CC-4AED-BE9E-B6516B4B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9AA21-4FA5-45C2-AB4D-2F1052DE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5168-E575-4483-BE40-E891CFD4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7D82-1035-40E9-9B0E-244CF3805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6277-CCE8-4D4F-8038-95736ECC3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2BD7-B307-4F60-881A-70D95BC81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6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89E1-9916-49AA-AFA4-E9E7B8113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FD7E-1F01-4A95-AEA8-E6797B50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7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8721-9BC6-421A-801E-C91B7D976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EE8E-32C6-464D-B0ED-843D5A49A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7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7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C2DE-3AF2-481D-B023-885494413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989C-CCFB-4007-B304-56F188270F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34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21B2-A8BF-46C8-9A24-396BED23FB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907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879B-F960-4611-B1B2-DD303EAEAF2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AF55-8CB9-441C-98F9-863BF5363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6841-D3F4-41B4-BF3F-F2CA833992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3CF8-5DAC-4CD3-8BB0-73BF2EF499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8383-D81E-432A-A97A-528DCE8027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4680-61F2-42BF-BAC1-922EEEDFA2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A3C0-FA74-4662-89F0-4F0CBCBE4C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F672-4C42-4327-ADB6-3C489542D4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5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E01F-9E45-4895-8DBD-89093CFADA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503-ACD1-4803-8B6E-8380B1425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0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5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457200" y="1052640"/>
            <a:ext cx="85075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Tahoma"/>
              </a:rPr>
              <a:t>Системи обробки текстів – </a:t>
            </a:r>
            <a:r>
              <a:rPr b="0" lang="uk-UA" sz="1500" spc="-1" strike="noStrike">
                <a:solidFill>
                  <a:srgbClr val="ffffff"/>
                </a:solidFill>
                <a:latin typeface="Tahoma"/>
              </a:rPr>
              <a:t>програми для створення, редагування і друку текстових документі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1500" spc="-1" strike="noStrike">
                <a:solidFill>
                  <a:srgbClr val="ffffff"/>
                </a:solidFill>
                <a:latin typeface="Tahoma"/>
              </a:rPr>
              <a:t>Найбільш розповсюджені текстові процесори: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Microsoft Word, Word Perfect, Open Offic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ahoma"/>
              </a:rPr>
              <a:t>У нинішній час найбільше розповсюдження отримав текстовий процесор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Microsoft Word д</a:t>
            </a:r>
            <a:r>
              <a:rPr b="0" lang="uk-UA" sz="1500" spc="-1" strike="noStrike">
                <a:solidFill>
                  <a:srgbClr val="ffffff"/>
                </a:solidFill>
                <a:latin typeface="Tahoma"/>
              </a:rPr>
              <a:t>ля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0" lang="uk-UA" sz="1500" spc="-1" strike="noStrike">
                <a:solidFill>
                  <a:srgbClr val="ffffff"/>
                </a:solidFill>
                <a:latin typeface="Tahoma"/>
              </a:rPr>
              <a:t>з інтегрованого пакету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Microsoft Office</a:t>
            </a:r>
            <a:r>
              <a:rPr b="0" lang="uk-UA" sz="15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539640" y="333360"/>
            <a:ext cx="8471160" cy="6732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062" name=""/>
          <p:cNvSpPr/>
          <p:nvPr/>
        </p:nvSpPr>
        <p:spPr>
          <a:xfrm>
            <a:off x="971640" y="2852640"/>
            <a:ext cx="619272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92297"/>
                </a:solidFill>
                <a:latin typeface="ArbatDi"/>
              </a:rPr>
              <a:t>Основні можливості текстових процесор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3645000"/>
            <a:ext cx="129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Макро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4076640"/>
            <a:ext cx="17287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користа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графі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68360" y="4797360"/>
            <a:ext cx="194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Форматуван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окум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547640" y="5373720"/>
            <a:ext cx="2303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бробк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екількох документ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76720" y="4508640"/>
            <a:ext cx="1800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мпорт да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 інших прогр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2339640" y="342900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340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1763640" y="335772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7280" y="3645000"/>
            <a:ext cx="12254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еревір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авопис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451640" y="3429000"/>
            <a:ext cx="1008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аблиц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300720" y="3933720"/>
            <a:ext cx="2232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ведення 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едагування тек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88000" y="5373720"/>
            <a:ext cx="216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передні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ерегляд і др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771640" y="3429000"/>
            <a:ext cx="648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95640" y="3357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0072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308720" y="306864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227640" y="335772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435640" y="3357720"/>
            <a:ext cx="1008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2484000" y="3429000"/>
            <a:ext cx="5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810108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0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900"/>
                            </p:stCondLst>
                            <p:childTnLst>
                              <p:par>
                                <p:cTn id="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940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21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31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41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46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66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6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86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960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10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100"/>
                            </p:stCondLst>
                            <p:childTnLst>
                              <p:par>
                                <p:cTn id="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210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31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410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85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0066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‘</a:t>
            </a:r>
            <a:r>
              <a:rPr b="1" lang="uk-UA" sz="2000" spc="-1" strike="noStrike">
                <a:solidFill>
                  <a:srgbClr val="330066"/>
                </a:solidFill>
                <a:latin typeface="Arial"/>
                <a:ea typeface="Arial"/>
              </a:rPr>
              <a:t>єкти в документах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Microsoft Word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учасні потужні текстові процесори, до яких належить і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Word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дають можливість не лише вводити та редагувати текст, але й розміщувати в документі о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ти різних типів, створені за допомогою інших прог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Вставка→О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єкт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. Тип о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єкта діалогове вікно Вставка о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єкта, яке відкриває вказано вище команд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Всавка малю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Вставка →Малюнок→ З фай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5435640" y="4365720"/>
          <a:ext cx="286236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4365720"/>
                    <a:ext cx="286236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6" name=""/>
          <p:cNvGrpSpPr/>
          <p:nvPr/>
        </p:nvGrpSpPr>
        <p:grpSpPr>
          <a:xfrm>
            <a:off x="5644440" y="7200"/>
            <a:ext cx="3453480" cy="3021120"/>
            <a:chOff x="5644440" y="7200"/>
            <a:chExt cx="3453480" cy="3021120"/>
          </a:xfrm>
        </p:grpSpPr>
        <p:sp>
          <p:nvSpPr>
            <p:cNvPr id="1157" name="_s153628"/>
            <p:cNvSpPr/>
            <p:nvPr/>
          </p:nvSpPr>
          <p:spPr>
            <a:xfrm>
              <a:off x="5644440" y="438840"/>
              <a:ext cx="2590200" cy="2589480"/>
            </a:xfrm>
            <a:prstGeom prst="donut">
              <a:avLst>
                <a:gd name="adj" fmla="val 8333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_s153629"/>
            <p:cNvSpPr/>
            <p:nvPr/>
          </p:nvSpPr>
          <p:spPr>
            <a:xfrm>
              <a:off x="8580240" y="1239840"/>
              <a:ext cx="517680" cy="246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_s153618"/>
            <p:cNvSpPr/>
            <p:nvPr/>
          </p:nvSpPr>
          <p:spPr>
            <a:xfrm>
              <a:off x="5860800" y="655200"/>
              <a:ext cx="2158560" cy="2157840"/>
            </a:xfrm>
            <a:prstGeom prst="donut">
              <a:avLst>
                <a:gd name="adj" fmla="val 1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_s153619"/>
            <p:cNvSpPr/>
            <p:nvPr/>
          </p:nvSpPr>
          <p:spPr>
            <a:xfrm>
              <a:off x="8580240" y="993240"/>
              <a:ext cx="517680" cy="246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_s153626"/>
            <p:cNvSpPr/>
            <p:nvPr/>
          </p:nvSpPr>
          <p:spPr>
            <a:xfrm>
              <a:off x="6076080" y="870480"/>
              <a:ext cx="1726920" cy="1726200"/>
            </a:xfrm>
            <a:prstGeom prst="donut">
              <a:avLst>
                <a:gd name="adj" fmla="val 125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_s153627"/>
            <p:cNvSpPr/>
            <p:nvPr/>
          </p:nvSpPr>
          <p:spPr>
            <a:xfrm>
              <a:off x="8580240" y="746640"/>
              <a:ext cx="517680" cy="246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_s153620"/>
            <p:cNvSpPr/>
            <p:nvPr/>
          </p:nvSpPr>
          <p:spPr>
            <a:xfrm>
              <a:off x="6292440" y="1086840"/>
              <a:ext cx="1295280" cy="129456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_s153621"/>
            <p:cNvSpPr/>
            <p:nvPr/>
          </p:nvSpPr>
          <p:spPr>
            <a:xfrm>
              <a:off x="8580240" y="500400"/>
              <a:ext cx="517680" cy="246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_s153624"/>
            <p:cNvSpPr/>
            <p:nvPr/>
          </p:nvSpPr>
          <p:spPr>
            <a:xfrm>
              <a:off x="6508080" y="1302120"/>
              <a:ext cx="863280" cy="862920"/>
            </a:xfrm>
            <a:prstGeom prst="donut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_s153625"/>
            <p:cNvSpPr/>
            <p:nvPr/>
          </p:nvSpPr>
          <p:spPr>
            <a:xfrm>
              <a:off x="8580240" y="253800"/>
              <a:ext cx="517680" cy="246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_s153622"/>
            <p:cNvSpPr/>
            <p:nvPr/>
          </p:nvSpPr>
          <p:spPr>
            <a:xfrm>
              <a:off x="6724080" y="1518480"/>
              <a:ext cx="431640" cy="43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_s153623"/>
            <p:cNvSpPr/>
            <p:nvPr/>
          </p:nvSpPr>
          <p:spPr>
            <a:xfrm>
              <a:off x="8580240" y="7200"/>
              <a:ext cx="517680" cy="246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169" name=""/>
          <p:cNvGraphicFramePr/>
          <p:nvPr/>
        </p:nvGraphicFramePr>
        <p:xfrm>
          <a:off x="5867280" y="3500280"/>
          <a:ext cx="2470320" cy="213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500280"/>
                    <a:ext cx="24703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9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2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8" dur="500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8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7" nodeType="after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 0.124 -0.16651 C 0.124 -0.0746 0.179 -0.00133 0.248 -0.00133 C 0.179 -0.00133 0.125 0.0746 0.125 0.16651 C 0.125 0.0746 0.069 0 0 0 Z">
                                      <p:cBhvr>
                                        <p:cTn id="808" dur="20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25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8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6500"/>
                            </p:stCondLst>
                            <p:childTnLst>
                              <p:par>
                                <p:cTn id="8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8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500"/>
                            </p:stCondLst>
                            <p:childTnLst>
                              <p:par>
                                <p:cTn id="8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2500"/>
                            </p:stCondLst>
                            <p:childTnLst>
                              <p:par>
                                <p:cTn id="8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4500"/>
                            </p:stCondLst>
                            <p:childTnLst>
                              <p:par>
                                <p:cTn id="856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Використання таблиць і друк документів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69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Таблиця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Вставити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Таблиця. Ви зайдете  контекстне меню, у якому можна знайти значення таких параметрів, як кількість стовпців і рядків, ширина стовпця та інш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10199"/>
                </a:solidFill>
                <a:latin typeface="Tahoma"/>
              </a:rPr>
              <a:t>Нумерування сторінок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Для нумерування сторінок використовується команда Вставка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Номери сторінок. Де можна пронумерувати сторінки з 1 до останньої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Колонтиту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Колонтитул – це данні під основним текстом. (Вигляд Колонтитул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6948360" y="260280"/>
          <a:ext cx="186552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260280"/>
                    <a:ext cx="18655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5" name=""/>
          <p:cNvGraphicFramePr/>
          <p:nvPr/>
        </p:nvGraphicFramePr>
        <p:xfrm>
          <a:off x="5619600" y="0"/>
          <a:ext cx="3524400" cy="17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19600" y="0"/>
                    <a:ext cx="35244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7" name="" descr=""/>
          <p:cNvPicPr/>
          <p:nvPr/>
        </p:nvPicPr>
        <p:blipFill>
          <a:blip r:embed="rId6"/>
          <a:stretch/>
        </p:blipFill>
        <p:spPr>
          <a:xfrm>
            <a:off x="4788000" y="3933720"/>
            <a:ext cx="40384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8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020"/>
                            </p:stCondLst>
                            <p:childTnLst>
                              <p:par>
                                <p:cTn id="8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8020"/>
                            </p:stCondLst>
                            <p:childTnLst>
                              <p:par>
                                <p:cTn id="8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8020"/>
                            </p:stCondLst>
                            <p:childTnLst>
                              <p:par>
                                <p:cTn id="9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20"/>
                            </p:stCondLst>
                            <p:childTnLst>
                              <p:par>
                                <p:cTn id="9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1020"/>
                            </p:stCondLst>
                            <p:childTnLst>
                              <p:par>
                                <p:cTn id="9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77336E-006 L -0.06302 0.3462 E">
                                      <p:cBhvr>
                                        <p:cTn id="916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9520"/>
                            </p:stCondLst>
                            <p:childTnLst>
                              <p:par>
                                <p:cTn id="9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250" autoRev="1" fill="hold"/>
                                        <p:tgtEl>
                                          <p:spTgt spid="1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31828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Розділ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crosoft Word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розділ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це частина документа, в межах якої формат сторінок є однаковим. Для створення нового розділу  слід встановити курсор у те місце документа, де він має 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  <a:ea typeface="Arial"/>
              </a:rPr>
              <a:t>явитися,і виконати команду Вставка → Розри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  <a:ea typeface="Arial"/>
              </a:rPr>
              <a:t>Друк Документів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  <a:ea typeface="Arial"/>
              </a:rPr>
              <a:t>Файл → Друк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Тип принтера; кількість друкованих копій ; діапазон друкованих сторіно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Параметри: чернетковий; фоновий ; графічні об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  <a:ea typeface="Arial"/>
              </a:rPr>
              <a:t>єк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  <a:ea typeface="Arial"/>
              </a:rPr>
              <a:t>Після встановлення необхідних параметрів потрібно клацнути на кнопку Ок. На екрані буде виведено вікно з повідомленням про друк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7093080" y="2133720"/>
          <a:ext cx="168264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2133720"/>
                    <a:ext cx="168264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1" name=""/>
          <p:cNvSpPr txBox="1"/>
          <p:nvPr/>
        </p:nvSpPr>
        <p:spPr>
          <a:xfrm>
            <a:off x="468360" y="620640"/>
            <a:ext cx="374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зді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6300720" y="4149720"/>
          <a:ext cx="255132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149720"/>
                    <a:ext cx="255132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 txBox="1"/>
          <p:nvPr/>
        </p:nvSpPr>
        <p:spPr>
          <a:xfrm>
            <a:off x="5796000" y="620640"/>
            <a:ext cx="280836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ук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500"/>
                            </p:stCondLst>
                            <p:childTnLst>
                              <p:par>
                                <p:cTn id="9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500"/>
                            </p:stCondLst>
                            <p:childTnLst>
                              <p:par>
                                <p:cTn id="9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6500"/>
                            </p:stCondLst>
                            <p:childTnLst>
                              <p:par>
                                <p:cTn id="9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1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1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33"/>
                </a:solidFill>
                <a:latin typeface="Garamond"/>
              </a:rPr>
              <a:t>Використовувані джерел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лгебра, геометрія та інформатика в таблиц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втори: Рогін О.М.;Дергачев В.А. Малярчук С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азовий курс інфор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втори: В.Д. Руденко, О.М, Макарчук, М.О. Патланжог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843280" y="4724280"/>
            <a:ext cx="40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якую за уваг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1" dur="5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2000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767560" cy="430020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 txBox="1"/>
          <p:nvPr/>
        </p:nvSpPr>
        <p:spPr>
          <a:xfrm>
            <a:off x="324000" y="189000"/>
            <a:ext cx="822960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овнішній вигляд вікна працюючого Word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859280" y="6021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340000" y="3357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84360" y="1773360"/>
            <a:ext cx="0" cy="158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700360" y="177336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780000" y="21337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780000" y="1773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148360" y="1773360"/>
            <a:ext cx="0" cy="64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308720" y="1700280"/>
            <a:ext cx="0" cy="187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867280" y="3573360"/>
            <a:ext cx="1441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187280" y="1200240"/>
            <a:ext cx="1872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Горизонтальна та вертикальна ліній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059280" y="1197000"/>
            <a:ext cx="180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Рядок меню програ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003640" y="1197000"/>
            <a:ext cx="1800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Панель інструменті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093080" y="1197000"/>
            <a:ext cx="1295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Автофігу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1331640" y="5516640"/>
            <a:ext cx="136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195640" y="544500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411280" y="544500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484360" y="544500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56000" y="544500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700360" y="544500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9280" y="522936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Кнопка вигляд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740720" y="5084640"/>
            <a:ext cx="64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308720" y="530064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Помічник з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788000" y="4149720"/>
            <a:ext cx="331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343640" y="3860640"/>
            <a:ext cx="18003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Картинк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p 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211640" y="5950080"/>
            <a:ext cx="0" cy="43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556000" y="6381720"/>
            <a:ext cx="1800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Панель”Рисование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588000" y="6165720"/>
            <a:ext cx="0" cy="28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867280" y="6381720"/>
            <a:ext cx="1657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Рядок стану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8388360" y="5084640"/>
            <a:ext cx="0" cy="144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4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9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90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9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4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900"/>
                            </p:stCondLst>
                            <p:childTnLst>
                              <p:par>
                                <p:cTn id="1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9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4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70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70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200"/>
                            </p:stCondLst>
                            <p:childTnLst>
                              <p:par>
                                <p:cTn id="2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82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700"/>
                            </p:stCondLst>
                            <p:childTnLst>
                              <p:par>
                                <p:cTn id="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70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2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1200"/>
                            </p:stCondLst>
                            <p:childTnLst>
                              <p:par>
                                <p:cTn id="2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17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200"/>
                            </p:stCondLst>
                            <p:childTnLst>
                              <p:par>
                                <p:cTn id="2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3200"/>
                            </p:stCondLst>
                            <p:childTnLst>
                              <p:par>
                                <p:cTn id="2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4200"/>
                            </p:stCondLst>
                            <p:childTnLst>
                              <p:par>
                                <p:cTn id="2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200"/>
                            </p:stCondLst>
                            <p:childTnLst>
                              <p:par>
                                <p:cTn id="3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62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7200"/>
                            </p:stCondLst>
                            <p:childTnLst>
                              <p:par>
                                <p:cTn id="3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82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1293840" y="-102240"/>
            <a:ext cx="7599240" cy="24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92297"/>
                </a:solidFill>
                <a:latin typeface="Arial"/>
                <a:ea typeface="Arial"/>
              </a:rPr>
              <a:t>Діалогові вікна</a:t>
            </a:r>
            <a:r>
              <a:rPr b="1" i="1" lang="uk-UA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Під час використання деяких команд потрібно вводити допоміжну інформаці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Так, у разі виконання команди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Файл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→ Відкрити необхідно вказати каталог та ім’я файла. Для введення такоі інформації використовуються діалогові вік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Для відкриття документа каталог, де він розташований, слід вибрати із списка 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папка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, а і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´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я відповідного файла – зі списку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Ім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я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файлу. Таке ж вікно застосовується і під час зберігання документа (відкривати команди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Файл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Зберегти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та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Файл→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Зберегти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як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392360" cy="276228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79280" y="3645720"/>
            <a:ext cx="87138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Багатовікон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Вікна документів можна вивести водночас декілька вікон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icrosoft Word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де будуть відкриті кілька різних документів. Робота  з вікнами здійснюється за допомогою команд меню Вікно, які дають змогу відкривати нові вікна, змінювати їхнє розташування, робити вікно активним тощ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Зауважимо, що в кожен момент часу активним може бути лише одне вікно. Від неактивних воно відрізняється тим, що його рядок заголовка виділений синім кольором, а в області документа перебуває текстовий курс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2100"/>
                            </p:stCondLst>
                            <p:childTnLst>
                              <p:par>
                                <p:cTn id="372" nodeType="after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3" dur="50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7" dur="50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81" dur="5000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85" dur="5000"/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/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7100"/>
                            </p:stCondLst>
                            <p:childTnLst>
                              <p:par>
                                <p:cTn id="3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8100"/>
                            </p:stCondLst>
                            <p:childTnLst>
                              <p:par>
                                <p:cTn id="3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100"/>
                            </p:stCondLst>
                            <p:childTnLst>
                              <p:par>
                                <p:cTn id="4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1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У текстовому процесорі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crosoft Word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реалізована потужна система оперативної допомоги, яка дозволяє користувачу отримувати довідкову інформацію, не переривати роботи з документом зіткнувшись із труднощами, насамперед слід звернутися до системи контекстної допомоги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Помічник,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яка активізується за допомогою програми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Довідка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Показати помічника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або кнопк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панелі інструментів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н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Під час роботи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crosoft Word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помічник пропонуватиме переглянути розділи довідки та ознайомитися з порадами, що стосуються поточних завдань. Наприклад, якщо вводиться текст, помічник автоматично відображає розділи довідки з інформацією про порядок введення і формування тексту. Якщо режим використання помічника відключено, то у разі виконання команди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Довідка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icrosoft Wor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на екран виводиться вікно довід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У меню Довідка є спеціальна команда Знайти і відновити, яка дає змогу віднайти та усунути помилки, що виникають під час роботи текстового процесора. Типовий приклад такої помилки – періодичне виведення повідомлень про відсутність потрібних файлів. Якщо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icrosoft Offic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виявить відсутність або пошкодження необхідних файлів, ці файли можна буде відновити за допомогою інсталяційного диск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24000" y="404640"/>
            <a:ext cx="85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троювання параметрів текстового процесора. Довідкова система 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8238960" y="2565360"/>
          <a:ext cx="905040" cy="93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38960" y="2565360"/>
                    <a:ext cx="9050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"/>
          <p:cNvGraphicFramePr/>
          <p:nvPr/>
        </p:nvGraphicFramePr>
        <p:xfrm>
          <a:off x="6948360" y="5445000"/>
          <a:ext cx="180036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48360" y="5445000"/>
                    <a:ext cx="180036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8600"/>
                            </p:stCondLst>
                            <p:childTnLst>
                              <p:par>
                                <p:cTn id="4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6900"/>
                            </p:stCondLst>
                            <p:childTnLst>
                              <p:par>
                                <p:cTn id="4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4150"/>
                            </p:stCondLst>
                            <p:childTnLst>
                              <p:par>
                                <p:cTn id="4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150"/>
                            </p:stCondLst>
                            <p:childTnLst>
                              <p:par>
                                <p:cTn id="4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6150"/>
                            </p:stCondLst>
                            <p:childTnLst>
                              <p:par>
                                <p:cTn id="4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3" dur="2000" fill="hold"/>
                                        <p:tgtEl>
                                          <p:spTgt spid="1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водити й редагувати текст можна в активному вікні текстового процесора. Для тексту, що вводиться, можна обирати тип і розмір шрифту, його колір, величину міжрядкових інтервалів тощ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Коли курсор доходить до кінця рядка, перше слово, яке не вміщується в даному рядку, повністю переноситься до наступного (якщо не задано режим перенесення слів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Службові символи, і зокрема пробіл та кінець абзац , як правило, на екран не виводиться, але користувач може вивести їх, скориставшись кнопкою відображення недрукованих символів, що розташована на панелі інструментів </a:t>
            </a:r>
            <a:r>
              <a:rPr b="1" lang="uk-UA" sz="1400" spc="-1" strike="noStrike">
                <a:solidFill>
                  <a:srgbClr val="ffffff"/>
                </a:solidFill>
                <a:latin typeface="Tahoma"/>
              </a:rPr>
              <a:t>Стандарт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4" name=""/>
          <p:cNvGraphicFramePr/>
          <p:nvPr/>
        </p:nvGraphicFramePr>
        <p:xfrm>
          <a:off x="5651640" y="4653000"/>
          <a:ext cx="311436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653000"/>
                    <a:ext cx="311436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6" name=""/>
          <p:cNvSpPr txBox="1"/>
          <p:nvPr/>
        </p:nvSpPr>
        <p:spPr>
          <a:xfrm>
            <a:off x="1332000" y="476280"/>
            <a:ext cx="6429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ення й редагування тексту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1258920" y="5445000"/>
          <a:ext cx="3314520" cy="6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5445000"/>
                    <a:ext cx="33145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9" name=""/>
          <p:cNvGraphicFramePr/>
          <p:nvPr/>
        </p:nvGraphicFramePr>
        <p:xfrm>
          <a:off x="5364000" y="1557360"/>
          <a:ext cx="302436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1557360"/>
                    <a:ext cx="30243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4" dur="20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7 C 0.08 0.07327 0.088 0.07726 0.098 0.07726 C 0.112 0.07726 0.124 0.0666 0.125 0.05062 C 0.124 0.0373 0.112 0.02531 0.098 0.02531 C 0.088 0.02531 0.08 0.03064 0.075 0.0373 L 0.052 0.0746 C 0.042 0.09058 0.023 0.10124 0 0.10257 C -0.023 0.10124 -0.042 0.09058 -0.052 0.0746 L -0.075 0.0373 C -0.08 0.03064 -0.088 0.02531 -0.098 0.02531 C -0.112 0.02531 -0.124 0.0373 -0.125 0.05062 C -0.124 0.0666 -0.112 0.07726 -0.098 0.07726 C -0.088 0.07726 -0.08 0.07327 -0.075 0.06527 L -0.052 0.02797 C -0.042 0.01199 -0.023 0.00133 0 0 Z">
                                      <p:cBhvr>
                                        <p:cTn id="484" dur="2000" fill="hold"/>
                                        <p:tgtEl>
                                          <p:spTgt spid="1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2000" fill="hold"/>
                                        <p:tgtEl>
                                          <p:spTgt spid="1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Поля – це фрагменти тексту , які забезпечують автоматичне вставлення в документ певної інформації (дати, часу, назва документа  тощо). Для того щоб вставити поле праворуч від курсору, потрібно насамперед відкрити діалогове вікно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Поле,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виконавши команду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 Вставка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→Пол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списку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Категорії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даного вікна перелічені групи, в які о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´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єднані всі існуючі поля. У списку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Поля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наведені назви полів, що відповідають групі, обранній у списку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Категорії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92297"/>
                </a:solidFill>
                <a:latin typeface="Arial"/>
                <a:ea typeface="Arial"/>
              </a:rPr>
              <a:t>Пошук і замі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Для пошуку у документі необхідних данних – окремих слів, значень, фрагментів – у текстовому процесорі. Шукаючи слово або фразу необхідно ввести в поле Знайти однойменної вкладки цього вік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192297"/>
                </a:solidFill>
                <a:latin typeface="Arial"/>
                <a:ea typeface="Arial"/>
              </a:rPr>
              <a:t>Перевірка орфографії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Процесор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icrosoft Word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  <a:ea typeface="Arial"/>
              </a:rPr>
              <a:t> дає змогу перевіряти орфографію документів, створенних на декількох мовах . Коли користувач клацає правою кнопкою міші на підкресленому слові, розкривається контекстне меню. У верхній частині меню виводиться список схожих слів – програма пропонує їх як варіанти для виправленн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2" name=""/>
          <p:cNvGraphicFramePr/>
          <p:nvPr/>
        </p:nvGraphicFramePr>
        <p:xfrm>
          <a:off x="5651640" y="907920"/>
          <a:ext cx="331128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907920"/>
                    <a:ext cx="33112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5292720" y="5445000"/>
          <a:ext cx="2587680" cy="119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5445000"/>
                    <a:ext cx="258768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" name=""/>
          <p:cNvSpPr txBox="1"/>
          <p:nvPr/>
        </p:nvSpPr>
        <p:spPr>
          <a:xfrm>
            <a:off x="971640" y="260280"/>
            <a:ext cx="165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6"/>
          <a:stretch/>
        </p:blipFill>
        <p:spPr>
          <a:xfrm>
            <a:off x="5435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14" dur="1" fill="hold"/>
                                        <p:tgtEl>
                                          <p:spTgt spid="1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3450"/>
                            </p:stCondLst>
                            <p:childTnLst>
                              <p:par>
                                <p:cTn id="5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450"/>
                            </p:stCondLst>
                            <p:childTnLst>
                              <p:par>
                                <p:cTn id="552" nodeType="after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950"/>
                            </p:stCondLst>
                            <p:childTnLst>
                              <p:par>
                                <p:cTn id="56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68" dur="2000" fill="hold"/>
                                        <p:tgtEl>
                                          <p:spTgt spid="1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7950"/>
                            </p:stCondLst>
                            <p:childTnLst>
                              <p:par>
                                <p:cTn id="5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6550"/>
                            </p:stCondLst>
                            <p:childTnLst>
                              <p:par>
                                <p:cTn id="5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50"/>
                            </p:stCondLst>
                            <p:childTnLst>
                              <p:par>
                                <p:cTn id="5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8550"/>
                            </p:stCondLst>
                            <p:childTnLst>
                              <p:par>
                                <p:cTn id="6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9" dur="250" autoRev="1" fill="hold"/>
                                        <p:tgtEl>
                                          <p:spTgt spid="1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6419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Під терміном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форматування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&gt;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 розуміють  насамперед операції, пов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´</a:t>
            </a: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зані з оформленням текст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рифт(вибирається із списку шрифтів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исання (надається можливість вибрати звичайний шрифт, курсив, напівжирний і напівжирний з курсивом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мір шрифту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кресленн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ір символів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ти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тування абзаці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івнювання абзацу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тановлення відступів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тановлення відстані між рядкам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абзаца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3995640" y="3400560"/>
          <a:ext cx="277668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3400560"/>
                    <a:ext cx="277668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1" name=""/>
          <p:cNvGraphicFramePr/>
          <p:nvPr/>
        </p:nvGraphicFramePr>
        <p:xfrm>
          <a:off x="6372360" y="1197000"/>
          <a:ext cx="2771640" cy="306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1197000"/>
                    <a:ext cx="277164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"/>
          <p:cNvSpPr txBox="1"/>
          <p:nvPr/>
        </p:nvSpPr>
        <p:spPr>
          <a:xfrm>
            <a:off x="468360" y="404640"/>
            <a:ext cx="583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атування текст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500"/>
                            </p:stCondLst>
                            <p:childTnLst>
                              <p:par>
                                <p:cTn id="6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1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8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00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8000"/>
                            </p:stCondLst>
                            <p:childTnLst>
                              <p:par>
                                <p:cTn id="68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700" dur="2000" fill="hold"/>
                                        <p:tgtEl>
                                          <p:spTgt spid="1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475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тування сторін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 час введення друку текст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використовує сторінки, розміри полів яких встановлюють за замовченням. Змінити їх можна в діалоговому вікні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Параметри сторінки,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ерехід до якого здійснується за допомогою команди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Файл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→Параметри сторінки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. Додаткове оформлення документа передбачує встановлення параметрів оброблення й фону абзаців і сторінок. Для вибору кольору фону слід скористатися вкладкою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Зали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5940360" y="1844640"/>
          <a:ext cx="283212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844640"/>
                    <a:ext cx="283212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7" name=""/>
          <p:cNvSpPr txBox="1"/>
          <p:nvPr/>
        </p:nvSpPr>
        <p:spPr>
          <a:xfrm>
            <a:off x="1116000" y="260280"/>
            <a:ext cx="66960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тування сторінок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7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4" dur="3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0000"/>
                </a:solidFill>
                <a:latin typeface="Arial"/>
              </a:rPr>
              <a:t>Зберігання докуме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ля збереження документа необхідно виконати команду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→Зберегт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або клацнути на відповідній кнопці панелі інструментів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н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. Якщо документ новий і ця команда виконується для нього вперше, буде відкрите діалогове вікно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Збереження документ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. У цьому вікні можна вказати папку, і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я та розширення імені файла доку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У діалоговому вікні Збереження документа є однорядковий список Тип файлу. Він дає можливість обрати формат документа, відмінний від формату верс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Будь-який документ може автоматично зберігатись з певною періодичністю, для чого слід лише встановити відповідний режим – режим автоматичного збереження. Виконайте команду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Сервіс → Параметри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, у діалоговому вікні, яке буде виведене на екран, активізуйте вкладку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Збереження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і виконайте необхідні настроюв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6588000" y="4724280"/>
          <a:ext cx="144648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4724280"/>
                    <a:ext cx="14464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40"/>
                            </p:stCondLst>
                            <p:childTnLst>
                              <p:par>
                                <p:cTn id="7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7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340"/>
                            </p:stCondLst>
                            <p:childTnLst>
                              <p:par>
                                <p:cTn id="7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340"/>
                            </p:stCondLst>
                            <p:childTnLst>
                              <p:par>
                                <p:cTn id="7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340"/>
                            </p:stCondLst>
                            <p:childTnLst>
                              <p:par>
                                <p:cTn id="7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840"/>
                            </p:stCondLst>
                            <p:childTnLst>
                              <p:par>
                                <p:cTn id="77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71" dur="2000" fill="hold"/>
                                        <p:tgtEl>
                                          <p:spTgt spid="1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840"/>
                            </p:stCondLst>
                            <p:childTnLst>
                              <p:par>
                                <p:cTn id="7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4" dur="2000" fill="hold"/>
                                        <p:tgtEl>
                                          <p:spTgt spid="1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8:46:18Z</dcterms:created>
  <dc:creator>Стороженко Дмитрий Алексеевич</dc:creator>
  <dc:description/>
  <dc:language>en-US</dc:language>
  <cp:lastModifiedBy>User</cp:lastModifiedBy>
  <dcterms:modified xsi:type="dcterms:W3CDTF">2007-01-24T20:06:47Z</dcterms:modified>
  <cp:revision>18</cp:revision>
  <dc:subject/>
  <dc:title>Слайд 1</dc:title>
</cp:coreProperties>
</file>