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5.wmf" ContentType="image/x-wmf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28.gif" ContentType="image/gif"/>
  <Override PartName="/ppt/media/image8.png" ContentType="image/png"/>
  <Override PartName="/ppt/media/image9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22.wmf" ContentType="image/x-wmf"/>
  <Override PartName="/ppt/media/image23.png" ContentType="image/png"/>
  <Override PartName="/ppt/media/image24.png" ContentType="image/png"/>
  <Override PartName="/ppt/media/image19.jpeg" ContentType="image/jpeg"/>
  <Override PartName="/ppt/media/image25.png" ContentType="image/pn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7DD-6E0A-4315-8147-7CFF5F8F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14F-1863-4110-9FF3-D191ED3A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A4C-B593-483D-96B5-AC4EED02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9FE-C4BD-474A-B40E-FAF66B1D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CB1C-DAA6-4F2A-909A-88692951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3D56-95FF-4677-92B2-11F744C8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2E04-3DE6-458E-97A6-E082F234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2D50-41F0-44B4-BAD3-48E83B78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7F46-9BFF-4E70-8F1B-5F9D38FD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80F1-92E5-45CB-B92F-2EFED27A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BAE6-ADBC-4C19-ADD4-9B2727E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E4F-CD62-418C-9845-433FA9D1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408C-01E2-4BE5-B857-6DD54A00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CFF5-62AF-4373-B464-521AFDE9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C453-F518-4B15-B138-3CC98746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774D-F83B-412A-ADD0-6B46B135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EC6C-5968-4F94-ACE9-4F7405C2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0C3-49E6-4312-91AD-D77DAFCD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1D7-B8EC-4477-8EA3-0866B527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BB3-5324-4A9E-85B0-05B1F03E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407-2FD7-41F4-B7AB-6D555942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2CB-6C6B-407E-BE0B-D2FA513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232-9FCC-4956-A08A-3FE77580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0B8-0248-4F3B-B7F7-22D5FFB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93E9-56C1-469E-9B53-0B9FC23E2275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8BBE-DEDD-4F72-A959-6C240D1D5543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Excel/1_&#1048;&#1089;&#1089;&#1083;&#1077;&#1076;&#1086;&#1074;&#1072;&#1085;&#1080;&#1077;.xls" TargetMode="External"/><Relationship Id="rId3" Type="http://schemas.openxmlformats.org/officeDocument/2006/relationships/hyperlink" Target="file:///../../Excel/1_&#1048;&#1089;&#1089;&#1083;&#1077;&#1076;&#1086;&#1074;&#1072;&#1085;&#1080;&#1077;.xls" TargetMode="External"/><Relationship Id="rId4" Type="http://schemas.openxmlformats.org/officeDocument/2006/relationships/hyperlink" Target="file:///../../Excel/1_&#1048;&#1089;&#1089;&#1083;&#1077;&#1076;&#1086;&#1074;&#1072;&#1085;&#1080;&#1077;.xls" TargetMode="External"/><Relationship Id="rId5" Type="http://schemas.openxmlformats.org/officeDocument/2006/relationships/hyperlink" Target="file:///../../Excel/1_&#1048;&#1089;&#1089;&#1083;&#1077;&#1076;&#1086;&#1074;&#1072;&#1085;&#1080;&#1077;.xls" TargetMode="External"/><Relationship Id="rId6" Type="http://schemas.openxmlformats.org/officeDocument/2006/relationships/hyperlink" Target="file:///../../Excel/1_&#1048;&#1089;&#1089;&#1083;&#1077;&#1076;&#1086;&#1074;&#1072;&#1085;&#1080;&#1077;.xls" TargetMode="Externa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DOOR" descr=""/>
          <p:cNvPicPr/>
          <p:nvPr/>
        </p:nvPicPr>
        <p:blipFill>
          <a:blip r:embed="rId2"/>
          <a:srcRect l="0" t="6361" r="0" b="8824"/>
          <a:stretch/>
        </p:blipFill>
        <p:spPr>
          <a:xfrm>
            <a:off x="2195640" y="189000"/>
            <a:ext cx="4464000" cy="4572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5640" y="4797360"/>
            <a:ext cx="763272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Откроем дверь в мир стереометрии, чтобы освоить основной материал по теме:</a:t>
            </a:r>
            <a:r>
              <a:rPr b="1" lang="ru-RU" sz="2400" spc="-1" strike="noStrike" u="sng">
                <a:solidFill>
                  <a:srgbClr val="ffff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ru-RU" sz="3600" spc="-1" strike="noStrike">
                <a:solidFill>
                  <a:srgbClr val="ff00ff"/>
                </a:solidFill>
                <a:latin typeface="Comic Sans MS"/>
              </a:rPr>
              <a:t>«Тела вращения»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250920" y="981000"/>
          <a:ext cx="304776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981000"/>
                    <a:ext cx="30477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838080" y="37339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3886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4191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914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419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733920" y="12952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267080" y="1219320"/>
            <a:ext cx="48769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 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ршина конуса, О – центр круга, лежащего в основание конуса. Отрезки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, которые соединяют вершину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точками окружности основания, называются </a:t>
            </a:r>
            <a:r>
              <a:rPr b="1" lang="ru-RU" sz="2800" spc="-1" strike="noStrike" u="sng">
                <a:solidFill>
                  <a:srgbClr val="cc0099"/>
                </a:solidFill>
                <a:uFillTx/>
                <a:latin typeface="Times New Roman"/>
              </a:rPr>
              <a:t>образующими конуса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ус называется </a:t>
            </a:r>
            <a:r>
              <a:rPr b="1" lang="ru-RU" sz="2800" spc="-1" strike="noStrike" u="sng">
                <a:solidFill>
                  <a:srgbClr val="cc0099"/>
                </a:solidFill>
                <a:uFillTx/>
                <a:latin typeface="Times New Roman"/>
              </a:rPr>
              <a:t>прямым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сли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л. АОВ, ОА=ОВ – радиус конуса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 – высота конуса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657600" y="4724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380880" y="990720"/>
          <a:ext cx="304812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90720"/>
                    <a:ext cx="30481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28800" y="2438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3429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809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581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838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743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1219320"/>
            <a:ext cx="51055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99"/>
                </a:solidFill>
                <a:uFillTx/>
                <a:latin typeface="Comic Sans MS"/>
              </a:rPr>
              <a:t>Свойства прямого конуса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бразующие конуса равны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A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B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=,,,(из равенства треугольников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OA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OB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, ,,,по двум катетам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Так как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л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OB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, то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=Н</a:t>
            </a: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кон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505320" y="1752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505320" y="3352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228600" y="43434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62120" y="4343400"/>
            <a:ext cx="8381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99"/>
                </a:solidFill>
                <a:uFillTx/>
                <a:latin typeface="Comic Sans MS"/>
              </a:rPr>
              <a:t>Конус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– тело вращения, полученное в результате вращения прямоугольного треугольника около его катета как ос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5562720"/>
            <a:ext cx="8077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А вращается около прямой а, содержащей катет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, тогда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А=9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и прямая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 – ось конуса.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=АО, Н=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, А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- образующая конус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2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762120" y="83808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e842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Impact"/>
              </a:rPr>
              <a:t>Сечения конус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e842"/>
                  </a:gs>
                  <a:gs pos="100000">
                    <a:srgbClr val="0000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2209680"/>
          <a:ext cx="396216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09680"/>
                    <a:ext cx="39621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4267080" y="2362320"/>
            <a:ext cx="48769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ечение конуса плоскостью, проходящей через его вершину, представляет собой равнобедренный треугольник, у которого боковые стороны являются образующими конус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5791320"/>
            <a:ext cx="853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D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– сечение,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S=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D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– хорда в основании конус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2057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9500"/>
                            </p:stCondLst>
                            <p:childTnLst>
                              <p:par>
                                <p:cTn id="4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2438280" y="990720"/>
          <a:ext cx="4265640" cy="356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990720"/>
                    <a:ext cx="426564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228600" y="4648320"/>
            <a:ext cx="8686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 частности, сечение, проходящее через ось конуса, тоже равнобедренный треугольник. Это сечение называется </a:t>
            </a:r>
            <a:r>
              <a:rPr b="1" lang="ru-RU" sz="2800" spc="-1" strike="noStrike" u="sng">
                <a:solidFill>
                  <a:srgbClr val="cc0099"/>
                </a:solidFill>
                <a:uFillTx/>
                <a:latin typeface="Comic Sans MS"/>
              </a:rPr>
              <a:t>осевым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 – осевое сечение, так как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=АВ=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, АВ – диаметр и ось конуса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 лежит в плоскости А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838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048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3200400"/>
            <a:ext cx="17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96252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59240" y="3505320"/>
            <a:ext cx="4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403848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33520" y="1066680"/>
            <a:ext cx="807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Основные формулы</a:t>
            </a:r>
            <a:endParaRPr b="0" lang="en-US" sz="24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2438280"/>
          <a:ext cx="3352680" cy="381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438280"/>
                    <a:ext cx="33526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809880" y="2438280"/>
            <a:ext cx="5334120" cy="52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S</a:t>
            </a:r>
            <a:r>
              <a:rPr b="1" lang="ru-RU" sz="4000" spc="-1" strike="noStrike" baseline="-30000">
                <a:solidFill>
                  <a:srgbClr val="ff00ff"/>
                </a:solidFill>
                <a:latin typeface="Monotype Corsiva"/>
              </a:rPr>
              <a:t>осн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=</a:t>
            </a:r>
            <a:r>
              <a:rPr b="1" lang="en-US" sz="4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R</a:t>
            </a:r>
            <a:r>
              <a:rPr b="1" lang="en-US" sz="4000" spc="-1" strike="noStrike" baseline="30000">
                <a:solidFill>
                  <a:srgbClr val="ff00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S</a:t>
            </a:r>
            <a:r>
              <a:rPr b="1" lang="ru-RU" sz="4000" spc="-1" strike="noStrike" baseline="-30000">
                <a:solidFill>
                  <a:srgbClr val="ff00ff"/>
                </a:solidFill>
                <a:latin typeface="Monotype Corsiva"/>
              </a:rPr>
              <a:t>бок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=</a:t>
            </a:r>
            <a:r>
              <a:rPr b="1" lang="en-US" sz="4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R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S</a:t>
            </a:r>
            <a:r>
              <a:rPr b="1" lang="ru-RU" sz="4000" spc="-1" strike="noStrike" baseline="-30000">
                <a:solidFill>
                  <a:srgbClr val="ff00ff"/>
                </a:solidFill>
                <a:latin typeface="Monotype Corsiva"/>
              </a:rPr>
              <a:t>полн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=S</a:t>
            </a:r>
            <a:r>
              <a:rPr b="1" lang="ru-RU" sz="4000" spc="-1" strike="noStrike" baseline="-30000">
                <a:solidFill>
                  <a:srgbClr val="ff00ff"/>
                </a:solidFill>
                <a:latin typeface="Monotype Corsiva"/>
              </a:rPr>
              <a:t>осн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+S</a:t>
            </a:r>
            <a:r>
              <a:rPr b="1" lang="ru-RU" sz="4000" spc="-1" strike="noStrike" baseline="-30000">
                <a:solidFill>
                  <a:srgbClr val="ff00ff"/>
                </a:solidFill>
                <a:latin typeface="Monotype Corsiva"/>
              </a:rPr>
              <a:t>бо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S</a:t>
            </a:r>
            <a:r>
              <a:rPr b="1" lang="en-US" sz="4000" spc="-1" strike="noStrike" baseline="-30000">
                <a:solidFill>
                  <a:srgbClr val="ff00ff"/>
                </a:solidFill>
                <a:latin typeface="Monotype Corsiva"/>
                <a:ea typeface="Times New Roman"/>
              </a:rPr>
              <a:t>полн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=</a:t>
            </a:r>
            <a:r>
              <a:rPr b="0" lang="en-US" sz="4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R</a:t>
            </a:r>
            <a:r>
              <a:rPr b="0" lang="en-US" sz="4000" spc="-1" strike="noStrike" baseline="30000">
                <a:solidFill>
                  <a:srgbClr val="ff00ff"/>
                </a:solidFill>
                <a:latin typeface="Comic Sans MS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R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V=1/3</a:t>
            </a:r>
            <a:r>
              <a:rPr b="1" lang="en-US" sz="4000" spc="-1" strike="noStrike" baseline="30000">
                <a:solidFill>
                  <a:srgbClr val="ff00ff"/>
                </a:solidFill>
                <a:latin typeface="Comic Sans MS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S</a:t>
            </a:r>
            <a:r>
              <a:rPr b="1" lang="en-US" sz="4000" spc="-1" strike="noStrike" baseline="-30000">
                <a:solidFill>
                  <a:srgbClr val="ff00ff"/>
                </a:solidFill>
                <a:latin typeface="Monotype Corsiva"/>
                <a:ea typeface="Times New Roman"/>
              </a:rPr>
              <a:t>осн</a:t>
            </a:r>
            <a:r>
              <a:rPr b="1" lang="en-US" sz="4000" spc="-1" strike="noStrike" baseline="30000">
                <a:solidFill>
                  <a:srgbClr val="cc0099"/>
                </a:solidFill>
                <a:latin typeface="Monotype Corsiva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V=1/3</a:t>
            </a:r>
            <a:r>
              <a:rPr b="1" lang="en-US" sz="4000" spc="-1" strike="noStrike" baseline="30000">
                <a:solidFill>
                  <a:srgbClr val="ff00ff"/>
                </a:solidFill>
                <a:latin typeface="Comic Sans MS"/>
                <a:ea typeface="Times New Roman"/>
              </a:rPr>
              <a:t>.</a:t>
            </a:r>
            <a:r>
              <a:rPr b="0" lang="en-US" sz="4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R</a:t>
            </a:r>
            <a:r>
              <a:rPr b="0" lang="en-US" sz="4000" spc="-1" strike="noStrike" baseline="30000">
                <a:solidFill>
                  <a:srgbClr val="ff00ff"/>
                </a:solidFill>
                <a:latin typeface="Comic Sans MS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3962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5410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6237360"/>
            <a:ext cx="3168720" cy="620640"/>
          </a:xfrm>
          <a:custGeom>
            <a:avLst/>
            <a:gdLst>
              <a:gd name="textAreaLeft" fmla="*/ 39960 w 3168720"/>
              <a:gd name="textAreaRight" fmla="*/ 3128760 w 3168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110229" h="21600">
                <a:moveTo>
                  <a:pt x="0" y="0"/>
                </a:moveTo>
                <a:lnTo>
                  <a:pt x="110229" y="0"/>
                </a:lnTo>
                <a:lnTo>
                  <a:pt x="110229" y="21600"/>
                </a:lnTo>
                <a:lnTo>
                  <a:pt x="0" y="21600"/>
                </a:lnTo>
                <a:close/>
              </a:path>
              <a:path fill="lightenLess" w="110229" h="21600">
                <a:moveTo>
                  <a:pt x="0" y="0"/>
                </a:moveTo>
                <a:lnTo>
                  <a:pt x="110229" y="0"/>
                </a:lnTo>
                <a:lnTo>
                  <a:pt x="108829" y="1400"/>
                </a:lnTo>
                <a:lnTo>
                  <a:pt x="1400" y="1400"/>
                </a:lnTo>
                <a:close/>
              </a:path>
              <a:path fill="darken" w="110229" h="21600">
                <a:moveTo>
                  <a:pt x="110229" y="0"/>
                </a:moveTo>
                <a:lnTo>
                  <a:pt x="110229" y="21600"/>
                </a:lnTo>
                <a:lnTo>
                  <a:pt x="108829" y="20200"/>
                </a:lnTo>
                <a:lnTo>
                  <a:pt x="108829" y="1400"/>
                </a:lnTo>
                <a:close/>
              </a:path>
              <a:path fill="darkenLess" w="110229" h="21600">
                <a:moveTo>
                  <a:pt x="110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8829" y="20200"/>
                </a:lnTo>
                <a:close/>
              </a:path>
              <a:path fill="lighten" w="110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cc"/>
                </a:solidFill>
                <a:uFillTx/>
                <a:latin typeface="Comic Sans MS"/>
              </a:rPr>
              <a:t> </a:t>
            </a:r>
            <a:r>
              <a:rPr b="1" lang="ru-RU" sz="2400" spc="-1" strike="noStrike" u="sng">
                <a:solidFill>
                  <a:srgbClr val="bf9fff"/>
                </a:solidFill>
                <a:uFillTx/>
                <a:latin typeface="Comic Sans MS"/>
              </a:rPr>
              <a:t>К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Comic Sans MS"/>
                <a:hlinkClick r:id="rId4" action="ppaction://hlinksldjump"/>
              </a:rPr>
              <a:t>оглавлени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33920" y="3352680"/>
            <a:ext cx="5105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Однако оба слова "шар" и "сфера" происходят от одного и того же греческого слова "сфайра" - мяч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и этом слово "шар" образовалось от перехода согласных сф в ш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981080" y="914400"/>
            <a:ext cx="4953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Impact"/>
              </a:rPr>
              <a:t>шар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3714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3_3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2590920" cy="2667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066680" y="243828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ческая справка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8450"/>
                            </p:stCondLst>
                            <p:childTnLst>
                              <p:par>
                                <p:cTn id="54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космос" descr=""/>
          <p:cNvPicPr/>
          <p:nvPr/>
        </p:nvPicPr>
        <p:blipFill>
          <a:blip r:embed="rId2"/>
          <a:srcRect l="8331" t="18753" r="20832" b="0"/>
          <a:stretch/>
        </p:blipFill>
        <p:spPr>
          <a:xfrm>
            <a:off x="228600" y="990720"/>
            <a:ext cx="4038480" cy="373356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1yutiuy" descr=""/>
          <p:cNvPicPr/>
          <p:nvPr/>
        </p:nvPicPr>
        <p:blipFill>
          <a:blip r:embed="rId3"/>
          <a:srcRect l="28435" t="13829" r="0" b="0"/>
          <a:stretch/>
        </p:blipFill>
        <p:spPr>
          <a:xfrm>
            <a:off x="4724280" y="3048120"/>
            <a:ext cx="4152960" cy="3809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038480" y="914400"/>
            <a:ext cx="5105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В древности сфера была в большом почёте. Астрономические наблюдения над небесным сводом неизменно вызывали образ сферы.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истотель считал, что шарообразная форма, как наиболее совершенная, свойственна Луне, Солнцу, Земле и всем мировым телам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5105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464832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Развивая взгляды Евдокса, он полагал, что Земля окружена рядом концентрических сфер. Сфера всегда широко применялась в различных областях науки и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техни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762120" y="11430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743200" y="3505320"/>
          <a:ext cx="312408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505320"/>
                    <a:ext cx="3124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57200" y="106668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Шаром принято называть тело, ограниченное сферой (поверхностью, определяемой как геометрическое место точек пространства, удалённых на данное расстояние от одной точки). В XI книге "Начал" Евклид определяет шар как фигуру, описанную вращающимся около неподвижного диаметра полукругом.</a:t>
            </a:r>
            <a:r>
              <a:rPr b="0" lang="ru-RU" sz="2400" spc="-1" strike="noStrike">
                <a:solidFill>
                  <a:srgbClr val="8080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5720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76720" y="1371600"/>
            <a:ext cx="586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Любой отрезок, соединяющий центр и какую-нибудь точку сферы, называется радиусом сферы. Отрезок, соединяющий две точки сферы и проходящий через её центр, называется диаметром сферы. Центр, радиус и диаметр сферы называются также центром, радиусом и диаметром шар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52280" y="1447920"/>
          <a:ext cx="3124440" cy="33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447920"/>
                    <a:ext cx="31244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228600" y="4800600"/>
            <a:ext cx="8686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 – центр шара, ОА=ОВ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радиус шара (сферы), АВ – диаметр. А и В – диаметрально противоположные точк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S</a:t>
            </a:r>
            <a:r>
              <a:rPr b="1" lang="en-US" sz="4000" spc="-1" strike="noStrike" baseline="-30000">
                <a:solidFill>
                  <a:srgbClr val="ff00ff"/>
                </a:solidFill>
                <a:latin typeface="Monotype Corsiva"/>
              </a:rPr>
              <a:t>c</a:t>
            </a:r>
            <a:r>
              <a:rPr b="1" lang="ru-RU" sz="4000" spc="-1" strike="noStrike" baseline="-30000">
                <a:solidFill>
                  <a:srgbClr val="ff00ff"/>
                </a:solidFill>
                <a:latin typeface="Monotype Corsiva"/>
              </a:rPr>
              <a:t>ф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=</a:t>
            </a:r>
            <a:r>
              <a:rPr b="1" lang="ru-RU" sz="4000" spc="-1" strike="noStrike">
                <a:solidFill>
                  <a:srgbClr val="ff00ff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ff00ff"/>
                </a:solidFill>
                <a:latin typeface="Comic Sans MS"/>
              </a:rPr>
              <a:t>R</a:t>
            </a:r>
            <a:r>
              <a:rPr b="1" lang="en-US" sz="4000" spc="-1" strike="noStrike" baseline="30000">
                <a:solidFill>
                  <a:srgbClr val="ff00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4900"/>
                            </p:stCondLst>
                            <p:childTnLst>
                              <p:par>
                                <p:cTn id="6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1981080" y="990720"/>
          <a:ext cx="556272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55627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380880" y="4648320"/>
            <a:ext cx="85345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99"/>
                </a:solidFill>
                <a:uFillTx/>
                <a:latin typeface="Comic Sans MS"/>
              </a:rPr>
              <a:t>Теорема</a:t>
            </a:r>
            <a:r>
              <a:rPr b="1" lang="ru-RU" sz="2400" spc="-1" strike="noStrike" u="sng">
                <a:solidFill>
                  <a:srgbClr val="cc0099"/>
                </a:solidFill>
                <a:uFillTx/>
                <a:latin typeface="Comic Sans MS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сякое сечение шара плоскостью есть круг. Центр этого круга есть основание перпендикуляра, опущенного из центра шара на секущую плоскость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20574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588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79840" y="300204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9840" y="300204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434340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03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11995" t="31698" r="71649" b="44888"/>
          <a:stretch/>
        </p:blipFill>
        <p:spPr>
          <a:xfrm>
            <a:off x="395280" y="2349360"/>
            <a:ext cx="2016000" cy="2163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40502" t="31691" r="39132" b="44888"/>
          <a:stretch/>
        </p:blipFill>
        <p:spPr>
          <a:xfrm>
            <a:off x="6516720" y="404640"/>
            <a:ext cx="2087640" cy="1938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71375" t="31691" r="7828" b="44888"/>
          <a:stretch/>
        </p:blipFill>
        <p:spPr>
          <a:xfrm>
            <a:off x="6732720" y="4508640"/>
            <a:ext cx="1995480" cy="2035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9640" y="836640"/>
            <a:ext cx="5256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линдр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87640" y="2997360"/>
            <a:ext cx="439272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ус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5373720"/>
            <a:ext cx="3097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р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1676520" y="5715000"/>
          <a:ext cx="1285920" cy="1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5715000"/>
                    <a:ext cx="12859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352680" y="5029200"/>
          <a:ext cx="1285920" cy="1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5029200"/>
                    <a:ext cx="12859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523880" y="4992840"/>
          <a:ext cx="1752840" cy="207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4992840"/>
                    <a:ext cx="175284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52280" y="1219320"/>
          <a:ext cx="3429000" cy="2438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1219320"/>
                    <a:ext cx="3429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3733920" y="1143000"/>
            <a:ext cx="541008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99"/>
                </a:solidFill>
                <a:uFillTx/>
                <a:latin typeface="Comic Sans MS"/>
              </a:rPr>
              <a:t>Доказательство.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усть 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секущая плоскость и О – центр шара. Проведем перпендикуляр О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 плоскость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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тогда 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основание этого перпендикуляр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4038480"/>
            <a:ext cx="807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3809880"/>
            <a:ext cx="8991720" cy="34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ус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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де Х– произвольная точка шара, тогда отрезок 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  лежит в плоскости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О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, т.е.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=9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0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        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. По теореме Пифагора ОХ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О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+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к как ОХ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то 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=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О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, т.е. любая точка Х сечения шара плоскостью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ходится от точки О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расстоянии, не большем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,т.е. эта точка принадлежит кругу с центром О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радиусом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2438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9680" y="1676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1676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1828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657600" y="6095880"/>
          <a:ext cx="128592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6095880"/>
                    <a:ext cx="12859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u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000"/>
                            </p:stCondLst>
                            <p:childTnLst>
                              <p:par>
                                <p:cTn id="7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09480" y="1905120"/>
            <a:ext cx="79250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99"/>
                </a:solidFill>
                <a:uFillTx/>
                <a:latin typeface="Times New Roman"/>
              </a:rPr>
              <a:t>Верно и обратное утверждение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любая точка Х этого круга принадлежит шару, значит, сечением шара плоскостью является круг с центром в точк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Теорема доказана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095880" y="3962520"/>
            <a:ext cx="230184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28600" y="4800600"/>
            <a:ext cx="3048120" cy="1905120"/>
          </a:xfrm>
          <a:prstGeom prst="flowChartProcess">
            <a:avLst/>
          </a:prstGeom>
          <a:gradFill rotWithShape="0">
            <a:gsLst>
              <a:gs pos="0">
                <a:srgbClr val="000066"/>
              </a:gs>
              <a:gs pos="50000">
                <a:srgbClr val="cc0099"/>
              </a:gs>
              <a:gs pos="100000">
                <a:srgbClr val="000066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4495680"/>
            <a:ext cx="2819160" cy="1828800"/>
          </a:xfrm>
          <a:prstGeom prst="flowChartProcess">
            <a:avLst/>
          </a:prstGeom>
          <a:gradFill rotWithShape="0">
            <a:gsLst>
              <a:gs pos="0">
                <a:srgbClr val="000066"/>
              </a:gs>
              <a:gs pos="50000">
                <a:srgbClr val="cc0099"/>
              </a:gs>
              <a:gs pos="100000">
                <a:srgbClr val="000066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3080" y="4800600"/>
            <a:ext cx="2362320" cy="1905120"/>
          </a:xfrm>
          <a:prstGeom prst="flowChartProcess">
            <a:avLst/>
          </a:prstGeom>
          <a:gradFill rotWithShape="0">
            <a:gsLst>
              <a:gs pos="0">
                <a:srgbClr val="000066"/>
              </a:gs>
              <a:gs pos="50000">
                <a:srgbClr val="cc0099"/>
              </a:gs>
              <a:gs pos="100000">
                <a:srgbClr val="000066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4800600"/>
            <a:ext cx="327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лоскость, проходя-щая через центр шара, называется </a:t>
            </a:r>
            <a:r>
              <a:rPr b="1" lang="ru-RU" sz="2200" spc="-1" strike="noStrike" u="sng">
                <a:solidFill>
                  <a:srgbClr val="ffff00"/>
                </a:solidFill>
                <a:uFillTx/>
                <a:latin typeface="Times New Roman"/>
              </a:rPr>
              <a:t>диаметральной плоскостью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495680"/>
            <a:ext cx="2438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ечение шара</a:t>
            </a:r>
            <a:r>
              <a:rPr b="1" lang="ru-RU" sz="2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иаметральной плоскостью называется</a:t>
            </a:r>
            <a:r>
              <a:rPr b="1" lang="ru-RU" sz="2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200" spc="-1" strike="noStrike" u="sng">
                <a:solidFill>
                  <a:srgbClr val="ffff00"/>
                </a:solidFill>
                <a:uFillTx/>
                <a:latin typeface="Times New Roman"/>
              </a:rPr>
              <a:t>большим кругом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495288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ечение сферы называется </a:t>
            </a:r>
            <a:r>
              <a:rPr b="1" lang="ru-RU" sz="2200" spc="-1" strike="noStrike" u="sng">
                <a:solidFill>
                  <a:srgbClr val="ffff00"/>
                </a:solidFill>
                <a:uFillTx/>
                <a:latin typeface="Times New Roman"/>
              </a:rPr>
              <a:t>большой окружностью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903400" y="906480"/>
          <a:ext cx="3649680" cy="275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3400" y="906480"/>
                    <a:ext cx="364968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4800600" y="4038480"/>
            <a:ext cx="0" cy="457200"/>
          </a:xfrm>
          <a:prstGeom prst="line">
            <a:avLst/>
          </a:prstGeom>
          <a:ln cap="sq"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1752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4114800"/>
            <a:ext cx="6400800" cy="0"/>
          </a:xfrm>
          <a:prstGeom prst="line">
            <a:avLst/>
          </a:prstGeom>
          <a:ln cap="sq"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4114800"/>
            <a:ext cx="0" cy="685800"/>
          </a:xfrm>
          <a:prstGeom prst="line">
            <a:avLst/>
          </a:prstGeom>
          <a:ln cap="sq"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4114800"/>
            <a:ext cx="0" cy="685800"/>
          </a:xfrm>
          <a:prstGeom prst="line">
            <a:avLst/>
          </a:prstGeom>
          <a:ln cap="sq"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800600" y="3733560"/>
            <a:ext cx="0" cy="228600"/>
          </a:xfrm>
          <a:prstGeom prst="line">
            <a:avLst/>
          </a:prstGeom>
          <a:ln cap="sq"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0600" y="3962520"/>
            <a:ext cx="0" cy="75960"/>
          </a:xfrm>
          <a:prstGeom prst="line">
            <a:avLst/>
          </a:prstGeom>
          <a:ln cap="sq"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7000"/>
                            </p:stCondLst>
                            <p:childTnLst>
                              <p:par>
                                <p:cTn id="7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9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8500"/>
                            </p:stCondLst>
                            <p:childTnLst>
                              <p:par>
                                <p:cTn id="7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8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9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85800" y="3124080"/>
            <a:ext cx="845820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ff"/>
                </a:solidFill>
                <a:uFillTx/>
                <a:latin typeface="Comic Sans MS"/>
              </a:rPr>
              <a:t>Доказательство.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Рассмотрим шар радиуса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с центром в точке О; введем декартову систему координат, приняв центр шара за начало координат. Плоскость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ху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ересекает шар по большому кругу, причем уравнение соответствующей окружности имеет вид: х</a:t>
            </a:r>
            <a:r>
              <a:rPr b="1" lang="ru-RU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+у</a:t>
            </a:r>
            <a:r>
              <a:rPr b="1" lang="ru-RU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ru-RU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луокружность, расположенная над осью Ох, задается уравнением: у=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–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, где  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066680" y="762120"/>
          <a:ext cx="327672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762120"/>
                    <a:ext cx="32767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4648320" y="1066680"/>
            <a:ext cx="44956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ff"/>
                </a:solidFill>
                <a:uFillTx/>
                <a:latin typeface="Comic Sans MS"/>
              </a:rPr>
              <a:t>Теорема.</a:t>
            </a:r>
            <a:r>
              <a:rPr b="1" lang="ru-RU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бъем шара радиуса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равен </a:t>
            </a: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4/3</a:t>
            </a:r>
            <a:r>
              <a:rPr b="1" lang="en-US" sz="32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R</a:t>
            </a:r>
            <a:r>
              <a:rPr b="1" lang="en-US" sz="3200" spc="-1" strike="noStrike" baseline="30000">
                <a:solidFill>
                  <a:srgbClr val="ff00ff"/>
                </a:solidFill>
                <a:latin typeface="Comic Sans MS"/>
              </a:rPr>
              <a:t>3</a:t>
            </a: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6095880"/>
            <a:ext cx="761760" cy="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04920" y="1066680"/>
            <a:ext cx="8839080" cy="67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ля нахождения объема шара воспользуемся общей формулой для вычисления объемов тел вращения криволинейной трапеции вокруг оси Ох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omic Sans MS"/>
              </a:rPr>
              <a:t>V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∫</a:t>
            </a:r>
            <a:r>
              <a:rPr b="1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f</a:t>
            </a:r>
            <a:r>
              <a:rPr b="1" lang="en-US" sz="2800" spc="-1" strike="noStrike" baseline="30000">
                <a:solidFill>
                  <a:srgbClr val="ff00ff"/>
                </a:solidFill>
                <a:latin typeface="Monotype Corsiva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(x) dx</a:t>
            </a:r>
            <a:r>
              <a:rPr b="1" lang="ru-RU" sz="2800" spc="-1" strike="noStrike">
                <a:solidFill>
                  <a:srgbClr val="ff00ff"/>
                </a:solidFill>
                <a:latin typeface="Monotype Corsiva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где 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f(x) </a:t>
            </a:r>
            <a:r>
              <a:rPr b="1" lang="ru-RU" sz="2800" spc="-1" strike="noStrike">
                <a:solidFill>
                  <a:srgbClr val="ff00ff"/>
                </a:solidFill>
                <a:latin typeface="Monotype Corsiva"/>
              </a:rPr>
              <a:t> -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прерывная функция, причем 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f(x)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0 пр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;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Таким образом, объем шара равен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omic Sans MS"/>
              </a:rPr>
              <a:t>V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∫</a:t>
            </a:r>
            <a:r>
              <a:rPr b="1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(R</a:t>
            </a:r>
            <a:r>
              <a:rPr b="1" lang="en-US" sz="2800" spc="-1" strike="noStrike" baseline="30000">
                <a:solidFill>
                  <a:srgbClr val="ff00ff"/>
                </a:solidFill>
                <a:latin typeface="Monotype Corsiva"/>
              </a:rPr>
              <a:t>2 </a:t>
            </a:r>
            <a:r>
              <a:rPr b="1" lang="ru-RU" sz="2800" spc="-1" strike="noStrike">
                <a:solidFill>
                  <a:srgbClr val="ff00ff"/>
                </a:solidFill>
                <a:latin typeface="Monotype Corsiva"/>
              </a:rPr>
              <a:t>-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x</a:t>
            </a:r>
            <a:r>
              <a:rPr b="1" lang="ru-RU" sz="2800" spc="-1" strike="noStrike" baseline="30000">
                <a:solidFill>
                  <a:srgbClr val="ff00ff"/>
                </a:solidFill>
                <a:latin typeface="Monotype Corsiva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) dx</a:t>
            </a:r>
            <a:r>
              <a:rPr b="1" lang="ru-RU" sz="2800" spc="-1" strike="noStrike">
                <a:solidFill>
                  <a:srgbClr val="ff00ff"/>
                </a:solidFill>
                <a:latin typeface="Monotype Corsiva"/>
              </a:rPr>
              <a:t>,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=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(R</a:t>
            </a:r>
            <a:r>
              <a:rPr b="1" lang="en-US" sz="2800" spc="-1" strike="noStrike" baseline="30000">
                <a:solidFill>
                  <a:srgbClr val="ff00ff"/>
                </a:solidFill>
                <a:latin typeface="Monotype Corsiva"/>
              </a:rPr>
              <a:t>2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x </a:t>
            </a:r>
            <a:r>
              <a:rPr b="1" lang="ru-RU" sz="2800" spc="-1" strike="noStrike">
                <a:solidFill>
                  <a:srgbClr val="ff00ff"/>
                </a:solidFill>
                <a:latin typeface="Monotype Corsiva"/>
              </a:rPr>
              <a:t>–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x</a:t>
            </a:r>
            <a:r>
              <a:rPr b="1" lang="en-US" sz="2800" spc="-1" strike="noStrike" baseline="30000">
                <a:solidFill>
                  <a:srgbClr val="ff00ff"/>
                </a:solidFill>
                <a:latin typeface="Monotype Corsiva"/>
              </a:rPr>
              <a:t>3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/3)    = ((R</a:t>
            </a:r>
            <a:r>
              <a:rPr b="1" lang="en-US" sz="2800" spc="-1" strike="noStrike" baseline="30000">
                <a:solidFill>
                  <a:srgbClr val="ff00ff"/>
                </a:solidFill>
                <a:latin typeface="Monotype Corsiva"/>
              </a:rPr>
              <a:t>3</a:t>
            </a:r>
            <a:r>
              <a:rPr b="1" lang="ru-RU" sz="2800" spc="-1" strike="noStrike">
                <a:solidFill>
                  <a:srgbClr val="ff00ff"/>
                </a:solidFill>
                <a:latin typeface="Monotype Corsiva"/>
              </a:rPr>
              <a:t>–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 R</a:t>
            </a:r>
            <a:r>
              <a:rPr b="1" lang="en-US" sz="2800" spc="-1" strike="noStrike" baseline="30000">
                <a:solidFill>
                  <a:srgbClr val="ff00ff"/>
                </a:solidFill>
                <a:latin typeface="Monotype Corsiva"/>
              </a:rPr>
              <a:t>3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/3)  - (-R</a:t>
            </a:r>
            <a:r>
              <a:rPr b="1" lang="en-US" sz="2800" spc="-1" strike="noStrike" baseline="30000">
                <a:solidFill>
                  <a:srgbClr val="ff00ff"/>
                </a:solidFill>
                <a:latin typeface="Monotype Corsiva"/>
              </a:rPr>
              <a:t>3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+ R</a:t>
            </a:r>
            <a:r>
              <a:rPr b="1" lang="en-US" sz="2800" spc="-1" strike="noStrike" baseline="30000">
                <a:solidFill>
                  <a:srgbClr val="ff00ff"/>
                </a:solidFill>
                <a:latin typeface="Monotype Corsiva"/>
              </a:rPr>
              <a:t>3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/3)) </a:t>
            </a:r>
            <a:r>
              <a:rPr b="1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00ff"/>
                </a:solidFill>
                <a:latin typeface="Monotype Corsiva"/>
              </a:rPr>
              <a:t>=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= </a:t>
            </a:r>
            <a:r>
              <a:rPr b="1" lang="ru-RU" sz="2400" spc="-1" strike="noStrike">
                <a:solidFill>
                  <a:srgbClr val="ff00ff"/>
                </a:solidFill>
                <a:latin typeface="Comic Sans MS"/>
              </a:rPr>
              <a:t>4</a:t>
            </a: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/3</a:t>
            </a: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R</a:t>
            </a:r>
            <a:r>
              <a:rPr b="1" lang="en-US" sz="2400" spc="-1" strike="noStrike" baseline="30000">
                <a:solidFill>
                  <a:srgbClr val="ff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ff00ff"/>
                </a:solidFill>
                <a:latin typeface="Comic Sans MS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Теорема доказан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Исследование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объема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шара.x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2708280"/>
            <a:ext cx="39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2205000"/>
            <a:ext cx="399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4038480"/>
            <a:ext cx="0" cy="533520"/>
          </a:xfrm>
          <a:prstGeom prst="line">
            <a:avLst/>
          </a:prstGeom>
          <a:ln cap="sq"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886200"/>
            <a:ext cx="393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4495680"/>
            <a:ext cx="41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Comic Sans MS"/>
              </a:rPr>
              <a:t>-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3962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4419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00ff"/>
                </a:solidFill>
                <a:latin typeface="Comic Sans MS"/>
              </a:rPr>
              <a:t>-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4572000"/>
            <a:ext cx="0" cy="76320"/>
          </a:xfrm>
          <a:prstGeom prst="line">
            <a:avLst/>
          </a:prstGeom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62120" y="1219320"/>
            <a:ext cx="68580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99"/>
                </a:solidFill>
                <a:uFillTx/>
                <a:latin typeface="Comic Sans MS"/>
              </a:rPr>
              <a:t>Пример.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Найдите объем шара, радиус которого равен 3см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Решение.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Воспользуемся формулой для нахождения объема шара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=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=36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(c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Ответ.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547640" y="4149720"/>
            <a:ext cx="583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полнила работу: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763640" y="4941720"/>
            <a:ext cx="525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бовлюк Алена</a:t>
            </a:r>
            <a:endParaRPr b="0" lang="en-US" sz="2400" spc="1" strike="noStrike">
              <a:ln w="0">
                <a:noFill/>
              </a:ln>
              <a:solidFill>
                <a:srgbClr val="cc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u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9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9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133720" y="914400"/>
            <a:ext cx="4952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00cc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илиндр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50000">
                    <a:srgbClr val="00cc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676520"/>
            <a:ext cx="61722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Monotype Corsiva"/>
              </a:rPr>
              <a:t>Определение</a:t>
            </a: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.</a:t>
            </a:r>
            <a:r>
              <a:rPr b="1" lang="ru-RU" sz="2800" spc="-1" strike="noStrike" u="sng">
                <a:solidFill>
                  <a:srgbClr val="cc0099"/>
                </a:solidFill>
                <a:uFillTx/>
                <a:latin typeface="Comic Sans MS"/>
              </a:rPr>
              <a:t> </a:t>
            </a:r>
            <a:r>
              <a:rPr b="1" lang="ru-RU" sz="2600" spc="-1" strike="noStrike" u="sng">
                <a:solidFill>
                  <a:srgbClr val="cc0099"/>
                </a:solidFill>
                <a:uFillTx/>
                <a:latin typeface="Comic Sans MS"/>
              </a:rPr>
              <a:t>Цилиндром</a:t>
            </a: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называется тело, которое состоит из двух кругов, не лежащих в одной плоскости и совмещаемых параллельным переносом, и всех отрезков, соединяющих соответствующие точки этих кругов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2286000"/>
          <a:ext cx="2581200" cy="39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25812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895480" y="1143000"/>
            <a:ext cx="6019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Слово </a:t>
            </a:r>
            <a:r>
              <a:rPr b="1" lang="ru-RU" sz="2600" spc="-1" strike="noStrike" u="sng">
                <a:solidFill>
                  <a:srgbClr val="cc0099"/>
                </a:solidFill>
                <a:uFillTx/>
                <a:latin typeface="Century Gothic"/>
                <a:ea typeface="Times New Roman"/>
              </a:rPr>
              <a:t>"цилиндр"</a:t>
            </a:r>
            <a:r>
              <a:rPr b="1" lang="ru-RU" sz="2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происходит от греческого </a:t>
            </a:r>
            <a:r>
              <a:rPr b="1" i="1" lang="ru-RU" sz="2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kylindros</a:t>
            </a:r>
            <a:r>
              <a:rPr b="1" lang="ru-RU" sz="26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, что означает "валик", "каток".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1452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5800" y="541008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343400" y="1219320"/>
            <a:ext cx="48006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Цилиндрическая поверхность называется</a:t>
            </a:r>
            <a:r>
              <a:rPr b="1" lang="ru-RU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ru-RU" sz="2400" spc="-1" strike="noStrike" u="sng">
                <a:solidFill>
                  <a:srgbClr val="cc0099"/>
                </a:solidFill>
                <a:uFillTx/>
                <a:latin typeface="Comic Sans MS"/>
              </a:rPr>
              <a:t>боковой поверхностью цилиндра</a:t>
            </a:r>
            <a:r>
              <a:rPr b="1" lang="ru-RU" sz="2400" spc="-1" strike="noStrike">
                <a:solidFill>
                  <a:srgbClr val="ffffcc"/>
                </a:solidFill>
                <a:latin typeface="Comic Sans MS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 круги –</a:t>
            </a:r>
            <a:r>
              <a:rPr b="1" lang="ru-RU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ru-RU" sz="2400" spc="-1" strike="noStrike" u="sng">
                <a:solidFill>
                  <a:srgbClr val="cc0099"/>
                </a:solidFill>
                <a:uFillTx/>
                <a:latin typeface="Comic Sans MS"/>
              </a:rPr>
              <a:t>основаниями цилиндра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бразующие цилиндрической поверхности называются </a:t>
            </a:r>
            <a:r>
              <a:rPr b="1" lang="ru-RU" sz="2400" spc="-1" strike="noStrike" u="sng">
                <a:solidFill>
                  <a:srgbClr val="cc0099"/>
                </a:solidFill>
                <a:uFillTx/>
                <a:latin typeface="Comic Sans MS"/>
              </a:rPr>
              <a:t>образующими цилиндра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, прямая ОО</a:t>
            </a: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ru-RU" sz="2400" spc="-1" strike="noStrike" u="sng">
                <a:solidFill>
                  <a:srgbClr val="cc0099"/>
                </a:solidFill>
                <a:uFillTx/>
                <a:latin typeface="Comic Sans MS"/>
              </a:rPr>
              <a:t>осью цилиндра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809880" y="3200400"/>
            <a:ext cx="609840" cy="533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95280" y="5410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лина образующей называется </a:t>
            </a:r>
            <a:r>
              <a:rPr b="1" lang="ru-RU" sz="2400" spc="-1" strike="noStrike" u="sng">
                <a:solidFill>
                  <a:srgbClr val="cc0099"/>
                </a:solidFill>
                <a:uFillTx/>
                <a:latin typeface="Comic Sans MS"/>
              </a:rPr>
              <a:t>высотой цилиндра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, а радиус основания – </a:t>
            </a:r>
            <a:r>
              <a:rPr b="1" lang="ru-RU" sz="2400" spc="-1" strike="noStrike" u="sng">
                <a:solidFill>
                  <a:srgbClr val="cc0099"/>
                </a:solidFill>
                <a:uFillTx/>
                <a:latin typeface="Comic Sans MS"/>
              </a:rPr>
              <a:t>радиусом цилиндра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886200" y="1219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28600" y="1371600"/>
            <a:ext cx="3581280" cy="3505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35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5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038480" y="1066680"/>
            <a:ext cx="495324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снование цилиндра – круги с центрами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О </a:t>
            </a:r>
            <a:r>
              <a:rPr b="1" lang="ru-RU" sz="2400" spc="-1" strike="noStrike">
                <a:solidFill>
                  <a:srgbClr val="ffffcc"/>
                </a:solidFill>
                <a:latin typeface="Comic Sans MS"/>
              </a:rPr>
              <a:t>и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О</a:t>
            </a:r>
            <a:r>
              <a:rPr b="1" lang="ru-RU" sz="10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, тогда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ОО</a:t>
            </a:r>
            <a:r>
              <a:rPr b="1" lang="ru-RU" sz="10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– ось цилиндра и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ОО</a:t>
            </a:r>
            <a:r>
              <a:rPr b="1" lang="ru-RU" sz="10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= Н,    Н – высота цилиндра,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ОО</a:t>
            </a:r>
            <a:r>
              <a:rPr b="1" lang="ru-RU" sz="10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– перпендикуляр к плоскости оснований цилиндр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Точки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А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А</a:t>
            </a:r>
            <a:r>
              <a:rPr b="1" lang="ru-RU" sz="10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, В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В</a:t>
            </a:r>
            <a:r>
              <a:rPr b="1" lang="ru-RU" sz="10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Х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Х</a:t>
            </a:r>
            <a:r>
              <a:rPr b="1" lang="ru-RU" sz="10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– соответствующие точки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АА</a:t>
            </a:r>
            <a:r>
              <a:rPr b="1" lang="ru-RU" sz="10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и ВВ</a:t>
            </a:r>
            <a:r>
              <a:rPr b="1" lang="ru-RU" sz="10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– образующие цилиндра, отрезки, соединяющие соответствующие точки на окружностях основани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505320" y="990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581280" y="4267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581280" y="3352680"/>
            <a:ext cx="53352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28600" y="1219320"/>
          <a:ext cx="3200400" cy="41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219320"/>
                    <a:ext cx="3200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29528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0099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9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920" y="838080"/>
            <a:ext cx="845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Если образующие перпендикулярны плоскостям оснований, то цилиндр называется </a:t>
            </a:r>
            <a:r>
              <a:rPr b="1" lang="ru-RU" sz="2200" spc="-1" strike="noStrike" u="sng">
                <a:solidFill>
                  <a:srgbClr val="cc0099"/>
                </a:solidFill>
                <a:uFillTx/>
                <a:latin typeface="Times New Roman"/>
              </a:rPr>
              <a:t>прямым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. Рассмотрим круговой цилиндр.  ОА=О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- радиус цилиндра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1905120"/>
            <a:ext cx="5867280" cy="59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Comic Sans MS"/>
              </a:rPr>
              <a:t>плоскости оснований цилиндра параллельны, т.е. пл. АОВ </a:t>
            </a:r>
            <a:r>
              <a:rPr b="1" lang="en-US" sz="2200" spc="-1" strike="noStrike">
                <a:solidFill>
                  <a:srgbClr val="ffffff"/>
                </a:solidFill>
                <a:latin typeface="News Gothic MT"/>
              </a:rPr>
              <a:t>II 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пл. А</a:t>
            </a:r>
            <a:r>
              <a:rPr b="1" lang="ru-RU" sz="1000" spc="-1" strike="noStrike">
                <a:solidFill>
                  <a:srgbClr val="ffffff"/>
                </a:solidFill>
                <a:latin typeface="News Gothic MT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О</a:t>
            </a:r>
            <a:r>
              <a:rPr b="1" lang="ru-RU" sz="1000" spc="-1" strike="noStrike">
                <a:solidFill>
                  <a:srgbClr val="ffffff"/>
                </a:solidFill>
                <a:latin typeface="News Gothic MT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В</a:t>
            </a:r>
            <a:r>
              <a:rPr b="1" lang="ru-RU" sz="1000" spc="-1" strike="noStrike">
                <a:solidFill>
                  <a:srgbClr val="ffffff"/>
                </a:solidFill>
                <a:latin typeface="News Gothic MT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образующие цилиндра параллельны и равны (АА</a:t>
            </a:r>
            <a:r>
              <a:rPr b="1" lang="ru-RU" sz="1000" spc="-1" strike="noStrike">
                <a:solidFill>
                  <a:srgbClr val="ffffff"/>
                </a:solidFill>
                <a:latin typeface="News Gothic MT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=ВВ</a:t>
            </a:r>
            <a:r>
              <a:rPr b="1" lang="ru-RU" sz="1000" spc="-1" strike="noStrike">
                <a:solidFill>
                  <a:srgbClr val="ffffff"/>
                </a:solidFill>
                <a:latin typeface="News Gothic MT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, АА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I</a:t>
            </a:r>
            <a:r>
              <a:rPr b="1" lang="ru-RU" sz="2400" spc="-1" strike="noStrike" u="sng">
                <a:solidFill>
                  <a:srgbClr val="ffffcc"/>
                </a:solidFill>
                <a:uFillTx/>
                <a:latin typeface="Comic Sans MS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News Gothic MT"/>
              </a:rPr>
              <a:t>1 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ВВ</a:t>
            </a:r>
            <a:r>
              <a:rPr b="1" lang="ru-RU" sz="1000" spc="-1" strike="noStrike">
                <a:solidFill>
                  <a:srgbClr val="ffffff"/>
                </a:solidFill>
                <a:latin typeface="News Gothic MT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)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высота цилиндра равна образующей: Н=ОО</a:t>
            </a:r>
            <a:r>
              <a:rPr b="1" lang="ru-RU" sz="1000" spc="-1" strike="noStrike">
                <a:solidFill>
                  <a:srgbClr val="ffffff"/>
                </a:solidFill>
                <a:latin typeface="News Gothic MT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=АА</a:t>
            </a:r>
            <a:r>
              <a:rPr b="1" lang="ru-RU" sz="1000" spc="-1" strike="noStrike">
                <a:solidFill>
                  <a:srgbClr val="ffffff"/>
                </a:solidFill>
                <a:latin typeface="News Gothic MT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цилиндр – тело вращения полученное при вращении прямоугольник вокруг одной</a:t>
            </a: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 стороны.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News Gothic MT"/>
              </a:rPr>
              <a:t>       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2590920"/>
            <a:ext cx="304920" cy="304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3733920"/>
            <a:ext cx="304920" cy="304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9051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99"/>
                </a:solidFill>
                <a:uFillTx/>
                <a:latin typeface="Comic Sans MS"/>
              </a:rPr>
              <a:t>Свойства прямого кругового цилиндра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4876920"/>
            <a:ext cx="304920" cy="304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5715000"/>
            <a:ext cx="304920" cy="304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2514600"/>
          <a:ext cx="281916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14600"/>
                    <a:ext cx="28191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75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75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85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85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85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85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914400" y="1066680"/>
            <a:ext cx="6553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чения цилиндра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2057400"/>
          <a:ext cx="297180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057400"/>
                    <a:ext cx="29718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495680" y="2057400"/>
          <a:ext cx="2971800" cy="358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2057400"/>
                    <a:ext cx="29718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80880" y="58672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евое сечение цилинд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58672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чение цилиндра плоскостью, перпендикулярной к ос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838080" y="1066680"/>
            <a:ext cx="7391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формулы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362320"/>
            <a:ext cx="4800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S</a:t>
            </a:r>
            <a:r>
              <a:rPr b="1" lang="ru-RU" sz="4400" spc="-1" strike="noStrike" baseline="-30000">
                <a:solidFill>
                  <a:srgbClr val="ff00ff"/>
                </a:solidFill>
                <a:latin typeface="Monotype Corsiva"/>
              </a:rPr>
              <a:t>осн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=</a:t>
            </a:r>
            <a:r>
              <a:rPr b="1" lang="en-US" sz="44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R</a:t>
            </a:r>
            <a:r>
              <a:rPr b="1" lang="en-US" sz="4400" spc="-1" strike="noStrike" baseline="30000">
                <a:solidFill>
                  <a:srgbClr val="ff00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666880"/>
            <a:ext cx="47242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S</a:t>
            </a:r>
            <a:r>
              <a:rPr b="1" lang="ru-RU" sz="4400" spc="-1" strike="noStrike" baseline="-30000">
                <a:solidFill>
                  <a:srgbClr val="ff00ff"/>
                </a:solidFill>
                <a:latin typeface="Monotype Corsiva"/>
              </a:rPr>
              <a:t>бок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=2</a:t>
            </a:r>
            <a:r>
              <a:rPr b="1" lang="en-US" sz="44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R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276720"/>
            <a:ext cx="4724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S</a:t>
            </a:r>
            <a:r>
              <a:rPr b="1" lang="ru-RU" sz="4400" spc="-1" strike="noStrike" baseline="-30000">
                <a:solidFill>
                  <a:srgbClr val="ff00ff"/>
                </a:solidFill>
                <a:latin typeface="Monotype Corsiva"/>
              </a:rPr>
              <a:t>полн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=2S</a:t>
            </a:r>
            <a:r>
              <a:rPr b="1" lang="ru-RU" sz="4400" spc="-1" strike="noStrike" baseline="-30000">
                <a:solidFill>
                  <a:srgbClr val="ff00ff"/>
                </a:solidFill>
                <a:latin typeface="Monotype Corsiva"/>
              </a:rPr>
              <a:t>осн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+S</a:t>
            </a:r>
            <a:r>
              <a:rPr b="1" lang="ru-RU" sz="4400" spc="-1" strike="noStrike" baseline="-30000">
                <a:solidFill>
                  <a:srgbClr val="ff00ff"/>
                </a:solidFill>
                <a:latin typeface="Monotype Corsiva"/>
              </a:rPr>
              <a:t>бок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S</a:t>
            </a:r>
            <a:r>
              <a:rPr b="1" lang="en-US" sz="4400" spc="-1" strike="noStrike" baseline="-30000">
                <a:solidFill>
                  <a:srgbClr val="ff00ff"/>
                </a:solidFill>
                <a:latin typeface="Monotype Corsiva"/>
                <a:ea typeface="Times New Roman"/>
              </a:rPr>
              <a:t>полн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=2</a:t>
            </a:r>
            <a:r>
              <a:rPr b="0" lang="en-US" sz="44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R</a:t>
            </a:r>
            <a:r>
              <a:rPr b="0" lang="en-US" sz="4400" spc="-1" strike="noStrike" baseline="30000">
                <a:solidFill>
                  <a:srgbClr val="ff00ff"/>
                </a:solidFill>
                <a:latin typeface="Comic Sans MS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+2</a:t>
            </a:r>
            <a:r>
              <a:rPr b="1" lang="en-US" sz="44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R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V=S</a:t>
            </a:r>
            <a:r>
              <a:rPr b="1" lang="en-US" sz="4400" spc="-1" strike="noStrike" baseline="-30000">
                <a:solidFill>
                  <a:srgbClr val="ff00ff"/>
                </a:solidFill>
                <a:latin typeface="Monotype Corsiva"/>
                <a:ea typeface="Times New Roman"/>
              </a:rPr>
              <a:t>осн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V=</a:t>
            </a:r>
            <a:r>
              <a:rPr b="0" lang="en-US" sz="4400" spc="-1" strike="noStrike">
                <a:solidFill>
                  <a:srgbClr val="ff00ff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R</a:t>
            </a:r>
            <a:r>
              <a:rPr b="0" lang="en-US" sz="4400" spc="-1" strike="noStrike" baseline="30000">
                <a:solidFill>
                  <a:srgbClr val="ff00ff"/>
                </a:solidFill>
                <a:latin typeface="Comic Sans MS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2133720"/>
          <a:ext cx="3048120" cy="37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30481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133720" y="3657600"/>
            <a:ext cx="26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449568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95280" y="6308640"/>
            <a:ext cx="3203640" cy="549360"/>
          </a:xfrm>
          <a:custGeom>
            <a:avLst/>
            <a:gdLst>
              <a:gd name="textAreaLeft" fmla="*/ 35280 w 3203640"/>
              <a:gd name="textAreaRight" fmla="*/ 3168360 w 320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125894" h="21600">
                <a:moveTo>
                  <a:pt x="0" y="0"/>
                </a:moveTo>
                <a:lnTo>
                  <a:pt x="125894" y="0"/>
                </a:lnTo>
                <a:lnTo>
                  <a:pt x="125894" y="21600"/>
                </a:lnTo>
                <a:lnTo>
                  <a:pt x="0" y="21600"/>
                </a:lnTo>
                <a:close/>
              </a:path>
              <a:path fill="lightenLess" w="125894" h="21600">
                <a:moveTo>
                  <a:pt x="0" y="0"/>
                </a:moveTo>
                <a:lnTo>
                  <a:pt x="125894" y="0"/>
                </a:lnTo>
                <a:lnTo>
                  <a:pt x="124494" y="1400"/>
                </a:lnTo>
                <a:lnTo>
                  <a:pt x="1400" y="1400"/>
                </a:lnTo>
                <a:close/>
              </a:path>
              <a:path fill="darken" w="125894" h="21600">
                <a:moveTo>
                  <a:pt x="125894" y="0"/>
                </a:moveTo>
                <a:lnTo>
                  <a:pt x="125894" y="21600"/>
                </a:lnTo>
                <a:lnTo>
                  <a:pt x="124494" y="20200"/>
                </a:lnTo>
                <a:lnTo>
                  <a:pt x="124494" y="1400"/>
                </a:lnTo>
                <a:close/>
              </a:path>
              <a:path fill="darkenLess" w="125894" h="21600">
                <a:moveTo>
                  <a:pt x="125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494" y="20200"/>
                </a:lnTo>
                <a:close/>
              </a:path>
              <a:path fill="lighten" w="125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cap="sq"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b81ff"/>
                </a:solidFill>
                <a:latin typeface="Comic Sans MS"/>
              </a:rPr>
              <a:t>К</a:t>
            </a:r>
            <a:r>
              <a:rPr b="1" lang="ru-RU" sz="28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Comic Sans MS"/>
                <a:hlinkClick r:id="rId5" action="ppaction://hlinksldjump"/>
              </a:rPr>
              <a:t>оглавлени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850"/>
                            </p:stCondLst>
                            <p:childTnLst>
                              <p:par>
                                <p:cTn id="2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750"/>
                            </p:stCondLst>
                            <p:childTnLst>
                              <p:par>
                                <p:cTn id="2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4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9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0" y="1981080"/>
            <a:ext cx="68580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Латинское слово conus заимствовано из греческого языка (konos - затычка, втулка, сосновая шишка). В XI книге "Начал" даётся следующее определение: если вращающийся около одного из своих катетов прямоугольный треугольник снова вернётся в то же самое положение, из которого он начал двигаться, то описанная фигура будет </a:t>
            </a:r>
            <a:r>
              <a:rPr b="1" lang="ru-RU" sz="28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конусом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 Евклид рассматривает только прямые конусы, лишь Аполлоний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различает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прямые и косые конусы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ru-RU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" descr="Platon"/>
          <p:cNvPicPr/>
          <p:nvPr/>
        </p:nvPicPr>
        <p:blipFill>
          <a:blip r:embed="rId2"/>
          <a:stretch/>
        </p:blipFill>
        <p:spPr>
          <a:xfrm>
            <a:off x="228600" y="2438280"/>
            <a:ext cx="1905120" cy="2438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752480" y="914400"/>
            <a:ext cx="6019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Impact"/>
              </a:rPr>
              <a:t>конус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ll dir="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45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9:07:56Z</dcterms:created>
  <dc:creator>Аоена</dc:creator>
  <dc:description/>
  <dc:language>en-US</dc:language>
  <cp:lastModifiedBy>User</cp:lastModifiedBy>
  <dcterms:modified xsi:type="dcterms:W3CDTF">2006-10-27T20:14:09Z</dcterms:modified>
  <cp:revision>267</cp:revision>
  <dc:subject/>
  <dc:title>Презентация по геометрии</dc:title>
</cp:coreProperties>
</file>