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7.gif" ContentType="image/gif"/>
  <Override PartName="/ppt/media/image12.jpeg" ContentType="image/jpeg"/>
  <Override PartName="/ppt/media/image11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6EE89-4F5A-4B63-8CF7-B9136E23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3FEAF-2B6A-4BEE-ACF2-9C61A47B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C23FE-58A2-4903-8DE6-52684F52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6D97-B12A-42BC-BBD7-46C4F2DD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16AB-AC73-4DC6-853C-984923D9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54A0-7FE1-43B9-87B2-D7811F89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26F4-8FFC-4E81-887A-B1D59E34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D59C-10FA-4FB2-A822-937D08F0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B3AE-DC68-44B1-8389-4C6F7F89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2022-EBA3-432A-8326-665C6195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C248-234B-499B-BE68-15856ED1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8DB1-398D-4575-BCA2-6FDD597C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988B-C6AD-4B91-9CAB-326AD284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885E-2D1B-44B8-8452-569DAB32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9745-3E55-4960-9DCE-3EBD151D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4952-D6E9-4EC3-9F7C-E14A02A0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B0F7-FA5C-41FB-89AE-8A9D4A18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0116E-7C10-4D93-B4BF-3FB6D451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3AFD-156F-48F9-8CEE-7329A728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1E91-7CF7-40F3-A9F3-17C0D62A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3CB0C-2614-4D5E-8E9B-561F78E8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B88AB-259C-4C85-B96E-D0778552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1120-D7BF-4561-8EE3-BADC47FD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B02DD-5F00-4F4E-92F9-6E24B8DA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1E23-84AA-4D15-917D-C88780AF17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58A9-AECB-4ED1-A96A-BAD548B4D4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5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Для учащихся 2-5 класс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981000"/>
            <a:ext cx="856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бавные загадки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Не угадал! Подумай еще.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Все правильно.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4032360" cy="32907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6300720" y="3284640"/>
            <a:ext cx="1727280" cy="1296720"/>
          </a:xfrm>
          <a:custGeom>
            <a:avLst/>
            <a:gdLst>
              <a:gd name="textAreaLeft" fmla="*/ 83880 w 1727280"/>
              <a:gd name="textAreaRight" fmla="*/ 1643400 w 1727280"/>
              <a:gd name="textAreaTop" fmla="*/ 83880 h 1296720"/>
              <a:gd name="textAreaBottom" fmla="*/ 1212840 h 1296720"/>
            </a:gdLst>
            <a:ahLst/>
            <a:rect l="textAreaLeft" t="textAreaTop" r="textAreaRight" b="textAreaBottom"/>
            <a:pathLst>
              <a:path w="28770" h="21600">
                <a:moveTo>
                  <a:pt x="0" y="0"/>
                </a:moveTo>
                <a:lnTo>
                  <a:pt x="28770" y="0"/>
                </a:lnTo>
                <a:lnTo>
                  <a:pt x="28770" y="21600"/>
                </a:lnTo>
                <a:lnTo>
                  <a:pt x="0" y="21600"/>
                </a:lnTo>
                <a:close/>
              </a:path>
              <a:path fill="lightenLess" w="28770" h="21600">
                <a:moveTo>
                  <a:pt x="0" y="0"/>
                </a:moveTo>
                <a:lnTo>
                  <a:pt x="28770" y="0"/>
                </a:lnTo>
                <a:lnTo>
                  <a:pt x="27370" y="1400"/>
                </a:lnTo>
                <a:lnTo>
                  <a:pt x="1400" y="1400"/>
                </a:lnTo>
                <a:close/>
              </a:path>
              <a:path fill="darken" w="28770" h="21600">
                <a:moveTo>
                  <a:pt x="28770" y="0"/>
                </a:moveTo>
                <a:lnTo>
                  <a:pt x="28770" y="21600"/>
                </a:lnTo>
                <a:lnTo>
                  <a:pt x="27370" y="20200"/>
                </a:lnTo>
                <a:lnTo>
                  <a:pt x="27370" y="1400"/>
                </a:lnTo>
                <a:close/>
              </a:path>
              <a:path fill="darkenLess" w="28770" h="21600">
                <a:moveTo>
                  <a:pt x="28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0" y="20200"/>
                </a:lnTo>
                <a:close/>
              </a:path>
              <a:path fill="lighten" w="28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0" h="21600">
                <a:moveTo>
                  <a:pt x="7379" y="3794"/>
                </a:moveTo>
                <a:lnTo>
                  <a:pt x="21391" y="10800"/>
                </a:lnTo>
                <a:lnTo>
                  <a:pt x="7379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Garamond"/>
              </a:rPr>
              <a:t>Это радуг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8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Вечером на землю слетает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ночь на земле прибывает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утром опять улетает.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4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11280" y="1916280"/>
            <a:ext cx="1646280" cy="2103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940360" y="4221000"/>
            <a:ext cx="2311560" cy="2311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11280" y="4365720"/>
            <a:ext cx="1641240" cy="2187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867280" y="2060640"/>
            <a:ext cx="23558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Ошибаешься! 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Все правильно!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Это роса.</a:t>
            </a:r>
            <a:endParaRPr b="1" lang="en-US" sz="5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4032360" cy="329076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6300720" y="3284640"/>
            <a:ext cx="1727280" cy="1296720"/>
          </a:xfrm>
          <a:custGeom>
            <a:avLst/>
            <a:gdLst>
              <a:gd name="textAreaLeft" fmla="*/ 83880 w 1727280"/>
              <a:gd name="textAreaRight" fmla="*/ 1643400 w 1727280"/>
              <a:gd name="textAreaTop" fmla="*/ 83880 h 1296720"/>
              <a:gd name="textAreaBottom" fmla="*/ 1212840 h 1296720"/>
            </a:gdLst>
            <a:ahLst/>
            <a:rect l="textAreaLeft" t="textAreaTop" r="textAreaRight" b="textAreaBottom"/>
            <a:pathLst>
              <a:path w="28770" h="21600">
                <a:moveTo>
                  <a:pt x="0" y="0"/>
                </a:moveTo>
                <a:lnTo>
                  <a:pt x="28770" y="0"/>
                </a:lnTo>
                <a:lnTo>
                  <a:pt x="28770" y="21600"/>
                </a:lnTo>
                <a:lnTo>
                  <a:pt x="0" y="21600"/>
                </a:lnTo>
                <a:close/>
              </a:path>
              <a:path fill="lightenLess" w="28770" h="21600">
                <a:moveTo>
                  <a:pt x="0" y="0"/>
                </a:moveTo>
                <a:lnTo>
                  <a:pt x="28770" y="0"/>
                </a:lnTo>
                <a:lnTo>
                  <a:pt x="27370" y="1400"/>
                </a:lnTo>
                <a:lnTo>
                  <a:pt x="1400" y="1400"/>
                </a:lnTo>
                <a:close/>
              </a:path>
              <a:path fill="darken" w="28770" h="21600">
                <a:moveTo>
                  <a:pt x="28770" y="0"/>
                </a:moveTo>
                <a:lnTo>
                  <a:pt x="28770" y="21600"/>
                </a:lnTo>
                <a:lnTo>
                  <a:pt x="27370" y="20200"/>
                </a:lnTo>
                <a:lnTo>
                  <a:pt x="27370" y="1400"/>
                </a:lnTo>
                <a:close/>
              </a:path>
              <a:path fill="darkenLess" w="28770" h="21600">
                <a:moveTo>
                  <a:pt x="28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0" y="20200"/>
                </a:lnTo>
                <a:close/>
              </a:path>
              <a:path fill="lighten" w="28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0" h="21600">
                <a:moveTo>
                  <a:pt x="7379" y="3794"/>
                </a:moveTo>
                <a:lnTo>
                  <a:pt x="21391" y="10800"/>
                </a:lnTo>
                <a:lnTo>
                  <a:pt x="7379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600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55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63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Garamond"/>
              </a:rPr>
              <a:t>До новых встреч!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Ты хорошо справился с задания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Лесной гном остался очень доволе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Garamond"/>
              </a:rPr>
              <a:t>Он еще обязательно встретиться с тобой, чтобы загадать новые загадк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6720" y="260280"/>
            <a:ext cx="36705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3100"/>
          <a:stretch/>
        </p:blipFill>
        <p:spPr>
          <a:xfrm>
            <a:off x="2268360" y="1989000"/>
            <a:ext cx="4464360" cy="4869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900000" y="260280"/>
            <a:ext cx="727236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сной гном задаст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бе вопросы и загадки,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 ты постарайся на них ответить.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484360" y="2637000"/>
            <a:ext cx="3519720" cy="4005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rcRect l="0" t="13472" r="0" b="13539"/>
          <a:stretch/>
        </p:blipFill>
        <p:spPr>
          <a:xfrm>
            <a:off x="6948360" y="4869000"/>
            <a:ext cx="14414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Подумай и щелкни мышкой по картинке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403848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Все его ждут-дожидаются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а когда придет – укрываются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508720" y="1341360"/>
            <a:ext cx="2684520" cy="21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651640" y="4221000"/>
            <a:ext cx="261432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Ошибаешься! 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 Это дождик.</a:t>
            </a:r>
            <a:endParaRPr b="1" lang="en-US" sz="5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4032360" cy="329076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6300720" y="3284640"/>
            <a:ext cx="1727280" cy="1296720"/>
          </a:xfrm>
          <a:custGeom>
            <a:avLst/>
            <a:gdLst>
              <a:gd name="textAreaLeft" fmla="*/ 83880 w 1727280"/>
              <a:gd name="textAreaRight" fmla="*/ 1643400 w 1727280"/>
              <a:gd name="textAreaTop" fmla="*/ 83880 h 1296720"/>
              <a:gd name="textAreaBottom" fmla="*/ 1212840 h 1296720"/>
            </a:gdLst>
            <a:ahLst/>
            <a:rect l="textAreaLeft" t="textAreaTop" r="textAreaRight" b="textAreaBottom"/>
            <a:pathLst>
              <a:path w="28770" h="21600">
                <a:moveTo>
                  <a:pt x="0" y="0"/>
                </a:moveTo>
                <a:lnTo>
                  <a:pt x="28770" y="0"/>
                </a:lnTo>
                <a:lnTo>
                  <a:pt x="28770" y="21600"/>
                </a:lnTo>
                <a:lnTo>
                  <a:pt x="0" y="21600"/>
                </a:lnTo>
                <a:close/>
              </a:path>
              <a:path fill="lightenLess" w="28770" h="21600">
                <a:moveTo>
                  <a:pt x="0" y="0"/>
                </a:moveTo>
                <a:lnTo>
                  <a:pt x="28770" y="0"/>
                </a:lnTo>
                <a:lnTo>
                  <a:pt x="27370" y="1400"/>
                </a:lnTo>
                <a:lnTo>
                  <a:pt x="1400" y="1400"/>
                </a:lnTo>
                <a:close/>
              </a:path>
              <a:path fill="darken" w="28770" h="21600">
                <a:moveTo>
                  <a:pt x="28770" y="0"/>
                </a:moveTo>
                <a:lnTo>
                  <a:pt x="28770" y="21600"/>
                </a:lnTo>
                <a:lnTo>
                  <a:pt x="27370" y="20200"/>
                </a:lnTo>
                <a:lnTo>
                  <a:pt x="27370" y="1400"/>
                </a:lnTo>
                <a:close/>
              </a:path>
              <a:path fill="darkenLess" w="28770" h="21600">
                <a:moveTo>
                  <a:pt x="28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0" y="20200"/>
                </a:lnTo>
                <a:close/>
              </a:path>
              <a:path fill="lighten" w="28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0" h="21600">
                <a:moveTo>
                  <a:pt x="7379" y="3794"/>
                </a:moveTo>
                <a:lnTo>
                  <a:pt x="21391" y="10800"/>
                </a:lnTo>
                <a:lnTo>
                  <a:pt x="7379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600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Покружилась звездочка в воздухе немножко, села и растаяла на моей ладошк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50920" y="1773360"/>
            <a:ext cx="3106800" cy="2044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443640" y="1916280"/>
            <a:ext cx="1819440" cy="1958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348000" y="1989000"/>
            <a:ext cx="2519280" cy="18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Неверно! Подумай еще.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Снежинка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3357720"/>
            <a:ext cx="4032360" cy="329076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6300720" y="3284640"/>
            <a:ext cx="1727280" cy="1296720"/>
          </a:xfrm>
          <a:custGeom>
            <a:avLst/>
            <a:gdLst>
              <a:gd name="textAreaLeft" fmla="*/ 83880 w 1727280"/>
              <a:gd name="textAreaRight" fmla="*/ 1643400 w 1727280"/>
              <a:gd name="textAreaTop" fmla="*/ 83880 h 1296720"/>
              <a:gd name="textAreaBottom" fmla="*/ 1212840 h 1296720"/>
            </a:gdLst>
            <a:ahLst/>
            <a:rect l="textAreaLeft" t="textAreaTop" r="textAreaRight" b="textAreaBottom"/>
            <a:pathLst>
              <a:path w="28770" h="21600">
                <a:moveTo>
                  <a:pt x="0" y="0"/>
                </a:moveTo>
                <a:lnTo>
                  <a:pt x="28770" y="0"/>
                </a:lnTo>
                <a:lnTo>
                  <a:pt x="28770" y="21600"/>
                </a:lnTo>
                <a:lnTo>
                  <a:pt x="0" y="21600"/>
                </a:lnTo>
                <a:close/>
              </a:path>
              <a:path fill="lightenLess" w="28770" h="21600">
                <a:moveTo>
                  <a:pt x="0" y="0"/>
                </a:moveTo>
                <a:lnTo>
                  <a:pt x="28770" y="0"/>
                </a:lnTo>
                <a:lnTo>
                  <a:pt x="27370" y="1400"/>
                </a:lnTo>
                <a:lnTo>
                  <a:pt x="1400" y="1400"/>
                </a:lnTo>
                <a:close/>
              </a:path>
              <a:path fill="darken" w="28770" h="21600">
                <a:moveTo>
                  <a:pt x="28770" y="0"/>
                </a:moveTo>
                <a:lnTo>
                  <a:pt x="28770" y="21600"/>
                </a:lnTo>
                <a:lnTo>
                  <a:pt x="27370" y="20200"/>
                </a:lnTo>
                <a:lnTo>
                  <a:pt x="27370" y="1400"/>
                </a:lnTo>
                <a:close/>
              </a:path>
              <a:path fill="darkenLess" w="28770" h="21600">
                <a:moveTo>
                  <a:pt x="28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0" y="20200"/>
                </a:lnTo>
                <a:close/>
              </a:path>
              <a:path fill="lighten" w="28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0" h="21600">
                <a:moveTo>
                  <a:pt x="7379" y="3794"/>
                </a:moveTo>
                <a:lnTo>
                  <a:pt x="21391" y="10800"/>
                </a:lnTo>
                <a:lnTo>
                  <a:pt x="7379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68360" y="1628640"/>
            <a:ext cx="44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Garamond"/>
              </a:rPr>
              <a:t>Ты молодец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Цветное коромысло через речку повисло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3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002200" y="1600200"/>
            <a:ext cx="3328920" cy="218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364000" y="4005360"/>
            <a:ext cx="2737080" cy="2317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47600" y="4170240"/>
            <a:ext cx="2876760" cy="173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1:43:11Z</dcterms:created>
  <dc:creator>Your User Name</dc:creator>
  <dc:description/>
  <dc:language>en-US</dc:language>
  <cp:lastModifiedBy>Your User Name</cp:lastModifiedBy>
  <dcterms:modified xsi:type="dcterms:W3CDTF">2007-01-30T05:17:16Z</dcterms:modified>
  <cp:revision>5</cp:revision>
  <dc:subject/>
  <dc:title>Тесты по теме «Круговорот воды в природе»</dc:title>
</cp:coreProperties>
</file>