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2.jpeg" ContentType="image/jpeg"/>
  <Override PartName="/ppt/media/image7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8.png" ContentType="image/png"/>
  <Override PartName="/ppt/media/image14.jpeg" ContentType="image/jpeg"/>
  <Override PartName="/ppt/media/image28.gif" ContentType="image/gif"/>
  <Override PartName="/ppt/media/image6.jpeg" ContentType="image/jpeg"/>
  <Override PartName="/ppt/media/image10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27.wmf" ContentType="image/x-wmf"/>
  <Override PartName="/ppt/media/image16.jpeg" ContentType="image/jpeg"/>
  <Override PartName="/ppt/media/image25.png" ContentType="image/png"/>
  <Override PartName="/ppt/media/image21.gif" ContentType="image/gif"/>
  <Override PartName="/ppt/media/image23.gif" ContentType="image/gif"/>
  <Override PartName="/ppt/media/image20.jpeg" ContentType="image/jpeg"/>
  <Override PartName="/ppt/media/image19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3.gif" ContentType="image/gif"/>
  <Override PartName="/ppt/media/image17.gif" ContentType="image/gif"/>
  <Override PartName="/ppt/media/image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542C-77DB-42BF-B814-0EC32557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0495-A9ED-454E-A847-9F71390D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1233-563E-4293-A98C-78CCABDC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1967-8348-4C94-ABB6-D820D002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2676-D57C-45EE-BD69-3AC7A975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18E3-E4E0-491F-99C6-A55FC5CA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AD2F-28AA-4C53-BD21-8C47A4E4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11DB-733E-4321-A898-0C54B1AF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8FAF-5DF6-4A04-812F-6EB1F12B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4E4C-3E41-43B9-A9DD-B55A6C28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BF8B-23BA-4064-A68F-6BDA2912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F1DD-17A0-46F8-882F-ABFB5DFC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D0BE-F96D-4D06-9F3D-F0DAB68B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3DDB-41D8-4853-A120-4464D549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5666-38E1-4013-933B-F06AD3BC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CEF6-5CCA-4671-94A0-F373FB2F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BF9D-51C2-4BBD-98D8-09DE2E0E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49FE-6BE5-4DC3-983F-29E8BAFB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EF6-5AAC-4042-82D3-9404F134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3980-F70F-404B-B698-618F59E5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CB3-3DE5-4FFF-A708-AF266C24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01A9-FF8D-45A6-B035-FE705F6A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39AB-DB04-4716-B51B-A610985C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5C6B-B684-4B30-B99B-529F7032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607A-766F-48A5-91E5-FAFE93C0999A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5EED-248B-4F48-BCE7-7B0163B4AA8E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image" Target="../media/image8.png"/><Relationship Id="rId35" Type="http://schemas.openxmlformats.org/officeDocument/2006/relationships/image" Target="../media/image8.png"/><Relationship Id="rId36" Type="http://schemas.openxmlformats.org/officeDocument/2006/relationships/image" Target="../media/image8.png"/><Relationship Id="rId37" Type="http://schemas.openxmlformats.org/officeDocument/2006/relationships/image" Target="../media/image8.png"/><Relationship Id="rId38" Type="http://schemas.openxmlformats.org/officeDocument/2006/relationships/image" Target="../media/image9.png"/><Relationship Id="rId39" Type="http://schemas.openxmlformats.org/officeDocument/2006/relationships/image" Target="../media/image9.png"/><Relationship Id="rId40" Type="http://schemas.openxmlformats.org/officeDocument/2006/relationships/image" Target="../media/image9.png"/><Relationship Id="rId41" Type="http://schemas.openxmlformats.org/officeDocument/2006/relationships/image" Target="../media/image10.png"/><Relationship Id="rId42" Type="http://schemas.openxmlformats.org/officeDocument/2006/relationships/image" Target="../media/image11.gif"/><Relationship Id="rId4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547640" y="33336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Очистные сооружения города Лахденпохь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Схема очистных сооружений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7564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Анализ проб воды города Лахденпохья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2006 год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ЗА СЕНТЯБРЬ-ОКТЯБРЬ МЕСЯЦ ПРОВЕДЕНЫ АНАЛИЗЫ ПРОБ ВОДЫ МУП «Приозерскжилкомхоз» Лабораторией контроля качества воды (ЛККВ)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Исследована вода питьевая водопроводная 28.09 2006г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Проба №1-колонка на улице Трубачёва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Проба №2-колонка на улице Ленинградское шоссе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Проба№3-колонка Переулок Речной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Проба№4- колонка на улице Красноармейской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По микробиологическим исследованиям отклонений не выявлено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Исследована водопроводная вода ООО «Бумекс»-06.10. 2006г.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Не соответствует требованиям безопасности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Эти же пробы воды были взяты для исследований 05.10. 2006г, 13.10.2006г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В пробах 1,2,3 –есть отклонения по СаН.Пин 2.1.4.1074-0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Для лабораторных испытаний была взята вода из озера « Пакъярви» - водозабор 14.10. 2006г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2.11.2006г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Анализ проб показал, что данная вода соответствует требованиям Сан.Пин. 2.1.4.1074-0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Из выше сказанного можно сделать вывод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Из лабораторных исследований водопроводной воды видно, что проблемы соответствия водопроводной воды Сан.Пин, существуют на улицах : Трубачёва-проба№1, Лениградское шоссе-проба №2, переулок Речной- проба №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Анализы воды водозабора соответствуют требованиям Сан.Пин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4000" y="26028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Times New Roman"/>
              </a:rPr>
              <a:t>Удельный вес проб не отвечающей гигиеническим нормативам из водопроводной сети(%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24000" y="1341360"/>
          <a:ext cx="8820000" cy="5999400"/>
        </p:xfrm>
        <a:graphic>
          <a:graphicData uri="http://schemas.openxmlformats.org/drawingml/2006/table">
            <a:tbl>
              <a:tblPr/>
              <a:tblGrid>
                <a:gridCol w="1908000"/>
                <a:gridCol w="3743280"/>
                <a:gridCol w="3168720"/>
              </a:tblGrid>
              <a:tr h="26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оссийская Федерация      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анитарно-химическим показателям                                    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96   1997    1998   1999     200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.5  20.0       20.6   19.7        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  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микробиологическим показателям 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96  1997  1998  1999 200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.1   10.3  10.6   9.9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-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                              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еспублика Карел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.3    50.6      58.4    71.3      56,8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.6  17.2  15.2   17.3  17.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2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</a:rPr>
                        <a:t>Лахденпохь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.3    42.1     44.4     46.8       4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.6  64.4  57.7    68.8  21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647640" y="2060640"/>
            <a:ext cx="8496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2060640"/>
            <a:ext cx="0" cy="4797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35280" y="2060640"/>
            <a:ext cx="0" cy="4797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0" y="2060640"/>
            <a:ext cx="0" cy="4797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48360" y="2060640"/>
            <a:ext cx="0" cy="4797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88000" y="2060640"/>
            <a:ext cx="0" cy="4797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36000" y="2060640"/>
            <a:ext cx="0" cy="4797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885080" y="2060640"/>
            <a:ext cx="0" cy="4797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8360" y="2060640"/>
            <a:ext cx="0" cy="4797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94920" y="206064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95640" y="2421000"/>
            <a:ext cx="694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4000" y="5084640"/>
            <a:ext cx="8820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24000" y="26028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66"/>
                </a:solidFill>
                <a:uFillTx/>
                <a:latin typeface="Times New Roman"/>
              </a:rPr>
              <a:t>Основные показатели негативного воздействия предприятий ЖКХ на окружающую среду к 2003-2004годах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003366"/>
                </a:solidFill>
                <a:uFillTx/>
                <a:latin typeface="Times New Roman"/>
              </a:rPr>
              <a:t>в городе Лахденпохь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24000" y="1052640"/>
          <a:ext cx="8640720" cy="5957640"/>
        </p:xfrm>
        <a:graphic>
          <a:graphicData uri="http://schemas.openxmlformats.org/drawingml/2006/table">
            <a:tbl>
              <a:tblPr/>
              <a:tblGrid>
                <a:gridCol w="5543280"/>
                <a:gridCol w="936720"/>
                <a:gridCol w="1081080"/>
                <a:gridCol w="107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3 го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4 го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4 г. в % к 200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ыброшено вредных веществ, всего, тыс. т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 твердых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                       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азообразных и жидких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                       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: диоксид серы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                       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ксид азота и оксид углерод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лено и обезврежено, 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пользовано воды, всего, млн. м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ъем обаротной и повторно-последовательно используемой воды, млн. м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Экономия свежей воды, 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одоотведение в поверхностные водоемы, всего, млн. м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 загрязненных сточных во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                  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: без очистк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ормативно чистых и очищенных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0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0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5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4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9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9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,8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81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57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3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5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2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4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3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24000" y="33336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66"/>
                </a:solidFill>
                <a:uFillTx/>
                <a:latin typeface="Times New Roman"/>
              </a:rPr>
              <a:t>Определение рН воды в исследуемых пробах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907920"/>
          <a:ext cx="8893080" cy="5481720"/>
        </p:xfrm>
        <a:graphic>
          <a:graphicData uri="http://schemas.openxmlformats.org/drawingml/2006/table">
            <a:tbl>
              <a:tblPr/>
              <a:tblGrid>
                <a:gridCol w="539640"/>
                <a:gridCol w="2000520"/>
                <a:gridCol w="1271520"/>
                <a:gridCol w="1270080"/>
                <a:gridCol w="1271520"/>
                <a:gridCol w="1268280"/>
                <a:gridCol w="1271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звание источник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езультат №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езультат №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езультат №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езультат №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езультат №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ородской родни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олодец №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олодец №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олодец №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ода из водопровод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24000" y="2602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Times New Roman"/>
              </a:rPr>
              <a:t>Исследование воды на цвет, вкус, запах, мягкост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0" y="981000"/>
          <a:ext cx="8964720" cy="5977080"/>
        </p:xfrm>
        <a:graphic>
          <a:graphicData uri="http://schemas.openxmlformats.org/drawingml/2006/table">
            <a:tbl>
              <a:tblPr/>
              <a:tblGrid>
                <a:gridCol w="617400"/>
                <a:gridCol w="2370240"/>
                <a:gridCol w="1495440"/>
                <a:gridCol w="1492200"/>
                <a:gridCol w="1495440"/>
                <a:gridCol w="1494000"/>
              </a:tblGrid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звание источник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цве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кус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пах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ягкость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ородской родни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зрачны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ез вкус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л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ягка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олодец №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елтоваты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орнеплодо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олок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ягка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олодец №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зрачна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тхлы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лин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ягка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олодец №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зрачна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ез вкус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л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ягка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ода из водопровод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зрачна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лор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лор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ягка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В 1997 году из водопроводной сети три раза из восьми разных мест были отобраны воды для анализа. Пробы старались отбирать таким образом, чтобы они дали достаточно обширное представление о качестве водопроводной воды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В России существуют свои нормы качества питьевой воды (ГОСТ 2874-82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На качество и вкус хозяйственно-питьевой воды влияют: используемый способ очистки, возраст водопроводной воды, температура воды, а также переменчивость воды в трубопроводе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Отложения железа и марганца в трубах не влияют на гигиеничность воды, но они уменьшают остаточный хлор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По анализам качества хозяйственно- питьевой воды можно считать удовлетворительным. Часть проб содержала бактерии колли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Кроме того в воде города Лахденпохья можно заметить наличие неприятного вкуса и запаха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Уже в 1980 году было обнаружено, что предварительно хлорированная вода является мутагенной в тех городах, где предприятия водоснабжения использовали в качестве сырой воды поверхностную воду, содержащую много гумуса. Долговременное применение хлорированной воды увеличивает риск заболевания раком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79898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езультаты проб воды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8900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      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Фестиваль  исследовательских и творческих работ учащихся «Портфолио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213372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«Водопотребление города Лахденпохья.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67280" y="3573360"/>
            <a:ext cx="48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Times New Roman"/>
              </a:rPr>
              <a:t>Выполнила ученица 10 б класса Дедова Ирина МУП Лахденпохская средняя  общеобразовательная школа №1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0360" y="515772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Times New Roman"/>
              </a:rPr>
              <a:t>Руководитель Сафьянова Лидия Петровна МУП «Лахденпохская средняя общеобразовательная школа №1», учитель биолог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9640" y="3213000"/>
            <a:ext cx="3384720" cy="3645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77080" y="692280"/>
            <a:ext cx="1806480" cy="1428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76360" y="134136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Тема исследования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985080" cy="685800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719840" y="5300640"/>
            <a:ext cx="142416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3168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Некоторые последствия избытка вредных примесей в вод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1197000"/>
            <a:ext cx="8642160" cy="55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Свинец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 вызывает анемию, поражает нервную систему челове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Медь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провоцирует рвот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Алюминий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влияет на нервную систему, вызывает ухудшение памя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Ртуть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поражает нервную систему.</a:t>
            </a: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Нитриты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 вызывают аллергию, отравления, могут быть канцерогенами. </a:t>
            </a: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Фосфаты и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нитраты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способствуют эвтрофикации водоёмов и цветению вод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Пестециды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могут быть канцероген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Кишечные бактерии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вызывают опасные заболевания.</a:t>
            </a: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Хлор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 при кипячении воды в присутствии органических примесей может вступать с ними в реакцию, образуя ядовитые хлорорганические соедине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Избыток </a:t>
            </a: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калия и натрия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 нарушает функцию почек.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2060640"/>
            <a:ext cx="1081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92360" y="2421000"/>
            <a:ext cx="863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35640" y="2492280"/>
            <a:ext cx="158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93080" y="2852640"/>
            <a:ext cx="93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58920" y="4292640"/>
            <a:ext cx="158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84720" y="350028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72360" y="4653000"/>
            <a:ext cx="792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3213000"/>
            <a:ext cx="136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84720" y="5734080"/>
            <a:ext cx="21592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4653000"/>
            <a:ext cx="1439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77080" y="4221000"/>
            <a:ext cx="1582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68360" y="33336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66"/>
                </a:solidFill>
                <a:uFillTx/>
                <a:latin typeface="Times New Roman"/>
              </a:rPr>
              <a:t>Прогноз на будуще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4560" y="907920"/>
            <a:ext cx="856944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 числу жителей в централизованном водоснабжении г. Лахденпохья коэффициентом максимального суточного потребления будет 1,5, а коэффициентом максимального часового потребления-2,0. Используя эти коэффициенты, были рассчитаны прогнозы на будущее на 2025 год  получается 4280 м3.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                                                                     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2852640"/>
          <a:ext cx="9144000" cy="4194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4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од         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аксимальное суточное              максимальное    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оды потребление (м3/сутки)       потребление воды (м3/ч) 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54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3              3270                                                  181                                                          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5              3300                                                   18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0              3690                                                  20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              4070                                                   22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              4170                                                 23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5               4280                                                 238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3564000" y="3645000"/>
            <a:ext cx="216000" cy="71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Схема фильтра для очистки воды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9036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000" y="-387720"/>
            <a:ext cx="867564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Прогнозы водопотребления города Лахденпохья</a:t>
            </a: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В городе Лахденпохья можно предположить, что среднее водопотребление, к которому причислится и водопотребление местной промышленности составит 200-250 литров.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Современное удельное водопотребление составляет около 410 литров в сутки.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По прогнозу водопотребления планируется уменьшение до 300 литров в сутки на жителя. Прогноз роста населения составлен до 2025 года, предположительно оно составит 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12210 человек, но процент смертности превышает рождаемость, поэтому данные прогнозы могут не состояться.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Прогнозы максимального суточного и часового потребления составляют 2005 год-3300м3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сутки. 2010год-3690м3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Выводы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Доставка воды в городе Лахденпохья основывается исключительно на поверхностной воде, которая забирается из озера Пайк-Ярви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В сырой воде есть гумус и её единственной обработкой является дезинфекция воды хлором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Кроме того, водозабор расположен на подверженном риску месте. Вследствие этого нужно быть готовыми к тому, что существующий водозабор выйдет из эксплуатации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Водопроводная сеть старая. Реконструкции и строительство верхнего резервуара не осуществлены. Трубы и оборудование в плохом состоянии и опасны для здоровья потребителей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Необходимо строительство станции поверхностных вод, но так как это требует больших затрат, то более дешёвым вариантом является строительство водозабора подземных вод на территории Хууханмяки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При авариях водопровода можно использовать питьевую воду сохранившихся колодцев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Там, где нет водопровода жители города предпочитают пользоваться колодезной водой, тем более, что она  пригодна для питья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Предложить МУП «Водоканал» сохранить существующие колодцы, обустроив их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Местной Администрации города продумать и решить вопрос  строительстве водозабора подводных вод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24000" y="404640"/>
            <a:ext cx="8640720" cy="11908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Цель: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изучить состояние водоснабжения города Лахденпохь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2205000"/>
            <a:ext cx="864072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Определить нормы потребления воды в городе Лахденпохь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Изучить качество потребляемой населением воды с помощью мониторинг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Определить прогнозы потребляемой воды на будуще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По итогам исследований создать презентацию с отражением рекомендац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5353200"/>
            <a:ext cx="20955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Ресурсы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0728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Н.Ф. Винокурова, В.В.Трушин « Глобальная экология»: учебник для 10-11 классов профильной школы- М.: Просвещение, 1998 год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Государственный доклад : « О состоянии окружающей природной среды Республики Карелия в 2004 году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.Пекка Роухилайнен «Общий план водоснабжения и канализации для  города Лахденпохья Республики Карелия». Йоэнсу, декабрь 1997 года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187280" y="3860640"/>
          <a:ext cx="7956720" cy="4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860640"/>
                    <a:ext cx="795672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395280" y="429264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4. Мамедов Н.М «Экология 9-10 класс» М.:                    1996год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5. Митрюшкин К.М «Человек и природа» М.: 1977год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6. Чернов Н.М «Экология» М.: 1988 год.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116000" y="544500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Спасибо, что вы были с нами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4000" y="40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Методы исследования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1484280"/>
            <a:ext cx="87854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етоды визуального наблюд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зучение проб воды на цвет, запах, вкус, мягкос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Определение рН во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сследованы пробы из пяти источников, колодцы на улицах: Мелиоративной, Загородной, городского родника и питьевая вода из водопровод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Проведено пять повторностей на рН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сследования проводились в октябре-ноябре месяце 2006 год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0" y="620640"/>
            <a:ext cx="4297320" cy="6042240"/>
          </a:xfrm>
          <a:prstGeom prst="rect">
            <a:avLst/>
          </a:prstGeom>
          <a:ln w="76320">
            <a:solidFill>
              <a:srgbClr val="66ff33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4297320" cy="6114960"/>
          </a:xfrm>
          <a:prstGeom prst="rect">
            <a:avLst/>
          </a:prstGeom>
          <a:ln w="76320">
            <a:solidFill>
              <a:srgbClr val="66ff33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979640" y="479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2268360" y="479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979640" y="5157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2195640" y="5157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5940360" y="278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6084720" y="278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6227640" y="270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"/>
          <a:stretch/>
        </p:blipFill>
        <p:spPr>
          <a:xfrm>
            <a:off x="6948360" y="263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7164360" y="270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730872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>
            <a:off x="6732720" y="3789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4"/>
          <a:stretch/>
        </p:blipFill>
        <p:spPr>
          <a:xfrm>
            <a:off x="702000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5"/>
          <a:stretch/>
        </p:blipFill>
        <p:spPr>
          <a:xfrm>
            <a:off x="7164360" y="314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6"/>
          <a:stretch/>
        </p:blipFill>
        <p:spPr>
          <a:xfrm>
            <a:off x="6443640" y="3933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7"/>
          <a:stretch/>
        </p:blipFill>
        <p:spPr>
          <a:xfrm>
            <a:off x="5724360" y="3213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8"/>
          <a:stretch/>
        </p:blipFill>
        <p:spPr>
          <a:xfrm>
            <a:off x="6084720" y="486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9"/>
          <a:stretch/>
        </p:blipFill>
        <p:spPr>
          <a:xfrm>
            <a:off x="6084720" y="422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0"/>
          <a:stretch/>
        </p:blipFill>
        <p:spPr>
          <a:xfrm>
            <a:off x="550872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1"/>
          <a:stretch/>
        </p:blipFill>
        <p:spPr>
          <a:xfrm>
            <a:off x="5076720" y="486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2"/>
          <a:stretch/>
        </p:blipFill>
        <p:spPr>
          <a:xfrm>
            <a:off x="5219640" y="494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3"/>
          <a:stretch/>
        </p:blipFill>
        <p:spPr>
          <a:xfrm>
            <a:off x="5292720" y="501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4"/>
          <a:stretch/>
        </p:blipFill>
        <p:spPr>
          <a:xfrm>
            <a:off x="5508720" y="5157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5"/>
          <a:stretch/>
        </p:blipFill>
        <p:spPr>
          <a:xfrm>
            <a:off x="5003640" y="530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6"/>
          <a:stretch/>
        </p:blipFill>
        <p:spPr>
          <a:xfrm>
            <a:off x="5148360" y="5300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7"/>
          <a:stretch/>
        </p:blipFill>
        <p:spPr>
          <a:xfrm>
            <a:off x="5292720" y="5373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8"/>
          <a:stretch/>
        </p:blipFill>
        <p:spPr>
          <a:xfrm>
            <a:off x="7308720" y="5516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9"/>
          <a:stretch/>
        </p:blipFill>
        <p:spPr>
          <a:xfrm>
            <a:off x="7164360" y="5589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0"/>
          <a:stretch/>
        </p:blipFill>
        <p:spPr>
          <a:xfrm>
            <a:off x="7164360" y="5373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1"/>
          <a:stretch/>
        </p:blipFill>
        <p:spPr>
          <a:xfrm>
            <a:off x="3564000" y="981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2"/>
          <a:stretch/>
        </p:blipFill>
        <p:spPr>
          <a:xfrm>
            <a:off x="4140360" y="112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3"/>
          <a:stretch/>
        </p:blipFill>
        <p:spPr>
          <a:xfrm>
            <a:off x="3276720" y="1413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4"/>
          <a:stretch/>
        </p:blipFill>
        <p:spPr>
          <a:xfrm>
            <a:off x="3708360" y="155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5"/>
          <a:stretch/>
        </p:blipFill>
        <p:spPr>
          <a:xfrm>
            <a:off x="4140360" y="2637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6"/>
          <a:stretch/>
        </p:blipFill>
        <p:spPr>
          <a:xfrm>
            <a:off x="4284720" y="256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7"/>
          <a:stretch/>
        </p:blipFill>
        <p:spPr>
          <a:xfrm>
            <a:off x="4427640" y="2492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8"/>
          <a:stretch/>
        </p:blipFill>
        <p:spPr>
          <a:xfrm>
            <a:off x="3564000" y="227664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9"/>
          <a:stretch/>
        </p:blipFill>
        <p:spPr>
          <a:xfrm>
            <a:off x="3708360" y="242100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0"/>
          <a:stretch/>
        </p:blipFill>
        <p:spPr>
          <a:xfrm>
            <a:off x="4067280" y="206064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1"/>
          <a:stretch/>
        </p:blipFill>
        <p:spPr>
          <a:xfrm>
            <a:off x="5219640" y="371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2"/>
          <a:stretch/>
        </p:blipFill>
        <p:spPr>
          <a:xfrm>
            <a:off x="5148360" y="4292640"/>
            <a:ext cx="720720" cy="557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26920" y="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Места наличия колодцев на территории горо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95280" y="404640"/>
            <a:ext cx="8569440" cy="25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«Вода! У тебя нет ни вкуса, ни запаха, тебя не опишешь, тобой наслаждаешься, не понимая, что ты такое. Ты не просто необходима для жизни, ты и есть жизнь.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66"/>
                </a:solidFill>
                <a:uFillTx/>
                <a:latin typeface="Times New Roman"/>
              </a:rPr>
              <a:t>Антуан де Сент-Экзюпери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55640" y="3141720"/>
            <a:ext cx="7416720" cy="3406680"/>
          </a:xfrm>
          <a:prstGeom prst="rect">
            <a:avLst/>
          </a:prstGeom>
          <a:ln w="76320">
            <a:solidFill>
              <a:srgbClr val="66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24000" y="26028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66"/>
                </a:solidFill>
                <a:uFillTx/>
                <a:latin typeface="Times New Roman"/>
              </a:rPr>
              <a:t>Введен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981000"/>
            <a:ext cx="8569440" cy="69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Проблемы чистой воды и охрана водных экосистем становится все более острыми по мере исторического развития общества, стремительно увеличивается влияние на природу, вызываемого научно-техническим прогресс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Результаты исследований качество питьевой воды республике Карелия, показывает, что имеются тенденции к ухудшению состава питьевой вод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Поэтому проблема водопотребления в городе Лахденпохья является остр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Целью данного общего плана водоснабжения является, выяснить возможность города Лахденпохья перейти на использование питьевой воды, пригодной для эксплуатации, хорошей по качеству и достаточной по количеств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Хочется, чтобы от моей работы была польза для жителей района, чтобы город Лахденпохья получил пригодную для эксплуатации и соответствующую международным нормам питьевую воду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320760" y="606600"/>
          <a:ext cx="8359560" cy="64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606600"/>
                    <a:ext cx="8359560" cy="64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1:56:53Z</dcterms:created>
  <dc:creator>админ</dc:creator>
  <dc:description/>
  <dc:language>en-US</dc:language>
  <cp:lastModifiedBy>Кегноев</cp:lastModifiedBy>
  <dcterms:modified xsi:type="dcterms:W3CDTF">2007-01-24T12:36:44Z</dcterms:modified>
  <cp:revision>39</cp:revision>
  <dc:subject/>
  <dc:title>Слайд 1</dc:title>
</cp:coreProperties>
</file>