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BD6-5E53-4032-9593-03BB967B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E47-916C-4110-B97A-2292EDA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194-3FDF-46C1-A862-51892E2C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B0A-0B51-44F5-9EB9-F24E700A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2B8F-E7C3-475C-B4C1-9F1C477E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7FA2-13AB-4244-BCC8-C3962C0E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419-EE7C-4C03-BC89-F1939AE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2D3-1F59-4EED-9DAE-325956D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B15-0AF7-46D0-8E30-3EF5B11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3F49-6BBB-432D-9F54-AE35BE1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9EA-CC9D-46FB-B9B1-753F378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C8B-8972-4870-97A6-242DF286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8BA2-912A-4893-A040-4C6A09F3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197-162C-480A-8D2C-2D4EF23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A96C-C1FB-415E-BDE2-6F1E574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D85-2257-45E5-809B-31A5A230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5BA-C64B-49D1-AEC1-9506807D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072-8F89-47EB-AF8D-F1610CF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33B-63B4-4A23-94E5-6D407720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6C6-C581-4D1D-8C04-F2AEFF2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153-800D-4052-95DB-DC61FCA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BE8-A4A0-46BA-9F69-282FBF0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892-301F-47D1-BDE3-6D10057D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F85-6A23-4628-B1D6-7303B96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4B2-31BC-4A61-AAEF-554D0091DD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8A1-D767-4956-A617-264370DC80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Геометрия является самым могущественны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средством для изощрения наших умстве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способностей и дает нам возможность правильн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мыслить и рассужд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Г. Галиле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252720" y="1601280"/>
            <a:ext cx="410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Свойство вневписанной окружности и ее связь с основными элементами треугольника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Теорема.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Пусть К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— точка касания</a:t>
            </a: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невписанной окружности с продолжением стороны АС треугольника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BC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. Тогда длина отрезка АК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равна полупериметру треугольника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BC</a:t>
            </a: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82616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97440" cy="431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557360"/>
            <a:ext cx="435600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Доказательств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. Пусть точки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Verdana"/>
              </a:rPr>
              <a:t>3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очки касания вневписанной окружности с прямыми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АВ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ВС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ответствен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. С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С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 по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войств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В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касательных 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круж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Р = АС + СВ + АВ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= АС + С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В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АВ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= АС + С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В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АВ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= 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= 2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начит, АК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Р : 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. т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907560"/>
            <a:ext cx="3203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Интересно, что отрезки, соединяющие центр вписанной в треугольник окружности с центрами вневписанных окружностей, делятся пополам окружностью, описанной вокруг этого треугольника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504036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37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Verdana"/>
              </a:rPr>
              <a:t>Всё!!!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newsflash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стейший из многоугольников — треугольник — играет в геометрии особую роль. За несколько тысячелетий геометры столь подробно изучили треугольник, что иногда говорят о «геометрии треугольника» как о самостоятельном разделе элементарной геомет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е упоминания о треугольнике и его свойствах можно найти в египетских папирусах, которым более 4000 лет. Через 2000 лет в Древней Греции изучение свойств треугольника достигает высокого уровня — достаточно вспомнить теорему Пифагора и формулу Геро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Центральное место в геометрии треугольника занимают свойства так называемых замечательных точек и ли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Если все вершины многоугольни-ка лежат на окружности, то окружность называется </a:t>
            </a:r>
            <a:r>
              <a:rPr b="0" i="1" lang="ru-RU" sz="2600" spc="-1" strike="noStrike">
                <a:solidFill>
                  <a:srgbClr val="ffffff"/>
                </a:solidFill>
                <a:latin typeface="Verdana"/>
              </a:rPr>
              <a:t>описанной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около многоугольни-ка, а многоугольник — </a:t>
            </a:r>
            <a:r>
              <a:rPr b="0" i="1" lang="ru-RU" sz="2600" spc="-1" strike="noStrike">
                <a:solidFill>
                  <a:srgbClr val="ffffff"/>
                </a:solidFill>
                <a:latin typeface="Verdana"/>
              </a:rPr>
              <a:t>вписанным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 эту окружность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89600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557000"/>
            <a:ext cx="42181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сли все стороны многоугольника касаются окружности, то окружность называется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вписанной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в многоугольник, а многоугольник —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писанны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около этой окруж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608360" cy="415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35402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и серединных перпендикуля-ра к сторонам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еугольник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пересекаются в одной точке — центре описанной около треугольника окруж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504504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277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Биссектрисы внутренних углов треугольника пересекаются в одной точке- центре вневписанной в этот треугольник окружност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2966760" cy="5300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156360" y="1628640"/>
            <a:ext cx="2592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Если рассмотреть дополнительно биссектрисы трех пар внешних углов треугольника, то получаются еще три замечательных точки — центры 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вневписанных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окруж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26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Биссектрисы внешних или внутренних углов треугольника образуют центры окружностей касающихся прямых АВ, ВС, С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543888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273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итоге получаем четыре окружности с центрами О,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асающиеся трех данных несовпадающих прямых. При этом одна из них будет вписанной в треугольник окружностью, а три других — вневписанными окружност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51577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невписанная окруж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620640"/>
            <a:ext cx="4032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Verdana"/>
              </a:rPr>
              <a:t>Вневписанной окружностью треугольника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называется окружность, касающаяся одной из его сторон и продолжений двух других. Для каждого треугольника существует три вневписанных окружности, которые расположены вне треугольника, почему они и получили название вневписанных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Verdana"/>
              </a:rPr>
              <a:t>Центрами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вневписанных окружностей являются точки пересечения биссектрис внешних углов треугольника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Центр вневписанной окружности лежит на пересечении биссектрисы одного внутреннего угла и биссектрис внешних углов при двух других вершинах. Шесть биссектрис треугольника — три внутренние и три внешние — пересекаются по три в четырех точках — центрах вписанной и трех вневписанных окружностей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700600"/>
            <a:ext cx="439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Радиусо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невписанной окружности является отрезок перпендикуляра, проведенного из центра окружности к какой-либо стороне треугольника или ее продолж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692280"/>
            <a:ext cx="465768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9:03:12Z</dcterms:created>
  <dc:creator>User</dc:creator>
  <dc:description/>
  <dc:language>en-US</dc:language>
  <cp:lastModifiedBy>User</cp:lastModifiedBy>
  <dcterms:modified xsi:type="dcterms:W3CDTF">2007-12-24T14:14:53Z</dcterms:modified>
  <cp:revision>15</cp:revision>
  <dc:subject/>
  <dc:title>Вневписанная окружность</dc:title>
</cp:coreProperties>
</file>