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FB1-39AC-4C2E-94FE-A85CDDB7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21E-8DDA-421E-ABD6-C850F0A2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863-4AA2-4D68-AEDE-877419ED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4E6-D82F-48FC-B6DE-34BEE108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D39B-538E-4CC1-B7A0-5626FDC9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E417-1D39-451E-85DE-CF9A79BF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0184-0B35-43C6-9D89-D50FFFF6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9AD1-3B65-48DF-849C-F13FA211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B301-2F6C-4888-AD3F-08E750BF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9D3F-823F-42DD-91DC-0977B21B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A2E5-1EB4-4FC7-9AA3-8F5D4CB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6A8-9071-419F-B5E3-62040D8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E9BC-76F6-4D5B-8D80-6C747A4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C42C-C6A1-4D93-B4E0-15975DAB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1B1B-D22D-4D06-91EB-ED2571A9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F118-198B-4732-8DA8-B53E4552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F0C6-D720-4665-8402-2C90BA81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5D9-8EA1-42F4-8663-AAA27CA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730-B86F-490A-A40D-7C2B4AFC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FAC-3D92-4546-ADE0-F5CF90DF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AF6-24CE-4697-89C1-E5EE62AA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D59-FD05-489D-8D90-0FA66E28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2C5-5288-4965-B065-9725388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44A-49E3-4101-AC41-B677B63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160-D91D-4C58-9EB8-A6EF127233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3B8-4BF9-4220-8FB0-9E95D1CBCF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40428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99"/>
                </a:solidFill>
                <a:uFillTx/>
                <a:latin typeface="Verdana"/>
              </a:rPr>
              <a:t>Тема:</a:t>
            </a:r>
            <a:r>
              <a:rPr b="0" lang="en-US" sz="3600" spc="-1" strike="noStrike">
                <a:solidFill>
                  <a:srgbClr val="ff3399"/>
                </a:solidFill>
                <a:latin typeface="Verdana"/>
              </a:rPr>
              <a:t> «В</a:t>
            </a:r>
            <a:r>
              <a:rPr b="1" lang="en-US" sz="3600" spc="-1" strike="noStrike">
                <a:solidFill>
                  <a:srgbClr val="ff3399"/>
                </a:solidFill>
                <a:latin typeface="Verdana"/>
              </a:rPr>
              <a:t>лияние монитора на организм человека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43124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Garamond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Кривцов Алексей Алексе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                               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9 б класс МОУ СОШ №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21054600">
            <a:off x="755640" y="3141360"/>
            <a:ext cx="1943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акуумные флуоресцентные монитор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78040" y="1768320"/>
            <a:ext cx="48862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91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ccecff"/>
                </a:solidFill>
                <a:latin typeface="Arial"/>
              </a:rPr>
              <a:t>Отрицательное воздействие монитора на глаза человека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340000" y="2997360"/>
            <a:ext cx="475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Методика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циологическое исследование среди старшеклассников нашей школы на предмет правильной работы с монито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4005360"/>
            <a:ext cx="82296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Цель: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Выявить число учащихся знающих о влиянии монитора на организм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65% учеников дома имеют монитор на электронно – лучевой трубк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25% - ЖК монитор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10% - не имеют компьютеры вообщ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5% - после длительной работы болят, устают глаз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5% - болит голов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% - устает организм в области пле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Методика 2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280" y="2637000"/>
            <a:ext cx="79786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Разработк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рекомендаций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веты ученикам и учител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Необходимо выполнять упражнения для глаз и физические упражнения после 30-40 минут работы за компьюте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После работы за компьютером нельзя смотреть телевиз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Во время перерыва в работе за компьютером необходимо менять вид деятельности на более подвиж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3300"/>
                </a:solidFill>
                <a:latin typeface="Arial"/>
              </a:rPr>
              <a:t>Цель исследования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8146800" cy="30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4000" spc="-1" strike="noStrike">
                <a:solidFill>
                  <a:srgbClr val="00cc00"/>
                </a:solidFill>
                <a:latin typeface="IzhitsaCTT"/>
              </a:rPr>
              <a:t>Выявить отрицательное влияние монитора на организм человека и разработать рекомендации  способов и методов защит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55964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Задачи исследования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Изучить литературу по данной проблеме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Выделить и описать виды мониторов как технических устройств вывода информации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Выявить позитивное и негативное влияние монитора на организм человека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Вывести и сформулировать советы для учителей, родителей и детей при работе с компьютером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65880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ru-RU" sz="6000" spc="-1" strike="noStrike" u="sng">
                <a:solidFill>
                  <a:srgbClr val="ccecff"/>
                </a:solidFill>
                <a:uFillTx/>
                <a:latin typeface="Arial"/>
              </a:rPr>
              <a:t>Монитор </a:t>
            </a: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– устройство вывода   информации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603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ccecff"/>
                </a:solidFill>
                <a:latin typeface="Arial"/>
              </a:rPr>
              <a:t>Классификация мониторов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По функциональному назначению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По количеству воспроизводимых цве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По схеме формирования изображе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T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(ЭЛТ)-монито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60360" y="1847880"/>
            <a:ext cx="5994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ew Sonic P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95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49560" y="2157480"/>
            <a:ext cx="4160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CD - мониторы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04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лектролюминесцентные монитор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57360" y="2001960"/>
            <a:ext cx="50306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42:15Z</dcterms:created>
  <dc:creator>z</dc:creator>
  <dc:description/>
  <dc:language>en-US</dc:language>
  <cp:lastModifiedBy>USER</cp:lastModifiedBy>
  <dcterms:modified xsi:type="dcterms:W3CDTF">2008-01-16T10:22:51Z</dcterms:modified>
  <cp:revision>21</cp:revision>
  <dc:subject/>
  <dc:title>Исследовательская работа</dc:title>
</cp:coreProperties>
</file>