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wmf" ContentType="image/x-wmf"/>
  <Override PartName="/ppt/media/image12.png" ContentType="image/png"/>
  <Override PartName="/ppt/media/image37.png" ContentType="image/png"/>
  <Override PartName="/ppt/media/image40.wmf" ContentType="image/x-wmf"/>
  <Override PartName="/ppt/media/image18.png" ContentType="image/png"/>
  <Override PartName="/ppt/media/image58.wmf" ContentType="image/x-wmf"/>
  <Override PartName="/ppt/media/image21.wmf" ContentType="image/x-wmf"/>
  <Override PartName="/ppt/media/image10.png" ContentType="image/png"/>
  <Override PartName="/ppt/media/image50.wmf" ContentType="image/x-wmf"/>
  <Override PartName="/ppt/media/image28.png" ContentType="image/png"/>
  <Override PartName="/ppt/media/image31.wmf" ContentType="image/x-wmf"/>
  <Override PartName="/ppt/media/image35.png" ContentType="image/png"/>
  <Override PartName="/ppt/media/image5.png" ContentType="image/png"/>
  <Override PartName="/ppt/media/image17.png" ContentType="image/png"/>
  <Override PartName="/ppt/media/image20.wmf" ContentType="image/x-wmf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wmf" ContentType="image/x-wmf"/>
  <Override PartName="/ppt/media/image3.wmf" ContentType="image/x-wmf"/>
  <Override PartName="/ppt/media/image29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19.wmf" ContentType="image/x-wmf"/>
  <Override PartName="/ppt/media/image15.png" ContentType="image/png"/>
  <Override PartName="/ppt/media/image24.wmf" ContentType="image/x-wmf"/>
  <Override PartName="/ppt/media/image25.png" ContentType="image/png"/>
  <Override PartName="/ppt/media/image32.png" ContentType="image/png"/>
  <Override PartName="/ppt/media/image8.png" ContentType="image/png"/>
  <Override PartName="/ppt/media/image7.png" ContentType="image/png"/>
  <Override PartName="/ppt/media/image41.wmf" ContentType="image/x-wmf"/>
  <Override PartName="/ppt/media/image38.png" ContentType="image/png"/>
  <Override PartName="/ppt/media/image60.wmf" ContentType="image/x-wmf"/>
  <Override PartName="/ppt/media/image57.png" ContentType="image/png"/>
  <Override PartName="/ppt/media/image13.png" ContentType="image/png"/>
  <Override PartName="/ppt/media/image53.wmf" ContentType="image/x-wmf"/>
  <Override PartName="/ppt/media/image2.png" ContentType="image/png"/>
  <Override PartName="/ppt/media/image14.png" ContentType="image/png"/>
  <Override PartName="/ppt/media/image9.wmf" ContentType="image/x-wmf"/>
  <Override PartName="/ppt/media/image6.wmf" ContentType="image/x-wmf"/>
  <Override PartName="/ppt/media/image11.png" ContentType="image/png"/>
  <Override PartName="/ppt/media/image30.png" ContentType="image/png"/>
  <Override PartName="/ppt/media/image36.png" ContentType="image/png"/>
  <Override PartName="/ppt/media/image39.png" ContentType="image/png"/>
  <Override PartName="/ppt/media/image42.png" ContentType="image/png"/>
  <Override PartName="/ppt/media/image43.wmf" ContentType="image/x-wmf"/>
  <Override PartName="/ppt/media/image44.png" ContentType="image/png"/>
  <Override PartName="/ppt/media/image45.wmf" ContentType="image/x-wmf"/>
  <Override PartName="/ppt/media/image46.png" ContentType="image/png"/>
  <Override PartName="/ppt/media/image47.wmf" ContentType="image/x-wmf"/>
  <Override PartName="/ppt/media/image48.wmf" ContentType="image/x-wmf"/>
  <Override PartName="/ppt/media/image49.wmf" ContentType="image/x-wmf"/>
  <Override PartName="/ppt/media/image51.png" ContentType="image/png"/>
  <Override PartName="/ppt/media/image52.png" ContentType="image/png"/>
  <Override PartName="/ppt/media/image54.png" ContentType="image/png"/>
  <Override PartName="/ppt/media/image55.png" ContentType="image/png"/>
  <Override PartName="/ppt/media/image1.wmf" ContentType="image/x-wmf"/>
  <Override PartName="/ppt/media/image56.png" ContentType="image/png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DDBA-836A-4D0B-A924-008C06FA6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715A-9073-4286-9E2B-F50DF8220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4658-7177-4DCD-B02E-289BF751B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1F99-4FC0-4595-A5D6-A0592450E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62E7A-8725-4B3B-A147-8533FE1FF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9E486-65D2-4CFD-8808-B7BCE2CEC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1D69B-1AEF-4BB6-B41E-697557E26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FDC2E-01AE-47AD-A37A-920122E46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AA2BF-467D-459A-ABBD-A33047545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93C86-F41E-4345-B4F3-00A7F0339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07841-C57E-473B-B8AC-66CBDE32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0460-0A06-4F4A-9CB0-0D287AEC4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D4277-5F04-4DC2-84F1-A302DC1E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7176C-0518-4BA1-96D5-D590BFA7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41D74-15D5-4C5B-A16A-C6D7E9D7F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434EE-30A5-4F83-B934-FCC39296C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41F4E-BFC7-4CF1-922A-73D5F8D2A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5E49-BAC1-449B-A9D6-25942A71B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D625-D08E-43B9-BF5F-E386D7C9A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BA89-3FFD-4644-9A93-0F80FDF32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B357-06EE-4262-ACB8-62AE618FC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CBBA-FD18-4787-AACB-7505005E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AFA8-2DD6-492E-8D06-266F24D2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A258-4120-475F-BD06-E2D401D6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3150F-22F2-41D6-81BC-EBD4C76A3A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10398-C739-4BAC-B29D-46D8C8D4B4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24.wmf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30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38.png"/><Relationship Id="rId1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40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41.wmf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43.wmf"/><Relationship Id="rId4" Type="http://schemas.openxmlformats.org/officeDocument/2006/relationships/image" Target="../media/image44.png"/><Relationship Id="rId5" Type="http://schemas.openxmlformats.org/officeDocument/2006/relationships/package" Target="../embeddings/oleObject2.docx"/><Relationship Id="rId6" Type="http://schemas.openxmlformats.org/officeDocument/2006/relationships/image" Target="../media/image45.wmf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47.wmf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8.wmf"/><Relationship Id="rId3" Type="http://schemas.openxmlformats.org/officeDocument/2006/relationships/image" Target="../media/image49.wmf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png"/><Relationship Id="rId3" Type="http://schemas.openxmlformats.org/officeDocument/2006/relationships/image" Target="../media/image53.wmf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7.png"/><Relationship Id="rId3" Type="http://schemas.openxmlformats.org/officeDocument/2006/relationships/image" Target="../media/image58.wmf"/><Relationship Id="rId4" Type="http://schemas.openxmlformats.org/officeDocument/2006/relationships/image" Target="../media/image59.wmf"/><Relationship Id="rId5" Type="http://schemas.openxmlformats.org/officeDocument/2006/relationships/image" Target="../media/image60.wmf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57400" y="1523880"/>
            <a:ext cx="5638680" cy="4950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Times New Roman"/>
              </a:rPr>
              <a:t>Прикладная математика в жизни села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5152a"/>
                </a:solidFill>
                <a:latin typeface="Times New Roman"/>
              </a:rPr>
              <a:t>Автор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авренова Анастасия Серге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5152a"/>
                </a:solidFill>
                <a:latin typeface="Times New Roman"/>
              </a:rPr>
              <a:t>Руководител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юф Марина Алексе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581280" y="1600200"/>
            <a:ext cx="5562720" cy="49849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838080" y="2362320"/>
            <a:ext cx="304920" cy="304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1371600" y="2362320"/>
            <a:ext cx="333360" cy="3333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2743200" y="2362320"/>
            <a:ext cx="333360" cy="3333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Границы коэффициента полнодревесности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8259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енница, которую мы рассматриваем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ставляет     собой «лежащую на боку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авильную треугольную призм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ли в первом ряду поленницы уложено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чурок, то во втором ряду их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1, в третьем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2, в последнем 1. Общее количество чурок в поленниц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=n+(n-1)+…+1=n(n+1)/2. Δ=kπr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/Sl=n(n+1) πr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2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длина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диус чурки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площадь поперечного сечения поленницы. Так как АВ=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+DE+BE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=BE=r•ctg30°=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=2(n-1)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то АВ=2r(n-1+   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едовательно,                                   и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чит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Δ не зависит от радиуса чурок, а зависит от количества, определяемого числом 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чурок в 1-ом ряду. Пусть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эффициент полнодревесности, соответствующий данному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Покажем, что последовательность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возрастающая.                                                                                       &gt;0, откуда и вытекает, что Δ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+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Δ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возрастающей последовательности верно соотношен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У нас  Δ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      &gt;0,60. Мы получили для Δ оценку снизу: Δ &gt;0,6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ля получения оценки сверху заметим, что предел a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озрастающей последовательности, очевидно, больше любого члена последовательности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a.                                                                          &lt;0,91.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1142280" y="457200"/>
            <a:ext cx="2133720" cy="190512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752480" y="1143000"/>
            <a:ext cx="457200" cy="457200"/>
          </a:xfrm>
          <a:prstGeom prst="flowChartConnector">
            <a:avLst/>
          </a:prstGeom>
          <a:solidFill>
            <a:srgbClr val="98a3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81080" y="762120"/>
            <a:ext cx="457200" cy="457200"/>
          </a:xfrm>
          <a:prstGeom prst="flowChartConnector">
            <a:avLst/>
          </a:prstGeom>
          <a:solidFill>
            <a:srgbClr val="98a3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23880" y="1523880"/>
            <a:ext cx="457200" cy="457200"/>
          </a:xfrm>
          <a:prstGeom prst="flowChartConnector">
            <a:avLst/>
          </a:prstGeom>
          <a:solidFill>
            <a:srgbClr val="98a3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666880" y="1905120"/>
            <a:ext cx="457200" cy="457200"/>
          </a:xfrm>
          <a:prstGeom prst="flowChartConnector">
            <a:avLst/>
          </a:prstGeom>
          <a:solidFill>
            <a:srgbClr val="98a3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09680" y="1905120"/>
            <a:ext cx="457200" cy="457200"/>
          </a:xfrm>
          <a:prstGeom prst="flowChartConnector">
            <a:avLst/>
          </a:prstGeom>
          <a:solidFill>
            <a:srgbClr val="98a3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52480" y="1905120"/>
            <a:ext cx="457200" cy="457200"/>
          </a:xfrm>
          <a:prstGeom prst="flowChartConnector">
            <a:avLst/>
          </a:prstGeom>
          <a:solidFill>
            <a:srgbClr val="98a3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438280" y="1523880"/>
            <a:ext cx="457200" cy="457200"/>
          </a:xfrm>
          <a:prstGeom prst="flowChartConnector">
            <a:avLst/>
          </a:prstGeom>
          <a:solidFill>
            <a:srgbClr val="98a3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81080" y="1523880"/>
            <a:ext cx="457200" cy="457200"/>
          </a:xfrm>
          <a:prstGeom prst="flowChartConnector">
            <a:avLst/>
          </a:prstGeom>
          <a:solidFill>
            <a:srgbClr val="98a3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09680" y="1143000"/>
            <a:ext cx="457200" cy="457200"/>
          </a:xfrm>
          <a:prstGeom prst="flowChartConnector">
            <a:avLst/>
          </a:prstGeom>
          <a:solidFill>
            <a:srgbClr val="98a3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95280" y="1905120"/>
            <a:ext cx="457200" cy="457200"/>
          </a:xfrm>
          <a:prstGeom prst="flowChartConnector">
            <a:avLst/>
          </a:prstGeom>
          <a:solidFill>
            <a:srgbClr val="98a3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5"/>
          <a:stretch/>
        </p:blipFill>
        <p:spPr>
          <a:xfrm>
            <a:off x="3352680" y="2362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6"/>
          <a:stretch/>
        </p:blipFill>
        <p:spPr>
          <a:xfrm>
            <a:off x="2057400" y="152280"/>
            <a:ext cx="333360" cy="3333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 flipH="1">
            <a:off x="1143000" y="213372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2388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95480" y="213372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9548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2895480" y="3581280"/>
                <a:ext cx="3034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5638680" y="3581280"/>
                <a:ext cx="2286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2743200" y="3809880"/>
                <a:ext cx="20448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4952880" y="3809880"/>
                <a:ext cx="13716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819520" y="4800600"/>
                <a:ext cx="500364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(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7238880" y="5486400"/>
                <a:ext cx="125640" cy="1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1371600" y="5638680"/>
                <a:ext cx="3538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752480" y="6388200"/>
                <a:ext cx="41403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im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lim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lim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8001000" cy="632448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Объём леса долготьём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-й способ: брёвна грузят в кузов машины, измеряют длину, ширину и высоту кузова и находят объём кузова по формул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=a·b·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гд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-длина, 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ширина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высота. Для более точного объёма умножают найденный объём на коэффициент 0,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-й способ: существует множество таблиц, по которым, зная длину бревна, диаметр в верхнем и нижнем спиле можно найти объём брев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c1600"/>
                </a:solidFill>
                <a:latin typeface="Times New Roman"/>
              </a:rPr>
              <a:t>Объём поленицы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ъём поленицы можно найти по формуле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=a·c·h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адача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ти объём поленицы, если известно, чт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=1,5,b=2,3, h=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Решение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=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,5·2,5·1=3,75(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твет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=3.75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убических мет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7162920" y="3733920"/>
            <a:ext cx="198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7010280" cy="472428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3366"/>
                </a:solidFill>
                <a:latin typeface="Times New Roman"/>
              </a:rPr>
              <a:t>            </a:t>
            </a:r>
            <a:r>
              <a:rPr b="1" i="1" lang="ru-RU" sz="5400" spc="-1" strike="noStrike" u="sng">
                <a:solidFill>
                  <a:srgbClr val="003366"/>
                </a:solidFill>
                <a:uFillTx/>
                <a:latin typeface="Times New Roman"/>
              </a:rPr>
              <a:t>Вывод: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рёвна и дрова на складах лесоматериалов укладываются в штабеля различной формы. Учёт уложенных в штабеля лесоматериалов ведётся с помощью коэффициента полнодревесности штабеля, который зависит от вида штабеля и от количества брёв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Times New Roman"/>
              </a:rPr>
              <a:t>Математика на ферме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7324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0093"/>
                </a:solidFill>
                <a:latin typeface="Arial"/>
              </a:rPr>
              <a:t>Вычисление вместимости жело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60093"/>
                </a:solidFill>
                <a:latin typeface="Arial"/>
              </a:rPr>
              <a:t>Задача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одопойные желоба для овец сбиваются из двух одинаковых досок. Под каким углом следует сбивать доски, чтобы получить желоб наибольшего объём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60093"/>
                </a:solidFill>
                <a:latin typeface="Arial"/>
              </a:rPr>
              <a:t>Решение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сть доски имеют ширину а, и сбиты под углом α(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α&lt;180). Объем желоба пропорционален площади треугольника.                         ;поскольку sin α   1;при любом α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 объем поилки максимален при α=9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60093"/>
                </a:solidFill>
                <a:latin typeface="Arial"/>
              </a:rPr>
              <a:t>Ита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для наибольшего объёма желоба доски нужно сбивать под прямым угл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3276720" y="3124080"/>
                <a:ext cx="1600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6934320" y="3276720"/>
                <a:ext cx="31428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4419720"/>
            <a:ext cx="4114800" cy="20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990720" y="152280"/>
            <a:ext cx="8153280" cy="6324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8" name=""/>
          <p:cNvGraphicFramePr/>
          <p:nvPr/>
        </p:nvGraphicFramePr>
        <p:xfrm>
          <a:off x="6781680" y="3962520"/>
          <a:ext cx="1905120" cy="88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81680" y="3962520"/>
                    <a:ext cx="1905120" cy="88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066320" y="152280"/>
            <a:ext cx="80773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60093"/>
                </a:solidFill>
                <a:latin typeface="Arial"/>
              </a:rPr>
              <a:t>Задача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изготовления водопойного желоба на животноводческой ферме взяли три одинаковые доски длиной 4 метра и шириной 25 сантиметров каждая. При каком значении α получится желоб наибольшей вместимост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60093"/>
                </a:solidFill>
                <a:latin typeface="Arial"/>
              </a:rPr>
              <a:t>Решение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местимос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желоба равна произведению площади трапеции (поперечное сечение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длины желоба. Зададим формулой зависимость вместимости желоба от угла α при основании ВС трапеци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заполним таблиц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мотрим случай , когда α=10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d=4м, а=25с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 в поперечном сечении желоб будет име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у правильной трапеции. Площадь трапе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жно найти по формул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где АН-высо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=ВА*cos1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25*0.9848=24.62с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= 2ВН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= 2(sin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*25+25=33.6846с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=1/2*(33.6846+25)24.62=0.0721м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V=0.0721*4=0.2884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295280" y="2743200"/>
          <a:ext cx="7848720" cy="10098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95280" y="2743200"/>
                    <a:ext cx="784872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3" name="" descr=""/>
          <p:cNvPicPr/>
          <p:nvPr/>
        </p:nvPicPr>
        <p:blipFill>
          <a:blip r:embed="rId6"/>
          <a:stretch/>
        </p:blipFill>
        <p:spPr>
          <a:xfrm>
            <a:off x="7010280" y="3581280"/>
            <a:ext cx="304920" cy="3812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7"/>
          <a:stretch/>
        </p:blipFill>
        <p:spPr>
          <a:xfrm>
            <a:off x="6934320" y="48769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8"/>
          <a:stretch/>
        </p:blipFill>
        <p:spPr>
          <a:xfrm>
            <a:off x="6400800" y="37339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9"/>
          <a:stretch/>
        </p:blipFill>
        <p:spPr>
          <a:xfrm>
            <a:off x="8763120" y="37339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10"/>
          <a:stretch/>
        </p:blipFill>
        <p:spPr>
          <a:xfrm>
            <a:off x="8153280" y="3581280"/>
            <a:ext cx="381240" cy="3812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11"/>
          <a:stretch/>
        </p:blipFill>
        <p:spPr>
          <a:xfrm>
            <a:off x="8229600" y="4876920"/>
            <a:ext cx="380880" cy="380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1143000" y="4724280"/>
                <a:ext cx="16002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AH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173240" y="15228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альные случаи рассматриваются аналогично. Результаты приведены  в таблице. Итак, при значении угла α=12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получается желоб наибольшей вместимости. Это подтвердил нам работник фермы Неупокоева Надежда Михайловна - летние поилки сбиваются именно под этим уг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905120" y="2992320"/>
            <a:ext cx="6476760" cy="33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8077320" cy="539604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7324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16508"/>
                </a:solidFill>
                <a:latin typeface="Times New Roman"/>
              </a:rPr>
              <a:t>Математика в поле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7324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663300"/>
                </a:solidFill>
                <a:latin typeface="Arial"/>
              </a:rPr>
              <a:t>Площадь по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ощадь поля находится в зависимости от его формы. Если форма поля нестандартная (т.е. представима в виде простейших геометрических фигур), то его разбивают на простейшие геометрические фигуры, площади которых находятся уже по известным формул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6477120" y="4724280"/>
            <a:ext cx="2057400" cy="186876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117324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00"/>
                </a:solidFill>
                <a:latin typeface="Arial"/>
              </a:rPr>
              <a:t>Найти площадь по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 как ΔАВС -прямоугольный, то его площа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найти по форму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=AB•BC •1/2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АВ=6,5м, ВС=3,6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6,5 • 3,6 • 1/2=11,7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 как CDAN прямоугольник, т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ND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DC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N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C=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7м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7,5м,т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ND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7,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,7=32,25м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алогично находятся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=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,7+32,25+14,25+10,64+7,625= =76,46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:Площадь поля равна 76,46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600200" y="31240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914400" y="11430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1676520" y="9144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5"/>
          <a:stretch/>
        </p:blipFill>
        <p:spPr>
          <a:xfrm>
            <a:off x="2971800" y="9144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6"/>
          <a:stretch/>
        </p:blipFill>
        <p:spPr>
          <a:xfrm>
            <a:off x="3505320" y="990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7"/>
          <a:stretch/>
        </p:blipFill>
        <p:spPr>
          <a:xfrm>
            <a:off x="3962520" y="1600200"/>
            <a:ext cx="457200" cy="4381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8"/>
          <a:stretch/>
        </p:blipFill>
        <p:spPr>
          <a:xfrm>
            <a:off x="3657600" y="3200400"/>
            <a:ext cx="380880" cy="4572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9"/>
          <a:stretch/>
        </p:blipFill>
        <p:spPr>
          <a:xfrm>
            <a:off x="2971800" y="3124080"/>
            <a:ext cx="380880" cy="457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5" name=""/>
          <p:cNvGraphicFramePr/>
          <p:nvPr/>
        </p:nvGraphicFramePr>
        <p:xfrm>
          <a:off x="1295280" y="1371600"/>
          <a:ext cx="2743200" cy="1828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295280" y="1371600"/>
                    <a:ext cx="27432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8153280" cy="60199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8672b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68672b"/>
                </a:solidFill>
                <a:latin typeface="Times New Roman"/>
              </a:rPr>
              <a:t>Объём стогов сена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43000" y="609120"/>
            <a:ext cx="77724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приближения подсчёта объёма сена в скирде пользуются формулой V    (0,52k-0,44c)cl, гд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длина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длина скирды, с-её шир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перечное сечение скирды имеет форму, близкую к изображённой на рисун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сть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=c,CD=h, EF=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гда АВ+ВЕ+ЕС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означается ЕВ=ЕС=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ощадь многоугольник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BEC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/2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ch=c(h+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1/2)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пользуемся и те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скирды островерхими не бывают, знач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  ВЕС=90°, тогд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0,5с, l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0,71с. Тогд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=2h+2 l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2h+1,42c. Отсюда р=0,50л-0,71с, 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=c(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50л-0,46с). Тогда объём скирд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=c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0,5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-0,46c)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EC=12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°,то   ЕСВ= ЕВС=30°. Отсюд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=0,50k-0.58c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0,29c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юд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=c(0,50k-0,43c), а V=cl(0,50k-0,43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3048120" y="990720"/>
                <a:ext cx="30456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aphicFrame>
        <p:nvGraphicFramePr>
          <p:cNvPr id="241" name=""/>
          <p:cNvGraphicFramePr/>
          <p:nvPr/>
        </p:nvGraphicFramePr>
        <p:xfrm>
          <a:off x="3886200" y="1371600"/>
          <a:ext cx="1905120" cy="1104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86200" y="1371600"/>
                    <a:ext cx="1905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990720" y="2971800"/>
          <a:ext cx="1463400" cy="15238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90720" y="2971800"/>
                    <a:ext cx="146340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990720" y="5029200"/>
                <a:ext cx="15238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°</m:t>
                    </m:r>
                    <m:r>
                      <m:t xml:space="preserve">≤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BEC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3048120" y="5029200"/>
                <a:ext cx="228600" cy="21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6172200" y="5562720"/>
                <a:ext cx="30492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2590920" y="5943600"/>
                <a:ext cx="228600" cy="21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7924680" y="5638680"/>
                <a:ext cx="228600" cy="2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371600" y="457200"/>
            <a:ext cx="6927840" cy="57913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4000" spc="-1" strike="noStrike">
                <a:solidFill>
                  <a:srgbClr val="cc0027"/>
                </a:solidFill>
                <a:latin typeface="Times New Roman"/>
              </a:rPr>
              <a:t>Анализ и примене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27"/>
                </a:solidFill>
                <a:latin typeface="Times New Roman"/>
              </a:rPr>
              <a:t>       </a:t>
            </a:r>
            <a:r>
              <a:rPr b="1" lang="ru-RU" sz="4000" spc="-1" strike="noStrike">
                <a:solidFill>
                  <a:srgbClr val="cc0027"/>
                </a:solidFill>
                <a:latin typeface="Times New Roman"/>
              </a:rPr>
              <a:t>математически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27"/>
                </a:solidFill>
                <a:latin typeface="Times New Roman"/>
              </a:rPr>
              <a:t>       </a:t>
            </a:r>
            <a:r>
              <a:rPr b="1" lang="ru-RU" sz="4000" spc="-1" strike="noStrike">
                <a:solidFill>
                  <a:srgbClr val="cc0027"/>
                </a:solidFill>
                <a:latin typeface="Times New Roman"/>
              </a:rPr>
              <a:t>соотнош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27"/>
                </a:solidFill>
                <a:latin typeface="Times New Roman"/>
              </a:rPr>
              <a:t>       </a:t>
            </a:r>
            <a:r>
              <a:rPr b="1" lang="ru-RU" sz="4000" spc="-1" strike="noStrike">
                <a:solidFill>
                  <a:srgbClr val="cc0027"/>
                </a:solidFill>
                <a:latin typeface="Times New Roman"/>
              </a:rPr>
              <a:t>в  практическо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27"/>
                </a:solidFill>
                <a:latin typeface="Times New Roman"/>
              </a:rPr>
              <a:t>       </a:t>
            </a:r>
            <a:r>
              <a:rPr b="1" lang="ru-RU" sz="4000" spc="-1" strike="noStrike">
                <a:solidFill>
                  <a:srgbClr val="cc0027"/>
                </a:solidFill>
                <a:latin typeface="Times New Roman"/>
              </a:rPr>
              <a:t>деятель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981080" y="685800"/>
            <a:ext cx="58676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d1fa3"/>
                </a:solidFill>
                <a:latin typeface="Times New Roman"/>
              </a:rPr>
              <a:t>Цель работы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ad1fa3"/>
              </a:solidFill>
              <a:latin typeface="Times New Roman"/>
              <a:ea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543800" y="4267080"/>
            <a:ext cx="130500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219320" y="1035000"/>
            <a:ext cx="7924680" cy="582300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117324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шем совхозе для каждого вида скирды имеется своя формула для вычисления объёма сена в скир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a400"/>
                </a:solidFill>
                <a:latin typeface="Arial"/>
              </a:rPr>
              <a:t>Плосковерхая скир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=(0,52П-0,44Ш)*Ш*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0000"/>
                </a:solidFill>
                <a:latin typeface="Arial"/>
              </a:rPr>
              <a:t>Кругловерхая скир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=(0,52П-0,46Ш)*Ш*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Островерхая скир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мечание: ширина, длина и окружность измеряются на высоте 1 мет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5943600" y="2133720"/>
          <a:ext cx="1676520" cy="958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43600" y="2133720"/>
                    <a:ext cx="1676520" cy="9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4" name="" descr=""/>
          <p:cNvPicPr/>
          <p:nvPr/>
        </p:nvPicPr>
        <p:blipFill>
          <a:blip r:embed="rId4"/>
          <a:stretch/>
        </p:blipFill>
        <p:spPr>
          <a:xfrm>
            <a:off x="1981080" y="3048120"/>
            <a:ext cx="1524240" cy="1143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523880" y="5029200"/>
                <a:ext cx="15242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П</m:t>
                        </m:r>
                        <m:r>
                          <m:t xml:space="preserve">⋅</m:t>
                        </m:r>
                        <m:r>
                          <m:t xml:space="preserve">Ш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Д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56" name=""/>
          <p:cNvGraphicFramePr/>
          <p:nvPr/>
        </p:nvGraphicFramePr>
        <p:xfrm>
          <a:off x="5943600" y="4800600"/>
          <a:ext cx="1425600" cy="8859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43600" y="4800600"/>
                    <a:ext cx="142560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 txBox="1"/>
          <p:nvPr/>
        </p:nvSpPr>
        <p:spPr>
          <a:xfrm>
            <a:off x="1523880" y="228600"/>
            <a:ext cx="70106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Объём стогов сен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925040" cy="576576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7324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omic Sans MS"/>
              </a:rPr>
              <a:t>Определение веса сена.</a:t>
            </a:r>
            <a:r>
              <a:rPr b="0" lang="ru-RU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1141560" y="1454040"/>
          <a:ext cx="7767360" cy="3997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1560" y="1454040"/>
                    <a:ext cx="7767360" cy="39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7324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3366"/>
                </a:solidFill>
                <a:uFillTx/>
                <a:latin typeface="Times New Roman"/>
              </a:rPr>
              <a:t>Математика на заправочной станции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7324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143000" y="1371600"/>
          <a:ext cx="7391520" cy="266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371600"/>
                    <a:ext cx="739152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2209680" y="3809880"/>
            <a:ext cx="563904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914400" y="0"/>
            <a:ext cx="7848720" cy="624852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1066680" y="-360"/>
            <a:ext cx="792504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66"/>
                </a:solidFill>
                <a:latin typeface="Arial"/>
              </a:rPr>
              <a:t>Задача.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ясним, насколько эмпирическая формула для вычисления площади поверхности испарения горючего в резервуарах цилиндрической формы, расположенных горизонтально, удовлетворяет потребностям практ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66"/>
                </a:solidFill>
                <a:latin typeface="Arial"/>
              </a:rPr>
              <a:t>Решение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ясним насколько целесообразно применять эту формулу на практик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усть длина цистерны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Тогда следует, что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ли пользоваться данной формулой, т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кое соотношение выполняется при                  ил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 это имеет место при                   или                 . При                               , 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едовательно, и           . Пр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лубину слоя горючего, наполняющего резервуар, принято называть стрелк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ким образом,данная формула выведена в расчёте,что стрелка           и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вершенно очевидно, что такой уровень горючего в резервуаре может оказаться лишь в отдельных случаях. Выясним, насколько существенно отличается площадь испарения от указанной в формуле при значениях стрелки, отличных от указанных выш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изведенное исследование позволяет сделать вывод, что при                формула приемлема. При                 и                   , и по мере удаления значений стрелки КМ о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/4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d/4 отклонения действительной площади испарения от площади, указанной в данной формуле, быстро растут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и становятся весьма значительны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6753240" y="1143000"/>
          <a:ext cx="2390760" cy="87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53240" y="1143000"/>
                    <a:ext cx="239076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5257800" y="1600200"/>
                <a:ext cx="13208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65</m:t>
                    </m:r>
                    <m:r>
                      <m:t xml:space="preserve">d</m:t>
                    </m:r>
                    <m:r>
                      <m:t xml:space="preserve">≈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4876920" y="1981080"/>
                <a:ext cx="850680" cy="1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O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6172200" y="1981080"/>
                <a:ext cx="901800" cy="1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O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3352680" y="2286000"/>
                <a:ext cx="889200" cy="1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O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6400800" y="2286000"/>
                <a:ext cx="888840" cy="1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O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7391520" y="2209680"/>
                <a:ext cx="54432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2971800" y="2514600"/>
                <a:ext cx="57168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5181480" y="2514600"/>
                <a:ext cx="64800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d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4724280" y="2286000"/>
                <a:ext cx="901800" cy="1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O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4114800" y="2590920"/>
                <a:ext cx="901800" cy="1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O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8381880" y="3048120"/>
                <a:ext cx="64800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d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7391520" y="3048120"/>
                <a:ext cx="57132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7467480" y="4648320"/>
                <a:ext cx="99072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KM</m:t>
                    </m:r>
                    <m:r>
                      <m:t xml:space="preserve">&lt;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d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5181480" y="4952880"/>
                <a:ext cx="86220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d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KM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4038480" y="4952880"/>
                <a:ext cx="86220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KM</m:t>
                    </m:r>
                    <m:r>
                      <m:t xml:space="preserve">&lt;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d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1173240" y="228240"/>
            <a:ext cx="77724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определения количества жидкости в цистерне, размеры которой: диаметр d=200см, длина l=500см, достаточно измерить высоту столба жидкости «h» и воспользоваться графи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ча. Найдём, используя график: сколько литров жидкости в цистерне, если высота столба жидкости равн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15 см; б) 25 с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ение. Воспользуемся графи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  20   40  60 80 100 120 140 160 180 200 220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с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вет: а)V=10гл, б)V=18г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1143000" y="2971800"/>
          <a:ext cx="4724280" cy="24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971800"/>
                    <a:ext cx="472428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0" name="" descr=""/>
          <p:cNvPicPr/>
          <p:nvPr/>
        </p:nvPicPr>
        <p:blipFill>
          <a:blip r:embed="rId3"/>
          <a:stretch/>
        </p:blipFill>
        <p:spPr>
          <a:xfrm>
            <a:off x="5715000" y="2286000"/>
            <a:ext cx="3048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066680" y="0"/>
            <a:ext cx="7848720" cy="685800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3366"/>
                </a:solidFill>
                <a:latin typeface="Times New Roman"/>
              </a:rPr>
              <a:t>Прикладная математика дома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73240" y="7621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Задач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сколько потребуется килограммов краски для покраски пола кабинет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Реш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так как пол кабинета математики имеет форму прямоугольника, то его площадь можно найти по формуле </a:t>
            </a:r>
            <a:r>
              <a:rPr b="0" lang="ru-RU" sz="2000" spc="-1" strike="noStrike">
                <a:solidFill>
                  <a:srgbClr val="12c1de"/>
                </a:solidFill>
                <a:latin typeface="Arial"/>
              </a:rPr>
              <a:t>S=a*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где а - длина, b - ширина. Измерив длину и ширину пола, получаем а=8,55м, b=6,1м. S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52,155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этикетке каждой банки краски написано, сколько краски требуется на квадратный метр. Средний расход краски равен 200г на 1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количество  нужной краски обозначить за К, т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2c1de"/>
                </a:solidFill>
                <a:latin typeface="Arial"/>
              </a:rPr>
              <a:t>К= S</a:t>
            </a:r>
            <a:r>
              <a:rPr b="0" lang="ru-RU" sz="2000" spc="-1" strike="noStrike" baseline="-25000">
                <a:solidFill>
                  <a:srgbClr val="12c1de"/>
                </a:solidFill>
                <a:latin typeface="Arial"/>
              </a:rPr>
              <a:t>к</a:t>
            </a:r>
            <a:r>
              <a:rPr b="0" lang="ru-RU" sz="2000" spc="-1" strike="noStrike">
                <a:solidFill>
                  <a:srgbClr val="12c1de"/>
                </a:solidFill>
                <a:latin typeface="Arial"/>
              </a:rPr>
              <a:t>*расход крас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=52,155*0,2=10,431к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Отв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для покраски пола потребуется 10,431 килограммов крас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6476760" cy="4977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990360" y="152280"/>
            <a:ext cx="784836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Задач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 комнаты, имеющий прямоугольную форму со сторонами 5,5 и 6м, нужно покрыть паркетом прямоугольной формы. Длина каждой дощечки паркета 30см, ширина 5 см. Сколько потребуется таких дощечек для покрытия всего пол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Реш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 как форма пола - прямоугольник, то его площадь можно найти по формуле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S=a*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 S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пол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5,5*6=33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33000с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 как форма дощечки паркета прямоугольная то её площадь можно найти по формул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S=a*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 S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дощеч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30см*5см=150с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означим количество дощечек за К.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К=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ru-RU" sz="1800" spc="-1" strike="noStrike" baseline="-25000">
                <a:solidFill>
                  <a:srgbClr val="0000ff"/>
                </a:solidFill>
                <a:latin typeface="Arial"/>
              </a:rPr>
              <a:t>пола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/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ru-RU" sz="1800" spc="-1" strike="noStrike" baseline="-25000">
                <a:solidFill>
                  <a:srgbClr val="0000ff"/>
                </a:solidFill>
                <a:latin typeface="Arial"/>
              </a:rPr>
              <a:t>доще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= 33000с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150с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2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Отв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покрытия пола паркетом нужно 2200  паркетных дощеч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1295280" y="533520"/>
            <a:ext cx="7239240" cy="536724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117324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Задач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олько потребуется кафельных плиток квадратной формы со стороной 15 см, для облицовки части стены, если длина стены 3 метра, высота 2,7 мет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Реш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ем площадь плитки: так как плитка имеет форму квадрата, то её площадь равна 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=a</a:t>
            </a:r>
            <a:r>
              <a:rPr b="0" lang="en-US" sz="2000" spc="-1" strike="noStrike" baseline="30000">
                <a:solidFill>
                  <a:srgbClr val="8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плитк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1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225см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0,0225м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Так как стена имеет форму прямоугольника, то её площадь равна 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S=a*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стен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3*2,7=8,1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означим количество плиток за 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К= S</a:t>
            </a:r>
            <a:r>
              <a:rPr b="0" lang="ru-RU" sz="2400" spc="-1" strike="noStrike" baseline="-25000">
                <a:solidFill>
                  <a:srgbClr val="800000"/>
                </a:solidFill>
                <a:latin typeface="Arial"/>
              </a:rPr>
              <a:t>стены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800000"/>
                </a:solidFill>
                <a:latin typeface="Arial"/>
              </a:rPr>
              <a:t>пли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= 8,1м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0,0225м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36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Отве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ля облицовки стены потребуется 360 пли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1173240" y="18284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изучении математики мне всегда хотелось узнать о её применении в жизни села, поэтому , работая над данной темой я поняла, что математика не существует отдельно от жизни: математические соотношения рассматриваются применительно к конкретным ситуациям, теоретические результаты сравниваются с приемами, распространёнными в практической деятельности.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1828800" y="380880"/>
            <a:ext cx="6400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2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Заключение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1447920" y="5257800"/>
            <a:ext cx="1809720" cy="112716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4"/>
          <a:stretch/>
        </p:blipFill>
        <p:spPr>
          <a:xfrm>
            <a:off x="7315200" y="5029200"/>
            <a:ext cx="1236600" cy="164952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5"/>
          <a:stretch/>
        </p:blipFill>
        <p:spPr>
          <a:xfrm>
            <a:off x="4191120" y="4876920"/>
            <a:ext cx="1452600" cy="16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5632560" cy="518184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9144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808e4"/>
                </a:solidFill>
                <a:latin typeface="Comic Sans MS"/>
              </a:rPr>
              <a:t>Изучить литературу по данной тем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808e4"/>
                </a:solidFill>
                <a:latin typeface="Comic Sans MS"/>
              </a:rPr>
              <a:t>Рассмотреть экстремальное свойство шестиугольных пчелиных со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808e4"/>
                </a:solidFill>
                <a:latin typeface="Comic Sans MS"/>
              </a:rPr>
              <a:t>Проверить опытным путем коэффициент полнодревес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808e4"/>
                </a:solidFill>
                <a:latin typeface="Comic Sans MS"/>
              </a:rPr>
              <a:t>Исследовать зависимость объема желоба от угла наклона прибиваемых досо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808e4"/>
                </a:solidFill>
                <a:latin typeface="Comic Sans MS"/>
              </a:rPr>
              <a:t>Показать применение формул площади и объе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808e4"/>
                </a:solidFill>
                <a:latin typeface="Comic Sans MS"/>
              </a:rPr>
              <a:t>Установить зависимость площади испарения в цистерне от глубины наполн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808e4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1808e4"/>
                </a:solidFill>
                <a:latin typeface="Comic Sans MS"/>
              </a:rPr>
              <a:t>Рассчитать количество краски для ремон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808e4"/>
                </a:solidFill>
                <a:latin typeface="Comic Sans MS"/>
              </a:rPr>
              <a:t>Выполнить практический расчет необходимого количества плитки для облицовки ст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981080" y="380880"/>
            <a:ext cx="556272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a27eb"/>
                </a:solidFill>
                <a:latin typeface="Times New Roman"/>
              </a:rPr>
              <a:t>Задачи работы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a27eb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505320" y="762120"/>
            <a:ext cx="5410080" cy="544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417680" y="1371600"/>
            <a:ext cx="3154320" cy="47084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Times New Roman"/>
              </a:rPr>
              <a:t>Методы исследования</a:t>
            </a:r>
            <a:r>
              <a:rPr b="0" lang="ru-RU" sz="4400" spc="-1" strike="noStrike">
                <a:solidFill>
                  <a:srgbClr val="003366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omic Sans MS"/>
              </a:rPr>
              <a:t>Моделирование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omic Sans MS"/>
              </a:rPr>
              <a:t>Анализ и синтез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omic Sans MS"/>
              </a:rPr>
              <a:t>Сравн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819520" y="1523880"/>
            <a:ext cx="4414680" cy="449604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Странные общественные привычки и геометрические дарования пчёл не могли не привлечь внимание и не вызвать восхищение людей, наблюдавших плоды их деятельности».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           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Герман Вейл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«Далее этой ступени совершенства в архитектуре, естественный отбор не мог вести, потому что соты пчёл,- насколько мы в состоянии судить, абсолютно совершенны с точки зрения экономии труда и воска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                                      </a:t>
            </a: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Чарльз Дарвин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600200" y="304920"/>
            <a:ext cx="6781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cc72a"/>
                </a:solidFill>
                <a:latin typeface="Times New Roman"/>
              </a:rPr>
              <a:t>Геометрия пчелиных сот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cc72a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848360" cy="50292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1808e4"/>
                </a:solidFill>
                <a:uFillTx/>
                <a:latin typeface="Times New Roman"/>
              </a:rPr>
              <a:t>Пчелиные соты</a:t>
            </a:r>
            <a:r>
              <a:rPr b="0" lang="ru-RU" sz="2800" spc="-1" strike="noStrike">
                <a:solidFill>
                  <a:srgbClr val="1808e4"/>
                </a:solidFill>
                <a:latin typeface="Times New Roman"/>
              </a:rPr>
              <a:t> представляют собой часть плоскости, покрытой правильными шестиугольниками</a:t>
            </a:r>
            <a:r>
              <a:rPr b="0" lang="ru-RU" sz="2800" spc="-1" strike="noStrike">
                <a:solidFill>
                  <a:srgbClr val="3a27eb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ими же правильными многоугольниками можно замостить плоскость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плоскость замощена правильным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угольниками, причём правильная вершина является общей дл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аких же многоугольников. Тогда имеем                  .  Находим,что   Учитывая, чт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целое число, получае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=3,4,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чему же пчёлы используют шестиугольни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ьзуясь формулой                        находим периметры данных многоугольник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029200" y="3429000"/>
                <a:ext cx="10666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80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0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7696080" y="3429000"/>
                <a:ext cx="111600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n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581280" y="4572000"/>
                <a:ext cx="13716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371600" y="5410080"/>
                <a:ext cx="9144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514600" y="5410080"/>
                <a:ext cx="106668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4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3886200" y="5410080"/>
                <a:ext cx="102888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6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143000" y="3454560"/>
            <a:ext cx="3657600" cy="294624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143000" y="151920"/>
            <a:ext cx="78026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филь пчелиной ячейки - правильный шестиугольник, и он из всех возможных многоугольников с данной площадью имеет наименьший периметр, поэтому в результате эволюции сложилось та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пчелы использу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ести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7620120" cy="472428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142640" y="1523880"/>
            <a:ext cx="7574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наиболее рационального использования леса необходимо знать закономерности увеличения древесной массы в дереве с течением времени. В лесоведении различают два вида прироста: средний и текущий. Текущим приростом в возраст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т называют величин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 гд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ём дерева соответственно в возраст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-1 лет. Средним приростом в возрасте 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лет называют величин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ри нормальных условиях средний прирост в первый период жизни возрастает(у хвойных-до 50-60 лет), а затем убыва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905120" y="609480"/>
            <a:ext cx="6400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4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0ece40"/>
                </a:solidFill>
                <a:latin typeface="Comic Sans MS"/>
              </a:rPr>
              <a:t>Математика в лесу</a:t>
            </a:r>
            <a:endParaRPr b="0" lang="en-US" sz="2400" spc="1" strike="noStrike">
              <a:ln w="9360">
                <a:solidFill>
                  <a:srgbClr val="993300"/>
                </a:solidFill>
                <a:miter/>
              </a:ln>
              <a:solidFill>
                <a:srgbClr val="0ece4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295280" y="380880"/>
            <a:ext cx="7540920" cy="5791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7726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1808e4"/>
                </a:solidFill>
                <a:uFillTx/>
                <a:latin typeface="Times New Roman"/>
              </a:rPr>
              <a:t>Коэффициент полнодревесности </a:t>
            </a:r>
            <a:br>
              <a:rPr sz="3600"/>
            </a:br>
            <a:r>
              <a:rPr b="0" lang="ru-RU" sz="3600" spc="-1" strike="noStrike" u="sng">
                <a:solidFill>
                  <a:srgbClr val="1808e4"/>
                </a:solidFill>
                <a:uFillTx/>
                <a:latin typeface="Times New Roman"/>
              </a:rPr>
              <a:t>штабелей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од коэффициентом полнодревесности (Δ) понимается отношение объёма древесины в штабеле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ru-RU" sz="2000" spc="-1" strike="noStrike" baseline="-25000">
                <a:solidFill>
                  <a:srgbClr val="ff0000"/>
                </a:solidFill>
                <a:latin typeface="Arial"/>
              </a:rPr>
              <a:t>др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) к геометрическому объёму штабеля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ru-RU" sz="2000" spc="-1" strike="noStrike" baseline="-25000">
                <a:solidFill>
                  <a:srgbClr val="ff0000"/>
                </a:solidFill>
                <a:latin typeface="Arial"/>
              </a:rPr>
              <a:t>шт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).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Δ=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ru-RU" sz="2000" spc="-1" strike="noStrike" baseline="-25000">
                <a:solidFill>
                  <a:srgbClr val="ff0000"/>
                </a:solidFill>
                <a:latin typeface="Arial"/>
              </a:rPr>
              <a:t>др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/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ru-RU" sz="2000" spc="-1" strike="noStrike" baseline="-25000">
                <a:solidFill>
                  <a:srgbClr val="ff0000"/>
                </a:solidFill>
                <a:latin typeface="Arial"/>
              </a:rPr>
              <a:t>шт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baseline="-25000">
                <a:solidFill>
                  <a:srgbClr val="ff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Найдём Δ, считая все брёвна одинаковыми цилиндрами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=40 см.; h(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Длина брёвен)=4 м.;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(количество брёвен в ряду)=4;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(количество рядов)=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ru-RU" sz="2000" spc="-1" strike="noStrike" baseline="-25000">
                <a:solidFill>
                  <a:srgbClr val="ff0000"/>
                </a:solidFill>
                <a:latin typeface="Arial"/>
              </a:rPr>
              <a:t>др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=π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;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ru-RU" sz="2000" spc="-1" strike="noStrike" baseline="-25000">
                <a:solidFill>
                  <a:srgbClr val="ff0000"/>
                </a:solidFill>
                <a:latin typeface="Arial"/>
              </a:rPr>
              <a:t>др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=3,14•0,4</a:t>
            </a:r>
            <a:r>
              <a:rPr b="0" lang="ru-RU" sz="2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•4=5,024 м.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ru-RU" sz="2000" spc="-1" strike="noStrike" baseline="-25000">
                <a:solidFill>
                  <a:srgbClr val="ff0000"/>
                </a:solidFill>
                <a:latin typeface="Arial"/>
              </a:rPr>
              <a:t>шт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n•(2R)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•h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;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ru-RU" sz="2000" spc="-1" strike="noStrike" baseline="-25000">
                <a:solidFill>
                  <a:srgbClr val="ff0000"/>
                </a:solidFill>
                <a:latin typeface="Arial"/>
              </a:rPr>
              <a:t>шт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=4•3•4•0,4</a:t>
            </a:r>
            <a:r>
              <a:rPr b="0" lang="ru-RU" sz="20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•4=30,72 м</a:t>
            </a:r>
            <a:r>
              <a:rPr b="0" lang="ru-RU" sz="20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Δ=12•5,024/19,2•4=0,78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30T09:27:15Z</dcterms:created>
  <dc:creator>sofa</dc:creator>
  <dc:description/>
  <dc:language>en-US</dc:language>
  <cp:lastModifiedBy>sofa</cp:lastModifiedBy>
  <dcterms:modified xsi:type="dcterms:W3CDTF">2008-01-14T12:41:25Z</dcterms:modified>
  <cp:revision>12</cp:revision>
  <dc:subject>математика</dc:subject>
  <dc:title>Прикладная математика в жизни села</dc:title>
</cp:coreProperties>
</file>