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7C8-8668-4962-87EF-8899863F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F0F-0C8A-4436-B5FE-40F04A9D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AC4-13D2-4CA0-81E0-E981C6E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5E5-9C54-4C8C-B8AD-F578D9BB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F8D-73F5-49D7-A438-6ED8308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435-A429-4D87-9756-D98072F5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E4F-3828-4E81-B686-2C35299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76B-EA76-47F8-804B-A1E2BD1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21D-612F-48AD-9C14-76F2240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C82-3F1E-472F-A965-1A3FDB0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BA5-D2D5-4825-9C29-16D8F89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E09-30B2-40F1-B8A5-2E407684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1AD-A62C-4444-98F0-8A08993E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5.xml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9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лики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у выполнила ученица 7 класса Евтушенко Алё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: Беляева Наталия Адольф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04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У «Павловская средняя общеобразовательн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0320" y="285264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5824440"/>
            <a:ext cx="22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Пав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771640" y="189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Софья Ковалев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44360" cy="266400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2627280" y="980640"/>
            <a:ext cx="45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известная женщина-математик.(3.01.1850-29.01.18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1559160"/>
            <a:ext cx="637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ем Ковалевской названа "теорема Коши - Ковалевской" и частный случай в задаче о вращении тела вокруг неподвижн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математик, писательница, первая русская женщина-профессор. В юности брала уроки у видных преподавателей; чтобы получить возможность заниматься наукой вступила в фиктивный брак и уехала в Германию, где освоила университетский курс математики. В 1874 была удостоена ученой степени “доктора философии” в Гёттингенском университете. По возвращении в Россию занялась литературной деятельностью (повесть “Нигилистка”, 1884, драма “Борьба за счастье”, 1887, семейная хроника “Воспоминания детства”, 1890). С 1883 преподавала в Стокгольском университете. Основные научные труды посвящены математическому анализу, механике и астроном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264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464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6640"/>
                            </p:stCondLst>
                            <p:childTnLst>
                              <p:par>
                                <p:cTn id="31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8680"/>
                            </p:stCondLst>
                            <p:childTnLst>
                              <p:par>
                                <p:cTn id="318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793880" cy="237636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"/>
          <p:cNvSpPr txBox="1"/>
          <p:nvPr/>
        </p:nvSpPr>
        <p:spPr>
          <a:xfrm>
            <a:off x="2340000" y="260280"/>
            <a:ext cx="662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Андрей Николаевич Колмог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000800"/>
            <a:ext cx="6249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математик. Родился 12(25) апреля 1903 в Тамбове. После смерти матери воспитывался и был усыновлен ее сестрой. Раннее детство провел в родовом имении родителей матери в Ярославской губернии. В 1910, после переезда в Москву, поступил в частную гимназию Е.А.Репман, организованную кружком радикально настроенной интеллигенции. Здесь совместно обучались мальчики и девочки по программе мужской гимназии – явление уникальное в то время. Отличные успехи по математике позволили будущему ученому заниматься по этому предмету на класс старше, однако на время интерес к другим наукам взял верх, и первый научный доклад, который 17-летний Колмогоров сделал в МГУ, был посвящен вовсе не математике: на семинаре С.В.Бахрушина он выступил с сообщением о Новгородском землевладении. Впрочем, при анализе писцовых книг 15–16 вв. им были использованы элементы математической теории вероятнос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468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668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8680"/>
                            </p:stCondLst>
                            <p:childTnLst>
                              <p:par>
                                <p:cTn id="34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493640" cy="244800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 txBox="1"/>
          <p:nvPr/>
        </p:nvSpPr>
        <p:spPr>
          <a:xfrm>
            <a:off x="2843280" y="26028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Леонард Эйл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054440"/>
            <a:ext cx="69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 восемнадцатого столетия, если только не всех времен, - Леонард Эйлер. Его отец изучал математику под руководством Якоба Бернулли, а Леонард под руководством Иоганна. Когда в 1725 г. сын Иоганна Николай уехал в Петербург, молодой Эйлер последовал за ним и обосновался в Петербургской академии до 1741 г. С 1741 по 1766 г. Эйлер находился в Берлинской академии под особым покровительством Фридриха II, а с 1766 до 1783 г. он снова в Петербурге, теперь уже под эгидой императрицы Екатерины. Он был дважды женат и имел тринадцать детей. Жизнь этого академика была почти целиком посвящена работе в различных областях чистой и прикладной математики. Хотя он потерял в 1735 г. один глаз, а в 1766 г. – второй, ничто не смогло ослабить его продуктивность. В течении его жизни увидели свет 530 книг и статей; умирая он оставил много рукописей, которые Петербургская академия опубликовала в течении 47 лет. Это довело число его работ до 88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68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768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9680"/>
                            </p:stCondLst>
                            <p:childTnLst>
                              <p:par>
                                <p:cTn id="380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8960" cy="237672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 txBox="1"/>
          <p:nvPr/>
        </p:nvSpPr>
        <p:spPr>
          <a:xfrm>
            <a:off x="3132000" y="33336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Георг Кан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1269360"/>
            <a:ext cx="6046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в Петербурге. Немецкий математик. В 1867 окончил Берлинский университет. Кантор разработал теорию бесконечных множеств и теорию трансфинитных чисел. В 1874 он доказал несчётность множества всех действительных чисел, установив существование неэквивалентных (т. е. имеющих разные мощности) бесконечных множеств, сформулировал (1878) общее понятие мощности множества. В 1879—84 Кантор систематически изложил принципы своего учения о бесконечности. Идеи Кантора встретили со стороны современников резкое сопротивление, но в поcледствии оказали большое влияние на развитие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720"/>
                            </p:stCondLst>
                            <p:childTnLst>
                              <p:par>
                                <p:cTn id="4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672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8720"/>
                            </p:stCondLst>
                            <p:childTnLst>
                              <p:par>
                                <p:cTn id="41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2480" cy="230508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 txBox="1"/>
          <p:nvPr/>
        </p:nvSpPr>
        <p:spPr>
          <a:xfrm>
            <a:off x="255600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Гаусс Карл Фридр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1000800"/>
            <a:ext cx="6216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усс Карл Фридрих (30.4.1777-23. 2. 1855)- Иоганн Фридрих Карл Гаусс родился 30 апреля 1777г. Едва трех лет от роду он уже умел считать и выполнять элементарные вычисления. Однажды, при расчетах своего отца, который был водопроводным мастером, его трехлетний сын заметил ошибку в вычислениях. Расчет был проверен, и число, указанное мальчиком было верно. В 1784г. Карл пошел в школу. Учитель очень заинтересовался маленьким Гауссом и в 1786г. он получил из Гамбурга специальный арифметический текст. Карл покинул родительский дом в 1788г., когда поступил в школу следующей ступени. Гаусс не терял в новой школе времени даром: он хорошо выучил латынь, необходимую для дальнейшей учебы и карьеры. В 1791г. Гаусс, в качестве одаренного молодого горожанина, был представлен государю. Видимо, юноша произвел впечатление на герцога: тот для начала пожаловал Гауссу стипендию в 10 талеров в год. В 1792г.-1795гг. Гаусс был учеником новой гимназии- Коллегии Карла. Это была школа избранных. Он был принят туда благодаря своим успехам в уч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936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1360"/>
                            </p:stCondLst>
                            <p:childTnLst>
                              <p:par>
                                <p:cTn id="4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3360"/>
                            </p:stCondLst>
                            <p:childTnLst>
                              <p:par>
                                <p:cTn id="44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bf757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38360" cy="412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76720" y="2565360"/>
            <a:ext cx="453528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2f67f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72f67f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bf757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0328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2f67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ематика </a:t>
            </a:r>
            <a:endParaRPr b="0" lang="en-US" sz="1800" spc="1" strike="noStrike">
              <a:ln w="9360">
                <a:solidFill>
                  <a:srgbClr val="72f67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3789360"/>
            <a:ext cx="55454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2f67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менитые математики</a:t>
            </a:r>
            <a:endParaRPr b="0" lang="en-US" sz="1800" spc="1" strike="noStrike">
              <a:ln w="9360">
                <a:solidFill>
                  <a:srgbClr val="72f67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2205000"/>
            <a:ext cx="2305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2f67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1800" spc="1" strike="noStrike">
              <a:ln w="9360">
                <a:solidFill>
                  <a:srgbClr val="72f67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27664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99736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00360" y="765000"/>
            <a:ext cx="3529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2f67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1" strike="noStrike">
              <a:ln w="9360">
                <a:solidFill>
                  <a:srgbClr val="72f67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0" y="6237360"/>
            <a:ext cx="539640" cy="620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20640"/>
              <a:gd name="textAreaBottom" fmla="*/ 58572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00" y="23440"/>
                </a:lnTo>
                <a:lnTo>
                  <a:pt x="20200" y="1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400" y="23440"/>
                </a:lnTo>
                <a:lnTo>
                  <a:pt x="20200" y="23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40"/>
                </a:lnTo>
                <a:close/>
              </a:path>
              <a:path fill="darken" w="21600" h="24840">
                <a:moveTo>
                  <a:pt x="10800" y="5457"/>
                </a:moveTo>
                <a:lnTo>
                  <a:pt x="13376" y="8068"/>
                </a:lnTo>
                <a:lnTo>
                  <a:pt x="13376" y="6327"/>
                </a:lnTo>
                <a:lnTo>
                  <a:pt x="15152" y="6327"/>
                </a:lnTo>
                <a:lnTo>
                  <a:pt x="15152" y="9844"/>
                </a:lnTo>
                <a:lnTo>
                  <a:pt x="17763" y="12420"/>
                </a:lnTo>
                <a:lnTo>
                  <a:pt x="16109" y="12420"/>
                </a:lnTo>
                <a:lnTo>
                  <a:pt x="16109" y="19609"/>
                </a:lnTo>
                <a:lnTo>
                  <a:pt x="5491" y="19609"/>
                </a:lnTo>
                <a:lnTo>
                  <a:pt x="5491" y="12420"/>
                </a:lnTo>
                <a:lnTo>
                  <a:pt x="3837" y="12420"/>
                </a:lnTo>
                <a:close/>
              </a:path>
              <a:path fill="darkenLess" w="21600" h="24840">
                <a:moveTo>
                  <a:pt x="13376" y="8068"/>
                </a:moveTo>
                <a:lnTo>
                  <a:pt x="13376" y="6327"/>
                </a:lnTo>
                <a:lnTo>
                  <a:pt x="15152" y="6327"/>
                </a:lnTo>
                <a:lnTo>
                  <a:pt x="15152" y="9844"/>
                </a:lnTo>
                <a:close/>
              </a:path>
              <a:path fill="darkenLess" w="21600" h="24840">
                <a:moveTo>
                  <a:pt x="9877" y="15919"/>
                </a:moveTo>
                <a:lnTo>
                  <a:pt x="11723" y="15919"/>
                </a:lnTo>
                <a:lnTo>
                  <a:pt x="11723" y="19609"/>
                </a:lnTo>
                <a:lnTo>
                  <a:pt x="16109" y="19609"/>
                </a:lnTo>
                <a:lnTo>
                  <a:pt x="16109" y="12420"/>
                </a:lnTo>
                <a:lnTo>
                  <a:pt x="5491" y="12420"/>
                </a:lnTo>
                <a:lnTo>
                  <a:pt x="5491" y="19609"/>
                </a:lnTo>
                <a:lnTo>
                  <a:pt x="9877" y="19609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71640" y="260280"/>
            <a:ext cx="26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5c9"/>
                </a:solidFill>
                <a:latin typeface="Arial"/>
              </a:rPr>
              <a:t>Вве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5c9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268280"/>
            <a:ext cx="82090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амой древней математической деятельностью был счёт. Счёт был необходим, чтобы следить за поголовьем скота и вести торгов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которые первобытные племена подсчитывали количество предметов, сопоставляя им различные части тела, главным образом пальцы рук и ног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скальный рисунок, сохранившийся до наших времён от каменного века, изображает число-35 в виде серии выстроенных в ряд 35 палочек-пальцев. Первыми существенными успехами в арифметике стали: концептуализация числа изобретение четырёх основных действий: сложение, вычитание, умножение и д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ые достижения геометрии связаны с такими простыми понятиями, как прямая и окружность. Дальнейшее развитие математики началось примерно 3000-лет до н. э. благодаря вавилонянам и египтя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0000"/>
            </a:gs>
            <a:gs pos="50000">
              <a:srgbClr val="000000"/>
            </a:gs>
            <a:gs pos="100000">
              <a:srgbClr val="f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1628640"/>
            <a:ext cx="3600360" cy="4608720"/>
          </a:xfrm>
          <a:prstGeom prst="verticalScroll">
            <a:avLst>
              <a:gd name="adj" fmla="val 18518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189000"/>
            <a:ext cx="5472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0000"/>
                </a:solidFill>
                <a:latin typeface="Arial"/>
              </a:rPr>
              <a:t>Математика крас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0000"/>
              </a:solidFill>
              <a:latin typeface="Arial"/>
              <a:ea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0" y="6237360"/>
            <a:ext cx="539640" cy="620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20640"/>
              <a:gd name="textAreaBottom" fmla="*/ 58572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00" y="23440"/>
                </a:lnTo>
                <a:lnTo>
                  <a:pt x="20200" y="1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400" y="23440"/>
                </a:lnTo>
                <a:lnTo>
                  <a:pt x="20200" y="23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40"/>
                </a:lnTo>
                <a:close/>
              </a:path>
              <a:path fill="darken" w="21600" h="24840">
                <a:moveTo>
                  <a:pt x="10800" y="5457"/>
                </a:moveTo>
                <a:lnTo>
                  <a:pt x="13376" y="8068"/>
                </a:lnTo>
                <a:lnTo>
                  <a:pt x="13376" y="6327"/>
                </a:lnTo>
                <a:lnTo>
                  <a:pt x="15152" y="6327"/>
                </a:lnTo>
                <a:lnTo>
                  <a:pt x="15152" y="9844"/>
                </a:lnTo>
                <a:lnTo>
                  <a:pt x="17763" y="12420"/>
                </a:lnTo>
                <a:lnTo>
                  <a:pt x="16109" y="12420"/>
                </a:lnTo>
                <a:lnTo>
                  <a:pt x="16109" y="19609"/>
                </a:lnTo>
                <a:lnTo>
                  <a:pt x="5491" y="19609"/>
                </a:lnTo>
                <a:lnTo>
                  <a:pt x="5491" y="12420"/>
                </a:lnTo>
                <a:lnTo>
                  <a:pt x="3837" y="12420"/>
                </a:lnTo>
                <a:close/>
              </a:path>
              <a:path fill="darkenLess" w="21600" h="24840">
                <a:moveTo>
                  <a:pt x="13376" y="8068"/>
                </a:moveTo>
                <a:lnTo>
                  <a:pt x="13376" y="6327"/>
                </a:lnTo>
                <a:lnTo>
                  <a:pt x="15152" y="6327"/>
                </a:lnTo>
                <a:lnTo>
                  <a:pt x="15152" y="9844"/>
                </a:lnTo>
                <a:close/>
              </a:path>
              <a:path fill="darkenLess" w="21600" h="24840">
                <a:moveTo>
                  <a:pt x="9877" y="15919"/>
                </a:moveTo>
                <a:lnTo>
                  <a:pt x="11723" y="15919"/>
                </a:lnTo>
                <a:lnTo>
                  <a:pt x="11723" y="19609"/>
                </a:lnTo>
                <a:lnTo>
                  <a:pt x="16109" y="19609"/>
                </a:lnTo>
                <a:lnTo>
                  <a:pt x="16109" y="12420"/>
                </a:lnTo>
                <a:lnTo>
                  <a:pt x="5491" y="12420"/>
                </a:lnTo>
                <a:lnTo>
                  <a:pt x="5491" y="19609"/>
                </a:lnTo>
                <a:lnTo>
                  <a:pt x="9877" y="19609"/>
                </a:lnTo>
                <a:close/>
              </a:path>
            </a:pathLst>
          </a:cu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76360" y="2276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0000"/>
                </a:solidFill>
                <a:latin typeface="Arial"/>
              </a:rPr>
              <a:t>Математик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00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557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1557360"/>
            <a:ext cx="57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2276640"/>
            <a:ext cx="219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ука, изучающая величины, количестве-нные отношения, а также пространст-венные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35280" y="333360"/>
            <a:ext cx="511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5c9"/>
                </a:solidFill>
                <a:latin typeface="Arial"/>
              </a:rPr>
              <a:t>Великие математ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5c9"/>
              </a:solidFill>
              <a:latin typeface="Arial"/>
              <a:ea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61920 w 539640"/>
              <a:gd name="textAreaRight" fmla="*/ 477720 w 539640"/>
              <a:gd name="textAreaTop" fmla="*/ 61920 h 476280"/>
              <a:gd name="textAreaBottom" fmla="*/ 4143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663" y="2808"/>
                </a:lnTo>
                <a:lnTo>
                  <a:pt x="2808" y="2808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663" y="18792"/>
                </a:lnTo>
                <a:lnTo>
                  <a:pt x="21663" y="2808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2808" y="18792"/>
                </a:lnTo>
                <a:lnTo>
                  <a:pt x="21663" y="18792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2808" y="2808"/>
                </a:lnTo>
                <a:lnTo>
                  <a:pt x="2808" y="18792"/>
                </a:lnTo>
                <a:close/>
              </a:path>
              <a:path fill="darken" w="24471" h="21600">
                <a:moveTo>
                  <a:pt x="12236" y="4880"/>
                </a:moveTo>
                <a:lnTo>
                  <a:pt x="14426" y="7100"/>
                </a:lnTo>
                <a:lnTo>
                  <a:pt x="14426" y="5620"/>
                </a:lnTo>
                <a:lnTo>
                  <a:pt x="15936" y="5620"/>
                </a:lnTo>
                <a:lnTo>
                  <a:pt x="15936" y="8610"/>
                </a:lnTo>
                <a:lnTo>
                  <a:pt x="18156" y="10800"/>
                </a:lnTo>
                <a:lnTo>
                  <a:pt x="16750" y="10800"/>
                </a:lnTo>
                <a:lnTo>
                  <a:pt x="16750" y="16912"/>
                </a:lnTo>
                <a:lnTo>
                  <a:pt x="7722" y="16912"/>
                </a:lnTo>
                <a:lnTo>
                  <a:pt x="7722" y="10800"/>
                </a:lnTo>
                <a:lnTo>
                  <a:pt x="6316" y="10800"/>
                </a:lnTo>
                <a:close/>
              </a:path>
              <a:path fill="darkenLess" w="24471" h="21600">
                <a:moveTo>
                  <a:pt x="14426" y="7100"/>
                </a:moveTo>
                <a:lnTo>
                  <a:pt x="14426" y="5620"/>
                </a:lnTo>
                <a:lnTo>
                  <a:pt x="15936" y="5620"/>
                </a:lnTo>
                <a:lnTo>
                  <a:pt x="15936" y="8610"/>
                </a:lnTo>
                <a:close/>
              </a:path>
              <a:path fill="darkenLess" w="24471" h="21600">
                <a:moveTo>
                  <a:pt x="11451" y="13775"/>
                </a:moveTo>
                <a:lnTo>
                  <a:pt x="13020" y="13775"/>
                </a:lnTo>
                <a:lnTo>
                  <a:pt x="13020" y="16912"/>
                </a:lnTo>
                <a:lnTo>
                  <a:pt x="16750" y="16912"/>
                </a:lnTo>
                <a:lnTo>
                  <a:pt x="16750" y="10800"/>
                </a:lnTo>
                <a:lnTo>
                  <a:pt x="7722" y="10800"/>
                </a:lnTo>
                <a:lnTo>
                  <a:pt x="7722" y="16912"/>
                </a:lnTo>
                <a:lnTo>
                  <a:pt x="11451" y="1691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197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Лобачевский Николай Ива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84464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Пьер Фе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2349360"/>
            <a:ext cx="30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Давид Гильбе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2924280"/>
            <a:ext cx="33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Софья Ковалев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3429000"/>
            <a:ext cx="57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Андрей Николаевич Колмог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3933720"/>
            <a:ext cx="30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Леонард Эйл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4508640"/>
            <a:ext cx="259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Георг Кан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5084640"/>
            <a:ext cx="37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Гаусс Карл Фридр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4068720" y="0"/>
            <a:ext cx="174592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5c9"/>
                </a:solidFill>
                <a:latin typeface="Arial"/>
              </a:rPr>
              <a:t>.......................................................................................................................................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5c9"/>
              </a:solidFill>
              <a:latin typeface="Arial"/>
              <a:ea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227640" y="134136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Less" w="21600" h="36012">
                <a:moveTo>
                  <a:pt x="5273" y="11191"/>
                </a:moveTo>
                <a:lnTo>
                  <a:pt x="12271" y="11191"/>
                </a:lnTo>
                <a:lnTo>
                  <a:pt x="16327" y="14690"/>
                </a:lnTo>
                <a:lnTo>
                  <a:pt x="16327" y="24821"/>
                </a:lnTo>
                <a:lnTo>
                  <a:pt x="5273" y="24821"/>
                </a:lnTo>
                <a:close/>
              </a:path>
              <a:path fill="darken" w="21600" h="36012">
                <a:moveTo>
                  <a:pt x="12271" y="11191"/>
                </a:moveTo>
                <a:lnTo>
                  <a:pt x="16327" y="14690"/>
                </a:lnTo>
                <a:lnTo>
                  <a:pt x="12271" y="1469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700360" y="191628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Less" w="21600" h="36012">
                <a:moveTo>
                  <a:pt x="5273" y="11191"/>
                </a:moveTo>
                <a:lnTo>
                  <a:pt x="12271" y="11191"/>
                </a:lnTo>
                <a:lnTo>
                  <a:pt x="16327" y="14690"/>
                </a:lnTo>
                <a:lnTo>
                  <a:pt x="16327" y="24821"/>
                </a:lnTo>
                <a:lnTo>
                  <a:pt x="5273" y="24821"/>
                </a:lnTo>
                <a:close/>
              </a:path>
              <a:path fill="darken" w="21600" h="36012">
                <a:moveTo>
                  <a:pt x="12271" y="11191"/>
                </a:moveTo>
                <a:lnTo>
                  <a:pt x="16327" y="14690"/>
                </a:lnTo>
                <a:lnTo>
                  <a:pt x="12271" y="1469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6084720" y="350028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Less" w="21600" h="36012">
                <a:moveTo>
                  <a:pt x="5273" y="11191"/>
                </a:moveTo>
                <a:lnTo>
                  <a:pt x="12271" y="11191"/>
                </a:lnTo>
                <a:lnTo>
                  <a:pt x="16327" y="14690"/>
                </a:lnTo>
                <a:lnTo>
                  <a:pt x="16327" y="24821"/>
                </a:lnTo>
                <a:lnTo>
                  <a:pt x="5273" y="24821"/>
                </a:lnTo>
                <a:close/>
              </a:path>
              <a:path fill="darken" w="21600" h="36012">
                <a:moveTo>
                  <a:pt x="12271" y="11191"/>
                </a:moveTo>
                <a:lnTo>
                  <a:pt x="16327" y="14690"/>
                </a:lnTo>
                <a:lnTo>
                  <a:pt x="12271" y="1469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515772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Less" w="21600" h="36072">
                <a:moveTo>
                  <a:pt x="5273" y="11221"/>
                </a:moveTo>
                <a:lnTo>
                  <a:pt x="12271" y="11221"/>
                </a:lnTo>
                <a:lnTo>
                  <a:pt x="16327" y="14720"/>
                </a:lnTo>
                <a:lnTo>
                  <a:pt x="16327" y="24851"/>
                </a:lnTo>
                <a:lnTo>
                  <a:pt x="5273" y="24851"/>
                </a:lnTo>
                <a:close/>
              </a:path>
              <a:path fill="darken" w="21600" h="36072">
                <a:moveTo>
                  <a:pt x="12271" y="11221"/>
                </a:moveTo>
                <a:lnTo>
                  <a:pt x="16327" y="14720"/>
                </a:lnTo>
                <a:lnTo>
                  <a:pt x="12271" y="1472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" action="ppaction://hlinksldjump"/>
          </p:cNvPr>
          <p:cNvSpPr/>
          <p:nvPr/>
        </p:nvSpPr>
        <p:spPr>
          <a:xfrm>
            <a:off x="3419640" y="242100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Less" w="21600" h="36072">
                <a:moveTo>
                  <a:pt x="5273" y="11221"/>
                </a:moveTo>
                <a:lnTo>
                  <a:pt x="12271" y="11221"/>
                </a:lnTo>
                <a:lnTo>
                  <a:pt x="16327" y="14720"/>
                </a:lnTo>
                <a:lnTo>
                  <a:pt x="16327" y="24851"/>
                </a:lnTo>
                <a:lnTo>
                  <a:pt x="5273" y="24851"/>
                </a:lnTo>
                <a:close/>
              </a:path>
              <a:path fill="darken" w="21600" h="36072">
                <a:moveTo>
                  <a:pt x="12271" y="11221"/>
                </a:moveTo>
                <a:lnTo>
                  <a:pt x="16327" y="14720"/>
                </a:lnTo>
                <a:lnTo>
                  <a:pt x="12271" y="1472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3419640" y="4005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Less" w="21600" h="36072">
                <a:moveTo>
                  <a:pt x="5273" y="11221"/>
                </a:moveTo>
                <a:lnTo>
                  <a:pt x="12271" y="11221"/>
                </a:lnTo>
                <a:lnTo>
                  <a:pt x="16327" y="14720"/>
                </a:lnTo>
                <a:lnTo>
                  <a:pt x="16327" y="24851"/>
                </a:lnTo>
                <a:lnTo>
                  <a:pt x="5273" y="24851"/>
                </a:lnTo>
                <a:close/>
              </a:path>
              <a:path fill="darken" w="21600" h="36072">
                <a:moveTo>
                  <a:pt x="12271" y="11221"/>
                </a:moveTo>
                <a:lnTo>
                  <a:pt x="16327" y="14720"/>
                </a:lnTo>
                <a:lnTo>
                  <a:pt x="12271" y="1472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7" action="ppaction://hlinksldjump"/>
          </p:cNvPr>
          <p:cNvSpPr/>
          <p:nvPr/>
        </p:nvSpPr>
        <p:spPr>
          <a:xfrm>
            <a:off x="3059280" y="458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Less" w="21600" h="36072">
                <a:moveTo>
                  <a:pt x="5273" y="11221"/>
                </a:moveTo>
                <a:lnTo>
                  <a:pt x="12271" y="11221"/>
                </a:lnTo>
                <a:lnTo>
                  <a:pt x="16327" y="14720"/>
                </a:lnTo>
                <a:lnTo>
                  <a:pt x="16327" y="24851"/>
                </a:lnTo>
                <a:lnTo>
                  <a:pt x="5273" y="24851"/>
                </a:lnTo>
                <a:close/>
              </a:path>
              <a:path fill="darken" w="21600" h="36072">
                <a:moveTo>
                  <a:pt x="12271" y="11221"/>
                </a:moveTo>
                <a:lnTo>
                  <a:pt x="16327" y="14720"/>
                </a:lnTo>
                <a:lnTo>
                  <a:pt x="12271" y="1472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8" action="ppaction://hlinksldjump"/>
          </p:cNvPr>
          <p:cNvSpPr/>
          <p:nvPr/>
        </p:nvSpPr>
        <p:spPr>
          <a:xfrm>
            <a:off x="3708360" y="299736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Less" w="21600" h="36012">
                <a:moveTo>
                  <a:pt x="5273" y="11191"/>
                </a:moveTo>
                <a:lnTo>
                  <a:pt x="12271" y="11191"/>
                </a:lnTo>
                <a:lnTo>
                  <a:pt x="16327" y="14690"/>
                </a:lnTo>
                <a:lnTo>
                  <a:pt x="16327" y="24821"/>
                </a:lnTo>
                <a:lnTo>
                  <a:pt x="5273" y="24821"/>
                </a:lnTo>
                <a:close/>
              </a:path>
              <a:path fill="darken" w="21600" h="36012">
                <a:moveTo>
                  <a:pt x="12271" y="11191"/>
                </a:moveTo>
                <a:lnTo>
                  <a:pt x="16327" y="14690"/>
                </a:lnTo>
                <a:lnTo>
                  <a:pt x="12271" y="14690"/>
                </a:lnTo>
                <a:close/>
              </a:path>
            </a:pathLst>
          </a:custGeom>
          <a:solidFill>
            <a:srgbClr val="fff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4727520" y="12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4727520" y="1211400"/>
            <a:ext cx="199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рхимед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3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352520" cy="163836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"/>
          <p:cNvSpPr txBox="1"/>
          <p:nvPr/>
        </p:nvSpPr>
        <p:spPr>
          <a:xfrm>
            <a:off x="-4314960" y="2820960"/>
            <a:ext cx="19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792-1856)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________" descr=""/>
          <p:cNvPicPr/>
          <p:nvPr/>
        </p:nvPicPr>
        <p:blipFill>
          <a:blip r:embed="rId2"/>
          <a:stretch/>
        </p:blipFill>
        <p:spPr>
          <a:xfrm>
            <a:off x="-4772160" y="2411280"/>
            <a:ext cx="1352520" cy="163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431496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431496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431496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961560"/>
            <a:ext cx="4897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(1792–1856), русский математик. Родился 20 ноября (1 декабря) 1792 в Нижнем Новгороде. Отец Лобачевского умер, когда сыну исполнилось 7 лет, и мать вместе с тремя сыновьями переехала в Казань. Окончив гимназию Лобачевский поступил в Казанский университет. В 1811 получил степень магистра, в 1814 стал адъюнктом, в 1816 – экстраординарным, в 1822 – ординарным профессором. Вел научную и педагогическую работу, заведовал университетской библиотекой, был хранителем музея. В 1827 Лобачевский был назначен ректором Казанского университета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0000" y="476280"/>
            <a:ext cx="54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Лобачевский Николай Ива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93880" cy="237636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"/>
          <p:cNvSpPr txBox="1"/>
          <p:nvPr/>
        </p:nvSpPr>
        <p:spPr>
          <a:xfrm>
            <a:off x="3203640" y="18900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Пьер Фер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80280"/>
            <a:ext cx="6337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ранцузский математик. Родился 17 августа 1601 в Бомон-де-Ломане. По профессии юрист, состоял на государственной службе: с 1631 по 1648 был уполномоченным по приему прошений, а с 1648 и до конца жизни – советником парламента Тулузы. Считался знатоком классической литературы, лингвистом и поэтом. Математика всегда была для Ферма лишь увлечением, и тем не менее он заложил основы многих ее областей – аналитической геометрии, исчисления бесконечно малых, теории вероятностей. Переписывался с Р.Декартом по вопросам аналитической геометрии, первым применил ее методы к трехмерному пространству. С именем Ферма связаны две знаменитые теоремы из области теории чисел: малая теорема Ферма и «великая» теорема Ферма, о которой на полях трудов Диофанта он написал: «Я нашел этому поистине чудесное доказательство, но эти поля слишком малы для него». Согласно этой теореме,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231" descr=""/>
          <p:cNvPicPr/>
          <p:nvPr/>
        </p:nvPicPr>
        <p:blipFill>
          <a:blip r:embed="rId2"/>
          <a:stretch/>
        </p:blipFill>
        <p:spPr>
          <a:xfrm>
            <a:off x="-4627440" y="4071960"/>
            <a:ext cx="799920" cy="23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6003000"/>
            <a:ext cx="78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&gt; 2 не имеет целых положительных корней. Доказательство теоремы в общем виде было получено лишь в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2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988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188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880"/>
                            </p:stCondLst>
                            <p:childTnLst>
                              <p:par>
                                <p:cTn id="23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4080"/>
                            </p:stCondLst>
                            <p:childTnLst>
                              <p:par>
                                <p:cTn id="238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31760" cy="2664000"/>
          </a:xfrm>
          <a:prstGeom prst="rect">
            <a:avLst/>
          </a:prstGeom>
          <a:ln w="9360">
            <a:solidFill>
              <a:srgbClr val="fff5c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987640" y="333360"/>
            <a:ext cx="38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50000">
                      <a:srgbClr val="fee7f2"/>
                    </a:gs>
                    <a:gs pos="100000">
                      <a:srgbClr val="fbeac7"/>
                    </a:gs>
                  </a:gsLst>
                  <a:lin ang="8100000"/>
                </a:gradFill>
                <a:latin typeface="Arial"/>
              </a:rPr>
              <a:t>Давид Гильбе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50000">
                    <a:srgbClr val="fee7f2"/>
                  </a:gs>
                  <a:gs pos="100000">
                    <a:srgbClr val="fbeac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1197720"/>
            <a:ext cx="582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 в семье окружного судьи. Поступил в гимназию Фридрихсколлег, а в 1879 перешел в Вильгельм-гимназию. По ее окончании поступил в Кёнигсбергский университет, однако, вопреки желанию отца, записался не на юридический, а на математический курс. На развитие Гильберта как математика в студенческие годы оказали большое влияние его друг Герман Минковский и их общий университетский преподаватель Адольф Гурвиц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348480"/>
            <a:ext cx="60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вид Гильберт был одним из истинно великих математиков своего времени. Его труды и его вдохновляющая личность ученого оказали глубокое влияние на развитие математических наук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ой половине двадцатого века. Давид Гильберт был универсальным математиком, широта его научных исследований поражает : теория инвариантов, теория алгебраических числ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ей, основания геометрии и математики в целом, интегральные уравнения, физика. Но та роль, которую сыграл Гильберт в развитии математики, заключается даже не в его трудах, а в том влиянии, которое он оказывал на своих современников, в той математической школе, которую он создал. Работы 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матиков вплоть до нашего времени несут отпечаток его мышления, во всех математических достижениях нашего времени есть немалая заслуга Давида Гильбер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381720"/>
            <a:ext cx="539640" cy="476280"/>
          </a:xfrm>
          <a:custGeom>
            <a:avLst/>
            <a:gdLst>
              <a:gd name="textAreaLeft" fmla="*/ 74520 w 539640"/>
              <a:gd name="textAreaRight" fmla="*/ 465120 w 539640"/>
              <a:gd name="textAreaTop" fmla="*/ 74520 h 476280"/>
              <a:gd name="textAreaBottom" fmla="*/ 401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1087" y="3384"/>
                </a:lnTo>
                <a:lnTo>
                  <a:pt x="3384" y="3384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1087" y="18216"/>
                </a:lnTo>
                <a:lnTo>
                  <a:pt x="21087" y="3384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3384" y="18216"/>
                </a:lnTo>
                <a:lnTo>
                  <a:pt x="21087" y="18216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3384" y="3384"/>
                </a:lnTo>
                <a:lnTo>
                  <a:pt x="3384" y="18216"/>
                </a:lnTo>
                <a:close/>
              </a:path>
              <a:path fill="darken" w="24471" h="21600">
                <a:moveTo>
                  <a:pt x="12236" y="5307"/>
                </a:moveTo>
                <a:lnTo>
                  <a:pt x="14268" y="7367"/>
                </a:ln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lnTo>
                  <a:pt x="17729" y="10800"/>
                </a:lnTo>
                <a:lnTo>
                  <a:pt x="16424" y="10800"/>
                </a:lnTo>
                <a:lnTo>
                  <a:pt x="16424" y="16472"/>
                </a:lnTo>
                <a:lnTo>
                  <a:pt x="8047" y="16472"/>
                </a:lnTo>
                <a:lnTo>
                  <a:pt x="8047" y="10800"/>
                </a:lnTo>
                <a:lnTo>
                  <a:pt x="6742" y="10800"/>
                </a:lnTo>
                <a:close/>
              </a:path>
              <a:path fill="darkenLess" w="24471" h="21600">
                <a:moveTo>
                  <a:pt x="14268" y="7367"/>
                </a:moveTo>
                <a:lnTo>
                  <a:pt x="14268" y="5993"/>
                </a:lnTo>
                <a:lnTo>
                  <a:pt x="15669" y="5993"/>
                </a:lnTo>
                <a:lnTo>
                  <a:pt x="15669" y="8767"/>
                </a:lnTo>
                <a:close/>
              </a:path>
              <a:path fill="darkenLess" w="24471" h="21600">
                <a:moveTo>
                  <a:pt x="11508" y="13560"/>
                </a:moveTo>
                <a:lnTo>
                  <a:pt x="12964" y="13560"/>
                </a:lnTo>
                <a:lnTo>
                  <a:pt x="12964" y="16472"/>
                </a:lnTo>
                <a:lnTo>
                  <a:pt x="16424" y="16472"/>
                </a:lnTo>
                <a:lnTo>
                  <a:pt x="16424" y="10800"/>
                </a:lnTo>
                <a:lnTo>
                  <a:pt x="8047" y="10800"/>
                </a:lnTo>
                <a:lnTo>
                  <a:pt x="8047" y="16472"/>
                </a:lnTo>
                <a:lnTo>
                  <a:pt x="11508" y="16472"/>
                </a:lnTo>
                <a:close/>
              </a:path>
            </a:pathLst>
          </a:custGeom>
          <a:solidFill>
            <a:srgbClr val="fff5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28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28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2280"/>
                            </p:stCondLst>
                            <p:childTnLst>
                              <p:par>
                                <p:cTn id="26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656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9:04Z</dcterms:created>
  <dc:creator>User</dc:creator>
  <dc:description/>
  <dc:language>en-US</dc:language>
  <cp:lastModifiedBy>админ</cp:lastModifiedBy>
  <dcterms:modified xsi:type="dcterms:W3CDTF">2008-01-28T15:59:28Z</dcterms:modified>
  <cp:revision>10</cp:revision>
  <dc:subject/>
  <dc:title>Слайд 1</dc:title>
</cp:coreProperties>
</file>