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63A-2F5D-4CD6-943B-3EA5D83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E08-425D-418C-9EF5-CC1E59E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006-A586-46D0-A9B5-3D9B0EF6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82D-DC50-47F0-BE61-ADC16AE3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6D2-74FF-4A4E-86E9-AD6D366F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31E-71F1-4C7A-9697-5D1A7134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DE5-67EB-4046-86C8-DAEBA79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70D-1E23-4FFA-B21C-101561C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F2A-967D-4B2C-BBF5-4F9F304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BAB-3DB9-4AEE-B1F5-0A12E03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A87-04DF-4967-9155-DF290FD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F0A-B471-4A64-9CB9-B4394A2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D304-A4DE-40FB-B152-4E4063D3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60280"/>
            <a:ext cx="568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МОУ СОШ № 11 г. ИСКИТИМ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2637000"/>
            <a:ext cx="799308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ставляет работ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ника 8"В" класс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летка Анто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49932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Самыми громкими хитами начала 90-х становятся «Vogue», «Justify My Love», «My Playground» и «Take A Bow». Вслед за не слишком успешным сборником «Erotica»(1992) последовали более популярные «Bedtime Stories»(1994) и «Something To Remember»(1995). В 1996-м году певица исполняет одну из главных ролей в картине «Эвита», поставленной по мотивам одноименного мюзикла. Актерский талант Мадонны был отмечен «Золотым глобусом». В этом же году выходит двойной альбом «Evita»,  в который вошли все песни из фильма. Вскоре после выхода альбома Мадонна становится матерью, на свет появляется ее первая дочь – Лурде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6450"/>
                            </p:stCondLst>
                            <p:childTnLst>
                              <p:par>
                                <p:cTn id="1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2988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"/>
              </a:rPr>
              <a:t>Следующий альбом увидел свет лишь по прошествии трех лет, но ожидание того стоило – «American Life» вновь закрепляет за Мадонной звание величайшей поп-певицы современности. Композиции «American Life» и «Hollywood» достигают верхних строчек хит-парадов, а «Die Another Day» становится главной темой очередной серии «Бондиан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"/>
              </a:rPr>
              <a:t>Последней работой Мадонны является  вышедший в 2005-м альбом «Confessions on a Dance Floor». Свежее и оригинальное звучание сборнику придала попытка соединить звучание диско 80-х с современными достижениями в области обработки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"/>
              </a:rPr>
              <a:t>В рамках поддержки альбома в 2006-м году состоялся первый концерт Мадонны в Моск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2274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21182400">
            <a:off x="752040" y="1733040"/>
            <a:ext cx="7916760" cy="420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19440" y="2714760"/>
            <a:ext cx="5524560" cy="414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001600">
            <a:off x="-1444680" y="2128680"/>
            <a:ext cx="6237360" cy="19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АДОН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55760"/>
            <a:ext cx="9144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Одна из самых известных женщин современности Мадонна (Madonna), певица, актриса театра и кино, писательница, бизнес-леди, общественный деятель, появилась на свет 16 августа 1958 года в США в небольшом пригороде Детройта – Бэй-Сити. В Мадонне соединилась кровь людей из разных стран и континентов: ее отец – Сильвио Чикконе был потомком итальянских иммигрантов, а мать – Мадонна-Луиза вела свой род от французских переселенцев из Кана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42544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150"/>
                            </p:stCondLst>
                            <p:childTnLst>
                              <p:par>
                                <p:cTn id="3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   </a:t>
            </a: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Новорожденная получила имя матери. Кроме маленькой Мадонны-Луизы в семье Чикконе было еще семеро ее братьев и сестер, что, впрочем, не мешало Сильвио с ранних лет воспитывать в каждом из своих детей усердие и трудолюбие. Глубоким потрясением для пятилетней Мадонны становится ранняя смерть матери. Сильное влияние на всю дальнейшую жизнь и творческий путь знаменитости оказало строгое католическое воспитание – ежедневное посещение церкви и обучение в католической школе. В дальнейшем Мадонна будет множество раз использовать в своих песнях и концертных постановках христианские атрибу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57020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850"/>
                            </p:stCondLst>
                            <p:childTnLst>
                              <p:par>
                                <p:cTn id="5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227520"/>
            <a:ext cx="914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"/>
              </a:rPr>
              <a:t>Живой и любознательный характер юной  Мадонны-Луизы всячески противился правилам и запретам, принятым в семье, будущая звезда привыкла все делать по собственному усмотрению. В школьные годы открывается настоящий талант Мадонны к танцевальному искусству – во время школьных концертов совершенство и грациозность ее движений получают по праву высокую оценку сверстников и преподавател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92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200"/>
                            </p:stCondLst>
                            <p:childTnLst>
                              <p:par>
                                <p:cTn id="6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684000"/>
            <a:ext cx="9144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После окончания школы Мадонна поступает в Мичиганский университет, где в течение полутора лет занимается классическим танцем и хореографией. В университете происходит сближение юной красавицы с Крисом Флинном – преподавателем классического балета. Флинн становится настоящим кладезем знаний для Мадонны – именно он приобщает ее к скульптуре, живописи, музыке, моде. После долгих и тяжелых раздумий будущая звезда принимает судьбоносное решение – она отправляется покорять Нью-Йорк.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616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684000"/>
            <a:ext cx="9144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"/>
              </a:rPr>
              <a:t>По прилету в Нью-Йорк летом 1978 года Мадонна оказывается в незавидном положении –  у нее нет ни работы, ни денег, ни жилья. Но тут ее очередной раз выручает природное обаяние и умение пользоваться своей красотой. На одной из Нью-Йоркских улиц Мадонна встречает незнакомца, который на время предоставляет ей свое жилище и помогает найти работу. Из-за недостатка средств следующим приютом будущей знаменитости оказалась небольшая квартирка в одном из беднейших районов Нью-Йор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51084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850"/>
                            </p:stCondLst>
                            <p:childTnLst>
                              <p:par>
                                <p:cTn id="9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45684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"/>
              </a:rPr>
              <a:t>Увлечением 21-летней девушки становится рок-музыка. Пару лет Мадонна проводит в бесконечных экспериментах, выступая вместе с различными группами в клубах Нью-Йорка. Постепенно наметился отход певицы от рока в сторону диско и танцевальной музыки, в 1981 году Мадонна заключает контракт со звукозаписывающей студией, после чего выходят популярные синглы «Everybody»(«Все вместе») и «Burning Up»(«Пламя»). Дебютный  «The First Album» появляется летом 1983-го, кроме предыдущих синглов певицы в него также вошли такие хиты, как «Borderline»(«Пограничная линия»), «Holiday»(«Праздник») и «Physical Attraction».Альбом завоевал популярность не сразу, однако зажигательные выступления Мадонны в городских клубах к началу 1984-го года сделали певицу известной. Мадонна также уделила много большое внимание съемкам видео на песни «Everybody», «Burning Up» и «Borderline» профессиональные клипы на эти композиции становятся частыми гостями на канале MT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769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650"/>
                            </p:stCondLst>
                            <p:childTnLst>
                              <p:par>
                                <p:cTn id="10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527040"/>
            <a:ext cx="9144000" cy="79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comic"/>
              </a:rPr>
              <a:t>Почти каждый следующий год выходит новый альбом американской знаменитости, свыше десятка песен до начала 90-х годов успевает подняться на вершины музыкальных рейтингов. Самыми известными композициями становятся «Like A Virgin», «La Isla Bonita» и «Like A Prayer». В августе 1985 года состоялась свадьба Мадонны с актером Шоном Пенном. Однако брак продержался недолго – через четыре года пара рассталась. На протяжении всего творческого пути Мадонну неустанно сопровождают скандалы, большая часть которых хитроумно спланирована самой певицей для увеличения собственной популярности. Звезда ловко фальсифицирует собственную биографию и открыто демонстрирует свою сексуальност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comic"/>
              </a:rPr>
              <a:t>К концу 80-х Мадонна становится всемирно знаменитой, ее альбомы расходятся миллионными тиража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4150"/>
                            </p:stCondLst>
                            <p:childTnLst>
                              <p:par>
                                <p:cTn id="12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4:45:00Z</dcterms:created>
  <dc:creator>Антон</dc:creator>
  <dc:description/>
  <dc:language>en-US</dc:language>
  <cp:lastModifiedBy>Антон</cp:lastModifiedBy>
  <dcterms:modified xsi:type="dcterms:W3CDTF">2008-01-13T05:11:23Z</dcterms:modified>
  <cp:revision>2</cp:revision>
  <dc:subject/>
  <dc:title>Слайд 1</dc:title>
</cp:coreProperties>
</file>