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A6F-993A-4E5E-9D37-88ED8764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72D-BD81-4951-9F8E-2A0B3C95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B7369-0701-4A42-8BF9-A250BBBB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188D-79D0-499F-BCC4-22E51452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1B01A-552F-4225-B23C-18D5D42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44D3-D9F5-44AA-9425-F9DF7E6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CE5DF-4DCF-4A42-9C2A-56239C0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26CA4-281E-4617-9DC4-38C0E18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B3320-6CB6-464E-AD78-35158F9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54C89-BB8B-4B2D-9A29-8C75B3BE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20D6B-7420-4C52-910E-041F0CCE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BBDB-C461-47BB-8224-95B1B0A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A8F-2179-40FB-9705-37DFB0CE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B90C8-AEF2-43C6-851F-39E1F48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B6E9-D690-4C42-B8DF-990A4FBD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2CAF-8A4B-417A-9CDE-8AB5E8C9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CCD67-C0B6-4894-B3C3-DC638AB8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EF425-39A7-4CE3-93E9-C6AE7608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EA760-AD42-4BC6-BF16-5BDDAC2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A9885-8A3C-41E1-A135-0741D00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DB13F-631C-4A13-B573-9A7623A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9B92E-B7F1-4ED8-BFB5-AD01AB30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5005-C095-4949-ADBE-17AB7415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B68-5FA5-4CAF-BBF9-6D9EB9E7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D42AE-35AA-4E1F-9C0B-8033E495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D115-13E8-42D5-A182-19872F4A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F1BC-5793-4A73-9838-952F5170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365-FCFB-4E03-B4F5-BDC52BBE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207E-CA7E-48C9-B149-8F0773CB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CB6-B60B-43C1-8092-113F38C9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2FAC-5492-4D9C-9AFC-5500466E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241-9925-4809-AB21-FCFCD9D4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521-8AE6-43B3-8E44-8ACB3AF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42B-D24A-4CE0-8359-3DBE461E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258C-7722-4809-B0E0-1C62EC3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AC4-FE25-490E-860B-E146E0C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9B9E-5F93-48A5-B3D9-59D02E3F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CAC-328D-4E97-B5CD-E257D65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689E-0EE5-49BC-9D09-45B82686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FAF9-F0D0-4735-B3BB-CF5A64E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24F6-E26A-4B12-A8E9-C2370C64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D72F-A77D-440D-9630-A8EB180E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347D-4CD3-400B-B23C-F4ED8568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593-AA80-441A-B69D-3504301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3BAD-BB20-46BB-889A-4320B0D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3097-BA67-4159-A77F-303937B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BB60-1D7E-4114-8601-2CCB67C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5ABB-CB09-4E09-95DC-D0D4DFD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2AA0-0F5E-41CF-8149-B11B739E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C368-2EC9-47AC-B494-5F79518F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F400-7771-495C-A7A3-D5B7B40F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CED8-02F6-421A-B9C1-BEFD0DC2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C977-09C6-4E5A-B1F6-2B8012A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BEAA-0871-4FD8-9515-B4C8033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87A-7D51-4C27-8AEF-63E567A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3236-5F39-4C4F-A29E-78F985F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BCB8-B006-469C-9ED3-C213DE3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7CC9-4EE2-48B2-97C7-A3CFD16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F59B-C7AA-4D6C-940E-E8CD2F0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3934-22C5-4D65-A13B-E080720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93C1-467A-4738-A6F0-F795329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B6FF4-5DB4-4F6A-90CD-426B424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6CD2-7B8D-4A39-9CC6-4A72122B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22D4-BB56-44BF-A7D7-02113241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5F77-23EE-4007-A2FA-73D8313C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F55-201A-4D82-AFA4-33827383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FDF3-4EAC-40F5-BC5D-06A8EAF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5A5C-5BAB-4CD3-9433-C95CC60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AF728-2928-4183-864C-2D22BF7A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5177-845A-4CC1-8E7C-0A55652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A6C1-5918-47C2-8028-3E8B338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A685-C905-4D77-AAD9-77B97B6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0E70-C30F-47D5-AE4E-070A8C3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F1E4-648F-477B-9C2E-6A310A5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E08D-5454-4932-B78F-6ACC3B9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740E-53F5-4B70-8C51-8887F2D8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040-1016-478E-9944-BBED6A4E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1B44-A267-4835-BF83-9D8AC05C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5D54-C902-420D-94BC-968955AA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6E59-E0B3-462E-8CA9-3EAAD192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A265F-4832-45AC-B5E3-AD86254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E0CA-63AA-4D31-A444-05CCF49A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A391-D115-4B45-A22C-EF5E8B8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7402-D276-456C-85CF-9F34D5A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86E3-18B8-4BBC-B588-33DED53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B10C-6221-44C1-AD37-59267CD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03D79-51A4-43DF-BDBA-D4BD564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40A-1E33-40BA-953A-6AF5A81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71C6-CFED-47FD-AB79-E7E1DCC7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13F6-F15B-4C48-86FB-A29F201E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B76C-009A-4FE8-B959-09CCC65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D9D29-126B-4888-B505-F13CBBF4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4730-3E3D-41C4-8643-812A18C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CB30-7586-437C-8308-15432534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7C408-B1C8-4807-8B5C-B526913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999F-034C-4400-B5AD-9FB8571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BCA5-A8B8-4C7B-8AD0-D81681E8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7E88-9666-4B77-A6FE-2C2BABB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48A-7D61-4CD1-9CA1-9B37F1E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14B9-ECDB-4B75-B253-DD16F6A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71353-6B64-44E1-941B-6AB95BF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CBF7F-1D23-4100-909F-BE4496C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258A-87AF-4F4A-B054-15019493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6CA1-A4FF-4B55-B402-371EDA79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EFCF8-5DE7-4CB4-91F5-79551E60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B2FFA-EF38-48AF-AFD3-883F418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D1489-C0F9-4434-A5F1-69EE027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5CD34D-48CA-4835-82CF-A3F1AFCF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21382-E9BF-4EE7-A3BA-85ECF63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4C7-0B5D-446D-991C-C89EE39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34B12-64AD-46B7-9D87-64719887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B2E46-DC8C-4024-BFFE-8974D98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A91EC-494F-44D2-9E08-1382F39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48337A-D915-4F29-8B45-22E9CC4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3C728-BD55-463C-B163-F6F0641A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3B5D0-2F05-47DD-9FBD-50A95B35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07320-2EB2-469C-83EE-0D5AD5A0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005F0-52A3-49CE-9EE4-B47537F2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D703-0AF1-46DA-96C8-B1FD39F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0164-4023-44CD-93BF-8DCD2A92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1EE-0D02-4F84-84E5-752F8B82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D74D-D2AA-420E-820A-70C9C71CF3A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D4F-6AAA-4609-9080-D48A73B5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4C89-FF9D-4895-B22F-590668A925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4BC2-155D-43F5-A96C-20FA3AC2A6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98D-EBC3-4F4C-B59B-C4373B5BCD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4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4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6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9998-0B0D-44A1-AEB0-410500C932C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50F-052C-4807-BD6C-7C3BD8DB8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8AD-E292-4CBA-97A1-86F283505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E289-3908-4BB1-B33D-3418F2F1349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се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132000" y="1557000"/>
            <a:ext cx="570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r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Сухих Аня. Мне – 13. С большим удовольствием приняла участие в этой исследовательск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ржусь тем, что живу в известном всему миру древнем русском городе Курске. Я учусь в 7 "А" классе средней школы № 59. Учиться стараюсь на отлично. Люблю математику, русский язык, стремлюсь хорошо изучить англий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блю природу, общаться с друзьями, слушать хорошую музыку, играть в компьютерные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9320" y="2349360"/>
            <a:ext cx="35240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ки Курской обла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 п р а в к 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льный Сейм и тихая Тускарь, задумчивый Псел и омутовая Свапа, негромкоголосые Суджа и Рать – украшения нашего благословенного кра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рская область имеет достаточно густую речную сеть. По её территории протекает 902 реки, общая длина которых достигает 7600 км. Крупнейшие из них: Сейм (772 км); Тускарь (113 км); Свапа (197 км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вие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урская область имеет достаточно густую речную сеть, по её территории протекает  902 реки, общая длина которых достигает 7600 км. Три самые крупнейшие реки – Сейм, Свапа, Тускарь. Их общая длина составляет 1082 км, причем длина реки Свапы на 84 км больше длины реки Тускарь, а их общая протяженность на 462 км меньше длины реки Сейм. Какова длина этих рек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Пусть длина реки Тускарь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км, тогда длина реки Свапа -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4) км, а реки Сейм –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+ x +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4 +462)км. Суммарная длина этих трёх рек составляет (х +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х + 84) + (х + х + 84 + 462)) км или 1082 км.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Составляем уравнение:                                                   х + (х + 84) + (х + х + 84 + 462) =1082                              4х = 1082 - 168 - 462                                                         4х = 452                                                                            х = 113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113 км - длина реки Тускарь                                        113 + 84 = 197 км - длина реки Свапа                             113 + 197 + 462 = 772 км - длина реки Сейм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вет : длина реки Тускарь 113 км, реки Свапа 197 км, реки Сейм 772 км.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уна Курской зем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684216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ра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 представить курский пейзаж без лесов, степей, холмов, рек и озер, заповедных уголков, где обитают редкие птицы и млекопитающие, растут уникальные растения, которые создают особое чувство времени и крас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а природа Курского края. В долинах рек, в надпойменных террасах, вокруг озер и прудов Курской области обитает 56 видов млекопитающих, 266 видов птиц, в водоемах – 30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ловие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а природа Курского края. В долинах рек, в надпойменных террасах, вокруг озер и прудов Курской области обитает 322 вида млекопитающих и птиц, в водоемах – большое разнообразие рыбы. Сколько видов млекопитающих, птиц и рыб обитает на Курской земле, если известно, что видов птиц в 4,75 раза больше, чем видов млекопитающих, а видов рыб – на 236 меньше, чем видов птиц?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Пусть видов млекопитающих – х, тогда видов птиц – 4,75х. Всего видов птиц и млекопитающих – (х + 4,75х) или 322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х + 4,75х = 322                                                                    5,75х = 322                                                                             х = 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56 – видов млекопитающих                                             4,75 х 56 = 266 – видов птиц                                                266 – 236 = 30 – видов ры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вет: на курской земле обитает 56 видов млекопитающих, 266 видов птиц и 30 видов ры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урская бит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019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сторическая справ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Город Курск – первый из городов России, удостоенный в 2007 году почетного звания «Город Воинской Славы»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В годы Великой Отечественной войны, в 1943 году, ради реванша за разгром под Москвой и Сталинградом, Гитлер собрал под Курском очень большую военную силу: почти миллион солдат, 2700 танков, 10000 орудий и минометов, 2050 самолетов. Разгадав замысел врага, советское командование для решающей битвы собрало еще больше войск: 1336000 солдат, 3445 танков, 19000 орудий и минометов, 2173 самолета.  Почти два месяца длилось кровопролитное сражение. Стойкость и мужество советских солдат и офицеров принесли победу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В ходе Курской битвы фашистские войска потерпели сокрушительное поражение и потеряли 500000 человек, 1512 танков, 3000  артиллерийских орудий и минометов и всю авиацию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Город Курск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7138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Условие задач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годы Великой Отечественной войны, в 1943 году, ради реванша за разгром под Москвой и Сталинградом, Гитлер собрал под Курском очень большую военную силу: почти миллион солдат, 2700 танков, 10000 орудий и минометов, 2050 самолетов. Разгадав замысел врага, советское командование для решающей битвы собрало еще больше войск. Советские войска превосходили гитлеровцев по численности  личного состава в 1,336 раза, по танкам – в 1,276 раза, по артиллерии – в 1,9 раза, по самолетам – в 1,06 раза. Сколько советских войск и единиц боевой техники участвовали в Курской битве? Каковы были потери врага, если известно, что он потерял 50% личного состава, 56% танков, 30% артиллерии и, практически, всю авиацию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1. 1000000 х 1,336 = 1336000 чел. – численность советских войск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2. 2700 х 1,276 = 3445 ед. – численность советских танк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3. 10000 х 1.9 = 19000 ед. – численность советской артиллерии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4. 2050 х 1.06 = 2173 ед. – численность советских самолет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5. 1000000 : 100 х 50 = 500000 чел. – враг потерял личного состав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6. 2700 : 100 х 56 = 1512 ед. – враг потерял танк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7. 10000 : 100 х 30 = 3000 ед. – потери врага в артиллерии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Ответ: в Курской битве численность советских войск составляла 1336000 солдат и офицеров, 3445 танков, 19000 орудий и минометов, 2173 самолета. В ходе битвы враг потерял 500000 человек личного состава, 1512 танков, 3000 орудий и минометов, 2050 самолет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рав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ск – областной центр Российской Федерации, древний русский город (известен с 1032 года).  Его площадь – около 18 тыс. гектаров, население – приблизительно 409 тыс.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ные подсчитали, что на карте города Курска 566 географических названий. Это 5 парков, 11 площадей, 550 улиц, переулков и проезд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словие зада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еные подсчитали, что на карте города Курска 566 географических названий. Это 5 парков, несколько площадей, а количество улиц (в т.ч. переулков и проездов) в 10 раз превышает число, равное произведению количества парков на количество площадей. Сколько улиц и площадей в городе Курс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шение зада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Пусть количество площадей – х, тогда количество улиц – (10 х 5х), а, всего улиц, площадей и парков – (х + 5 + (10 х 5х)) или 56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(х + 5 + (10 х 5х)) = 566                                                     5 + х + 50х = 566                                                                  51х = 566 – 5                                                                      51х = 561                                                                               х =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11 – площадей в городе Курске                                         11 х 5 х 10 = 550 - улиц в городе Курс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вет: в городе Курске 11 площадей и 550 улиц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еографическое положение Курской обла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553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еографическая справ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урская область расположена в Центральном Федеральном округе России, лежит на юго-западных склонах Среднерусской возвышенности и протянулась с запада на восток на 305 км, с севера на юг – на 171 к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урская область занимает уникальное географическое положение. Расстояние от Курска до Азовского моря – 500 км, до Атлантического океана – 2500 км, до Северного Ледовитого океана – 2000 к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вие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урская область занимает уникальное географическое положение. Если сложить величины расстояний от Курска до Азовского моря и от Курска до Северного Ледовитого океана, то такое же расстояние будет от Курска до Атлантического океана. Каковы эти расстояния, если известно, что расстояние до Азовского моря в 5 раз меньше, чем до Атлантического океана, а до Северного Ледовитого океана – 2000 км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Пусть расстояние до Азовского моря х км, тогда до Атлантического океана 5х 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Составляем уравнение:                                                       х + 2000 = 5х                                                                    2000 = 5х – х                                                                    2000 = 4х                                                                               х = 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500 км – расстояние от Курска до Азовского мор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0 х 5 = 2500 км – расстояние до Атлантического океана                             Ответ: расстояние от Курска до Азовского моря составляет 500 км, до Атлантического океана – 2500 к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5:24:47Z</dcterms:created>
  <dc:creator>home</dc:creator>
  <dc:description/>
  <dc:language>en-US</dc:language>
  <cp:lastModifiedBy>ЛЕЩ</cp:lastModifiedBy>
  <dcterms:modified xsi:type="dcterms:W3CDTF">2008-01-27T16:46:38Z</dcterms:modified>
  <cp:revision>5</cp:revision>
  <dc:subject/>
  <dc:title>              О себе</dc:title>
</cp:coreProperties>
</file>