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7.wmf" ContentType="image/x-wmf"/>
  <Override PartName="/ppt/media/image15.jpeg" ContentType="image/jpeg"/>
  <Override PartName="/ppt/media/image16.jpeg" ContentType="image/jpeg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8DB-D853-4084-A22C-F489A926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FBC-AF9D-4AF1-990E-8FDF7A18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41F-1FDC-45DC-89AF-09B5E9A8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FEA-1869-44FB-A742-53D4AA6B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25B9-222B-4FED-8E62-A20BA30E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D8AA-7431-4E22-9EF3-C240ED5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D2C6-0B7A-4E84-8E33-8A26E656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5349-FE0A-4FA0-B528-DB7CB66A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5757-2C11-429B-8FD0-CB472F75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9B85-860D-40C1-A678-FEE4AC7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BDC3-1B29-48B3-B347-DF198B7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D19-2162-4052-9FA1-BDE37589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408F-67B0-4C10-9996-58FB59FF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181-3FF7-4DD6-A3CC-21B5742A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088A-2401-47D3-85A4-23C952F3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27F7-12C3-4325-9F81-308052F8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7696-CCA2-479E-B7A7-5DAA35AD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596-9849-44A2-A1A1-C6A97DF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C5F-DBD2-4408-A9CB-265036A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D19-E82B-481F-BA1A-7E87BD14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475-E716-4BBA-947F-E2CD3C22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BF0-CAB6-41CE-82EE-DBF654A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1E5-4E8F-4FA2-81FB-665F827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679-7CF9-4FAE-A710-27F3DB77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A6BD-40C7-4789-A57A-8B51A89A9B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1943-943C-4FE9-A259-A9718E85E3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Antisthenes_BM_183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48;&#1079;&#1086;&#1073;&#1088;&#1072;&#1078;&#1077;&#1085;&#1080;&#1077;:Slavetreatment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Есть ли у нас рабство?»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ы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жугет Аю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ехова Татья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327480"/>
            <a:ext cx="3995640" cy="3530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9560" cy="20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руг, она стала много пить, т. е. стала  рабой алкоголя, что в последствии привело к лишению родительских прав. Но ее ничего не останавливало. Однажды она продала все, что  имела. А когда опомнилась, было уже поз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65680" y="2205000"/>
            <a:ext cx="437832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В чем разница между рабом и свободным человеком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виси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меет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меет соб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ет на хозя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ет из-под па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роявляет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зненное кредо: «А оно мне надо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ВОБОД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 соб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ет для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ет с жел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вор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зненное кредо: «Если не я, то кто ж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смотрим, что говорят мудрец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59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нтисфен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то боится других, тот раб, хотя он этого и не замеч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ает человек – раб своей трусости. Но сам себе, а тем более другим он в этом никогда не признается. И потому все больше становится рабом своей трусости. И будет выполнять то, что ему прикажут, даже если он этого не хочет дел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Антисфен,  Британский музей, Лонд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557360"/>
            <a:ext cx="2995560" cy="45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305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. Бердяев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Человек раб потому, чт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бода труд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рабство же легко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бодный человек, чем больше имеет свободы, тем больше возрастает и его ответственность. Многие согласны подчиняться, быть на вторых ролях,  чем нести ответственность за какое-то дело, за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64000" y="1599840"/>
            <a:ext cx="332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527640" cy="46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. Достоевский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Богатство, грубость наслаждений порождают лень, а лень порождает раб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 – раб своей лени. Лень завладевает всем существом человека. Он хочет жить богато, но не хочет работать. Он хочет выглядеть красиво, но не хочет стирать, гладить. Не зря говорят: «Лень – мать всех пороков». От лени люди становятся бездельниками, иждивенцами, в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255840" cy="48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мфо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«Почти все люди рабы, и это объясняется той же причиной, какой спартанцы объясняли приниженность персов: они не в силах произнести слово «нет». Умение произносить его и умение жить уединенно – вот способы, какими только и можно отстоять свою независимость и свою личн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не стать рабом своей слабости, необходимо научиться говорить «нет» в определенных ситуациях, когда, например, друзья тебе предлагают сделать то, что противоречит твоим принципам. Будь принципиальным, тогда ты не станешь  ра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. Гёте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амое большое рабство – не обладая свободой, считать себя свобод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один пьяница никогда не признается в том, что не может жить без спиртного. Он с уверенностью заявляет, что бросит пить, когда захочет, считает себя свободным. Но он уже раб алкоголя. И из этого рабства никто не сможет его освободить, кроме него самого. Но алкоголь сделал свое дело и не отпустит от себя р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Johann Heinrich Lips, Porträt Goethe Kreidezeichnung 1791 © Freies Deutsches Hochstift - Frankfurter Goethe-Museum"/>
          <p:cNvPicPr/>
          <p:nvPr/>
        </p:nvPicPr>
        <p:blipFill>
          <a:blip r:embed="rId1"/>
          <a:stretch/>
        </p:blipFill>
        <p:spPr>
          <a:xfrm>
            <a:off x="5508720" y="2133720"/>
            <a:ext cx="3313080" cy="24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тимся к мудрец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пикт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«Раб тот, кто не умеет владеть соб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человек страдает от того, что у него самого плохой характер, он раб своих дурных привычек. Он не может заставить себя не кричать, не выражаться нецензурной бранью, не грубить, не драться, не лениться и т.п. Из-за своего характера он портит жизнь и себе, и окружающим людям. Но сам он в этом не признается, а будет говорить, что его окружают плохие люди, которые мешают ему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ЫВОД: Есть ли сейчас рабство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думаю, рабство есть и в наши д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ская психология живет  в люд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тановится рабом по собственному жела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вободного человека всегда есть выбор. Из любой ситуации можно найти выход. У человека всегда бывают какие-то проблемы, и их надо решать, а не бежать от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бег от решения проблемы загоняет человека в тупик, он попадает в раб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12000" y="5784840"/>
            <a:ext cx="133200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нформационные источни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ква «ОЛМА-ПРЕСС Образование». 200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ета «Комсомольская правд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егов С.И. «Словарь русского языка», М., 19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ров А.М. «Советский энциклопедический словарь», М., 1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охов. Э. «Энциклопедия афоризмов».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 исследования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понятия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б, раб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сти исследование, может ли существовать рабство в свобод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еть, в каких формах проявляется рабство в наш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человек становится рабом в свободном общест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84720" y="4898880"/>
            <a:ext cx="3059280" cy="1959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то такое рабств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человек, лишенный всех прав и средств производства и являющийся полной собственностью владельца-господина, распоряжающегося его трудом и жизн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зависимый, угнетенный в условиях эксплуататорского общества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тот, кто целиком подчинил чему-нибудь свою волю, свои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стояние, положение ра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СТВО – это неволя, угне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5137200"/>
            <a:ext cx="2195640" cy="17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КОЕ ПОЛОЖЕНИЕ В ОБЩЕСТВЕ ЗАНИМАЕТ РАБ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 занимает самую низкую ступень в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 не ведёт самостоятельную жизнь, он полностью зависит от своего хозя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 выполняет всё, что пожелает хозя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177624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Рабы часто подвергались телесным наказаниям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484280"/>
            <a:ext cx="29653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Гипотез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Я думаю, что у нас есть рабство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 разделила бы его  на два вид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61080" y="4508640"/>
            <a:ext cx="3382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. Человек, подчиняющийся своему хозяину.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значит, человек  делает все, что скажет хозяи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260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приме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1999 года по 2001год один мужчина приготовил под гаражом подвальное помещение для своих будущих рабынь. И в мае 2001года, когда две девочки подросткового возраста на дороге ловили такси, он предложил довести их до желаемого места. Но привез их в свою деревню. Когда подростки стали возмущаться, он предложил выпить чай его мамы,  со снотворным, а затем перенес их в подвал. Потом он делал с ними все, что хот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31200" y="4365720"/>
            <a:ext cx="134784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полтора года девочка постарше была беременна. Когда она родила, мужчина подбросил ребенка к соседям. А в феврале 2004 года эта девочка оказалась второй раз берем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в июне этого года девушки были освобождены от рабства  работниками милиции с помощью одной студентки, проживавшей по соседству. Люди помогли девушкам устроить дальнейшу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8096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2. Человек, не имеющий силы вол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означает, что человек поддается влиянию своих вредных привычек. Например, в одной деревне жила женщина, которая была учительницей. Она имела двух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04000" y="3429000"/>
            <a:ext cx="2104920" cy="31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09:00:56Z</dcterms:created>
  <dc:creator>Татьяна Ивановна</dc:creator>
  <dc:description/>
  <dc:language>en-US</dc:language>
  <cp:lastModifiedBy>*</cp:lastModifiedBy>
  <dcterms:modified xsi:type="dcterms:W3CDTF">2008-01-29T18:36:37Z</dcterms:modified>
  <cp:revision>4</cp:revision>
  <dc:subject/>
  <dc:title>Есть ли у нас рабство?» </dc:title>
</cp:coreProperties>
</file>