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2DA-AA5C-4759-B9A4-FA85FF0A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864-2B2D-4969-BF07-98DDB7B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D8C-1C4F-42AA-BC62-DAC09A13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AA5-1195-40F8-B8C5-2872CAF0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E677-A373-4BEF-AAE1-89BBADDA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B298-7B8A-4E34-A627-F255C38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B77-4A9A-44E2-ADCD-4731442B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E700-9DA5-4EE4-B6EE-0193A63B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653A-6718-4DAB-B931-3CBE7683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2547-11AF-4BA4-9551-A97B86A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7E3E-6521-420F-9588-BBE34E6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B8-8041-466F-AA71-F0D020AC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0F6D-534A-40AF-8692-0E13A06A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E03E-A77E-465D-AF52-AAD4A060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3CF8-2D4A-4B66-9E62-5400F14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AF85-45E5-49AC-B600-19020BED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B54-7E11-43FF-87EF-60D33D8F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336-848C-44C6-9C98-FBB671B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47-5731-4A0C-8976-30C05B5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1A8-E3B5-4E75-AEB0-B853BDE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4CB-7FFC-47F0-883E-F45CFC51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E332-D36E-4E00-AB5A-3D25BCEC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CE2-B322-4377-A11D-CA855A6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7C0-8116-4FE6-AB09-D4E6B93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470-F4D8-49E8-B997-3D1DFEA66C3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EAF4-DAB2-4D37-9DE1-749B069C034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5182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Verdana"/>
              </a:rPr>
              <a:t>Цилиндр 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967040" cy="29131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488680" y="4280040"/>
            <a:ext cx="6147000" cy="18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дготовила: Филипенко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дежда 10Б класс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ОУ Гимназия №9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. Усолье - Сибирское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Решение задач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580000" cy="2592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5651640" cy="2100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92360" y="3860640"/>
            <a:ext cx="5651640" cy="93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5580000" cy="8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rcRect l="0" t="0" r="0" b="63990"/>
          <a:stretch/>
        </p:blipFill>
        <p:spPr>
          <a:xfrm>
            <a:off x="0" y="476280"/>
            <a:ext cx="55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792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708360" y="3894120"/>
            <a:ext cx="5435640" cy="2963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708360" y="2924280"/>
            <a:ext cx="5435640" cy="113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Проверочная работа</a:t>
            </a:r>
            <a:br>
              <a:rPr sz="40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5373720"/>
            <a:ext cx="8569080" cy="1219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62600" y="749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Задача 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8496000" cy="1343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62600" y="27082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Задача 2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8497800" cy="1285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62600" y="47973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Задача 3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549360"/>
            <a:ext cx="4633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Цилиндр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156360" y="907920"/>
            <a:ext cx="2592360" cy="4897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9280" y="2060640"/>
            <a:ext cx="6048360" cy="417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Цилиндром называется тело, которое состоит из двух кругов, не лежащих в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346040" y="836640"/>
          <a:ext cx="6429600" cy="5044680"/>
        </p:xfrm>
        <a:graphic>
          <a:graphicData uri="http://schemas.openxmlformats.org/drawingml/2006/table">
            <a:tbl>
              <a:tblPr/>
              <a:tblGrid>
                <a:gridCol w="6429600"/>
              </a:tblGrid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Элементы цилиндра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355760" y="1828800"/>
          <a:ext cx="6410160" cy="3840120"/>
        </p:xfrm>
        <a:graphic>
          <a:graphicData uri="http://schemas.openxmlformats.org/drawingml/2006/table">
            <a:tbl>
              <a:tblPr/>
              <a:tblGrid>
                <a:gridCol w="2136600"/>
                <a:gridCol w="2136960"/>
                <a:gridCol w="2136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снова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бразующие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Высот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00520" cy="2952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2000160" cy="2962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2000520" cy="296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900000" y="907920"/>
          <a:ext cx="7488000" cy="4773240"/>
        </p:xfrm>
        <a:graphic>
          <a:graphicData uri="http://schemas.openxmlformats.org/drawingml/2006/table">
            <a:tbl>
              <a:tblPr/>
              <a:tblGrid>
                <a:gridCol w="7488000"/>
              </a:tblGrid>
              <a:tr h="14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ойства цилиндра</a:t>
                      </a:r>
                      <a:br>
                        <a:rPr sz="3200"/>
                      </a:b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снования цилиндра равны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снования лежат в параллельных плоскостях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бразующие цилиндра параллельны и равны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549360"/>
          <a:ext cx="8819640" cy="5746320"/>
        </p:xfrm>
        <a:graphic>
          <a:graphicData uri="http://schemas.openxmlformats.org/drawingml/2006/table">
            <a:tbl>
              <a:tblPr/>
              <a:tblGrid>
                <a:gridCol w="881964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ечения цилиндра</a:t>
                      </a:r>
                      <a:endParaRPr b="0" lang="en-US" sz="3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1700280"/>
          <a:ext cx="8893080" cy="4537080"/>
        </p:xfrm>
        <a:graphic>
          <a:graphicData uri="http://schemas.openxmlformats.org/drawingml/2006/table">
            <a:tbl>
              <a:tblPr/>
              <a:tblGrid>
                <a:gridCol w="2224080"/>
                <a:gridCol w="2222640"/>
                <a:gridCol w="2224080"/>
                <a:gridCol w="2222280"/>
              </a:tblGrid>
              <a:tr h="13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Сечение цилиндра плоскостью, параллельной его ос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Осевое сечени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Сечение цилиндра плоскостью, параллельной основанию - круг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Сечение цилиндра плоскостью, не параллельной основанию - овал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9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59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7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1714320" cy="2552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1714680" cy="2524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714320" cy="2533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7093080" y="3284640"/>
            <a:ext cx="1714320" cy="234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68360" y="592920"/>
            <a:ext cx="4464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бъем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02400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3708360" y="1773360"/>
          <a:ext cx="5111640" cy="4805280"/>
        </p:xfrm>
        <a:graphic>
          <a:graphicData uri="http://schemas.openxmlformats.org/drawingml/2006/table">
            <a:tbl>
              <a:tblPr/>
              <a:tblGrid>
                <a:gridCol w="5111640"/>
              </a:tblGrid>
              <a:tr h="134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200"/>
                      </a:br>
                      <a:r>
                        <a:rPr b="0" lang="ru-RU" sz="24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V=SH=pR2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Где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391ec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площадь основан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Высота цилинд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                  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Радиус цилиндра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059280" y="4309920"/>
          <a:ext cx="5833800" cy="730440"/>
        </p:xfrm>
        <a:graphic>
          <a:graphicData uri="http://schemas.openxmlformats.org/drawingml/2006/table">
            <a:tbl>
              <a:tblPr/>
              <a:tblGrid>
                <a:gridCol w="1966680"/>
                <a:gridCol w="3867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95280" y="1773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Объем цилиндра: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00360" y="2833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лощади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724360" y="4221000"/>
            <a:ext cx="1428840" cy="21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0" y="620640"/>
          <a:ext cx="9144000" cy="7375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200"/>
                      </a:br>
                      <a:endParaRPr b="0" lang="en-US" sz="22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лощадь полной поверхности цилиндра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: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лощадь полной поверхности цилиндра равна сумме площади боковой поверхности и площадей оснований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                  </a:t>
                      </a:r>
                      <a:r>
                        <a:rPr b="0" lang="ru-RU" sz="24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Sполн= Sбок+ 2Sосн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лощадь боковой поверхности цилиндра: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                    </a:t>
                      </a:r>
                      <a:r>
                        <a:rPr b="0" lang="ru-RU" sz="2400" spc="-1" strike="noStrike">
                          <a:solidFill>
                            <a:srgbClr val="d60093"/>
                          </a:solidFill>
                          <a:latin typeface="Verdana"/>
                        </a:rPr>
                        <a:t>S=CH=2pRH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Где:</a:t>
                      </a:r>
                      <a:r>
                        <a:rPr b="0" lang="en-US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периметр основания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(длина окружности основания цилиндра)</a:t>
                      </a:r>
                      <a:endParaRPr b="0" lang="en-US" sz="1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e1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Высота цилиндра</a:t>
                      </a:r>
                      <a:endParaRPr b="0" lang="en-US" sz="1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15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- Радиус цилиндра</a:t>
                      </a:r>
                      <a:endParaRPr b="0" lang="en-US" sz="15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211640" cy="2087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72720"/>
            <a:ext cx="9144000" cy="67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1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Цилиндром называется тело, которое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состоит из двух кругов, не лежащих в одной плоскости и совмещаемых параллельным переносом,     и всех отрезков, соединяющих соответствующие точки этих кругов.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состоит из двух кругов, лежащих в одной плоскости и совмещаемых параллельным переносом, и всех отрезков, соединяющих соответствующие точки этих кругов.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2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. Сечением цилиндра плоскостью, параллельной основанию является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круг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квадрат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равнобедренный треугольник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3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Какие из тел являются телами вращения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шар, пирамида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цилиндр, шар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4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Какие из следующих геометрических  тел имеют образующую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5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Сечением цилиндра плоскостью, не параллельной основанию является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круг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квадрат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овал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6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Чему равна площадь полной поверхности цилиндра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сумме площади боковой поверхности и периметра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сумме площади боковой поверхности и площадей оснований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сумме площадей оснований и радиуса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7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Что не является одним из свойств цилиндра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образующие цилиндра не равны 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основания цилиндра равны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основания лежат в параллельных плоскостях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0093"/>
                </a:solidFill>
                <a:latin typeface="Verdana"/>
              </a:rPr>
              <a:t>8. </a:t>
            </a:r>
            <a:r>
              <a:rPr b="0" i="1" lang="en-US" sz="1400" spc="-1" strike="noStrike">
                <a:solidFill>
                  <a:srgbClr val="d60093"/>
                </a:solidFill>
                <a:latin typeface="Verdana"/>
              </a:rPr>
              <a:t>Что не является элементом цилиндра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образующие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основания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Verdana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Verdana"/>
              </a:rPr>
              <a:t>радиус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08:47:21Z</dcterms:created>
  <dc:creator>USER</dc:creator>
  <dc:description/>
  <dc:language>en-US</dc:language>
  <cp:lastModifiedBy>Канина</cp:lastModifiedBy>
  <dcterms:modified xsi:type="dcterms:W3CDTF">2008-01-30T16:20:16Z</dcterms:modified>
  <cp:revision>4</cp:revision>
  <dc:subject/>
  <dc:title>Цилиндр </dc:title>
</cp:coreProperties>
</file>