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A75-20AC-494B-B3EC-E2889682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080-E2F4-4ECD-9946-67508512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865-90A7-469B-AEE9-E0360A76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059-0CB0-434E-AB75-96BDDA39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8C7B-F7A0-4AAE-9363-E88ECFD9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A88C-DC81-45CA-849A-438E49E1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F10F-B66D-4301-8C21-52753681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A4F1-A6DA-4D3C-900E-46BC3F22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6DE3-7F5C-4267-B984-CD5B0C0B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91B3-4878-4503-A68C-FF7DBFB6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71D7-5168-4BD5-8920-CACFEB9A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DE2F-1158-44A2-A063-17D6F416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B8E5-22A0-49E5-8456-670D901E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7B01-4B12-4C46-B84F-6806990A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4CDE-178E-4E9E-BE22-72F5505F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DACC-11DA-4EC2-8998-B078A6D2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9359-C48D-44A4-B6E7-7A95ECE6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2F5-6C86-47EC-B0AC-6915D4BF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236-D46C-4F24-9B90-1BE95E1E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5B5-AFDD-44DB-813F-E71F0479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28D-A56B-460E-B025-BECC1C2E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4A3-4EE7-48A2-8BA8-21E63D82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509-CF65-4B7A-AE1F-E74B7482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339-8BE6-495E-890B-3181CA01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58CA-4B00-417C-AB42-C18C3186FF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66B0-8B61-4355-9944-6DA0B4DF6E3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628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заимное расположение прямых в пространстве.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гол между двумя прямы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253440" y="5516280"/>
            <a:ext cx="31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а: Филипен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дежда 10Б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Гимназия №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Усолье - Сибир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79135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сно, что плоскость а -  единственная плоскость, проходящая через прямую АВ и параллельная прямой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Любая другая плоскость, проходящая через прямую АВ, пересекается  с прямой АЕ, а значит , пересекается и с параллельной ей прямой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доказа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крещивающиеся прямы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сли две прямые  пересекаются или параллельны, то они лежат в одной плоскости. Однако в пространстве две прямые могут быть расположены так, что они не лежат в одной плоскости , т.е  не существует такой плоскости , которая проходит через обе эти прямые. Ясно, что такие прямые не пересекаются  и они не параллель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451640" y="5445000"/>
            <a:ext cx="865440" cy="7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79135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Определение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е прямые называются  скрещивающимися , если они не лежат  в одной плоск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еоре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 одна из двух прямых лежит в некоторой плоскости, а другая прямая пересекает эту плоскость в точке, не лежащей на прямой, то эти прямые скрещивающие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800"/>
                </a:solidFill>
                <a:latin typeface="Comic Sans MS"/>
              </a:rPr>
              <a:t>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мотрим прямую АВ, лежащую в плоскости а, и прямую 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пересекающую  эту плоскость  в точке С,  не лежащей на прямой А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4508640"/>
            <a:ext cx="2160720" cy="1296720"/>
          </a:xfrm>
          <a:prstGeom prst="parallelogram">
            <a:avLst>
              <a:gd name="adj" fmla="val 42483"/>
            </a:avLst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419640" y="4724280"/>
            <a:ext cx="720720" cy="8654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3933720"/>
            <a:ext cx="57636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5084640"/>
            <a:ext cx="36036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5373720"/>
            <a:ext cx="7164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4869000"/>
            <a:ext cx="71280" cy="727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4149720"/>
            <a:ext cx="7164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4581360"/>
            <a:ext cx="73080" cy="71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56240" y="4605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3240" y="511020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35120" y="381312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23840" y="4245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60240" y="5397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79135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жем, что  АВ 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скрещивающиеся прямые , т.е они не лежат  в одной плоскости. Действительно, если допустить , что  прямые АВ и 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лежат в некоторой  плоскости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будет  проходить через прямую  АВ и точку С и поэтому  совпадает с плоскостью а. Но это невозможно, т.к прямая  С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не лежит в плоскости  а.       Теорема доказа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791352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Возможны только три случая  взаимного расположения двух  прямых в пространств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) прямые пересекаются , т.е имеют только одну общую точк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3132000" y="3357720"/>
            <a:ext cx="2808360" cy="1439640"/>
          </a:xfrm>
          <a:prstGeom prst="parallelogram">
            <a:avLst>
              <a:gd name="adj" fmla="val 48768"/>
            </a:avLst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95640" y="3573360"/>
            <a:ext cx="1008000" cy="93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635280" y="3573360"/>
            <a:ext cx="1657440" cy="93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35480" y="3525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07840" y="3525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39520" y="41022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44960" y="33098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27640" y="4005360"/>
            <a:ext cx="7308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0578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) прямые параллельны, т.е  лежат в одной  плоскости  и не пересекаются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) прямые  скрещиваются, т.е не лежат в одной плоскости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2133720"/>
            <a:ext cx="3097080" cy="1295280"/>
          </a:xfrm>
          <a:prstGeom prst="parallelogram">
            <a:avLst>
              <a:gd name="adj" fmla="val 59776"/>
            </a:avLst>
          </a:prstGeom>
          <a:solidFill>
            <a:srgbClr val="703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708360" y="2349360"/>
            <a:ext cx="64764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211640" y="220500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83880" y="2157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37320" y="2589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3280" y="4941720"/>
            <a:ext cx="2808360" cy="1366920"/>
          </a:xfrm>
          <a:prstGeom prst="parallelogram">
            <a:avLst>
              <a:gd name="adj" fmla="val 51363"/>
            </a:avLst>
          </a:prstGeom>
          <a:solidFill>
            <a:srgbClr val="00b2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924360" y="5084280"/>
            <a:ext cx="122400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79640" y="4581360"/>
            <a:ext cx="360360" cy="719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058920" y="5877000"/>
            <a:ext cx="43308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80000" y="5229360"/>
            <a:ext cx="71280" cy="712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55160" y="4605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777060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еорем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рез каждую из двух скрещивающихся прямых проходит плоскость, параллельная другой прямой, и притом только од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мотрим  скрещивающиеся прямые АВ 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 rot="4468800">
            <a:off x="4113000" y="5067000"/>
            <a:ext cx="1871640" cy="1224000"/>
          </a:xfrm>
          <a:prstGeom prst="parallelogram">
            <a:avLst>
              <a:gd name="adj" fmla="val 3822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48000" y="486900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276720" y="5083920"/>
            <a:ext cx="142920" cy="7308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276720" y="5950080"/>
            <a:ext cx="142920" cy="72720"/>
          </a:xfrm>
          <a:prstGeom prst="flowChartConnector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99840" y="48942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00200" y="57578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508464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00720" y="5229360"/>
            <a:ext cx="100800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5300640"/>
            <a:ext cx="7164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5805360"/>
            <a:ext cx="73080" cy="71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5445000"/>
            <a:ext cx="712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04840" y="55418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2880" y="496584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97680" y="511020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057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жем, что через прямую АВ проходит плоскость, параллельная прямой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и такая плоскость только од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дем через точку А прямую АЕ,  параллельную прямой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и обозначим буквой а плоскость, проходящую через прямые АВ и АЕ. Так как прямая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не лежит в плоскости а и параллельна прямой АЕ, лежащей в этой плоскости  , то прямая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араллельна плоскости 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09:37:12Z</dcterms:created>
  <dc:creator>polzovatel</dc:creator>
  <dc:description/>
  <dc:language>en-US</dc:language>
  <cp:lastModifiedBy>Канина</cp:lastModifiedBy>
  <dcterms:modified xsi:type="dcterms:W3CDTF">2008-01-30T16:03:39Z</dcterms:modified>
  <cp:revision>5</cp:revision>
  <dc:subject/>
  <dc:title>Взаимное расположение прямых в пространстве.</dc:title>
</cp:coreProperties>
</file>