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F3AD-CF41-4BE0-AC4B-7A626FA2D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ADF8-31FD-4D1B-B7D2-770DBAE0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2819-7271-4681-9F71-9C59EB706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8246-D82E-4323-9DA9-B4226351E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8110-F550-4F4F-91C8-1A0F16E1C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B731-E210-4807-B6B1-6DA3BF38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9D03-7E74-4A7C-9BEB-9781B09F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9927-AD19-4B1F-9C4D-2F85AFC6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9B37-D67E-45AE-9015-9F0256F7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D7D7-F1EB-45CE-924E-50ED1122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505D-425E-4E12-ADC7-1FE58F55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6CBE-E103-4678-A77F-F0EFF326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54C5-80F9-4CFA-BD79-3502947F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F077-3AF1-4B7D-8652-A77243B3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D4B7-6D67-4917-BB25-D073B056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1EF4-0FAF-4831-8908-ED5792665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2E7F-1959-4CED-9E47-5B9D1AFF2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DB14-EFB6-4EE7-AA26-1C65D0AE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8BFB-9CCD-4EE6-A7E4-5C1D86B2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3E94-04EF-43B1-852F-2A20FF42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ADE7-A18B-41D5-A43D-8B1C70A5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68A9-FD40-4876-A18D-8663AF55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ADB7-7805-4212-BA54-7D1C87C8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45B6-70A0-4D61-A3D7-10C6AD37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4670-B7E9-4F18-A714-C40058F7AE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74A7-B261-4846-90C2-016BBB7B30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900000" y="1413000"/>
            <a:ext cx="8028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рпендикулярность прямых и плоскостей.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4653000"/>
            <a:ext cx="2484360" cy="1601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867280" y="5321160"/>
            <a:ext cx="3687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дготовила: Филипенк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дежда 10Б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ОУ Гимназия №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. Усолье - Сибирск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2) Предположим что через точку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М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 проходит еще одна прямая ( обозначим ее  через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ru-RU" sz="3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),  перпендикулярная к плоскости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. Тогда ( по  обратной теореме №1)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ru-RU" sz="3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, что невозможно, так как  прямые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ru-RU" sz="32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и с  пересекаются в точке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М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. Таким образом , через точку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М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проходит только одна прямая, перпендикулярная к плоскости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Теорема доказа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227640" y="4508640"/>
            <a:ext cx="1935360" cy="193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6624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Математический диктант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58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Вариант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: Закончите предложение, чтоб получилось верное утверждение. Сделайте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рисун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.Две прямые называются перпендикулярными, если.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.Если плоскость перпендикулярна одной из двух параллельных прямых, то она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3.Если две плоскости перпендикулярны прямой, то они...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2. Ответьте на вопро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. Сколько перпендикуляров можно провести через данную точку к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данной прямой на плоскост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Вариант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: Закончите предложение, чтоб получилось верное утверждение. Сделайте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рисун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.Прямая   называется   перпендикулярной к плоскости, если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.Две прямые, перпендикулярные   одной и той же плоскости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3.Если одна из двух параллельных прямых перпендикулярна плоскости, то и другая прямая…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2. Ответьте на вопро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. Сколько перпендикуляров можно провести через данную точку к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данной прямой в пространств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ве прямые в пространстве называются перпендикулярными   ( взаимно     перпендикулярными) , если угол между ними равен 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Перпендикулярность прямых а 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обозначается  так : а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пендикулярные прямые могут  пересекаться  и могут быть  скрещивающими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16000" y="692280"/>
            <a:ext cx="73436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рпендикулярность прямой и плоскости.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"/>
          <p:cNvSpPr/>
          <p:nvPr/>
        </p:nvSpPr>
        <p:spPr>
          <a:xfrm>
            <a:off x="7812000" y="3716280"/>
            <a:ext cx="0" cy="217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67640" y="3933720"/>
            <a:ext cx="289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77080" y="5300640"/>
            <a:ext cx="1942920" cy="1152720"/>
          </a:xfrm>
          <a:prstGeom prst="parallelogram">
            <a:avLst>
              <a:gd name="adj" fmla="val 42138"/>
            </a:avLst>
          </a:prstGeom>
          <a:solidFill>
            <a:srgbClr val="ff66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80360" y="4869000"/>
            <a:ext cx="143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513640" y="4529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7308360" y="5373720"/>
            <a:ext cx="358920" cy="86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80360" y="5589720"/>
            <a:ext cx="115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74360" y="582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8360" y="530064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24720" y="5589720"/>
            <a:ext cx="216000" cy="144360"/>
          </a:xfrm>
          <a:prstGeom prst="parallelogram">
            <a:avLst>
              <a:gd name="adj" fmla="val 37406"/>
            </a:avLst>
          </a:prstGeom>
          <a:solidFill>
            <a:srgbClr val="ff66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96360" y="4797360"/>
            <a:ext cx="936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50920" y="98100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Если одна из двух параллельных прямых  перпендикулярна к третьей прямой, то  и другая  прямая  перпендикулярна к этой прям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Прямая  называется перпендикулярной к плоскости , если она  перпендикулярна к любой прямой, лежащей в этой плоск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419640" y="333360"/>
            <a:ext cx="12096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мма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348000" y="2997360"/>
            <a:ext cx="2087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ределение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Доказательство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усть 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  а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Докажем, что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    c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рез  произвольную точку   М  пространства, не лежащую  на данных  прямых, проведем прямые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М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М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параллельные соответственно  прямым а и с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к как а     с, то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МС = 9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08360" y="1989000"/>
            <a:ext cx="289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51280" y="1773360"/>
            <a:ext cx="0" cy="215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4360" y="1989000"/>
            <a:ext cx="287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08720" y="1773360"/>
            <a:ext cx="0" cy="215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92360" y="5300640"/>
            <a:ext cx="2448000" cy="1297080"/>
          </a:xfrm>
          <a:prstGeom prst="parallelogram">
            <a:avLst>
              <a:gd name="adj" fmla="val 47183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1640" y="4941720"/>
            <a:ext cx="180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4508640"/>
            <a:ext cx="165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21640" y="445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82000" y="4097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771640" y="5229360"/>
            <a:ext cx="648000" cy="136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68560" y="5105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11640" y="558972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067280" y="5445000"/>
            <a:ext cx="433440" cy="1008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27640" y="5516640"/>
            <a:ext cx="73080" cy="730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02360" y="5248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21280" y="52484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21280" y="6113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56000" y="5589720"/>
            <a:ext cx="216000" cy="144360"/>
          </a:xfrm>
          <a:prstGeom prst="parallelogram">
            <a:avLst>
              <a:gd name="adj" fmla="val 3740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812000" y="3573360"/>
            <a:ext cx="0" cy="216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67640" y="3789360"/>
            <a:ext cx="289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39640" y="3933720"/>
            <a:ext cx="144720" cy="216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4149720"/>
            <a:ext cx="21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4724280"/>
            <a:ext cx="136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43280" y="4292640"/>
            <a:ext cx="1441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916360" y="5229360"/>
            <a:ext cx="503280" cy="1295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 условию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 I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, а по построению 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МА, поэтому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 II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Итак,  прямы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с параллельны  соответственно  прямым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угол  между которыми равен 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Это означает, что угол между  прямым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и с также равен 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`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т.е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    c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мма доказа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12000" y="3068640"/>
            <a:ext cx="289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956720" y="2852640"/>
            <a:ext cx="0" cy="216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9640" y="4734000"/>
            <a:ext cx="1800360" cy="177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4960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Опреде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ямая называется перпендикулярной к плоскости , если она  перпендикулярна  к любой прямой, лежащей в этой плоск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Теорема №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Если одна  из двух параллельных прямых перпендикулярна к плоскости, то и другая прямая  перпендикулярна к этой плоск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589720"/>
            <a:ext cx="2881440" cy="1079280"/>
          </a:xfrm>
          <a:prstGeom prst="parallelogram">
            <a:avLst>
              <a:gd name="adj" fmla="val 66744"/>
            </a:avLst>
          </a:prstGeom>
          <a:solidFill>
            <a:srgbClr val="00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96000" y="5157720"/>
            <a:ext cx="0" cy="935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88000" y="5157720"/>
            <a:ext cx="0" cy="935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148360" y="6308640"/>
            <a:ext cx="1079280" cy="1447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50360" y="496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19400" y="496080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02000" y="6113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98000" y="618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Теорема №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сли две прямые перпендикулярны к плоскости, то они параллель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56000" y="4076640"/>
            <a:ext cx="3313080" cy="1440000"/>
          </a:xfrm>
          <a:prstGeom prst="parallelogram">
            <a:avLst>
              <a:gd name="adj" fmla="val 57519"/>
            </a:avLst>
          </a:prstGeom>
          <a:solidFill>
            <a:srgbClr val="33cc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95640" y="3357720"/>
            <a:ext cx="0" cy="122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16360" y="3357720"/>
            <a:ext cx="0" cy="122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95640" y="4724280"/>
            <a:ext cx="0" cy="144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16360" y="4724280"/>
            <a:ext cx="0" cy="144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95640" y="5013360"/>
            <a:ext cx="0" cy="144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16360" y="5013360"/>
            <a:ext cx="0" cy="144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95640" y="5516640"/>
            <a:ext cx="0" cy="433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16360" y="5516640"/>
            <a:ext cx="0" cy="433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76920" y="5537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69280" y="5537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26000" y="503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7480" y="4508640"/>
            <a:ext cx="71640" cy="727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78200" y="4508640"/>
            <a:ext cx="71640" cy="727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95280" y="573408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496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Теорема №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Через любую точку пространства проходит прямая,  перпендикулярная к данной плоскости, и притом только од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Доказатель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анную плоскость  обозначим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а произвольную точку пространства –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через точку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проходит прямая, перпендикулярная к плоскости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 2) такая прямая только од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дем  в плоскости   а  произвольную  прямую а  и рассмотрим плоскость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 проходящую  через точку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М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перпендикулярную к прямой а. Обозначим буквой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рямую, по которой  пересекаются плоскости  а  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В плоскост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через  точку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М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роведем  прямую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 перпендикулярную к прямой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Прямая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и есть искомая прям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3640" y="4149720"/>
            <a:ext cx="2663640" cy="2448000"/>
          </a:xfrm>
          <a:prstGeom prst="rect">
            <a:avLst/>
          </a:prstGeom>
          <a:solidFill>
            <a:srgbClr val="ff6600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27280" y="4653000"/>
            <a:ext cx="3600360" cy="1440000"/>
          </a:xfrm>
          <a:prstGeom prst="parallelogram">
            <a:avLst>
              <a:gd name="adj" fmla="val 6250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3640" y="5157720"/>
            <a:ext cx="2663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571640" y="4653000"/>
            <a:ext cx="863640" cy="1440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211640" y="4221000"/>
            <a:ext cx="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11640" y="6093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11640" y="5300640"/>
            <a:ext cx="0" cy="144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11640" y="566100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73480" y="4437000"/>
            <a:ext cx="71640" cy="71640"/>
          </a:xfrm>
          <a:prstGeom prst="flowChartConnector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867280" y="4437000"/>
            <a:ext cx="0" cy="936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03640" y="4653000"/>
            <a:ext cx="3024000" cy="504720"/>
          </a:xfrm>
          <a:prstGeom prst="parallelogram">
            <a:avLst>
              <a:gd name="adj" fmla="val 64463"/>
            </a:avLst>
          </a:prstGeom>
          <a:solidFill>
            <a:srgbClr val="ff6600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076720" y="4652640"/>
            <a:ext cx="358920" cy="576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03640" y="5157720"/>
            <a:ext cx="2663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465300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867280" y="4652640"/>
            <a:ext cx="36036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11640" y="458136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194360" y="4600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10199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65640" y="4097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10199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57280" y="409716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10199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26000" y="5681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10199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69280" y="5537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45280" y="474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09:49:14Z</dcterms:created>
  <dc:creator>polzovatel</dc:creator>
  <dc:description/>
  <dc:language>en-US</dc:language>
  <cp:lastModifiedBy>Канина</cp:lastModifiedBy>
  <dcterms:modified xsi:type="dcterms:W3CDTF">2008-01-30T15:00:21Z</dcterms:modified>
  <cp:revision>4</cp:revision>
  <dc:subject/>
  <dc:title>Слайд 1</dc:title>
</cp:coreProperties>
</file>