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F7A-2F19-4315-BFF3-58C677D0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1FB-89FC-4A0D-9828-2D5A648D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248-B688-4AEA-855E-42A887FB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243-BF81-40D7-82AA-540A5D0C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A4A7-0B28-4F2C-A4F8-7E924EC2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515C-6AD5-4DFA-BAA9-6AE8B1B6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C724-6429-4E22-9467-D7C7C23C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CDC-484C-4BCC-B907-3F0EBB2E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0101-3B37-459E-9172-FEC8F278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4FB2-E2D8-4D26-9161-1BA142DC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80CD-601A-47AD-A368-E800C911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C3B-E158-4C35-A4BF-E2CBFD4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BAD3-70BF-472A-A083-33FD0B2B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5BAC-ABBB-420A-80B6-84971B2C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A0C5-F1D6-4422-83DE-B1A9AB5E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37B8-AFDA-44FE-BDF3-4B818135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C386-FDC3-4CB2-8730-F6F2EFF7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6E2-8CDA-400D-82AB-5E511D89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118-14AD-4038-9C46-EBECB49E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5A2-F8B8-4E43-A75B-FBEE8FF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A71A-1163-49A7-B9D3-EE72A23B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CE7-DA56-4FFA-815A-75473692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CF2-397A-41DD-BD7B-CBC5CAAF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7E1-FADC-45C5-9597-93BEEDD0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7610-4B32-41EA-9AC8-BD2B06434E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D631-01B3-499B-8512-666A53C1B5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836640"/>
            <a:ext cx="777708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ернобыльская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ария.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340000" y="4437000"/>
            <a:ext cx="4629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сятилетия спустя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32480" t="25837" r="5905" b="16240"/>
          <a:stretch/>
        </p:blipFill>
        <p:spPr>
          <a:xfrm>
            <a:off x="0" y="9360"/>
            <a:ext cx="9144000" cy="68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6120000" cy="498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48000" y="587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квидация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977080" cy="4470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48000" y="5950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азу после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519120"/>
            <a:ext cx="6985080" cy="5573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2728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рушенный 4ый реактор АЭ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3673440" cy="568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700360" y="6165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умент на ул. Чернобыльской (Кие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56000" y="620640"/>
            <a:ext cx="4530600" cy="460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95640" y="5805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коф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025640" y="2652840"/>
            <a:ext cx="9144000" cy="360"/>
          </a:xfrm>
          <a:prstGeom prst="rect">
            <a:avLst/>
          </a:prstGeom>
          <a:solidFill>
            <a:srgbClr val="d9be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052640"/>
          <a:ext cx="7993080" cy="4846680"/>
        </p:xfrm>
        <a:graphic>
          <a:graphicData uri="http://schemas.openxmlformats.org/drawingml/2006/table">
            <a:tbl>
              <a:tblPr/>
              <a:tblGrid>
                <a:gridCol w="1463400"/>
                <a:gridCol w="6529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сто ава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ернобыльская АЭС, 4 реактор (тип – РБМК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краина, 130 км севернее Кие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ремя ава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:23, 26 апреля 19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раткая информация о АЭ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й и 2-й реакторы строились с 1970 по 1977 год. Строительство 3-го и 4-го реакторов завершено в 1983 году. Еще два реактора на момент катастрофы были недостроены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АЭС официально прекратила работу по производству электроэнергии 15 декабря 2000 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еление территории вокруг АЭ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городе Припять (в трех километрах от реактора) проживало 49 тысяч жителей. Население Чернобыля (15 км от реактора) насчитывало 12.5 тысяч. Всего в зоне с радиусом 30 километров вокруг АЭС проживало примерно 125 тысяч ж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bab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335640" cy="5295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1640" y="6021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та распространения ава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26:18Z</dcterms:created>
  <dc:creator>User</dc:creator>
  <dc:description/>
  <dc:language>en-US</dc:language>
  <cp:lastModifiedBy>User</cp:lastModifiedBy>
  <dcterms:modified xsi:type="dcterms:W3CDTF">2008-01-22T12:56:21Z</dcterms:modified>
  <cp:revision>2</cp:revision>
  <dc:subject/>
  <dc:title>Слайд 1</dc:title>
</cp:coreProperties>
</file>