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FDD1-64D1-424C-960B-D1971DE9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E187-B8F4-4E4C-AC26-16F6853E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0446-4F53-4651-A520-28B21C24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B420-5E38-49E2-B777-86734FF0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3CA-E386-41F5-877F-8E3CA751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E5EB-1029-4CD3-825F-DEBF52C7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0D4E-F3DF-4964-8194-5F03301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16D3-B18D-4EEA-807F-5B67CEE8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CE2F-3861-443D-95AF-6F60B8E2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D557-49ED-471D-BB88-5A48BD1F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D461-BC6A-4439-953C-16BDF990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C204-747D-4CA1-8F1B-5C1523A8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0B38-B18D-44F5-ABD1-4C6FE47F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852B-77E2-447C-BB9B-A36BA10B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09E3-9E7D-4167-87FE-241724E0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1178-E45B-4A9F-9ED5-4F171167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809E-3ACA-4689-93C0-FBE484FE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DE31-A001-4088-BDD7-36402E82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0D03-C97F-46EF-A86A-9E85B6CA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23DE-660B-48F6-BF84-5FBD8938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95A2-E26A-4B0A-8B1A-FE897FBD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6F02-D1B3-4C3E-AFF6-B5306E53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3451-F5D0-433E-9E7D-5F61BA4E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1D97-998D-4304-9DE8-39062836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52A8-0480-4280-8C13-329EC1F50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218D-804A-47CF-AA88-E0DA34EEF8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92360" y="724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Garamond"/>
              </a:rPr>
              <a:t>Криптосистема RSA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1. n = p*q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n -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зывается модуле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Выбирается число e, если 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1&lt; e &lt; (p - 1)*(q - 1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и не имеет общих делителей кроме 1 с числ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(p - 1)*(q - 1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3.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тем вычисляется число d – 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(e*d - 1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делится на  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(p - 1)*(q – 1)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e –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открытый (public) показател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d –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частный (private) показател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(n; e) –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открытый (public) ключ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(n; d). –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частный (private) ключ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8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385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38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385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75"/>
                            </p:stCondLst>
                            <p:childTnLst>
                              <p:par>
                                <p:cTn id="3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300"/>
                            </p:stCondLst>
                            <p:childTnLst>
                              <p:par>
                                <p:cTn id="4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800"/>
                            </p:stCondLst>
                            <p:childTnLst>
                              <p:par>
                                <p:cTn id="4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Garamond"/>
              </a:rPr>
              <a:t>Способы взлома криптосистемы RSA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9640" y="1700280"/>
            <a:ext cx="1944720" cy="576360"/>
            <a:chOff x="539640" y="1700280"/>
            <a:chExt cx="1944720" cy="576360"/>
          </a:xfrm>
        </p:grpSpPr>
        <p:sp>
          <p:nvSpPr>
            <p:cNvPr id="153" name=""/>
            <p:cNvSpPr/>
            <p:nvPr/>
          </p:nvSpPr>
          <p:spPr>
            <a:xfrm>
              <a:off x="539640" y="1700280"/>
              <a:ext cx="1944720" cy="576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331" y="0"/>
                  </a:moveTo>
                  <a:lnTo>
                    <a:pt x="3331" y="0"/>
                  </a:lnTo>
                  <a:lnTo>
                    <a:pt x="3306" y="0"/>
                  </a:lnTo>
                  <a:lnTo>
                    <a:pt x="3293" y="0"/>
                  </a:lnTo>
                  <a:lnTo>
                    <a:pt x="3268" y="0"/>
                  </a:lnTo>
                  <a:lnTo>
                    <a:pt x="3256" y="0"/>
                  </a:lnTo>
                  <a:lnTo>
                    <a:pt x="3230" y="0"/>
                  </a:lnTo>
                  <a:lnTo>
                    <a:pt x="3218" y="0"/>
                  </a:lnTo>
                  <a:lnTo>
                    <a:pt x="3192" y="0"/>
                  </a:lnTo>
                  <a:lnTo>
                    <a:pt x="3180" y="0"/>
                  </a:lnTo>
                  <a:lnTo>
                    <a:pt x="3167" y="0"/>
                  </a:lnTo>
                  <a:lnTo>
                    <a:pt x="3142" y="0"/>
                  </a:lnTo>
                  <a:lnTo>
                    <a:pt x="3129" y="0"/>
                  </a:lnTo>
                  <a:lnTo>
                    <a:pt x="3104" y="0"/>
                  </a:lnTo>
                  <a:lnTo>
                    <a:pt x="3091" y="0"/>
                  </a:lnTo>
                  <a:lnTo>
                    <a:pt x="3066" y="0"/>
                  </a:lnTo>
                  <a:lnTo>
                    <a:pt x="3054" y="0"/>
                  </a:lnTo>
                  <a:lnTo>
                    <a:pt x="3028" y="0"/>
                  </a:lnTo>
                  <a:lnTo>
                    <a:pt x="3016" y="0"/>
                  </a:lnTo>
                  <a:lnTo>
                    <a:pt x="2991" y="0"/>
                  </a:lnTo>
                  <a:lnTo>
                    <a:pt x="2965" y="0"/>
                  </a:lnTo>
                  <a:lnTo>
                    <a:pt x="2953" y="0"/>
                  </a:lnTo>
                  <a:lnTo>
                    <a:pt x="2927" y="0"/>
                  </a:lnTo>
                  <a:lnTo>
                    <a:pt x="2915" y="0"/>
                  </a:lnTo>
                  <a:lnTo>
                    <a:pt x="2890" y="0"/>
                  </a:lnTo>
                  <a:lnTo>
                    <a:pt x="2864" y="0"/>
                  </a:lnTo>
                  <a:lnTo>
                    <a:pt x="2852" y="0"/>
                  </a:lnTo>
                  <a:lnTo>
                    <a:pt x="2826" y="0"/>
                  </a:lnTo>
                  <a:lnTo>
                    <a:pt x="2801" y="40"/>
                  </a:lnTo>
                  <a:lnTo>
                    <a:pt x="2776" y="40"/>
                  </a:lnTo>
                  <a:lnTo>
                    <a:pt x="2763" y="40"/>
                  </a:lnTo>
                  <a:lnTo>
                    <a:pt x="2738" y="40"/>
                  </a:lnTo>
                  <a:lnTo>
                    <a:pt x="2713" y="40"/>
                  </a:lnTo>
                  <a:lnTo>
                    <a:pt x="2688" y="40"/>
                  </a:lnTo>
                  <a:lnTo>
                    <a:pt x="2662" y="40"/>
                  </a:lnTo>
                  <a:lnTo>
                    <a:pt x="2637" y="40"/>
                  </a:lnTo>
                  <a:lnTo>
                    <a:pt x="2612" y="40"/>
                  </a:lnTo>
                  <a:lnTo>
                    <a:pt x="2587" y="81"/>
                  </a:lnTo>
                  <a:lnTo>
                    <a:pt x="2562" y="81"/>
                  </a:lnTo>
                  <a:lnTo>
                    <a:pt x="2536" y="81"/>
                  </a:lnTo>
                  <a:lnTo>
                    <a:pt x="2511" y="81"/>
                  </a:lnTo>
                  <a:lnTo>
                    <a:pt x="2486" y="81"/>
                  </a:lnTo>
                  <a:lnTo>
                    <a:pt x="2461" y="81"/>
                  </a:lnTo>
                  <a:lnTo>
                    <a:pt x="2423" y="121"/>
                  </a:lnTo>
                  <a:lnTo>
                    <a:pt x="2397" y="121"/>
                  </a:lnTo>
                  <a:lnTo>
                    <a:pt x="2372" y="121"/>
                  </a:lnTo>
                  <a:lnTo>
                    <a:pt x="2334" y="121"/>
                  </a:lnTo>
                  <a:lnTo>
                    <a:pt x="2309" y="121"/>
                  </a:lnTo>
                  <a:lnTo>
                    <a:pt x="2271" y="162"/>
                  </a:lnTo>
                  <a:lnTo>
                    <a:pt x="2233" y="162"/>
                  </a:lnTo>
                  <a:lnTo>
                    <a:pt x="2208" y="162"/>
                  </a:lnTo>
                  <a:lnTo>
                    <a:pt x="2170" y="202"/>
                  </a:lnTo>
                  <a:lnTo>
                    <a:pt x="2132" y="202"/>
                  </a:lnTo>
                  <a:lnTo>
                    <a:pt x="2095" y="202"/>
                  </a:lnTo>
                  <a:lnTo>
                    <a:pt x="2057" y="242"/>
                  </a:lnTo>
                  <a:lnTo>
                    <a:pt x="2019" y="242"/>
                  </a:lnTo>
                  <a:lnTo>
                    <a:pt x="1968" y="283"/>
                  </a:lnTo>
                  <a:lnTo>
                    <a:pt x="1931" y="283"/>
                  </a:lnTo>
                  <a:lnTo>
                    <a:pt x="1893" y="323"/>
                  </a:lnTo>
                  <a:lnTo>
                    <a:pt x="1842" y="323"/>
                  </a:lnTo>
                  <a:lnTo>
                    <a:pt x="1792" y="364"/>
                  </a:lnTo>
                  <a:lnTo>
                    <a:pt x="1741" y="364"/>
                  </a:lnTo>
                  <a:lnTo>
                    <a:pt x="1691" y="404"/>
                  </a:lnTo>
                  <a:lnTo>
                    <a:pt x="1640" y="444"/>
                  </a:lnTo>
                  <a:lnTo>
                    <a:pt x="1590" y="444"/>
                  </a:lnTo>
                  <a:lnTo>
                    <a:pt x="1539" y="485"/>
                  </a:lnTo>
                  <a:lnTo>
                    <a:pt x="1476" y="525"/>
                  </a:lnTo>
                  <a:lnTo>
                    <a:pt x="1413" y="566"/>
                  </a:lnTo>
                  <a:lnTo>
                    <a:pt x="1363" y="606"/>
                  </a:lnTo>
                  <a:lnTo>
                    <a:pt x="1300" y="646"/>
                  </a:lnTo>
                  <a:lnTo>
                    <a:pt x="1224" y="727"/>
                  </a:lnTo>
                  <a:lnTo>
                    <a:pt x="1161" y="768"/>
                  </a:lnTo>
                  <a:lnTo>
                    <a:pt x="1098" y="848"/>
                  </a:lnTo>
                  <a:lnTo>
                    <a:pt x="1022" y="889"/>
                  </a:lnTo>
                  <a:lnTo>
                    <a:pt x="946" y="970"/>
                  </a:lnTo>
                  <a:lnTo>
                    <a:pt x="883" y="1051"/>
                  </a:lnTo>
                  <a:lnTo>
                    <a:pt x="808" y="1131"/>
                  </a:lnTo>
                  <a:lnTo>
                    <a:pt x="732" y="1212"/>
                  </a:lnTo>
                  <a:lnTo>
                    <a:pt x="656" y="1333"/>
                  </a:lnTo>
                  <a:lnTo>
                    <a:pt x="580" y="1414"/>
                  </a:lnTo>
                  <a:lnTo>
                    <a:pt x="505" y="1535"/>
                  </a:lnTo>
                  <a:lnTo>
                    <a:pt x="429" y="1657"/>
                  </a:lnTo>
                  <a:lnTo>
                    <a:pt x="353" y="1778"/>
                  </a:lnTo>
                  <a:lnTo>
                    <a:pt x="290" y="1939"/>
                  </a:lnTo>
                  <a:lnTo>
                    <a:pt x="227" y="2061"/>
                  </a:lnTo>
                  <a:lnTo>
                    <a:pt x="164" y="2222"/>
                  </a:lnTo>
                  <a:lnTo>
                    <a:pt x="114" y="2384"/>
                  </a:lnTo>
                  <a:lnTo>
                    <a:pt x="76" y="2545"/>
                  </a:lnTo>
                  <a:lnTo>
                    <a:pt x="38" y="2747"/>
                  </a:lnTo>
                  <a:lnTo>
                    <a:pt x="13" y="2909"/>
                  </a:lnTo>
                  <a:lnTo>
                    <a:pt x="0" y="3111"/>
                  </a:lnTo>
                  <a:lnTo>
                    <a:pt x="0" y="3273"/>
                  </a:lnTo>
                  <a:lnTo>
                    <a:pt x="0" y="16646"/>
                  </a:lnTo>
                  <a:lnTo>
                    <a:pt x="0" y="16646"/>
                  </a:lnTo>
                  <a:lnTo>
                    <a:pt x="0" y="16808"/>
                  </a:lnTo>
                  <a:lnTo>
                    <a:pt x="13" y="17010"/>
                  </a:lnTo>
                  <a:lnTo>
                    <a:pt x="38" y="17172"/>
                  </a:lnTo>
                  <a:lnTo>
                    <a:pt x="76" y="17374"/>
                  </a:lnTo>
                  <a:lnTo>
                    <a:pt x="114" y="17535"/>
                  </a:lnTo>
                  <a:lnTo>
                    <a:pt x="164" y="17697"/>
                  </a:lnTo>
                  <a:lnTo>
                    <a:pt x="227" y="17859"/>
                  </a:lnTo>
                  <a:lnTo>
                    <a:pt x="278" y="17980"/>
                  </a:lnTo>
                  <a:lnTo>
                    <a:pt x="353" y="18141"/>
                  </a:lnTo>
                  <a:lnTo>
                    <a:pt x="416" y="18263"/>
                  </a:lnTo>
                  <a:lnTo>
                    <a:pt x="492" y="18384"/>
                  </a:lnTo>
                  <a:lnTo>
                    <a:pt x="568" y="18505"/>
                  </a:lnTo>
                  <a:lnTo>
                    <a:pt x="644" y="18626"/>
                  </a:lnTo>
                  <a:lnTo>
                    <a:pt x="719" y="18707"/>
                  </a:lnTo>
                  <a:lnTo>
                    <a:pt x="795" y="18788"/>
                  </a:lnTo>
                  <a:lnTo>
                    <a:pt x="858" y="18869"/>
                  </a:lnTo>
                  <a:lnTo>
                    <a:pt x="934" y="18949"/>
                  </a:lnTo>
                  <a:lnTo>
                    <a:pt x="1009" y="19030"/>
                  </a:lnTo>
                  <a:lnTo>
                    <a:pt x="1073" y="19111"/>
                  </a:lnTo>
                  <a:lnTo>
                    <a:pt x="1148" y="19152"/>
                  </a:lnTo>
                  <a:lnTo>
                    <a:pt x="1211" y="19232"/>
                  </a:lnTo>
                  <a:lnTo>
                    <a:pt x="1274" y="19273"/>
                  </a:lnTo>
                  <a:lnTo>
                    <a:pt x="1338" y="19313"/>
                  </a:lnTo>
                  <a:lnTo>
                    <a:pt x="1401" y="19354"/>
                  </a:lnTo>
                  <a:lnTo>
                    <a:pt x="1464" y="19394"/>
                  </a:lnTo>
                  <a:lnTo>
                    <a:pt x="1514" y="19434"/>
                  </a:lnTo>
                  <a:lnTo>
                    <a:pt x="1577" y="19475"/>
                  </a:lnTo>
                  <a:lnTo>
                    <a:pt x="1628" y="19515"/>
                  </a:lnTo>
                  <a:lnTo>
                    <a:pt x="1678" y="19556"/>
                  </a:lnTo>
                  <a:lnTo>
                    <a:pt x="1729" y="19556"/>
                  </a:lnTo>
                  <a:lnTo>
                    <a:pt x="1779" y="19596"/>
                  </a:lnTo>
                  <a:lnTo>
                    <a:pt x="1830" y="19636"/>
                  </a:lnTo>
                  <a:lnTo>
                    <a:pt x="1868" y="19636"/>
                  </a:lnTo>
                  <a:lnTo>
                    <a:pt x="1918" y="19677"/>
                  </a:lnTo>
                  <a:lnTo>
                    <a:pt x="1956" y="19677"/>
                  </a:lnTo>
                  <a:lnTo>
                    <a:pt x="2006" y="19717"/>
                  </a:lnTo>
                  <a:lnTo>
                    <a:pt x="2044" y="19717"/>
                  </a:lnTo>
                  <a:lnTo>
                    <a:pt x="2082" y="19717"/>
                  </a:lnTo>
                  <a:lnTo>
                    <a:pt x="2120" y="19758"/>
                  </a:lnTo>
                  <a:lnTo>
                    <a:pt x="2158" y="19758"/>
                  </a:lnTo>
                  <a:lnTo>
                    <a:pt x="2196" y="19798"/>
                  </a:lnTo>
                  <a:lnTo>
                    <a:pt x="2221" y="19798"/>
                  </a:lnTo>
                  <a:lnTo>
                    <a:pt x="2259" y="19798"/>
                  </a:lnTo>
                  <a:lnTo>
                    <a:pt x="2297" y="19798"/>
                  </a:lnTo>
                  <a:lnTo>
                    <a:pt x="2322" y="19838"/>
                  </a:lnTo>
                  <a:lnTo>
                    <a:pt x="2360" y="19838"/>
                  </a:lnTo>
                  <a:lnTo>
                    <a:pt x="2385" y="19838"/>
                  </a:lnTo>
                  <a:lnTo>
                    <a:pt x="2423" y="19838"/>
                  </a:lnTo>
                  <a:lnTo>
                    <a:pt x="2448" y="19879"/>
                  </a:lnTo>
                  <a:lnTo>
                    <a:pt x="2473" y="19879"/>
                  </a:lnTo>
                  <a:lnTo>
                    <a:pt x="2498" y="19879"/>
                  </a:lnTo>
                  <a:lnTo>
                    <a:pt x="2536" y="19879"/>
                  </a:lnTo>
                  <a:lnTo>
                    <a:pt x="2562" y="19879"/>
                  </a:lnTo>
                  <a:lnTo>
                    <a:pt x="2587" y="19879"/>
                  </a:lnTo>
                  <a:lnTo>
                    <a:pt x="2612" y="19919"/>
                  </a:lnTo>
                  <a:lnTo>
                    <a:pt x="2637" y="19919"/>
                  </a:lnTo>
                  <a:lnTo>
                    <a:pt x="2662" y="19919"/>
                  </a:lnTo>
                  <a:lnTo>
                    <a:pt x="2688" y="19919"/>
                  </a:lnTo>
                  <a:lnTo>
                    <a:pt x="2700" y="19919"/>
                  </a:lnTo>
                  <a:lnTo>
                    <a:pt x="2726" y="19919"/>
                  </a:lnTo>
                  <a:lnTo>
                    <a:pt x="2751" y="19919"/>
                  </a:lnTo>
                  <a:lnTo>
                    <a:pt x="2776" y="19919"/>
                  </a:lnTo>
                  <a:lnTo>
                    <a:pt x="2801" y="19919"/>
                  </a:lnTo>
                  <a:lnTo>
                    <a:pt x="2814" y="19960"/>
                  </a:lnTo>
                  <a:lnTo>
                    <a:pt x="2839" y="19960"/>
                  </a:lnTo>
                  <a:lnTo>
                    <a:pt x="2864" y="19960"/>
                  </a:lnTo>
                  <a:lnTo>
                    <a:pt x="2890" y="19960"/>
                  </a:lnTo>
                  <a:lnTo>
                    <a:pt x="2902" y="19960"/>
                  </a:lnTo>
                  <a:lnTo>
                    <a:pt x="2927" y="19960"/>
                  </a:lnTo>
                  <a:lnTo>
                    <a:pt x="2940" y="19960"/>
                  </a:lnTo>
                  <a:lnTo>
                    <a:pt x="2965" y="19960"/>
                  </a:lnTo>
                  <a:lnTo>
                    <a:pt x="2991" y="19960"/>
                  </a:lnTo>
                  <a:lnTo>
                    <a:pt x="3003" y="19960"/>
                  </a:lnTo>
                  <a:lnTo>
                    <a:pt x="3028" y="19960"/>
                  </a:lnTo>
                  <a:lnTo>
                    <a:pt x="3041" y="19960"/>
                  </a:lnTo>
                  <a:lnTo>
                    <a:pt x="3066" y="19960"/>
                  </a:lnTo>
                  <a:lnTo>
                    <a:pt x="3079" y="19960"/>
                  </a:lnTo>
                  <a:lnTo>
                    <a:pt x="3104" y="19960"/>
                  </a:lnTo>
                  <a:lnTo>
                    <a:pt x="3117" y="19960"/>
                  </a:lnTo>
                  <a:lnTo>
                    <a:pt x="3142" y="19960"/>
                  </a:lnTo>
                  <a:lnTo>
                    <a:pt x="3155" y="19960"/>
                  </a:lnTo>
                  <a:lnTo>
                    <a:pt x="3180" y="19960"/>
                  </a:lnTo>
                  <a:lnTo>
                    <a:pt x="3192" y="19960"/>
                  </a:lnTo>
                  <a:lnTo>
                    <a:pt x="3218" y="19960"/>
                  </a:lnTo>
                  <a:lnTo>
                    <a:pt x="3230" y="19960"/>
                  </a:lnTo>
                  <a:lnTo>
                    <a:pt x="3256" y="19960"/>
                  </a:lnTo>
                  <a:lnTo>
                    <a:pt x="3268" y="19960"/>
                  </a:lnTo>
                  <a:lnTo>
                    <a:pt x="3293" y="19960"/>
                  </a:lnTo>
                  <a:lnTo>
                    <a:pt x="3306" y="19960"/>
                  </a:lnTo>
                  <a:lnTo>
                    <a:pt x="3331" y="20000"/>
                  </a:lnTo>
                  <a:lnTo>
                    <a:pt x="3331" y="20000"/>
                  </a:lnTo>
                  <a:lnTo>
                    <a:pt x="16656" y="20000"/>
                  </a:lnTo>
                  <a:lnTo>
                    <a:pt x="16656" y="20000"/>
                  </a:lnTo>
                  <a:lnTo>
                    <a:pt x="16669" y="19960"/>
                  </a:lnTo>
                  <a:lnTo>
                    <a:pt x="16681" y="19960"/>
                  </a:lnTo>
                  <a:lnTo>
                    <a:pt x="16707" y="19960"/>
                  </a:lnTo>
                  <a:lnTo>
                    <a:pt x="16719" y="19960"/>
                  </a:lnTo>
                  <a:lnTo>
                    <a:pt x="16744" y="19960"/>
                  </a:lnTo>
                  <a:lnTo>
                    <a:pt x="16757" y="19960"/>
                  </a:lnTo>
                  <a:lnTo>
                    <a:pt x="16782" y="19960"/>
                  </a:lnTo>
                  <a:lnTo>
                    <a:pt x="16795" y="19960"/>
                  </a:lnTo>
                  <a:lnTo>
                    <a:pt x="16820" y="19960"/>
                  </a:lnTo>
                  <a:lnTo>
                    <a:pt x="16833" y="19960"/>
                  </a:lnTo>
                  <a:lnTo>
                    <a:pt x="16858" y="19960"/>
                  </a:lnTo>
                  <a:lnTo>
                    <a:pt x="16871" y="19960"/>
                  </a:lnTo>
                  <a:lnTo>
                    <a:pt x="16896" y="19960"/>
                  </a:lnTo>
                  <a:lnTo>
                    <a:pt x="16909" y="19960"/>
                  </a:lnTo>
                  <a:lnTo>
                    <a:pt x="16934" y="19960"/>
                  </a:lnTo>
                  <a:lnTo>
                    <a:pt x="16946" y="19960"/>
                  </a:lnTo>
                  <a:lnTo>
                    <a:pt x="16972" y="19960"/>
                  </a:lnTo>
                  <a:lnTo>
                    <a:pt x="16984" y="19960"/>
                  </a:lnTo>
                  <a:lnTo>
                    <a:pt x="17009" y="19960"/>
                  </a:lnTo>
                  <a:lnTo>
                    <a:pt x="17035" y="19960"/>
                  </a:lnTo>
                  <a:lnTo>
                    <a:pt x="17047" y="19960"/>
                  </a:lnTo>
                  <a:lnTo>
                    <a:pt x="17073" y="19960"/>
                  </a:lnTo>
                  <a:lnTo>
                    <a:pt x="17085" y="19960"/>
                  </a:lnTo>
                  <a:lnTo>
                    <a:pt x="17110" y="19960"/>
                  </a:lnTo>
                  <a:lnTo>
                    <a:pt x="17136" y="19960"/>
                  </a:lnTo>
                  <a:lnTo>
                    <a:pt x="17161" y="19960"/>
                  </a:lnTo>
                  <a:lnTo>
                    <a:pt x="17174" y="19919"/>
                  </a:lnTo>
                  <a:lnTo>
                    <a:pt x="17199" y="19919"/>
                  </a:lnTo>
                  <a:lnTo>
                    <a:pt x="17224" y="19919"/>
                  </a:lnTo>
                  <a:lnTo>
                    <a:pt x="17249" y="19919"/>
                  </a:lnTo>
                  <a:lnTo>
                    <a:pt x="17274" y="19919"/>
                  </a:lnTo>
                  <a:lnTo>
                    <a:pt x="17287" y="19919"/>
                  </a:lnTo>
                  <a:lnTo>
                    <a:pt x="17312" y="19919"/>
                  </a:lnTo>
                  <a:lnTo>
                    <a:pt x="17338" y="19919"/>
                  </a:lnTo>
                  <a:lnTo>
                    <a:pt x="17363" y="19919"/>
                  </a:lnTo>
                  <a:lnTo>
                    <a:pt x="17388" y="19879"/>
                  </a:lnTo>
                  <a:lnTo>
                    <a:pt x="17413" y="19879"/>
                  </a:lnTo>
                  <a:lnTo>
                    <a:pt x="17438" y="19879"/>
                  </a:lnTo>
                  <a:lnTo>
                    <a:pt x="17476" y="19879"/>
                  </a:lnTo>
                  <a:lnTo>
                    <a:pt x="17502" y="19879"/>
                  </a:lnTo>
                  <a:lnTo>
                    <a:pt x="17527" y="19879"/>
                  </a:lnTo>
                  <a:lnTo>
                    <a:pt x="17552" y="19838"/>
                  </a:lnTo>
                  <a:lnTo>
                    <a:pt x="17590" y="19838"/>
                  </a:lnTo>
                  <a:lnTo>
                    <a:pt x="17615" y="19838"/>
                  </a:lnTo>
                  <a:lnTo>
                    <a:pt x="17653" y="19838"/>
                  </a:lnTo>
                  <a:lnTo>
                    <a:pt x="17678" y="19798"/>
                  </a:lnTo>
                  <a:lnTo>
                    <a:pt x="17716" y="19798"/>
                  </a:lnTo>
                  <a:lnTo>
                    <a:pt x="17754" y="19798"/>
                  </a:lnTo>
                  <a:lnTo>
                    <a:pt x="17779" y="19798"/>
                  </a:lnTo>
                  <a:lnTo>
                    <a:pt x="17817" y="19758"/>
                  </a:lnTo>
                  <a:lnTo>
                    <a:pt x="17855" y="19758"/>
                  </a:lnTo>
                  <a:lnTo>
                    <a:pt x="17893" y="19758"/>
                  </a:lnTo>
                  <a:lnTo>
                    <a:pt x="17931" y="19717"/>
                  </a:lnTo>
                  <a:lnTo>
                    <a:pt x="17968" y="19717"/>
                  </a:lnTo>
                  <a:lnTo>
                    <a:pt x="18019" y="19677"/>
                  </a:lnTo>
                  <a:lnTo>
                    <a:pt x="18057" y="19677"/>
                  </a:lnTo>
                  <a:lnTo>
                    <a:pt x="18107" y="19636"/>
                  </a:lnTo>
                  <a:lnTo>
                    <a:pt x="18145" y="19636"/>
                  </a:lnTo>
                  <a:lnTo>
                    <a:pt x="18196" y="19596"/>
                  </a:lnTo>
                  <a:lnTo>
                    <a:pt x="18246" y="19556"/>
                  </a:lnTo>
                  <a:lnTo>
                    <a:pt x="18297" y="19556"/>
                  </a:lnTo>
                  <a:lnTo>
                    <a:pt x="18347" y="19515"/>
                  </a:lnTo>
                  <a:lnTo>
                    <a:pt x="18397" y="19475"/>
                  </a:lnTo>
                  <a:lnTo>
                    <a:pt x="18461" y="19434"/>
                  </a:lnTo>
                  <a:lnTo>
                    <a:pt x="18511" y="19394"/>
                  </a:lnTo>
                  <a:lnTo>
                    <a:pt x="18574" y="19354"/>
                  </a:lnTo>
                  <a:lnTo>
                    <a:pt x="18637" y="19313"/>
                  </a:lnTo>
                  <a:lnTo>
                    <a:pt x="18700" y="19273"/>
                  </a:lnTo>
                  <a:lnTo>
                    <a:pt x="18763" y="19232"/>
                  </a:lnTo>
                  <a:lnTo>
                    <a:pt x="18826" y="19152"/>
                  </a:lnTo>
                  <a:lnTo>
                    <a:pt x="18902" y="19111"/>
                  </a:lnTo>
                  <a:lnTo>
                    <a:pt x="18965" y="19030"/>
                  </a:lnTo>
                  <a:lnTo>
                    <a:pt x="19041" y="18949"/>
                  </a:lnTo>
                  <a:lnTo>
                    <a:pt x="19117" y="18909"/>
                  </a:lnTo>
                  <a:lnTo>
                    <a:pt x="19192" y="18788"/>
                  </a:lnTo>
                  <a:lnTo>
                    <a:pt x="19268" y="18707"/>
                  </a:lnTo>
                  <a:lnTo>
                    <a:pt x="19344" y="18626"/>
                  </a:lnTo>
                  <a:lnTo>
                    <a:pt x="19420" y="18505"/>
                  </a:lnTo>
                  <a:lnTo>
                    <a:pt x="19495" y="18384"/>
                  </a:lnTo>
                  <a:lnTo>
                    <a:pt x="19558" y="18263"/>
                  </a:lnTo>
                  <a:lnTo>
                    <a:pt x="19634" y="18141"/>
                  </a:lnTo>
                  <a:lnTo>
                    <a:pt x="19697" y="17980"/>
                  </a:lnTo>
                  <a:lnTo>
                    <a:pt x="19760" y="17859"/>
                  </a:lnTo>
                  <a:lnTo>
                    <a:pt x="19823" y="17697"/>
                  </a:lnTo>
                  <a:lnTo>
                    <a:pt x="19874" y="17535"/>
                  </a:lnTo>
                  <a:lnTo>
                    <a:pt x="19912" y="17374"/>
                  </a:lnTo>
                  <a:lnTo>
                    <a:pt x="19950" y="17172"/>
                  </a:lnTo>
                  <a:lnTo>
                    <a:pt x="19975" y="17010"/>
                  </a:lnTo>
                  <a:lnTo>
                    <a:pt x="19987" y="16808"/>
                  </a:lnTo>
                  <a:lnTo>
                    <a:pt x="19987" y="16646"/>
                  </a:lnTo>
                  <a:lnTo>
                    <a:pt x="20000" y="3313"/>
                  </a:lnTo>
                  <a:lnTo>
                    <a:pt x="20000" y="3313"/>
                  </a:lnTo>
                  <a:lnTo>
                    <a:pt x="19987" y="3111"/>
                  </a:lnTo>
                  <a:lnTo>
                    <a:pt x="19975" y="2909"/>
                  </a:lnTo>
                  <a:lnTo>
                    <a:pt x="19950" y="2747"/>
                  </a:lnTo>
                  <a:lnTo>
                    <a:pt x="19912" y="2545"/>
                  </a:lnTo>
                  <a:lnTo>
                    <a:pt x="19874" y="2384"/>
                  </a:lnTo>
                  <a:lnTo>
                    <a:pt x="19811" y="2222"/>
                  </a:lnTo>
                  <a:lnTo>
                    <a:pt x="19760" y="2061"/>
                  </a:lnTo>
                  <a:lnTo>
                    <a:pt x="19697" y="1939"/>
                  </a:lnTo>
                  <a:lnTo>
                    <a:pt x="19621" y="1778"/>
                  </a:lnTo>
                  <a:lnTo>
                    <a:pt x="19558" y="1657"/>
                  </a:lnTo>
                  <a:lnTo>
                    <a:pt x="19483" y="1535"/>
                  </a:lnTo>
                  <a:lnTo>
                    <a:pt x="19407" y="1414"/>
                  </a:lnTo>
                  <a:lnTo>
                    <a:pt x="19331" y="1293"/>
                  </a:lnTo>
                  <a:lnTo>
                    <a:pt x="19256" y="1212"/>
                  </a:lnTo>
                  <a:lnTo>
                    <a:pt x="19180" y="1131"/>
                  </a:lnTo>
                  <a:lnTo>
                    <a:pt x="19104" y="1051"/>
                  </a:lnTo>
                  <a:lnTo>
                    <a:pt x="19028" y="970"/>
                  </a:lnTo>
                  <a:lnTo>
                    <a:pt x="18953" y="889"/>
                  </a:lnTo>
                  <a:lnTo>
                    <a:pt x="18890" y="848"/>
                  </a:lnTo>
                  <a:lnTo>
                    <a:pt x="18814" y="768"/>
                  </a:lnTo>
                  <a:lnTo>
                    <a:pt x="18751" y="727"/>
                  </a:lnTo>
                  <a:lnTo>
                    <a:pt x="18688" y="646"/>
                  </a:lnTo>
                  <a:lnTo>
                    <a:pt x="18625" y="606"/>
                  </a:lnTo>
                  <a:lnTo>
                    <a:pt x="18562" y="566"/>
                  </a:lnTo>
                  <a:lnTo>
                    <a:pt x="18498" y="525"/>
                  </a:lnTo>
                  <a:lnTo>
                    <a:pt x="18435" y="485"/>
                  </a:lnTo>
                  <a:lnTo>
                    <a:pt x="18385" y="444"/>
                  </a:lnTo>
                  <a:lnTo>
                    <a:pt x="18334" y="444"/>
                  </a:lnTo>
                  <a:lnTo>
                    <a:pt x="18284" y="404"/>
                  </a:lnTo>
                  <a:lnTo>
                    <a:pt x="18233" y="364"/>
                  </a:lnTo>
                  <a:lnTo>
                    <a:pt x="18183" y="364"/>
                  </a:lnTo>
                  <a:lnTo>
                    <a:pt x="18132" y="323"/>
                  </a:lnTo>
                  <a:lnTo>
                    <a:pt x="18082" y="283"/>
                  </a:lnTo>
                  <a:lnTo>
                    <a:pt x="18044" y="283"/>
                  </a:lnTo>
                  <a:lnTo>
                    <a:pt x="18006" y="242"/>
                  </a:lnTo>
                  <a:lnTo>
                    <a:pt x="17956" y="242"/>
                  </a:lnTo>
                  <a:lnTo>
                    <a:pt x="17918" y="242"/>
                  </a:lnTo>
                  <a:lnTo>
                    <a:pt x="17880" y="202"/>
                  </a:lnTo>
                  <a:lnTo>
                    <a:pt x="17842" y="202"/>
                  </a:lnTo>
                  <a:lnTo>
                    <a:pt x="17804" y="202"/>
                  </a:lnTo>
                  <a:lnTo>
                    <a:pt x="17767" y="162"/>
                  </a:lnTo>
                  <a:lnTo>
                    <a:pt x="17741" y="162"/>
                  </a:lnTo>
                  <a:lnTo>
                    <a:pt x="17703" y="162"/>
                  </a:lnTo>
                  <a:lnTo>
                    <a:pt x="17666" y="121"/>
                  </a:lnTo>
                  <a:lnTo>
                    <a:pt x="17640" y="121"/>
                  </a:lnTo>
                  <a:lnTo>
                    <a:pt x="17603" y="121"/>
                  </a:lnTo>
                  <a:lnTo>
                    <a:pt x="17577" y="121"/>
                  </a:lnTo>
                  <a:lnTo>
                    <a:pt x="17552" y="121"/>
                  </a:lnTo>
                  <a:lnTo>
                    <a:pt x="17514" y="81"/>
                  </a:lnTo>
                  <a:lnTo>
                    <a:pt x="17489" y="81"/>
                  </a:lnTo>
                  <a:lnTo>
                    <a:pt x="17464" y="81"/>
                  </a:lnTo>
                  <a:lnTo>
                    <a:pt x="17438" y="81"/>
                  </a:lnTo>
                  <a:lnTo>
                    <a:pt x="17413" y="81"/>
                  </a:lnTo>
                  <a:lnTo>
                    <a:pt x="17388" y="40"/>
                  </a:lnTo>
                  <a:lnTo>
                    <a:pt x="17363" y="40"/>
                  </a:lnTo>
                  <a:lnTo>
                    <a:pt x="17338" y="40"/>
                  </a:lnTo>
                  <a:lnTo>
                    <a:pt x="17312" y="40"/>
                  </a:lnTo>
                  <a:lnTo>
                    <a:pt x="17287" y="40"/>
                  </a:lnTo>
                  <a:lnTo>
                    <a:pt x="17262" y="40"/>
                  </a:lnTo>
                  <a:lnTo>
                    <a:pt x="17237" y="40"/>
                  </a:lnTo>
                  <a:lnTo>
                    <a:pt x="17211" y="40"/>
                  </a:lnTo>
                  <a:lnTo>
                    <a:pt x="17199" y="40"/>
                  </a:lnTo>
                  <a:lnTo>
                    <a:pt x="17174" y="40"/>
                  </a:lnTo>
                  <a:lnTo>
                    <a:pt x="17148" y="0"/>
                  </a:lnTo>
                  <a:lnTo>
                    <a:pt x="17123" y="0"/>
                  </a:lnTo>
                  <a:lnTo>
                    <a:pt x="17110" y="0"/>
                  </a:lnTo>
                  <a:lnTo>
                    <a:pt x="17085" y="0"/>
                  </a:lnTo>
                  <a:lnTo>
                    <a:pt x="17060" y="0"/>
                  </a:lnTo>
                  <a:lnTo>
                    <a:pt x="17047" y="0"/>
                  </a:lnTo>
                  <a:lnTo>
                    <a:pt x="17022" y="0"/>
                  </a:lnTo>
                  <a:lnTo>
                    <a:pt x="17009" y="0"/>
                  </a:lnTo>
                  <a:lnTo>
                    <a:pt x="16984" y="0"/>
                  </a:lnTo>
                  <a:lnTo>
                    <a:pt x="16959" y="0"/>
                  </a:lnTo>
                  <a:lnTo>
                    <a:pt x="16946" y="0"/>
                  </a:lnTo>
                  <a:lnTo>
                    <a:pt x="16921" y="0"/>
                  </a:lnTo>
                  <a:lnTo>
                    <a:pt x="16909" y="0"/>
                  </a:lnTo>
                  <a:lnTo>
                    <a:pt x="16883" y="0"/>
                  </a:lnTo>
                  <a:lnTo>
                    <a:pt x="16871" y="0"/>
                  </a:lnTo>
                  <a:lnTo>
                    <a:pt x="16845" y="0"/>
                  </a:lnTo>
                  <a:lnTo>
                    <a:pt x="16833" y="0"/>
                  </a:lnTo>
                  <a:lnTo>
                    <a:pt x="16808" y="0"/>
                  </a:lnTo>
                  <a:lnTo>
                    <a:pt x="16795" y="0"/>
                  </a:lnTo>
                  <a:lnTo>
                    <a:pt x="16782" y="0"/>
                  </a:lnTo>
                  <a:lnTo>
                    <a:pt x="16757" y="0"/>
                  </a:lnTo>
                  <a:lnTo>
                    <a:pt x="16744" y="0"/>
                  </a:lnTo>
                  <a:lnTo>
                    <a:pt x="16719" y="0"/>
                  </a:lnTo>
                  <a:lnTo>
                    <a:pt x="16707" y="0"/>
                  </a:lnTo>
                  <a:lnTo>
                    <a:pt x="16681" y="0"/>
                  </a:lnTo>
                  <a:lnTo>
                    <a:pt x="16669" y="0"/>
                  </a:lnTo>
                  <a:lnTo>
                    <a:pt x="16656" y="0"/>
                  </a:lnTo>
                  <a:lnTo>
                    <a:pt x="16656" y="0"/>
                  </a:lnTo>
                  <a:lnTo>
                    <a:pt x="3331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3960" y="1728000"/>
              <a:ext cx="175464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11280" y="177336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Отправ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04000" y="1700280"/>
            <a:ext cx="1728720" cy="577800"/>
            <a:chOff x="6804000" y="1700280"/>
            <a:chExt cx="1728720" cy="577800"/>
          </a:xfrm>
        </p:grpSpPr>
        <p:sp>
          <p:nvSpPr>
            <p:cNvPr id="157" name=""/>
            <p:cNvSpPr/>
            <p:nvPr/>
          </p:nvSpPr>
          <p:spPr>
            <a:xfrm>
              <a:off x="6804000" y="1700280"/>
              <a:ext cx="1728720" cy="577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331" y="0"/>
                  </a:moveTo>
                  <a:lnTo>
                    <a:pt x="3331" y="0"/>
                  </a:lnTo>
                  <a:lnTo>
                    <a:pt x="3306" y="0"/>
                  </a:lnTo>
                  <a:lnTo>
                    <a:pt x="3293" y="0"/>
                  </a:lnTo>
                  <a:lnTo>
                    <a:pt x="3268" y="0"/>
                  </a:lnTo>
                  <a:lnTo>
                    <a:pt x="3256" y="0"/>
                  </a:lnTo>
                  <a:lnTo>
                    <a:pt x="3230" y="0"/>
                  </a:lnTo>
                  <a:lnTo>
                    <a:pt x="3218" y="0"/>
                  </a:lnTo>
                  <a:lnTo>
                    <a:pt x="3192" y="0"/>
                  </a:lnTo>
                  <a:lnTo>
                    <a:pt x="3180" y="0"/>
                  </a:lnTo>
                  <a:lnTo>
                    <a:pt x="3167" y="0"/>
                  </a:lnTo>
                  <a:lnTo>
                    <a:pt x="3142" y="0"/>
                  </a:lnTo>
                  <a:lnTo>
                    <a:pt x="3129" y="0"/>
                  </a:lnTo>
                  <a:lnTo>
                    <a:pt x="3104" y="0"/>
                  </a:lnTo>
                  <a:lnTo>
                    <a:pt x="3091" y="0"/>
                  </a:lnTo>
                  <a:lnTo>
                    <a:pt x="3066" y="0"/>
                  </a:lnTo>
                  <a:lnTo>
                    <a:pt x="3054" y="0"/>
                  </a:lnTo>
                  <a:lnTo>
                    <a:pt x="3028" y="0"/>
                  </a:lnTo>
                  <a:lnTo>
                    <a:pt x="3016" y="0"/>
                  </a:lnTo>
                  <a:lnTo>
                    <a:pt x="2991" y="0"/>
                  </a:lnTo>
                  <a:lnTo>
                    <a:pt x="2965" y="0"/>
                  </a:lnTo>
                  <a:lnTo>
                    <a:pt x="2953" y="0"/>
                  </a:lnTo>
                  <a:lnTo>
                    <a:pt x="2927" y="0"/>
                  </a:lnTo>
                  <a:lnTo>
                    <a:pt x="2915" y="0"/>
                  </a:lnTo>
                  <a:lnTo>
                    <a:pt x="2890" y="0"/>
                  </a:lnTo>
                  <a:lnTo>
                    <a:pt x="2864" y="0"/>
                  </a:lnTo>
                  <a:lnTo>
                    <a:pt x="2852" y="0"/>
                  </a:lnTo>
                  <a:lnTo>
                    <a:pt x="2826" y="0"/>
                  </a:lnTo>
                  <a:lnTo>
                    <a:pt x="2801" y="40"/>
                  </a:lnTo>
                  <a:lnTo>
                    <a:pt x="2776" y="40"/>
                  </a:lnTo>
                  <a:lnTo>
                    <a:pt x="2763" y="40"/>
                  </a:lnTo>
                  <a:lnTo>
                    <a:pt x="2738" y="40"/>
                  </a:lnTo>
                  <a:lnTo>
                    <a:pt x="2713" y="40"/>
                  </a:lnTo>
                  <a:lnTo>
                    <a:pt x="2688" y="40"/>
                  </a:lnTo>
                  <a:lnTo>
                    <a:pt x="2662" y="40"/>
                  </a:lnTo>
                  <a:lnTo>
                    <a:pt x="2637" y="40"/>
                  </a:lnTo>
                  <a:lnTo>
                    <a:pt x="2612" y="40"/>
                  </a:lnTo>
                  <a:lnTo>
                    <a:pt x="2587" y="81"/>
                  </a:lnTo>
                  <a:lnTo>
                    <a:pt x="2562" y="81"/>
                  </a:lnTo>
                  <a:lnTo>
                    <a:pt x="2536" y="81"/>
                  </a:lnTo>
                  <a:lnTo>
                    <a:pt x="2511" y="81"/>
                  </a:lnTo>
                  <a:lnTo>
                    <a:pt x="2486" y="81"/>
                  </a:lnTo>
                  <a:lnTo>
                    <a:pt x="2461" y="81"/>
                  </a:lnTo>
                  <a:lnTo>
                    <a:pt x="2423" y="121"/>
                  </a:lnTo>
                  <a:lnTo>
                    <a:pt x="2397" y="121"/>
                  </a:lnTo>
                  <a:lnTo>
                    <a:pt x="2372" y="121"/>
                  </a:lnTo>
                  <a:lnTo>
                    <a:pt x="2334" y="121"/>
                  </a:lnTo>
                  <a:lnTo>
                    <a:pt x="2309" y="121"/>
                  </a:lnTo>
                  <a:lnTo>
                    <a:pt x="2271" y="162"/>
                  </a:lnTo>
                  <a:lnTo>
                    <a:pt x="2233" y="162"/>
                  </a:lnTo>
                  <a:lnTo>
                    <a:pt x="2208" y="162"/>
                  </a:lnTo>
                  <a:lnTo>
                    <a:pt x="2170" y="202"/>
                  </a:lnTo>
                  <a:lnTo>
                    <a:pt x="2132" y="202"/>
                  </a:lnTo>
                  <a:lnTo>
                    <a:pt x="2095" y="202"/>
                  </a:lnTo>
                  <a:lnTo>
                    <a:pt x="2057" y="242"/>
                  </a:lnTo>
                  <a:lnTo>
                    <a:pt x="2019" y="242"/>
                  </a:lnTo>
                  <a:lnTo>
                    <a:pt x="1968" y="283"/>
                  </a:lnTo>
                  <a:lnTo>
                    <a:pt x="1931" y="283"/>
                  </a:lnTo>
                  <a:lnTo>
                    <a:pt x="1893" y="323"/>
                  </a:lnTo>
                  <a:lnTo>
                    <a:pt x="1842" y="323"/>
                  </a:lnTo>
                  <a:lnTo>
                    <a:pt x="1792" y="364"/>
                  </a:lnTo>
                  <a:lnTo>
                    <a:pt x="1741" y="364"/>
                  </a:lnTo>
                  <a:lnTo>
                    <a:pt x="1691" y="404"/>
                  </a:lnTo>
                  <a:lnTo>
                    <a:pt x="1640" y="444"/>
                  </a:lnTo>
                  <a:lnTo>
                    <a:pt x="1590" y="444"/>
                  </a:lnTo>
                  <a:lnTo>
                    <a:pt x="1539" y="485"/>
                  </a:lnTo>
                  <a:lnTo>
                    <a:pt x="1476" y="525"/>
                  </a:lnTo>
                  <a:lnTo>
                    <a:pt x="1413" y="566"/>
                  </a:lnTo>
                  <a:lnTo>
                    <a:pt x="1363" y="606"/>
                  </a:lnTo>
                  <a:lnTo>
                    <a:pt x="1300" y="646"/>
                  </a:lnTo>
                  <a:lnTo>
                    <a:pt x="1224" y="727"/>
                  </a:lnTo>
                  <a:lnTo>
                    <a:pt x="1161" y="768"/>
                  </a:lnTo>
                  <a:lnTo>
                    <a:pt x="1098" y="848"/>
                  </a:lnTo>
                  <a:lnTo>
                    <a:pt x="1022" y="889"/>
                  </a:lnTo>
                  <a:lnTo>
                    <a:pt x="946" y="970"/>
                  </a:lnTo>
                  <a:lnTo>
                    <a:pt x="883" y="1051"/>
                  </a:lnTo>
                  <a:lnTo>
                    <a:pt x="808" y="1131"/>
                  </a:lnTo>
                  <a:lnTo>
                    <a:pt x="732" y="1212"/>
                  </a:lnTo>
                  <a:lnTo>
                    <a:pt x="656" y="1333"/>
                  </a:lnTo>
                  <a:lnTo>
                    <a:pt x="580" y="1414"/>
                  </a:lnTo>
                  <a:lnTo>
                    <a:pt x="505" y="1535"/>
                  </a:lnTo>
                  <a:lnTo>
                    <a:pt x="429" y="1657"/>
                  </a:lnTo>
                  <a:lnTo>
                    <a:pt x="353" y="1778"/>
                  </a:lnTo>
                  <a:lnTo>
                    <a:pt x="290" y="1939"/>
                  </a:lnTo>
                  <a:lnTo>
                    <a:pt x="227" y="2061"/>
                  </a:lnTo>
                  <a:lnTo>
                    <a:pt x="164" y="2222"/>
                  </a:lnTo>
                  <a:lnTo>
                    <a:pt x="114" y="2384"/>
                  </a:lnTo>
                  <a:lnTo>
                    <a:pt x="76" y="2545"/>
                  </a:lnTo>
                  <a:lnTo>
                    <a:pt x="38" y="2747"/>
                  </a:lnTo>
                  <a:lnTo>
                    <a:pt x="13" y="2909"/>
                  </a:lnTo>
                  <a:lnTo>
                    <a:pt x="0" y="3111"/>
                  </a:lnTo>
                  <a:lnTo>
                    <a:pt x="0" y="3273"/>
                  </a:lnTo>
                  <a:lnTo>
                    <a:pt x="0" y="16646"/>
                  </a:lnTo>
                  <a:lnTo>
                    <a:pt x="0" y="16646"/>
                  </a:lnTo>
                  <a:lnTo>
                    <a:pt x="0" y="16808"/>
                  </a:lnTo>
                  <a:lnTo>
                    <a:pt x="13" y="17010"/>
                  </a:lnTo>
                  <a:lnTo>
                    <a:pt x="38" y="17172"/>
                  </a:lnTo>
                  <a:lnTo>
                    <a:pt x="76" y="17374"/>
                  </a:lnTo>
                  <a:lnTo>
                    <a:pt x="114" y="17535"/>
                  </a:lnTo>
                  <a:lnTo>
                    <a:pt x="164" y="17697"/>
                  </a:lnTo>
                  <a:lnTo>
                    <a:pt x="227" y="17859"/>
                  </a:lnTo>
                  <a:lnTo>
                    <a:pt x="278" y="17980"/>
                  </a:lnTo>
                  <a:lnTo>
                    <a:pt x="353" y="18141"/>
                  </a:lnTo>
                  <a:lnTo>
                    <a:pt x="416" y="18263"/>
                  </a:lnTo>
                  <a:lnTo>
                    <a:pt x="492" y="18384"/>
                  </a:lnTo>
                  <a:lnTo>
                    <a:pt x="568" y="18505"/>
                  </a:lnTo>
                  <a:lnTo>
                    <a:pt x="644" y="18626"/>
                  </a:lnTo>
                  <a:lnTo>
                    <a:pt x="719" y="18707"/>
                  </a:lnTo>
                  <a:lnTo>
                    <a:pt x="795" y="18788"/>
                  </a:lnTo>
                  <a:lnTo>
                    <a:pt x="858" y="18869"/>
                  </a:lnTo>
                  <a:lnTo>
                    <a:pt x="934" y="18949"/>
                  </a:lnTo>
                  <a:lnTo>
                    <a:pt x="1009" y="19030"/>
                  </a:lnTo>
                  <a:lnTo>
                    <a:pt x="1073" y="19111"/>
                  </a:lnTo>
                  <a:lnTo>
                    <a:pt x="1148" y="19152"/>
                  </a:lnTo>
                  <a:lnTo>
                    <a:pt x="1211" y="19232"/>
                  </a:lnTo>
                  <a:lnTo>
                    <a:pt x="1274" y="19273"/>
                  </a:lnTo>
                  <a:lnTo>
                    <a:pt x="1338" y="19313"/>
                  </a:lnTo>
                  <a:lnTo>
                    <a:pt x="1401" y="19354"/>
                  </a:lnTo>
                  <a:lnTo>
                    <a:pt x="1464" y="19394"/>
                  </a:lnTo>
                  <a:lnTo>
                    <a:pt x="1514" y="19434"/>
                  </a:lnTo>
                  <a:lnTo>
                    <a:pt x="1577" y="19475"/>
                  </a:lnTo>
                  <a:lnTo>
                    <a:pt x="1628" y="19515"/>
                  </a:lnTo>
                  <a:lnTo>
                    <a:pt x="1678" y="19556"/>
                  </a:lnTo>
                  <a:lnTo>
                    <a:pt x="1729" y="19556"/>
                  </a:lnTo>
                  <a:lnTo>
                    <a:pt x="1779" y="19596"/>
                  </a:lnTo>
                  <a:lnTo>
                    <a:pt x="1830" y="19636"/>
                  </a:lnTo>
                  <a:lnTo>
                    <a:pt x="1868" y="19636"/>
                  </a:lnTo>
                  <a:lnTo>
                    <a:pt x="1918" y="19677"/>
                  </a:lnTo>
                  <a:lnTo>
                    <a:pt x="1956" y="19677"/>
                  </a:lnTo>
                  <a:lnTo>
                    <a:pt x="2006" y="19717"/>
                  </a:lnTo>
                  <a:lnTo>
                    <a:pt x="2044" y="19717"/>
                  </a:lnTo>
                  <a:lnTo>
                    <a:pt x="2082" y="19717"/>
                  </a:lnTo>
                  <a:lnTo>
                    <a:pt x="2120" y="19758"/>
                  </a:lnTo>
                  <a:lnTo>
                    <a:pt x="2158" y="19758"/>
                  </a:lnTo>
                  <a:lnTo>
                    <a:pt x="2196" y="19798"/>
                  </a:lnTo>
                  <a:lnTo>
                    <a:pt x="2221" y="19798"/>
                  </a:lnTo>
                  <a:lnTo>
                    <a:pt x="2259" y="19798"/>
                  </a:lnTo>
                  <a:lnTo>
                    <a:pt x="2297" y="19798"/>
                  </a:lnTo>
                  <a:lnTo>
                    <a:pt x="2322" y="19838"/>
                  </a:lnTo>
                  <a:lnTo>
                    <a:pt x="2360" y="19838"/>
                  </a:lnTo>
                  <a:lnTo>
                    <a:pt x="2385" y="19838"/>
                  </a:lnTo>
                  <a:lnTo>
                    <a:pt x="2423" y="19838"/>
                  </a:lnTo>
                  <a:lnTo>
                    <a:pt x="2448" y="19879"/>
                  </a:lnTo>
                  <a:lnTo>
                    <a:pt x="2473" y="19879"/>
                  </a:lnTo>
                  <a:lnTo>
                    <a:pt x="2498" y="19879"/>
                  </a:lnTo>
                  <a:lnTo>
                    <a:pt x="2536" y="19879"/>
                  </a:lnTo>
                  <a:lnTo>
                    <a:pt x="2562" y="19879"/>
                  </a:lnTo>
                  <a:lnTo>
                    <a:pt x="2587" y="19879"/>
                  </a:lnTo>
                  <a:lnTo>
                    <a:pt x="2612" y="19919"/>
                  </a:lnTo>
                  <a:lnTo>
                    <a:pt x="2637" y="19919"/>
                  </a:lnTo>
                  <a:lnTo>
                    <a:pt x="2662" y="19919"/>
                  </a:lnTo>
                  <a:lnTo>
                    <a:pt x="2688" y="19919"/>
                  </a:lnTo>
                  <a:lnTo>
                    <a:pt x="2700" y="19919"/>
                  </a:lnTo>
                  <a:lnTo>
                    <a:pt x="2726" y="19919"/>
                  </a:lnTo>
                  <a:lnTo>
                    <a:pt x="2751" y="19919"/>
                  </a:lnTo>
                  <a:lnTo>
                    <a:pt x="2776" y="19919"/>
                  </a:lnTo>
                  <a:lnTo>
                    <a:pt x="2801" y="19919"/>
                  </a:lnTo>
                  <a:lnTo>
                    <a:pt x="2814" y="19960"/>
                  </a:lnTo>
                  <a:lnTo>
                    <a:pt x="2839" y="19960"/>
                  </a:lnTo>
                  <a:lnTo>
                    <a:pt x="2864" y="19960"/>
                  </a:lnTo>
                  <a:lnTo>
                    <a:pt x="2890" y="19960"/>
                  </a:lnTo>
                  <a:lnTo>
                    <a:pt x="2902" y="19960"/>
                  </a:lnTo>
                  <a:lnTo>
                    <a:pt x="2927" y="19960"/>
                  </a:lnTo>
                  <a:lnTo>
                    <a:pt x="2940" y="19960"/>
                  </a:lnTo>
                  <a:lnTo>
                    <a:pt x="2965" y="19960"/>
                  </a:lnTo>
                  <a:lnTo>
                    <a:pt x="2991" y="19960"/>
                  </a:lnTo>
                  <a:lnTo>
                    <a:pt x="3003" y="19960"/>
                  </a:lnTo>
                  <a:lnTo>
                    <a:pt x="3028" y="19960"/>
                  </a:lnTo>
                  <a:lnTo>
                    <a:pt x="3041" y="19960"/>
                  </a:lnTo>
                  <a:lnTo>
                    <a:pt x="3066" y="19960"/>
                  </a:lnTo>
                  <a:lnTo>
                    <a:pt x="3079" y="19960"/>
                  </a:lnTo>
                  <a:lnTo>
                    <a:pt x="3104" y="19960"/>
                  </a:lnTo>
                  <a:lnTo>
                    <a:pt x="3117" y="19960"/>
                  </a:lnTo>
                  <a:lnTo>
                    <a:pt x="3142" y="19960"/>
                  </a:lnTo>
                  <a:lnTo>
                    <a:pt x="3155" y="19960"/>
                  </a:lnTo>
                  <a:lnTo>
                    <a:pt x="3180" y="19960"/>
                  </a:lnTo>
                  <a:lnTo>
                    <a:pt x="3192" y="19960"/>
                  </a:lnTo>
                  <a:lnTo>
                    <a:pt x="3218" y="19960"/>
                  </a:lnTo>
                  <a:lnTo>
                    <a:pt x="3230" y="19960"/>
                  </a:lnTo>
                  <a:lnTo>
                    <a:pt x="3256" y="19960"/>
                  </a:lnTo>
                  <a:lnTo>
                    <a:pt x="3268" y="19960"/>
                  </a:lnTo>
                  <a:lnTo>
                    <a:pt x="3293" y="19960"/>
                  </a:lnTo>
                  <a:lnTo>
                    <a:pt x="3306" y="19960"/>
                  </a:lnTo>
                  <a:lnTo>
                    <a:pt x="3331" y="20000"/>
                  </a:lnTo>
                  <a:lnTo>
                    <a:pt x="3331" y="20000"/>
                  </a:lnTo>
                  <a:lnTo>
                    <a:pt x="16656" y="20000"/>
                  </a:lnTo>
                  <a:lnTo>
                    <a:pt x="16656" y="20000"/>
                  </a:lnTo>
                  <a:lnTo>
                    <a:pt x="16669" y="19960"/>
                  </a:lnTo>
                  <a:lnTo>
                    <a:pt x="16681" y="19960"/>
                  </a:lnTo>
                  <a:lnTo>
                    <a:pt x="16707" y="19960"/>
                  </a:lnTo>
                  <a:lnTo>
                    <a:pt x="16719" y="19960"/>
                  </a:lnTo>
                  <a:lnTo>
                    <a:pt x="16744" y="19960"/>
                  </a:lnTo>
                  <a:lnTo>
                    <a:pt x="16757" y="19960"/>
                  </a:lnTo>
                  <a:lnTo>
                    <a:pt x="16782" y="19960"/>
                  </a:lnTo>
                  <a:lnTo>
                    <a:pt x="16795" y="19960"/>
                  </a:lnTo>
                  <a:lnTo>
                    <a:pt x="16820" y="19960"/>
                  </a:lnTo>
                  <a:lnTo>
                    <a:pt x="16833" y="19960"/>
                  </a:lnTo>
                  <a:lnTo>
                    <a:pt x="16858" y="19960"/>
                  </a:lnTo>
                  <a:lnTo>
                    <a:pt x="16871" y="19960"/>
                  </a:lnTo>
                  <a:lnTo>
                    <a:pt x="16896" y="19960"/>
                  </a:lnTo>
                  <a:lnTo>
                    <a:pt x="16909" y="19960"/>
                  </a:lnTo>
                  <a:lnTo>
                    <a:pt x="16934" y="19960"/>
                  </a:lnTo>
                  <a:lnTo>
                    <a:pt x="16946" y="19960"/>
                  </a:lnTo>
                  <a:lnTo>
                    <a:pt x="16972" y="19960"/>
                  </a:lnTo>
                  <a:lnTo>
                    <a:pt x="16984" y="19960"/>
                  </a:lnTo>
                  <a:lnTo>
                    <a:pt x="17009" y="19960"/>
                  </a:lnTo>
                  <a:lnTo>
                    <a:pt x="17035" y="19960"/>
                  </a:lnTo>
                  <a:lnTo>
                    <a:pt x="17047" y="19960"/>
                  </a:lnTo>
                  <a:lnTo>
                    <a:pt x="17073" y="19960"/>
                  </a:lnTo>
                  <a:lnTo>
                    <a:pt x="17085" y="19960"/>
                  </a:lnTo>
                  <a:lnTo>
                    <a:pt x="17110" y="19960"/>
                  </a:lnTo>
                  <a:lnTo>
                    <a:pt x="17136" y="19960"/>
                  </a:lnTo>
                  <a:lnTo>
                    <a:pt x="17161" y="19960"/>
                  </a:lnTo>
                  <a:lnTo>
                    <a:pt x="17174" y="19919"/>
                  </a:lnTo>
                  <a:lnTo>
                    <a:pt x="17199" y="19919"/>
                  </a:lnTo>
                  <a:lnTo>
                    <a:pt x="17224" y="19919"/>
                  </a:lnTo>
                  <a:lnTo>
                    <a:pt x="17249" y="19919"/>
                  </a:lnTo>
                  <a:lnTo>
                    <a:pt x="17274" y="19919"/>
                  </a:lnTo>
                  <a:lnTo>
                    <a:pt x="17287" y="19919"/>
                  </a:lnTo>
                  <a:lnTo>
                    <a:pt x="17312" y="19919"/>
                  </a:lnTo>
                  <a:lnTo>
                    <a:pt x="17338" y="19919"/>
                  </a:lnTo>
                  <a:lnTo>
                    <a:pt x="17363" y="19919"/>
                  </a:lnTo>
                  <a:lnTo>
                    <a:pt x="17388" y="19879"/>
                  </a:lnTo>
                  <a:lnTo>
                    <a:pt x="17413" y="19879"/>
                  </a:lnTo>
                  <a:lnTo>
                    <a:pt x="17438" y="19879"/>
                  </a:lnTo>
                  <a:lnTo>
                    <a:pt x="17476" y="19879"/>
                  </a:lnTo>
                  <a:lnTo>
                    <a:pt x="17502" y="19879"/>
                  </a:lnTo>
                  <a:lnTo>
                    <a:pt x="17527" y="19879"/>
                  </a:lnTo>
                  <a:lnTo>
                    <a:pt x="17552" y="19838"/>
                  </a:lnTo>
                  <a:lnTo>
                    <a:pt x="17590" y="19838"/>
                  </a:lnTo>
                  <a:lnTo>
                    <a:pt x="17615" y="19838"/>
                  </a:lnTo>
                  <a:lnTo>
                    <a:pt x="17653" y="19838"/>
                  </a:lnTo>
                  <a:lnTo>
                    <a:pt x="17678" y="19798"/>
                  </a:lnTo>
                  <a:lnTo>
                    <a:pt x="17716" y="19798"/>
                  </a:lnTo>
                  <a:lnTo>
                    <a:pt x="17754" y="19798"/>
                  </a:lnTo>
                  <a:lnTo>
                    <a:pt x="17779" y="19798"/>
                  </a:lnTo>
                  <a:lnTo>
                    <a:pt x="17817" y="19758"/>
                  </a:lnTo>
                  <a:lnTo>
                    <a:pt x="17855" y="19758"/>
                  </a:lnTo>
                  <a:lnTo>
                    <a:pt x="17893" y="19758"/>
                  </a:lnTo>
                  <a:lnTo>
                    <a:pt x="17931" y="19717"/>
                  </a:lnTo>
                  <a:lnTo>
                    <a:pt x="17968" y="19717"/>
                  </a:lnTo>
                  <a:lnTo>
                    <a:pt x="18019" y="19677"/>
                  </a:lnTo>
                  <a:lnTo>
                    <a:pt x="18057" y="19677"/>
                  </a:lnTo>
                  <a:lnTo>
                    <a:pt x="18107" y="19636"/>
                  </a:lnTo>
                  <a:lnTo>
                    <a:pt x="18145" y="19636"/>
                  </a:lnTo>
                  <a:lnTo>
                    <a:pt x="18196" y="19596"/>
                  </a:lnTo>
                  <a:lnTo>
                    <a:pt x="18246" y="19556"/>
                  </a:lnTo>
                  <a:lnTo>
                    <a:pt x="18297" y="19556"/>
                  </a:lnTo>
                  <a:lnTo>
                    <a:pt x="18347" y="19515"/>
                  </a:lnTo>
                  <a:lnTo>
                    <a:pt x="18397" y="19475"/>
                  </a:lnTo>
                  <a:lnTo>
                    <a:pt x="18461" y="19434"/>
                  </a:lnTo>
                  <a:lnTo>
                    <a:pt x="18511" y="19394"/>
                  </a:lnTo>
                  <a:lnTo>
                    <a:pt x="18574" y="19354"/>
                  </a:lnTo>
                  <a:lnTo>
                    <a:pt x="18637" y="19313"/>
                  </a:lnTo>
                  <a:lnTo>
                    <a:pt x="18700" y="19273"/>
                  </a:lnTo>
                  <a:lnTo>
                    <a:pt x="18763" y="19232"/>
                  </a:lnTo>
                  <a:lnTo>
                    <a:pt x="18826" y="19152"/>
                  </a:lnTo>
                  <a:lnTo>
                    <a:pt x="18902" y="19111"/>
                  </a:lnTo>
                  <a:lnTo>
                    <a:pt x="18965" y="19030"/>
                  </a:lnTo>
                  <a:lnTo>
                    <a:pt x="19041" y="18949"/>
                  </a:lnTo>
                  <a:lnTo>
                    <a:pt x="19117" y="18909"/>
                  </a:lnTo>
                  <a:lnTo>
                    <a:pt x="19192" y="18788"/>
                  </a:lnTo>
                  <a:lnTo>
                    <a:pt x="19268" y="18707"/>
                  </a:lnTo>
                  <a:lnTo>
                    <a:pt x="19344" y="18626"/>
                  </a:lnTo>
                  <a:lnTo>
                    <a:pt x="19420" y="18505"/>
                  </a:lnTo>
                  <a:lnTo>
                    <a:pt x="19495" y="18384"/>
                  </a:lnTo>
                  <a:lnTo>
                    <a:pt x="19558" y="18263"/>
                  </a:lnTo>
                  <a:lnTo>
                    <a:pt x="19634" y="18141"/>
                  </a:lnTo>
                  <a:lnTo>
                    <a:pt x="19697" y="17980"/>
                  </a:lnTo>
                  <a:lnTo>
                    <a:pt x="19760" y="17859"/>
                  </a:lnTo>
                  <a:lnTo>
                    <a:pt x="19823" y="17697"/>
                  </a:lnTo>
                  <a:lnTo>
                    <a:pt x="19874" y="17535"/>
                  </a:lnTo>
                  <a:lnTo>
                    <a:pt x="19912" y="17374"/>
                  </a:lnTo>
                  <a:lnTo>
                    <a:pt x="19950" y="17172"/>
                  </a:lnTo>
                  <a:lnTo>
                    <a:pt x="19975" y="17010"/>
                  </a:lnTo>
                  <a:lnTo>
                    <a:pt x="19987" y="16808"/>
                  </a:lnTo>
                  <a:lnTo>
                    <a:pt x="19987" y="16646"/>
                  </a:lnTo>
                  <a:lnTo>
                    <a:pt x="20000" y="3313"/>
                  </a:lnTo>
                  <a:lnTo>
                    <a:pt x="20000" y="3313"/>
                  </a:lnTo>
                  <a:lnTo>
                    <a:pt x="19987" y="3111"/>
                  </a:lnTo>
                  <a:lnTo>
                    <a:pt x="19975" y="2909"/>
                  </a:lnTo>
                  <a:lnTo>
                    <a:pt x="19950" y="2747"/>
                  </a:lnTo>
                  <a:lnTo>
                    <a:pt x="19912" y="2545"/>
                  </a:lnTo>
                  <a:lnTo>
                    <a:pt x="19874" y="2384"/>
                  </a:lnTo>
                  <a:lnTo>
                    <a:pt x="19811" y="2222"/>
                  </a:lnTo>
                  <a:lnTo>
                    <a:pt x="19760" y="2061"/>
                  </a:lnTo>
                  <a:lnTo>
                    <a:pt x="19697" y="1939"/>
                  </a:lnTo>
                  <a:lnTo>
                    <a:pt x="19621" y="1778"/>
                  </a:lnTo>
                  <a:lnTo>
                    <a:pt x="19558" y="1657"/>
                  </a:lnTo>
                  <a:lnTo>
                    <a:pt x="19483" y="1535"/>
                  </a:lnTo>
                  <a:lnTo>
                    <a:pt x="19407" y="1414"/>
                  </a:lnTo>
                  <a:lnTo>
                    <a:pt x="19331" y="1293"/>
                  </a:lnTo>
                  <a:lnTo>
                    <a:pt x="19256" y="1212"/>
                  </a:lnTo>
                  <a:lnTo>
                    <a:pt x="19180" y="1131"/>
                  </a:lnTo>
                  <a:lnTo>
                    <a:pt x="19104" y="1051"/>
                  </a:lnTo>
                  <a:lnTo>
                    <a:pt x="19028" y="970"/>
                  </a:lnTo>
                  <a:lnTo>
                    <a:pt x="18953" y="889"/>
                  </a:lnTo>
                  <a:lnTo>
                    <a:pt x="18890" y="848"/>
                  </a:lnTo>
                  <a:lnTo>
                    <a:pt x="18814" y="768"/>
                  </a:lnTo>
                  <a:lnTo>
                    <a:pt x="18751" y="727"/>
                  </a:lnTo>
                  <a:lnTo>
                    <a:pt x="18688" y="646"/>
                  </a:lnTo>
                  <a:lnTo>
                    <a:pt x="18625" y="606"/>
                  </a:lnTo>
                  <a:lnTo>
                    <a:pt x="18562" y="566"/>
                  </a:lnTo>
                  <a:lnTo>
                    <a:pt x="18498" y="525"/>
                  </a:lnTo>
                  <a:lnTo>
                    <a:pt x="18435" y="485"/>
                  </a:lnTo>
                  <a:lnTo>
                    <a:pt x="18385" y="444"/>
                  </a:lnTo>
                  <a:lnTo>
                    <a:pt x="18334" y="444"/>
                  </a:lnTo>
                  <a:lnTo>
                    <a:pt x="18284" y="404"/>
                  </a:lnTo>
                  <a:lnTo>
                    <a:pt x="18233" y="364"/>
                  </a:lnTo>
                  <a:lnTo>
                    <a:pt x="18183" y="364"/>
                  </a:lnTo>
                  <a:lnTo>
                    <a:pt x="18132" y="323"/>
                  </a:lnTo>
                  <a:lnTo>
                    <a:pt x="18082" y="283"/>
                  </a:lnTo>
                  <a:lnTo>
                    <a:pt x="18044" y="283"/>
                  </a:lnTo>
                  <a:lnTo>
                    <a:pt x="18006" y="242"/>
                  </a:lnTo>
                  <a:lnTo>
                    <a:pt x="17956" y="242"/>
                  </a:lnTo>
                  <a:lnTo>
                    <a:pt x="17918" y="242"/>
                  </a:lnTo>
                  <a:lnTo>
                    <a:pt x="17880" y="202"/>
                  </a:lnTo>
                  <a:lnTo>
                    <a:pt x="17842" y="202"/>
                  </a:lnTo>
                  <a:lnTo>
                    <a:pt x="17804" y="202"/>
                  </a:lnTo>
                  <a:lnTo>
                    <a:pt x="17767" y="162"/>
                  </a:lnTo>
                  <a:lnTo>
                    <a:pt x="17741" y="162"/>
                  </a:lnTo>
                  <a:lnTo>
                    <a:pt x="17703" y="162"/>
                  </a:lnTo>
                  <a:lnTo>
                    <a:pt x="17666" y="121"/>
                  </a:lnTo>
                  <a:lnTo>
                    <a:pt x="17640" y="121"/>
                  </a:lnTo>
                  <a:lnTo>
                    <a:pt x="17603" y="121"/>
                  </a:lnTo>
                  <a:lnTo>
                    <a:pt x="17577" y="121"/>
                  </a:lnTo>
                  <a:lnTo>
                    <a:pt x="17552" y="121"/>
                  </a:lnTo>
                  <a:lnTo>
                    <a:pt x="17514" y="81"/>
                  </a:lnTo>
                  <a:lnTo>
                    <a:pt x="17489" y="81"/>
                  </a:lnTo>
                  <a:lnTo>
                    <a:pt x="17464" y="81"/>
                  </a:lnTo>
                  <a:lnTo>
                    <a:pt x="17438" y="81"/>
                  </a:lnTo>
                  <a:lnTo>
                    <a:pt x="17413" y="81"/>
                  </a:lnTo>
                  <a:lnTo>
                    <a:pt x="17388" y="40"/>
                  </a:lnTo>
                  <a:lnTo>
                    <a:pt x="17363" y="40"/>
                  </a:lnTo>
                  <a:lnTo>
                    <a:pt x="17338" y="40"/>
                  </a:lnTo>
                  <a:lnTo>
                    <a:pt x="17312" y="40"/>
                  </a:lnTo>
                  <a:lnTo>
                    <a:pt x="17287" y="40"/>
                  </a:lnTo>
                  <a:lnTo>
                    <a:pt x="17262" y="40"/>
                  </a:lnTo>
                  <a:lnTo>
                    <a:pt x="17237" y="40"/>
                  </a:lnTo>
                  <a:lnTo>
                    <a:pt x="17211" y="40"/>
                  </a:lnTo>
                  <a:lnTo>
                    <a:pt x="17199" y="40"/>
                  </a:lnTo>
                  <a:lnTo>
                    <a:pt x="17174" y="40"/>
                  </a:lnTo>
                  <a:lnTo>
                    <a:pt x="17148" y="0"/>
                  </a:lnTo>
                  <a:lnTo>
                    <a:pt x="17123" y="0"/>
                  </a:lnTo>
                  <a:lnTo>
                    <a:pt x="17110" y="0"/>
                  </a:lnTo>
                  <a:lnTo>
                    <a:pt x="17085" y="0"/>
                  </a:lnTo>
                  <a:lnTo>
                    <a:pt x="17060" y="0"/>
                  </a:lnTo>
                  <a:lnTo>
                    <a:pt x="17047" y="0"/>
                  </a:lnTo>
                  <a:lnTo>
                    <a:pt x="17022" y="0"/>
                  </a:lnTo>
                  <a:lnTo>
                    <a:pt x="17009" y="0"/>
                  </a:lnTo>
                  <a:lnTo>
                    <a:pt x="16984" y="0"/>
                  </a:lnTo>
                  <a:lnTo>
                    <a:pt x="16959" y="0"/>
                  </a:lnTo>
                  <a:lnTo>
                    <a:pt x="16946" y="0"/>
                  </a:lnTo>
                  <a:lnTo>
                    <a:pt x="16921" y="0"/>
                  </a:lnTo>
                  <a:lnTo>
                    <a:pt x="16909" y="0"/>
                  </a:lnTo>
                  <a:lnTo>
                    <a:pt x="16883" y="0"/>
                  </a:lnTo>
                  <a:lnTo>
                    <a:pt x="16871" y="0"/>
                  </a:lnTo>
                  <a:lnTo>
                    <a:pt x="16845" y="0"/>
                  </a:lnTo>
                  <a:lnTo>
                    <a:pt x="16833" y="0"/>
                  </a:lnTo>
                  <a:lnTo>
                    <a:pt x="16808" y="0"/>
                  </a:lnTo>
                  <a:lnTo>
                    <a:pt x="16795" y="0"/>
                  </a:lnTo>
                  <a:lnTo>
                    <a:pt x="16782" y="0"/>
                  </a:lnTo>
                  <a:lnTo>
                    <a:pt x="16757" y="0"/>
                  </a:lnTo>
                  <a:lnTo>
                    <a:pt x="16744" y="0"/>
                  </a:lnTo>
                  <a:lnTo>
                    <a:pt x="16719" y="0"/>
                  </a:lnTo>
                  <a:lnTo>
                    <a:pt x="16707" y="0"/>
                  </a:lnTo>
                  <a:lnTo>
                    <a:pt x="16681" y="0"/>
                  </a:lnTo>
                  <a:lnTo>
                    <a:pt x="16669" y="0"/>
                  </a:lnTo>
                  <a:lnTo>
                    <a:pt x="16656" y="0"/>
                  </a:lnTo>
                  <a:lnTo>
                    <a:pt x="16656" y="0"/>
                  </a:lnTo>
                  <a:lnTo>
                    <a:pt x="3331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87880" y="1728000"/>
              <a:ext cx="15598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Отправит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874920" y="1773360"/>
            <a:ext cx="15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Адрес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1989000"/>
            <a:ext cx="43196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84360" y="2492280"/>
            <a:ext cx="1584360" cy="1081080"/>
            <a:chOff x="2484360" y="2492280"/>
            <a:chExt cx="1584360" cy="1081080"/>
          </a:xfrm>
        </p:grpSpPr>
        <p:sp>
          <p:nvSpPr>
            <p:cNvPr id="162" name=""/>
            <p:cNvSpPr/>
            <p:nvPr/>
          </p:nvSpPr>
          <p:spPr>
            <a:xfrm>
              <a:off x="2484360" y="2492280"/>
              <a:ext cx="1584360" cy="1081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20000"/>
                  </a:lnTo>
                  <a:lnTo>
                    <a:pt x="20000" y="20000"/>
                  </a:lnTo>
                  <a:lnTo>
                    <a:pt x="2000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84360" y="2492280"/>
              <a:ext cx="15843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340000" y="2338920"/>
            <a:ext cx="187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с открытым ключ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219640" y="2492280"/>
            <a:ext cx="1584360" cy="1081080"/>
            <a:chOff x="5219640" y="2492280"/>
            <a:chExt cx="1584360" cy="1081080"/>
          </a:xfrm>
        </p:grpSpPr>
        <p:sp>
          <p:nvSpPr>
            <p:cNvPr id="166" name=""/>
            <p:cNvSpPr/>
            <p:nvPr/>
          </p:nvSpPr>
          <p:spPr>
            <a:xfrm>
              <a:off x="5219640" y="2492280"/>
              <a:ext cx="1584360" cy="1081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20000"/>
                  </a:lnTo>
                  <a:lnTo>
                    <a:pt x="20000" y="20000"/>
                  </a:lnTo>
                  <a:lnTo>
                    <a:pt x="2000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19640" y="2492280"/>
              <a:ext cx="15843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076720" y="249228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с открытым ключ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11280" y="4365720"/>
            <a:ext cx="1800360" cy="628560"/>
            <a:chOff x="2411280" y="4365720"/>
            <a:chExt cx="1800360" cy="628560"/>
          </a:xfrm>
        </p:grpSpPr>
        <p:sp>
          <p:nvSpPr>
            <p:cNvPr id="170" name=""/>
            <p:cNvSpPr/>
            <p:nvPr/>
          </p:nvSpPr>
          <p:spPr>
            <a:xfrm>
              <a:off x="2411280" y="4365720"/>
              <a:ext cx="1800360" cy="628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331" y="0"/>
                  </a:moveTo>
                  <a:lnTo>
                    <a:pt x="3331" y="0"/>
                  </a:lnTo>
                  <a:lnTo>
                    <a:pt x="3300" y="0"/>
                  </a:lnTo>
                  <a:lnTo>
                    <a:pt x="3269" y="0"/>
                  </a:lnTo>
                  <a:lnTo>
                    <a:pt x="3238" y="0"/>
                  </a:lnTo>
                  <a:lnTo>
                    <a:pt x="3207" y="0"/>
                  </a:lnTo>
                  <a:lnTo>
                    <a:pt x="3177" y="0"/>
                  </a:lnTo>
                  <a:lnTo>
                    <a:pt x="3146" y="0"/>
                  </a:lnTo>
                  <a:lnTo>
                    <a:pt x="3115" y="0"/>
                  </a:lnTo>
                  <a:lnTo>
                    <a:pt x="3084" y="0"/>
                  </a:lnTo>
                  <a:lnTo>
                    <a:pt x="3053" y="0"/>
                  </a:lnTo>
                  <a:lnTo>
                    <a:pt x="3038" y="0"/>
                  </a:lnTo>
                  <a:lnTo>
                    <a:pt x="3007" y="0"/>
                  </a:lnTo>
                  <a:lnTo>
                    <a:pt x="2976" y="0"/>
                  </a:lnTo>
                  <a:lnTo>
                    <a:pt x="2945" y="0"/>
                  </a:lnTo>
                  <a:lnTo>
                    <a:pt x="2914" y="0"/>
                  </a:lnTo>
                  <a:lnTo>
                    <a:pt x="2884" y="0"/>
                  </a:lnTo>
                  <a:lnTo>
                    <a:pt x="2853" y="31"/>
                  </a:lnTo>
                  <a:lnTo>
                    <a:pt x="2822" y="31"/>
                  </a:lnTo>
                  <a:lnTo>
                    <a:pt x="2791" y="31"/>
                  </a:lnTo>
                  <a:lnTo>
                    <a:pt x="2760" y="31"/>
                  </a:lnTo>
                  <a:lnTo>
                    <a:pt x="2729" y="31"/>
                  </a:lnTo>
                  <a:lnTo>
                    <a:pt x="2699" y="31"/>
                  </a:lnTo>
                  <a:lnTo>
                    <a:pt x="2668" y="62"/>
                  </a:lnTo>
                  <a:lnTo>
                    <a:pt x="2637" y="62"/>
                  </a:lnTo>
                  <a:lnTo>
                    <a:pt x="2606" y="62"/>
                  </a:lnTo>
                  <a:lnTo>
                    <a:pt x="2560" y="62"/>
                  </a:lnTo>
                  <a:lnTo>
                    <a:pt x="2529" y="92"/>
                  </a:lnTo>
                  <a:lnTo>
                    <a:pt x="2498" y="92"/>
                  </a:lnTo>
                  <a:lnTo>
                    <a:pt x="2467" y="92"/>
                  </a:lnTo>
                  <a:lnTo>
                    <a:pt x="2436" y="92"/>
                  </a:lnTo>
                  <a:lnTo>
                    <a:pt x="2406" y="123"/>
                  </a:lnTo>
                  <a:lnTo>
                    <a:pt x="2359" y="123"/>
                  </a:lnTo>
                  <a:lnTo>
                    <a:pt x="2328" y="123"/>
                  </a:lnTo>
                  <a:lnTo>
                    <a:pt x="2298" y="154"/>
                  </a:lnTo>
                  <a:lnTo>
                    <a:pt x="2251" y="154"/>
                  </a:lnTo>
                  <a:lnTo>
                    <a:pt x="2221" y="185"/>
                  </a:lnTo>
                  <a:lnTo>
                    <a:pt x="2190" y="185"/>
                  </a:lnTo>
                  <a:lnTo>
                    <a:pt x="2143" y="185"/>
                  </a:lnTo>
                  <a:lnTo>
                    <a:pt x="2113" y="215"/>
                  </a:lnTo>
                  <a:lnTo>
                    <a:pt x="2066" y="215"/>
                  </a:lnTo>
                  <a:lnTo>
                    <a:pt x="2035" y="246"/>
                  </a:lnTo>
                  <a:lnTo>
                    <a:pt x="1989" y="246"/>
                  </a:lnTo>
                  <a:lnTo>
                    <a:pt x="1958" y="277"/>
                  </a:lnTo>
                  <a:lnTo>
                    <a:pt x="1912" y="308"/>
                  </a:lnTo>
                  <a:lnTo>
                    <a:pt x="1881" y="308"/>
                  </a:lnTo>
                  <a:lnTo>
                    <a:pt x="1835" y="338"/>
                  </a:lnTo>
                  <a:lnTo>
                    <a:pt x="1789" y="369"/>
                  </a:lnTo>
                  <a:lnTo>
                    <a:pt x="1742" y="369"/>
                  </a:lnTo>
                  <a:lnTo>
                    <a:pt x="1712" y="400"/>
                  </a:lnTo>
                  <a:lnTo>
                    <a:pt x="1665" y="431"/>
                  </a:lnTo>
                  <a:lnTo>
                    <a:pt x="1619" y="462"/>
                  </a:lnTo>
                  <a:lnTo>
                    <a:pt x="1573" y="492"/>
                  </a:lnTo>
                  <a:lnTo>
                    <a:pt x="1527" y="523"/>
                  </a:lnTo>
                  <a:lnTo>
                    <a:pt x="1480" y="554"/>
                  </a:lnTo>
                  <a:lnTo>
                    <a:pt x="1434" y="585"/>
                  </a:lnTo>
                  <a:lnTo>
                    <a:pt x="1388" y="615"/>
                  </a:lnTo>
                  <a:lnTo>
                    <a:pt x="1342" y="646"/>
                  </a:lnTo>
                  <a:lnTo>
                    <a:pt x="1295" y="677"/>
                  </a:lnTo>
                  <a:lnTo>
                    <a:pt x="1249" y="708"/>
                  </a:lnTo>
                  <a:lnTo>
                    <a:pt x="1187" y="738"/>
                  </a:lnTo>
                  <a:lnTo>
                    <a:pt x="1141" y="800"/>
                  </a:lnTo>
                  <a:lnTo>
                    <a:pt x="1095" y="831"/>
                  </a:lnTo>
                  <a:lnTo>
                    <a:pt x="1049" y="892"/>
                  </a:lnTo>
                  <a:lnTo>
                    <a:pt x="987" y="923"/>
                  </a:lnTo>
                  <a:lnTo>
                    <a:pt x="941" y="985"/>
                  </a:lnTo>
                  <a:lnTo>
                    <a:pt x="894" y="1046"/>
                  </a:lnTo>
                  <a:lnTo>
                    <a:pt x="833" y="1108"/>
                  </a:lnTo>
                  <a:lnTo>
                    <a:pt x="786" y="1169"/>
                  </a:lnTo>
                  <a:lnTo>
                    <a:pt x="725" y="1231"/>
                  </a:lnTo>
                  <a:lnTo>
                    <a:pt x="678" y="1292"/>
                  </a:lnTo>
                  <a:lnTo>
                    <a:pt x="632" y="1354"/>
                  </a:lnTo>
                  <a:lnTo>
                    <a:pt x="586" y="1415"/>
                  </a:lnTo>
                  <a:lnTo>
                    <a:pt x="524" y="1508"/>
                  </a:lnTo>
                  <a:lnTo>
                    <a:pt x="478" y="1569"/>
                  </a:lnTo>
                  <a:lnTo>
                    <a:pt x="432" y="1662"/>
                  </a:lnTo>
                  <a:lnTo>
                    <a:pt x="386" y="1723"/>
                  </a:lnTo>
                  <a:lnTo>
                    <a:pt x="339" y="1815"/>
                  </a:lnTo>
                  <a:lnTo>
                    <a:pt x="293" y="1908"/>
                  </a:lnTo>
                  <a:lnTo>
                    <a:pt x="262" y="2000"/>
                  </a:lnTo>
                  <a:lnTo>
                    <a:pt x="216" y="2092"/>
                  </a:lnTo>
                  <a:lnTo>
                    <a:pt x="185" y="2215"/>
                  </a:lnTo>
                  <a:lnTo>
                    <a:pt x="154" y="2308"/>
                  </a:lnTo>
                  <a:lnTo>
                    <a:pt x="123" y="2400"/>
                  </a:lnTo>
                  <a:lnTo>
                    <a:pt x="93" y="2523"/>
                  </a:lnTo>
                  <a:lnTo>
                    <a:pt x="62" y="2615"/>
                  </a:lnTo>
                  <a:lnTo>
                    <a:pt x="46" y="2738"/>
                  </a:lnTo>
                  <a:lnTo>
                    <a:pt x="31" y="2862"/>
                  </a:lnTo>
                  <a:lnTo>
                    <a:pt x="15" y="2954"/>
                  </a:lnTo>
                  <a:lnTo>
                    <a:pt x="0" y="3077"/>
                  </a:lnTo>
                  <a:lnTo>
                    <a:pt x="0" y="3200"/>
                  </a:lnTo>
                  <a:lnTo>
                    <a:pt x="0" y="3292"/>
                  </a:lnTo>
                  <a:lnTo>
                    <a:pt x="0" y="16646"/>
                  </a:lnTo>
                  <a:lnTo>
                    <a:pt x="0" y="16646"/>
                  </a:lnTo>
                  <a:lnTo>
                    <a:pt x="0" y="16738"/>
                  </a:lnTo>
                  <a:lnTo>
                    <a:pt x="0" y="16862"/>
                  </a:lnTo>
                  <a:lnTo>
                    <a:pt x="15" y="16985"/>
                  </a:lnTo>
                  <a:lnTo>
                    <a:pt x="31" y="17077"/>
                  </a:lnTo>
                  <a:lnTo>
                    <a:pt x="46" y="17200"/>
                  </a:lnTo>
                  <a:lnTo>
                    <a:pt x="62" y="17323"/>
                  </a:lnTo>
                  <a:lnTo>
                    <a:pt x="93" y="17415"/>
                  </a:lnTo>
                  <a:lnTo>
                    <a:pt x="108" y="17538"/>
                  </a:lnTo>
                  <a:lnTo>
                    <a:pt x="139" y="17631"/>
                  </a:lnTo>
                  <a:lnTo>
                    <a:pt x="185" y="17723"/>
                  </a:lnTo>
                  <a:lnTo>
                    <a:pt x="216" y="17846"/>
                  </a:lnTo>
                  <a:lnTo>
                    <a:pt x="247" y="17938"/>
                  </a:lnTo>
                  <a:lnTo>
                    <a:pt x="293" y="18031"/>
                  </a:lnTo>
                  <a:lnTo>
                    <a:pt x="339" y="18123"/>
                  </a:lnTo>
                  <a:lnTo>
                    <a:pt x="386" y="18215"/>
                  </a:lnTo>
                  <a:lnTo>
                    <a:pt x="432" y="18277"/>
                  </a:lnTo>
                  <a:lnTo>
                    <a:pt x="478" y="18369"/>
                  </a:lnTo>
                  <a:lnTo>
                    <a:pt x="524" y="18462"/>
                  </a:lnTo>
                  <a:lnTo>
                    <a:pt x="571" y="18523"/>
                  </a:lnTo>
                  <a:lnTo>
                    <a:pt x="617" y="18585"/>
                  </a:lnTo>
                  <a:lnTo>
                    <a:pt x="678" y="18646"/>
                  </a:lnTo>
                  <a:lnTo>
                    <a:pt x="725" y="18738"/>
                  </a:lnTo>
                  <a:lnTo>
                    <a:pt x="771" y="18800"/>
                  </a:lnTo>
                  <a:lnTo>
                    <a:pt x="833" y="18862"/>
                  </a:lnTo>
                  <a:lnTo>
                    <a:pt x="879" y="18892"/>
                  </a:lnTo>
                  <a:lnTo>
                    <a:pt x="925" y="18954"/>
                  </a:lnTo>
                  <a:lnTo>
                    <a:pt x="987" y="19015"/>
                  </a:lnTo>
                  <a:lnTo>
                    <a:pt x="1033" y="19077"/>
                  </a:lnTo>
                  <a:lnTo>
                    <a:pt x="1079" y="19108"/>
                  </a:lnTo>
                  <a:lnTo>
                    <a:pt x="1126" y="19169"/>
                  </a:lnTo>
                  <a:lnTo>
                    <a:pt x="1187" y="19200"/>
                  </a:lnTo>
                  <a:lnTo>
                    <a:pt x="1234" y="19231"/>
                  </a:lnTo>
                  <a:lnTo>
                    <a:pt x="1280" y="19292"/>
                  </a:lnTo>
                  <a:lnTo>
                    <a:pt x="1326" y="19323"/>
                  </a:lnTo>
                  <a:lnTo>
                    <a:pt x="1372" y="19354"/>
                  </a:lnTo>
                  <a:lnTo>
                    <a:pt x="1419" y="19385"/>
                  </a:lnTo>
                  <a:lnTo>
                    <a:pt x="1465" y="19415"/>
                  </a:lnTo>
                  <a:lnTo>
                    <a:pt x="1511" y="19446"/>
                  </a:lnTo>
                  <a:lnTo>
                    <a:pt x="1557" y="19477"/>
                  </a:lnTo>
                  <a:lnTo>
                    <a:pt x="1604" y="19508"/>
                  </a:lnTo>
                  <a:lnTo>
                    <a:pt x="1650" y="19538"/>
                  </a:lnTo>
                  <a:lnTo>
                    <a:pt x="1696" y="19569"/>
                  </a:lnTo>
                  <a:lnTo>
                    <a:pt x="1742" y="19569"/>
                  </a:lnTo>
                  <a:lnTo>
                    <a:pt x="1773" y="19600"/>
                  </a:lnTo>
                  <a:lnTo>
                    <a:pt x="1820" y="19631"/>
                  </a:lnTo>
                  <a:lnTo>
                    <a:pt x="1866" y="19631"/>
                  </a:lnTo>
                  <a:lnTo>
                    <a:pt x="1912" y="19662"/>
                  </a:lnTo>
                  <a:lnTo>
                    <a:pt x="1943" y="19692"/>
                  </a:lnTo>
                  <a:lnTo>
                    <a:pt x="1989" y="19692"/>
                  </a:lnTo>
                  <a:lnTo>
                    <a:pt x="2020" y="19723"/>
                  </a:lnTo>
                  <a:lnTo>
                    <a:pt x="2066" y="19723"/>
                  </a:lnTo>
                  <a:lnTo>
                    <a:pt x="2097" y="19754"/>
                  </a:lnTo>
                  <a:lnTo>
                    <a:pt x="2143" y="19754"/>
                  </a:lnTo>
                  <a:lnTo>
                    <a:pt x="2174" y="19785"/>
                  </a:lnTo>
                  <a:lnTo>
                    <a:pt x="2221" y="19785"/>
                  </a:lnTo>
                  <a:lnTo>
                    <a:pt x="2251" y="19815"/>
                  </a:lnTo>
                  <a:lnTo>
                    <a:pt x="2282" y="19815"/>
                  </a:lnTo>
                  <a:lnTo>
                    <a:pt x="2328" y="19815"/>
                  </a:lnTo>
                  <a:lnTo>
                    <a:pt x="2359" y="19846"/>
                  </a:lnTo>
                  <a:lnTo>
                    <a:pt x="2390" y="19846"/>
                  </a:lnTo>
                  <a:lnTo>
                    <a:pt x="2421" y="19846"/>
                  </a:lnTo>
                  <a:lnTo>
                    <a:pt x="2467" y="19877"/>
                  </a:lnTo>
                  <a:lnTo>
                    <a:pt x="2498" y="19877"/>
                  </a:lnTo>
                  <a:lnTo>
                    <a:pt x="2529" y="19877"/>
                  </a:lnTo>
                  <a:lnTo>
                    <a:pt x="2560" y="19908"/>
                  </a:lnTo>
                  <a:lnTo>
                    <a:pt x="2591" y="19908"/>
                  </a:lnTo>
                  <a:lnTo>
                    <a:pt x="2621" y="19908"/>
                  </a:lnTo>
                  <a:lnTo>
                    <a:pt x="2652" y="19908"/>
                  </a:lnTo>
                  <a:lnTo>
                    <a:pt x="2683" y="19938"/>
                  </a:lnTo>
                  <a:lnTo>
                    <a:pt x="2714" y="19938"/>
                  </a:lnTo>
                  <a:lnTo>
                    <a:pt x="2760" y="19938"/>
                  </a:lnTo>
                  <a:lnTo>
                    <a:pt x="2791" y="19938"/>
                  </a:lnTo>
                  <a:lnTo>
                    <a:pt x="2822" y="19938"/>
                  </a:lnTo>
                  <a:lnTo>
                    <a:pt x="2853" y="19938"/>
                  </a:lnTo>
                  <a:lnTo>
                    <a:pt x="2884" y="19969"/>
                  </a:lnTo>
                  <a:lnTo>
                    <a:pt x="2914" y="19969"/>
                  </a:lnTo>
                  <a:lnTo>
                    <a:pt x="2945" y="19969"/>
                  </a:lnTo>
                  <a:lnTo>
                    <a:pt x="2961" y="19969"/>
                  </a:lnTo>
                  <a:lnTo>
                    <a:pt x="2992" y="19969"/>
                  </a:lnTo>
                  <a:lnTo>
                    <a:pt x="3022" y="19969"/>
                  </a:lnTo>
                  <a:lnTo>
                    <a:pt x="3053" y="19969"/>
                  </a:lnTo>
                  <a:lnTo>
                    <a:pt x="3084" y="19969"/>
                  </a:lnTo>
                  <a:lnTo>
                    <a:pt x="3115" y="19969"/>
                  </a:lnTo>
                  <a:lnTo>
                    <a:pt x="3146" y="19969"/>
                  </a:lnTo>
                  <a:lnTo>
                    <a:pt x="3177" y="19969"/>
                  </a:lnTo>
                  <a:lnTo>
                    <a:pt x="3207" y="19969"/>
                  </a:lnTo>
                  <a:lnTo>
                    <a:pt x="3238" y="19969"/>
                  </a:lnTo>
                  <a:lnTo>
                    <a:pt x="3269" y="19969"/>
                  </a:lnTo>
                  <a:lnTo>
                    <a:pt x="3300" y="19969"/>
                  </a:lnTo>
                  <a:lnTo>
                    <a:pt x="3331" y="20000"/>
                  </a:lnTo>
                  <a:lnTo>
                    <a:pt x="3331" y="20000"/>
                  </a:lnTo>
                  <a:lnTo>
                    <a:pt x="16654" y="20000"/>
                  </a:lnTo>
                  <a:lnTo>
                    <a:pt x="16654" y="20000"/>
                  </a:lnTo>
                  <a:lnTo>
                    <a:pt x="16669" y="19969"/>
                  </a:lnTo>
                  <a:lnTo>
                    <a:pt x="16700" y="19969"/>
                  </a:lnTo>
                  <a:lnTo>
                    <a:pt x="16731" y="19969"/>
                  </a:lnTo>
                  <a:lnTo>
                    <a:pt x="16762" y="19969"/>
                  </a:lnTo>
                  <a:lnTo>
                    <a:pt x="16793" y="19969"/>
                  </a:lnTo>
                  <a:lnTo>
                    <a:pt x="16823" y="19969"/>
                  </a:lnTo>
                  <a:lnTo>
                    <a:pt x="16854" y="19969"/>
                  </a:lnTo>
                  <a:lnTo>
                    <a:pt x="16885" y="19969"/>
                  </a:lnTo>
                  <a:lnTo>
                    <a:pt x="16916" y="19969"/>
                  </a:lnTo>
                  <a:lnTo>
                    <a:pt x="16947" y="19969"/>
                  </a:lnTo>
                  <a:lnTo>
                    <a:pt x="16978" y="19969"/>
                  </a:lnTo>
                  <a:lnTo>
                    <a:pt x="17008" y="19969"/>
                  </a:lnTo>
                  <a:lnTo>
                    <a:pt x="17024" y="19969"/>
                  </a:lnTo>
                  <a:lnTo>
                    <a:pt x="17055" y="19969"/>
                  </a:lnTo>
                  <a:lnTo>
                    <a:pt x="17086" y="19969"/>
                  </a:lnTo>
                  <a:lnTo>
                    <a:pt x="17116" y="19938"/>
                  </a:lnTo>
                  <a:lnTo>
                    <a:pt x="17147" y="19938"/>
                  </a:lnTo>
                  <a:lnTo>
                    <a:pt x="17178" y="19938"/>
                  </a:lnTo>
                  <a:lnTo>
                    <a:pt x="17209" y="19938"/>
                  </a:lnTo>
                  <a:lnTo>
                    <a:pt x="17255" y="19938"/>
                  </a:lnTo>
                  <a:lnTo>
                    <a:pt x="17286" y="19938"/>
                  </a:lnTo>
                  <a:lnTo>
                    <a:pt x="17317" y="19908"/>
                  </a:lnTo>
                  <a:lnTo>
                    <a:pt x="17348" y="19908"/>
                  </a:lnTo>
                  <a:lnTo>
                    <a:pt x="17379" y="19908"/>
                  </a:lnTo>
                  <a:lnTo>
                    <a:pt x="17409" y="19908"/>
                  </a:lnTo>
                  <a:lnTo>
                    <a:pt x="17440" y="19877"/>
                  </a:lnTo>
                  <a:lnTo>
                    <a:pt x="17471" y="19877"/>
                  </a:lnTo>
                  <a:lnTo>
                    <a:pt x="17502" y="19877"/>
                  </a:lnTo>
                  <a:lnTo>
                    <a:pt x="17548" y="19877"/>
                  </a:lnTo>
                  <a:lnTo>
                    <a:pt x="17579" y="19846"/>
                  </a:lnTo>
                  <a:lnTo>
                    <a:pt x="17610" y="19846"/>
                  </a:lnTo>
                  <a:lnTo>
                    <a:pt x="17641" y="19815"/>
                  </a:lnTo>
                  <a:lnTo>
                    <a:pt x="17687" y="19815"/>
                  </a:lnTo>
                  <a:lnTo>
                    <a:pt x="17718" y="19815"/>
                  </a:lnTo>
                  <a:lnTo>
                    <a:pt x="17749" y="19785"/>
                  </a:lnTo>
                  <a:lnTo>
                    <a:pt x="17795" y="19785"/>
                  </a:lnTo>
                  <a:lnTo>
                    <a:pt x="17826" y="19754"/>
                  </a:lnTo>
                  <a:lnTo>
                    <a:pt x="17872" y="19754"/>
                  </a:lnTo>
                  <a:lnTo>
                    <a:pt x="17903" y="19723"/>
                  </a:lnTo>
                  <a:lnTo>
                    <a:pt x="17949" y="19723"/>
                  </a:lnTo>
                  <a:lnTo>
                    <a:pt x="17980" y="19692"/>
                  </a:lnTo>
                  <a:lnTo>
                    <a:pt x="18026" y="19692"/>
                  </a:lnTo>
                  <a:lnTo>
                    <a:pt x="18072" y="19662"/>
                  </a:lnTo>
                  <a:lnTo>
                    <a:pt x="18103" y="19662"/>
                  </a:lnTo>
                  <a:lnTo>
                    <a:pt x="18150" y="19631"/>
                  </a:lnTo>
                  <a:lnTo>
                    <a:pt x="18196" y="19600"/>
                  </a:lnTo>
                  <a:lnTo>
                    <a:pt x="18227" y="19569"/>
                  </a:lnTo>
                  <a:lnTo>
                    <a:pt x="18273" y="19569"/>
                  </a:lnTo>
                  <a:lnTo>
                    <a:pt x="18319" y="19538"/>
                  </a:lnTo>
                  <a:lnTo>
                    <a:pt x="18365" y="19508"/>
                  </a:lnTo>
                  <a:lnTo>
                    <a:pt x="18412" y="19477"/>
                  </a:lnTo>
                  <a:lnTo>
                    <a:pt x="18458" y="19446"/>
                  </a:lnTo>
                  <a:lnTo>
                    <a:pt x="18504" y="19415"/>
                  </a:lnTo>
                  <a:lnTo>
                    <a:pt x="18551" y="19385"/>
                  </a:lnTo>
                  <a:lnTo>
                    <a:pt x="18597" y="19354"/>
                  </a:lnTo>
                  <a:lnTo>
                    <a:pt x="18643" y="19323"/>
                  </a:lnTo>
                  <a:lnTo>
                    <a:pt x="18689" y="19292"/>
                  </a:lnTo>
                  <a:lnTo>
                    <a:pt x="18736" y="19231"/>
                  </a:lnTo>
                  <a:lnTo>
                    <a:pt x="18797" y="19200"/>
                  </a:lnTo>
                  <a:lnTo>
                    <a:pt x="18843" y="19169"/>
                  </a:lnTo>
                  <a:lnTo>
                    <a:pt x="18890" y="19108"/>
                  </a:lnTo>
                  <a:lnTo>
                    <a:pt x="18951" y="19077"/>
                  </a:lnTo>
                  <a:lnTo>
                    <a:pt x="18998" y="19015"/>
                  </a:lnTo>
                  <a:lnTo>
                    <a:pt x="19044" y="18954"/>
                  </a:lnTo>
                  <a:lnTo>
                    <a:pt x="19106" y="18923"/>
                  </a:lnTo>
                  <a:lnTo>
                    <a:pt x="19152" y="18862"/>
                  </a:lnTo>
                  <a:lnTo>
                    <a:pt x="19198" y="18800"/>
                  </a:lnTo>
                  <a:lnTo>
                    <a:pt x="19260" y="18738"/>
                  </a:lnTo>
                  <a:lnTo>
                    <a:pt x="19306" y="18677"/>
                  </a:lnTo>
                  <a:lnTo>
                    <a:pt x="19352" y="18585"/>
                  </a:lnTo>
                  <a:lnTo>
                    <a:pt x="19399" y="18523"/>
                  </a:lnTo>
                  <a:lnTo>
                    <a:pt x="19460" y="18462"/>
                  </a:lnTo>
                  <a:lnTo>
                    <a:pt x="19507" y="18369"/>
                  </a:lnTo>
                  <a:lnTo>
                    <a:pt x="19553" y="18308"/>
                  </a:lnTo>
                  <a:lnTo>
                    <a:pt x="19599" y="18215"/>
                  </a:lnTo>
                  <a:lnTo>
                    <a:pt x="19645" y="18123"/>
                  </a:lnTo>
                  <a:lnTo>
                    <a:pt x="19692" y="18031"/>
                  </a:lnTo>
                  <a:lnTo>
                    <a:pt x="19722" y="17938"/>
                  </a:lnTo>
                  <a:lnTo>
                    <a:pt x="19769" y="17846"/>
                  </a:lnTo>
                  <a:lnTo>
                    <a:pt x="19800" y="17754"/>
                  </a:lnTo>
                  <a:lnTo>
                    <a:pt x="19830" y="17631"/>
                  </a:lnTo>
                  <a:lnTo>
                    <a:pt x="19861" y="17538"/>
                  </a:lnTo>
                  <a:lnTo>
                    <a:pt x="19892" y="17415"/>
                  </a:lnTo>
                  <a:lnTo>
                    <a:pt x="19923" y="17323"/>
                  </a:lnTo>
                  <a:lnTo>
                    <a:pt x="19938" y="17200"/>
                  </a:lnTo>
                  <a:lnTo>
                    <a:pt x="19954" y="17108"/>
                  </a:lnTo>
                  <a:lnTo>
                    <a:pt x="19969" y="16985"/>
                  </a:lnTo>
                  <a:lnTo>
                    <a:pt x="19985" y="16862"/>
                  </a:lnTo>
                  <a:lnTo>
                    <a:pt x="19985" y="16738"/>
                  </a:lnTo>
                  <a:lnTo>
                    <a:pt x="19985" y="16646"/>
                  </a:lnTo>
                  <a:lnTo>
                    <a:pt x="20000" y="3323"/>
                  </a:lnTo>
                  <a:lnTo>
                    <a:pt x="20000" y="3323"/>
                  </a:lnTo>
                  <a:lnTo>
                    <a:pt x="19985" y="3200"/>
                  </a:lnTo>
                  <a:lnTo>
                    <a:pt x="19985" y="3077"/>
                  </a:lnTo>
                  <a:lnTo>
                    <a:pt x="19969" y="2954"/>
                  </a:lnTo>
                  <a:lnTo>
                    <a:pt x="19954" y="2831"/>
                  </a:lnTo>
                  <a:lnTo>
                    <a:pt x="19938" y="2738"/>
                  </a:lnTo>
                  <a:lnTo>
                    <a:pt x="19923" y="2615"/>
                  </a:lnTo>
                  <a:lnTo>
                    <a:pt x="19892" y="2523"/>
                  </a:lnTo>
                  <a:lnTo>
                    <a:pt x="19861" y="2400"/>
                  </a:lnTo>
                  <a:lnTo>
                    <a:pt x="19830" y="2308"/>
                  </a:lnTo>
                  <a:lnTo>
                    <a:pt x="19800" y="2185"/>
                  </a:lnTo>
                  <a:lnTo>
                    <a:pt x="19769" y="2092"/>
                  </a:lnTo>
                  <a:lnTo>
                    <a:pt x="19722" y="2000"/>
                  </a:lnTo>
                  <a:lnTo>
                    <a:pt x="19676" y="1908"/>
                  </a:lnTo>
                  <a:lnTo>
                    <a:pt x="19645" y="1815"/>
                  </a:lnTo>
                  <a:lnTo>
                    <a:pt x="19599" y="1723"/>
                  </a:lnTo>
                  <a:lnTo>
                    <a:pt x="19553" y="1662"/>
                  </a:lnTo>
                  <a:lnTo>
                    <a:pt x="19491" y="1569"/>
                  </a:lnTo>
                  <a:lnTo>
                    <a:pt x="19445" y="1477"/>
                  </a:lnTo>
                  <a:lnTo>
                    <a:pt x="19399" y="1415"/>
                  </a:lnTo>
                  <a:lnTo>
                    <a:pt x="19352" y="1354"/>
                  </a:lnTo>
                  <a:lnTo>
                    <a:pt x="19291" y="1292"/>
                  </a:lnTo>
                  <a:lnTo>
                    <a:pt x="19244" y="1200"/>
                  </a:lnTo>
                  <a:lnTo>
                    <a:pt x="19198" y="1138"/>
                  </a:lnTo>
                  <a:lnTo>
                    <a:pt x="19136" y="1077"/>
                  </a:lnTo>
                  <a:lnTo>
                    <a:pt x="19090" y="1046"/>
                  </a:lnTo>
                  <a:lnTo>
                    <a:pt x="19029" y="985"/>
                  </a:lnTo>
                  <a:lnTo>
                    <a:pt x="18982" y="923"/>
                  </a:lnTo>
                  <a:lnTo>
                    <a:pt x="18936" y="892"/>
                  </a:lnTo>
                  <a:lnTo>
                    <a:pt x="18874" y="831"/>
                  </a:lnTo>
                  <a:lnTo>
                    <a:pt x="18828" y="800"/>
                  </a:lnTo>
                  <a:lnTo>
                    <a:pt x="18782" y="738"/>
                  </a:lnTo>
                  <a:lnTo>
                    <a:pt x="18736" y="708"/>
                  </a:lnTo>
                  <a:lnTo>
                    <a:pt x="18674" y="677"/>
                  </a:lnTo>
                  <a:lnTo>
                    <a:pt x="18628" y="646"/>
                  </a:lnTo>
                  <a:lnTo>
                    <a:pt x="18581" y="585"/>
                  </a:lnTo>
                  <a:lnTo>
                    <a:pt x="18535" y="554"/>
                  </a:lnTo>
                  <a:lnTo>
                    <a:pt x="18489" y="523"/>
                  </a:lnTo>
                  <a:lnTo>
                    <a:pt x="18443" y="492"/>
                  </a:lnTo>
                  <a:lnTo>
                    <a:pt x="18396" y="462"/>
                  </a:lnTo>
                  <a:lnTo>
                    <a:pt x="18350" y="462"/>
                  </a:lnTo>
                  <a:lnTo>
                    <a:pt x="18304" y="431"/>
                  </a:lnTo>
                  <a:lnTo>
                    <a:pt x="18258" y="400"/>
                  </a:lnTo>
                  <a:lnTo>
                    <a:pt x="18227" y="369"/>
                  </a:lnTo>
                  <a:lnTo>
                    <a:pt x="18180" y="338"/>
                  </a:lnTo>
                  <a:lnTo>
                    <a:pt x="18134" y="338"/>
                  </a:lnTo>
                  <a:lnTo>
                    <a:pt x="18103" y="308"/>
                  </a:lnTo>
                  <a:lnTo>
                    <a:pt x="18057" y="308"/>
                  </a:lnTo>
                  <a:lnTo>
                    <a:pt x="18011" y="277"/>
                  </a:lnTo>
                  <a:lnTo>
                    <a:pt x="17980" y="246"/>
                  </a:lnTo>
                  <a:lnTo>
                    <a:pt x="17934" y="246"/>
                  </a:lnTo>
                  <a:lnTo>
                    <a:pt x="17903" y="215"/>
                  </a:lnTo>
                  <a:lnTo>
                    <a:pt x="17857" y="215"/>
                  </a:lnTo>
                  <a:lnTo>
                    <a:pt x="17826" y="185"/>
                  </a:lnTo>
                  <a:lnTo>
                    <a:pt x="17779" y="185"/>
                  </a:lnTo>
                  <a:lnTo>
                    <a:pt x="17749" y="185"/>
                  </a:lnTo>
                  <a:lnTo>
                    <a:pt x="17718" y="154"/>
                  </a:lnTo>
                  <a:lnTo>
                    <a:pt x="17672" y="154"/>
                  </a:lnTo>
                  <a:lnTo>
                    <a:pt x="17641" y="123"/>
                  </a:lnTo>
                  <a:lnTo>
                    <a:pt x="17610" y="123"/>
                  </a:lnTo>
                  <a:lnTo>
                    <a:pt x="17564" y="123"/>
                  </a:lnTo>
                  <a:lnTo>
                    <a:pt x="17533" y="92"/>
                  </a:lnTo>
                  <a:lnTo>
                    <a:pt x="17502" y="92"/>
                  </a:lnTo>
                  <a:lnTo>
                    <a:pt x="17471" y="92"/>
                  </a:lnTo>
                  <a:lnTo>
                    <a:pt x="17440" y="92"/>
                  </a:lnTo>
                  <a:lnTo>
                    <a:pt x="17409" y="62"/>
                  </a:lnTo>
                  <a:lnTo>
                    <a:pt x="17363" y="62"/>
                  </a:lnTo>
                  <a:lnTo>
                    <a:pt x="17332" y="62"/>
                  </a:lnTo>
                  <a:lnTo>
                    <a:pt x="17301" y="62"/>
                  </a:lnTo>
                  <a:lnTo>
                    <a:pt x="17271" y="31"/>
                  </a:lnTo>
                  <a:lnTo>
                    <a:pt x="17240" y="31"/>
                  </a:lnTo>
                  <a:lnTo>
                    <a:pt x="17209" y="31"/>
                  </a:lnTo>
                  <a:lnTo>
                    <a:pt x="17178" y="31"/>
                  </a:lnTo>
                  <a:lnTo>
                    <a:pt x="17147" y="31"/>
                  </a:lnTo>
                  <a:lnTo>
                    <a:pt x="17116" y="31"/>
                  </a:lnTo>
                  <a:lnTo>
                    <a:pt x="17086" y="0"/>
                  </a:lnTo>
                  <a:lnTo>
                    <a:pt x="17055" y="0"/>
                  </a:lnTo>
                  <a:lnTo>
                    <a:pt x="17024" y="0"/>
                  </a:lnTo>
                  <a:lnTo>
                    <a:pt x="16993" y="0"/>
                  </a:lnTo>
                  <a:lnTo>
                    <a:pt x="16962" y="0"/>
                  </a:lnTo>
                  <a:lnTo>
                    <a:pt x="16931" y="0"/>
                  </a:lnTo>
                  <a:lnTo>
                    <a:pt x="16916" y="0"/>
                  </a:lnTo>
                  <a:lnTo>
                    <a:pt x="16885" y="0"/>
                  </a:lnTo>
                  <a:lnTo>
                    <a:pt x="16854" y="0"/>
                  </a:lnTo>
                  <a:lnTo>
                    <a:pt x="16823" y="0"/>
                  </a:lnTo>
                  <a:lnTo>
                    <a:pt x="16793" y="0"/>
                  </a:lnTo>
                  <a:lnTo>
                    <a:pt x="16762" y="0"/>
                  </a:lnTo>
                  <a:lnTo>
                    <a:pt x="16731" y="0"/>
                  </a:lnTo>
                  <a:lnTo>
                    <a:pt x="16700" y="0"/>
                  </a:lnTo>
                  <a:lnTo>
                    <a:pt x="16669" y="0"/>
                  </a:lnTo>
                  <a:lnTo>
                    <a:pt x="16654" y="0"/>
                  </a:lnTo>
                  <a:lnTo>
                    <a:pt x="16654" y="0"/>
                  </a:lnTo>
                  <a:lnTo>
                    <a:pt x="3331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98400" y="4395600"/>
              <a:ext cx="1624320" cy="5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Открытый ключ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347560" y="4340880"/>
            <a:ext cx="18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Откры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клю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48360" y="4365720"/>
            <a:ext cx="1800000" cy="628560"/>
            <a:chOff x="5148360" y="4365720"/>
            <a:chExt cx="1800000" cy="628560"/>
          </a:xfrm>
        </p:grpSpPr>
        <p:sp>
          <p:nvSpPr>
            <p:cNvPr id="174" name=""/>
            <p:cNvSpPr/>
            <p:nvPr/>
          </p:nvSpPr>
          <p:spPr>
            <a:xfrm>
              <a:off x="5148360" y="4365720"/>
              <a:ext cx="1800000" cy="628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331" y="0"/>
                  </a:moveTo>
                  <a:lnTo>
                    <a:pt x="3331" y="0"/>
                  </a:lnTo>
                  <a:lnTo>
                    <a:pt x="3300" y="0"/>
                  </a:lnTo>
                  <a:lnTo>
                    <a:pt x="3269" y="0"/>
                  </a:lnTo>
                  <a:lnTo>
                    <a:pt x="3238" y="0"/>
                  </a:lnTo>
                  <a:lnTo>
                    <a:pt x="3207" y="0"/>
                  </a:lnTo>
                  <a:lnTo>
                    <a:pt x="3177" y="0"/>
                  </a:lnTo>
                  <a:lnTo>
                    <a:pt x="3146" y="0"/>
                  </a:lnTo>
                  <a:lnTo>
                    <a:pt x="3115" y="0"/>
                  </a:lnTo>
                  <a:lnTo>
                    <a:pt x="3084" y="0"/>
                  </a:lnTo>
                  <a:lnTo>
                    <a:pt x="3053" y="0"/>
                  </a:lnTo>
                  <a:lnTo>
                    <a:pt x="3038" y="0"/>
                  </a:lnTo>
                  <a:lnTo>
                    <a:pt x="3007" y="0"/>
                  </a:lnTo>
                  <a:lnTo>
                    <a:pt x="2976" y="0"/>
                  </a:lnTo>
                  <a:lnTo>
                    <a:pt x="2945" y="0"/>
                  </a:lnTo>
                  <a:lnTo>
                    <a:pt x="2914" y="0"/>
                  </a:lnTo>
                  <a:lnTo>
                    <a:pt x="2884" y="0"/>
                  </a:lnTo>
                  <a:lnTo>
                    <a:pt x="2853" y="31"/>
                  </a:lnTo>
                  <a:lnTo>
                    <a:pt x="2822" y="31"/>
                  </a:lnTo>
                  <a:lnTo>
                    <a:pt x="2791" y="31"/>
                  </a:lnTo>
                  <a:lnTo>
                    <a:pt x="2760" y="31"/>
                  </a:lnTo>
                  <a:lnTo>
                    <a:pt x="2729" y="31"/>
                  </a:lnTo>
                  <a:lnTo>
                    <a:pt x="2699" y="31"/>
                  </a:lnTo>
                  <a:lnTo>
                    <a:pt x="2668" y="62"/>
                  </a:lnTo>
                  <a:lnTo>
                    <a:pt x="2637" y="62"/>
                  </a:lnTo>
                  <a:lnTo>
                    <a:pt x="2606" y="62"/>
                  </a:lnTo>
                  <a:lnTo>
                    <a:pt x="2560" y="62"/>
                  </a:lnTo>
                  <a:lnTo>
                    <a:pt x="2529" y="92"/>
                  </a:lnTo>
                  <a:lnTo>
                    <a:pt x="2498" y="92"/>
                  </a:lnTo>
                  <a:lnTo>
                    <a:pt x="2467" y="92"/>
                  </a:lnTo>
                  <a:lnTo>
                    <a:pt x="2436" y="92"/>
                  </a:lnTo>
                  <a:lnTo>
                    <a:pt x="2406" y="123"/>
                  </a:lnTo>
                  <a:lnTo>
                    <a:pt x="2359" y="123"/>
                  </a:lnTo>
                  <a:lnTo>
                    <a:pt x="2328" y="123"/>
                  </a:lnTo>
                  <a:lnTo>
                    <a:pt x="2298" y="154"/>
                  </a:lnTo>
                  <a:lnTo>
                    <a:pt x="2251" y="154"/>
                  </a:lnTo>
                  <a:lnTo>
                    <a:pt x="2221" y="185"/>
                  </a:lnTo>
                  <a:lnTo>
                    <a:pt x="2190" y="185"/>
                  </a:lnTo>
                  <a:lnTo>
                    <a:pt x="2143" y="185"/>
                  </a:lnTo>
                  <a:lnTo>
                    <a:pt x="2113" y="215"/>
                  </a:lnTo>
                  <a:lnTo>
                    <a:pt x="2066" y="215"/>
                  </a:lnTo>
                  <a:lnTo>
                    <a:pt x="2035" y="246"/>
                  </a:lnTo>
                  <a:lnTo>
                    <a:pt x="1989" y="246"/>
                  </a:lnTo>
                  <a:lnTo>
                    <a:pt x="1958" y="277"/>
                  </a:lnTo>
                  <a:lnTo>
                    <a:pt x="1912" y="308"/>
                  </a:lnTo>
                  <a:lnTo>
                    <a:pt x="1881" y="308"/>
                  </a:lnTo>
                  <a:lnTo>
                    <a:pt x="1835" y="338"/>
                  </a:lnTo>
                  <a:lnTo>
                    <a:pt x="1789" y="369"/>
                  </a:lnTo>
                  <a:lnTo>
                    <a:pt x="1742" y="369"/>
                  </a:lnTo>
                  <a:lnTo>
                    <a:pt x="1712" y="400"/>
                  </a:lnTo>
                  <a:lnTo>
                    <a:pt x="1665" y="431"/>
                  </a:lnTo>
                  <a:lnTo>
                    <a:pt x="1619" y="462"/>
                  </a:lnTo>
                  <a:lnTo>
                    <a:pt x="1573" y="492"/>
                  </a:lnTo>
                  <a:lnTo>
                    <a:pt x="1527" y="523"/>
                  </a:lnTo>
                  <a:lnTo>
                    <a:pt x="1480" y="554"/>
                  </a:lnTo>
                  <a:lnTo>
                    <a:pt x="1434" y="585"/>
                  </a:lnTo>
                  <a:lnTo>
                    <a:pt x="1388" y="615"/>
                  </a:lnTo>
                  <a:lnTo>
                    <a:pt x="1342" y="646"/>
                  </a:lnTo>
                  <a:lnTo>
                    <a:pt x="1295" y="677"/>
                  </a:lnTo>
                  <a:lnTo>
                    <a:pt x="1249" y="708"/>
                  </a:lnTo>
                  <a:lnTo>
                    <a:pt x="1187" y="738"/>
                  </a:lnTo>
                  <a:lnTo>
                    <a:pt x="1141" y="800"/>
                  </a:lnTo>
                  <a:lnTo>
                    <a:pt x="1095" y="831"/>
                  </a:lnTo>
                  <a:lnTo>
                    <a:pt x="1049" y="892"/>
                  </a:lnTo>
                  <a:lnTo>
                    <a:pt x="987" y="923"/>
                  </a:lnTo>
                  <a:lnTo>
                    <a:pt x="941" y="985"/>
                  </a:lnTo>
                  <a:lnTo>
                    <a:pt x="894" y="1046"/>
                  </a:lnTo>
                  <a:lnTo>
                    <a:pt x="833" y="1108"/>
                  </a:lnTo>
                  <a:lnTo>
                    <a:pt x="786" y="1169"/>
                  </a:lnTo>
                  <a:lnTo>
                    <a:pt x="725" y="1231"/>
                  </a:lnTo>
                  <a:lnTo>
                    <a:pt x="678" y="1292"/>
                  </a:lnTo>
                  <a:lnTo>
                    <a:pt x="632" y="1354"/>
                  </a:lnTo>
                  <a:lnTo>
                    <a:pt x="586" y="1415"/>
                  </a:lnTo>
                  <a:lnTo>
                    <a:pt x="524" y="1508"/>
                  </a:lnTo>
                  <a:lnTo>
                    <a:pt x="478" y="1569"/>
                  </a:lnTo>
                  <a:lnTo>
                    <a:pt x="432" y="1662"/>
                  </a:lnTo>
                  <a:lnTo>
                    <a:pt x="386" y="1723"/>
                  </a:lnTo>
                  <a:lnTo>
                    <a:pt x="339" y="1815"/>
                  </a:lnTo>
                  <a:lnTo>
                    <a:pt x="293" y="1908"/>
                  </a:lnTo>
                  <a:lnTo>
                    <a:pt x="262" y="2000"/>
                  </a:lnTo>
                  <a:lnTo>
                    <a:pt x="216" y="2092"/>
                  </a:lnTo>
                  <a:lnTo>
                    <a:pt x="185" y="2215"/>
                  </a:lnTo>
                  <a:lnTo>
                    <a:pt x="154" y="2308"/>
                  </a:lnTo>
                  <a:lnTo>
                    <a:pt x="123" y="2400"/>
                  </a:lnTo>
                  <a:lnTo>
                    <a:pt x="93" y="2523"/>
                  </a:lnTo>
                  <a:lnTo>
                    <a:pt x="62" y="2615"/>
                  </a:lnTo>
                  <a:lnTo>
                    <a:pt x="46" y="2738"/>
                  </a:lnTo>
                  <a:lnTo>
                    <a:pt x="31" y="2862"/>
                  </a:lnTo>
                  <a:lnTo>
                    <a:pt x="15" y="2954"/>
                  </a:lnTo>
                  <a:lnTo>
                    <a:pt x="0" y="3077"/>
                  </a:lnTo>
                  <a:lnTo>
                    <a:pt x="0" y="3200"/>
                  </a:lnTo>
                  <a:lnTo>
                    <a:pt x="0" y="3292"/>
                  </a:lnTo>
                  <a:lnTo>
                    <a:pt x="0" y="16646"/>
                  </a:lnTo>
                  <a:lnTo>
                    <a:pt x="0" y="16646"/>
                  </a:lnTo>
                  <a:lnTo>
                    <a:pt x="0" y="16738"/>
                  </a:lnTo>
                  <a:lnTo>
                    <a:pt x="0" y="16862"/>
                  </a:lnTo>
                  <a:lnTo>
                    <a:pt x="15" y="16985"/>
                  </a:lnTo>
                  <a:lnTo>
                    <a:pt x="31" y="17077"/>
                  </a:lnTo>
                  <a:lnTo>
                    <a:pt x="46" y="17200"/>
                  </a:lnTo>
                  <a:lnTo>
                    <a:pt x="62" y="17323"/>
                  </a:lnTo>
                  <a:lnTo>
                    <a:pt x="93" y="17415"/>
                  </a:lnTo>
                  <a:lnTo>
                    <a:pt x="108" y="17538"/>
                  </a:lnTo>
                  <a:lnTo>
                    <a:pt x="139" y="17631"/>
                  </a:lnTo>
                  <a:lnTo>
                    <a:pt x="185" y="17723"/>
                  </a:lnTo>
                  <a:lnTo>
                    <a:pt x="216" y="17846"/>
                  </a:lnTo>
                  <a:lnTo>
                    <a:pt x="247" y="17938"/>
                  </a:lnTo>
                  <a:lnTo>
                    <a:pt x="293" y="18031"/>
                  </a:lnTo>
                  <a:lnTo>
                    <a:pt x="339" y="18123"/>
                  </a:lnTo>
                  <a:lnTo>
                    <a:pt x="386" y="18215"/>
                  </a:lnTo>
                  <a:lnTo>
                    <a:pt x="432" y="18277"/>
                  </a:lnTo>
                  <a:lnTo>
                    <a:pt x="478" y="18369"/>
                  </a:lnTo>
                  <a:lnTo>
                    <a:pt x="524" y="18462"/>
                  </a:lnTo>
                  <a:lnTo>
                    <a:pt x="571" y="18523"/>
                  </a:lnTo>
                  <a:lnTo>
                    <a:pt x="617" y="18585"/>
                  </a:lnTo>
                  <a:lnTo>
                    <a:pt x="678" y="18646"/>
                  </a:lnTo>
                  <a:lnTo>
                    <a:pt x="725" y="18738"/>
                  </a:lnTo>
                  <a:lnTo>
                    <a:pt x="771" y="18800"/>
                  </a:lnTo>
                  <a:lnTo>
                    <a:pt x="833" y="18862"/>
                  </a:lnTo>
                  <a:lnTo>
                    <a:pt x="879" y="18892"/>
                  </a:lnTo>
                  <a:lnTo>
                    <a:pt x="925" y="18954"/>
                  </a:lnTo>
                  <a:lnTo>
                    <a:pt x="987" y="19015"/>
                  </a:lnTo>
                  <a:lnTo>
                    <a:pt x="1033" y="19077"/>
                  </a:lnTo>
                  <a:lnTo>
                    <a:pt x="1079" y="19108"/>
                  </a:lnTo>
                  <a:lnTo>
                    <a:pt x="1126" y="19169"/>
                  </a:lnTo>
                  <a:lnTo>
                    <a:pt x="1187" y="19200"/>
                  </a:lnTo>
                  <a:lnTo>
                    <a:pt x="1234" y="19231"/>
                  </a:lnTo>
                  <a:lnTo>
                    <a:pt x="1280" y="19292"/>
                  </a:lnTo>
                  <a:lnTo>
                    <a:pt x="1326" y="19323"/>
                  </a:lnTo>
                  <a:lnTo>
                    <a:pt x="1372" y="19354"/>
                  </a:lnTo>
                  <a:lnTo>
                    <a:pt x="1419" y="19385"/>
                  </a:lnTo>
                  <a:lnTo>
                    <a:pt x="1465" y="19415"/>
                  </a:lnTo>
                  <a:lnTo>
                    <a:pt x="1511" y="19446"/>
                  </a:lnTo>
                  <a:lnTo>
                    <a:pt x="1557" y="19477"/>
                  </a:lnTo>
                  <a:lnTo>
                    <a:pt x="1604" y="19508"/>
                  </a:lnTo>
                  <a:lnTo>
                    <a:pt x="1650" y="19538"/>
                  </a:lnTo>
                  <a:lnTo>
                    <a:pt x="1696" y="19569"/>
                  </a:lnTo>
                  <a:lnTo>
                    <a:pt x="1742" y="19569"/>
                  </a:lnTo>
                  <a:lnTo>
                    <a:pt x="1773" y="19600"/>
                  </a:lnTo>
                  <a:lnTo>
                    <a:pt x="1820" y="19631"/>
                  </a:lnTo>
                  <a:lnTo>
                    <a:pt x="1866" y="19631"/>
                  </a:lnTo>
                  <a:lnTo>
                    <a:pt x="1912" y="19662"/>
                  </a:lnTo>
                  <a:lnTo>
                    <a:pt x="1943" y="19692"/>
                  </a:lnTo>
                  <a:lnTo>
                    <a:pt x="1989" y="19692"/>
                  </a:lnTo>
                  <a:lnTo>
                    <a:pt x="2020" y="19723"/>
                  </a:lnTo>
                  <a:lnTo>
                    <a:pt x="2066" y="19723"/>
                  </a:lnTo>
                  <a:lnTo>
                    <a:pt x="2097" y="19754"/>
                  </a:lnTo>
                  <a:lnTo>
                    <a:pt x="2143" y="19754"/>
                  </a:lnTo>
                  <a:lnTo>
                    <a:pt x="2174" y="19785"/>
                  </a:lnTo>
                  <a:lnTo>
                    <a:pt x="2221" y="19785"/>
                  </a:lnTo>
                  <a:lnTo>
                    <a:pt x="2251" y="19815"/>
                  </a:lnTo>
                  <a:lnTo>
                    <a:pt x="2282" y="19815"/>
                  </a:lnTo>
                  <a:lnTo>
                    <a:pt x="2328" y="19815"/>
                  </a:lnTo>
                  <a:lnTo>
                    <a:pt x="2359" y="19846"/>
                  </a:lnTo>
                  <a:lnTo>
                    <a:pt x="2390" y="19846"/>
                  </a:lnTo>
                  <a:lnTo>
                    <a:pt x="2421" y="19846"/>
                  </a:lnTo>
                  <a:lnTo>
                    <a:pt x="2467" y="19877"/>
                  </a:lnTo>
                  <a:lnTo>
                    <a:pt x="2498" y="19877"/>
                  </a:lnTo>
                  <a:lnTo>
                    <a:pt x="2529" y="19877"/>
                  </a:lnTo>
                  <a:lnTo>
                    <a:pt x="2560" y="19908"/>
                  </a:lnTo>
                  <a:lnTo>
                    <a:pt x="2591" y="19908"/>
                  </a:lnTo>
                  <a:lnTo>
                    <a:pt x="2621" y="19908"/>
                  </a:lnTo>
                  <a:lnTo>
                    <a:pt x="2652" y="19908"/>
                  </a:lnTo>
                  <a:lnTo>
                    <a:pt x="2683" y="19938"/>
                  </a:lnTo>
                  <a:lnTo>
                    <a:pt x="2714" y="19938"/>
                  </a:lnTo>
                  <a:lnTo>
                    <a:pt x="2760" y="19938"/>
                  </a:lnTo>
                  <a:lnTo>
                    <a:pt x="2791" y="19938"/>
                  </a:lnTo>
                  <a:lnTo>
                    <a:pt x="2822" y="19938"/>
                  </a:lnTo>
                  <a:lnTo>
                    <a:pt x="2853" y="19938"/>
                  </a:lnTo>
                  <a:lnTo>
                    <a:pt x="2884" y="19969"/>
                  </a:lnTo>
                  <a:lnTo>
                    <a:pt x="2914" y="19969"/>
                  </a:lnTo>
                  <a:lnTo>
                    <a:pt x="2945" y="19969"/>
                  </a:lnTo>
                  <a:lnTo>
                    <a:pt x="2961" y="19969"/>
                  </a:lnTo>
                  <a:lnTo>
                    <a:pt x="2992" y="19969"/>
                  </a:lnTo>
                  <a:lnTo>
                    <a:pt x="3022" y="19969"/>
                  </a:lnTo>
                  <a:lnTo>
                    <a:pt x="3053" y="19969"/>
                  </a:lnTo>
                  <a:lnTo>
                    <a:pt x="3084" y="19969"/>
                  </a:lnTo>
                  <a:lnTo>
                    <a:pt x="3115" y="19969"/>
                  </a:lnTo>
                  <a:lnTo>
                    <a:pt x="3146" y="19969"/>
                  </a:lnTo>
                  <a:lnTo>
                    <a:pt x="3177" y="19969"/>
                  </a:lnTo>
                  <a:lnTo>
                    <a:pt x="3207" y="19969"/>
                  </a:lnTo>
                  <a:lnTo>
                    <a:pt x="3238" y="19969"/>
                  </a:lnTo>
                  <a:lnTo>
                    <a:pt x="3269" y="19969"/>
                  </a:lnTo>
                  <a:lnTo>
                    <a:pt x="3300" y="19969"/>
                  </a:lnTo>
                  <a:lnTo>
                    <a:pt x="3331" y="20000"/>
                  </a:lnTo>
                  <a:lnTo>
                    <a:pt x="3331" y="20000"/>
                  </a:lnTo>
                  <a:lnTo>
                    <a:pt x="16654" y="20000"/>
                  </a:lnTo>
                  <a:lnTo>
                    <a:pt x="16654" y="20000"/>
                  </a:lnTo>
                  <a:lnTo>
                    <a:pt x="16669" y="19969"/>
                  </a:lnTo>
                  <a:lnTo>
                    <a:pt x="16700" y="19969"/>
                  </a:lnTo>
                  <a:lnTo>
                    <a:pt x="16731" y="19969"/>
                  </a:lnTo>
                  <a:lnTo>
                    <a:pt x="16762" y="19969"/>
                  </a:lnTo>
                  <a:lnTo>
                    <a:pt x="16793" y="19969"/>
                  </a:lnTo>
                  <a:lnTo>
                    <a:pt x="16823" y="19969"/>
                  </a:lnTo>
                  <a:lnTo>
                    <a:pt x="16854" y="19969"/>
                  </a:lnTo>
                  <a:lnTo>
                    <a:pt x="16885" y="19969"/>
                  </a:lnTo>
                  <a:lnTo>
                    <a:pt x="16916" y="19969"/>
                  </a:lnTo>
                  <a:lnTo>
                    <a:pt x="16947" y="19969"/>
                  </a:lnTo>
                  <a:lnTo>
                    <a:pt x="16978" y="19969"/>
                  </a:lnTo>
                  <a:lnTo>
                    <a:pt x="17008" y="19969"/>
                  </a:lnTo>
                  <a:lnTo>
                    <a:pt x="17024" y="19969"/>
                  </a:lnTo>
                  <a:lnTo>
                    <a:pt x="17055" y="19969"/>
                  </a:lnTo>
                  <a:lnTo>
                    <a:pt x="17086" y="19969"/>
                  </a:lnTo>
                  <a:lnTo>
                    <a:pt x="17116" y="19938"/>
                  </a:lnTo>
                  <a:lnTo>
                    <a:pt x="17147" y="19938"/>
                  </a:lnTo>
                  <a:lnTo>
                    <a:pt x="17178" y="19938"/>
                  </a:lnTo>
                  <a:lnTo>
                    <a:pt x="17209" y="19938"/>
                  </a:lnTo>
                  <a:lnTo>
                    <a:pt x="17255" y="19938"/>
                  </a:lnTo>
                  <a:lnTo>
                    <a:pt x="17286" y="19938"/>
                  </a:lnTo>
                  <a:lnTo>
                    <a:pt x="17317" y="19908"/>
                  </a:lnTo>
                  <a:lnTo>
                    <a:pt x="17348" y="19908"/>
                  </a:lnTo>
                  <a:lnTo>
                    <a:pt x="17379" y="19908"/>
                  </a:lnTo>
                  <a:lnTo>
                    <a:pt x="17409" y="19908"/>
                  </a:lnTo>
                  <a:lnTo>
                    <a:pt x="17440" y="19877"/>
                  </a:lnTo>
                  <a:lnTo>
                    <a:pt x="17471" y="19877"/>
                  </a:lnTo>
                  <a:lnTo>
                    <a:pt x="17502" y="19877"/>
                  </a:lnTo>
                  <a:lnTo>
                    <a:pt x="17548" y="19877"/>
                  </a:lnTo>
                  <a:lnTo>
                    <a:pt x="17579" y="19846"/>
                  </a:lnTo>
                  <a:lnTo>
                    <a:pt x="17610" y="19846"/>
                  </a:lnTo>
                  <a:lnTo>
                    <a:pt x="17641" y="19815"/>
                  </a:lnTo>
                  <a:lnTo>
                    <a:pt x="17687" y="19815"/>
                  </a:lnTo>
                  <a:lnTo>
                    <a:pt x="17718" y="19815"/>
                  </a:lnTo>
                  <a:lnTo>
                    <a:pt x="17749" y="19785"/>
                  </a:lnTo>
                  <a:lnTo>
                    <a:pt x="17795" y="19785"/>
                  </a:lnTo>
                  <a:lnTo>
                    <a:pt x="17826" y="19754"/>
                  </a:lnTo>
                  <a:lnTo>
                    <a:pt x="17872" y="19754"/>
                  </a:lnTo>
                  <a:lnTo>
                    <a:pt x="17903" y="19723"/>
                  </a:lnTo>
                  <a:lnTo>
                    <a:pt x="17949" y="19723"/>
                  </a:lnTo>
                  <a:lnTo>
                    <a:pt x="17980" y="19692"/>
                  </a:lnTo>
                  <a:lnTo>
                    <a:pt x="18026" y="19692"/>
                  </a:lnTo>
                  <a:lnTo>
                    <a:pt x="18072" y="19662"/>
                  </a:lnTo>
                  <a:lnTo>
                    <a:pt x="18103" y="19662"/>
                  </a:lnTo>
                  <a:lnTo>
                    <a:pt x="18150" y="19631"/>
                  </a:lnTo>
                  <a:lnTo>
                    <a:pt x="18196" y="19600"/>
                  </a:lnTo>
                  <a:lnTo>
                    <a:pt x="18227" y="19569"/>
                  </a:lnTo>
                  <a:lnTo>
                    <a:pt x="18273" y="19569"/>
                  </a:lnTo>
                  <a:lnTo>
                    <a:pt x="18319" y="19538"/>
                  </a:lnTo>
                  <a:lnTo>
                    <a:pt x="18365" y="19508"/>
                  </a:lnTo>
                  <a:lnTo>
                    <a:pt x="18412" y="19477"/>
                  </a:lnTo>
                  <a:lnTo>
                    <a:pt x="18458" y="19446"/>
                  </a:lnTo>
                  <a:lnTo>
                    <a:pt x="18504" y="19415"/>
                  </a:lnTo>
                  <a:lnTo>
                    <a:pt x="18551" y="19385"/>
                  </a:lnTo>
                  <a:lnTo>
                    <a:pt x="18597" y="19354"/>
                  </a:lnTo>
                  <a:lnTo>
                    <a:pt x="18643" y="19323"/>
                  </a:lnTo>
                  <a:lnTo>
                    <a:pt x="18689" y="19292"/>
                  </a:lnTo>
                  <a:lnTo>
                    <a:pt x="18736" y="19231"/>
                  </a:lnTo>
                  <a:lnTo>
                    <a:pt x="18797" y="19200"/>
                  </a:lnTo>
                  <a:lnTo>
                    <a:pt x="18843" y="19169"/>
                  </a:lnTo>
                  <a:lnTo>
                    <a:pt x="18890" y="19108"/>
                  </a:lnTo>
                  <a:lnTo>
                    <a:pt x="18951" y="19077"/>
                  </a:lnTo>
                  <a:lnTo>
                    <a:pt x="18998" y="19015"/>
                  </a:lnTo>
                  <a:lnTo>
                    <a:pt x="19044" y="18954"/>
                  </a:lnTo>
                  <a:lnTo>
                    <a:pt x="19106" y="18923"/>
                  </a:lnTo>
                  <a:lnTo>
                    <a:pt x="19152" y="18862"/>
                  </a:lnTo>
                  <a:lnTo>
                    <a:pt x="19198" y="18800"/>
                  </a:lnTo>
                  <a:lnTo>
                    <a:pt x="19260" y="18738"/>
                  </a:lnTo>
                  <a:lnTo>
                    <a:pt x="19306" y="18677"/>
                  </a:lnTo>
                  <a:lnTo>
                    <a:pt x="19352" y="18585"/>
                  </a:lnTo>
                  <a:lnTo>
                    <a:pt x="19399" y="18523"/>
                  </a:lnTo>
                  <a:lnTo>
                    <a:pt x="19460" y="18462"/>
                  </a:lnTo>
                  <a:lnTo>
                    <a:pt x="19507" y="18369"/>
                  </a:lnTo>
                  <a:lnTo>
                    <a:pt x="19553" y="18308"/>
                  </a:lnTo>
                  <a:lnTo>
                    <a:pt x="19599" y="18215"/>
                  </a:lnTo>
                  <a:lnTo>
                    <a:pt x="19645" y="18123"/>
                  </a:lnTo>
                  <a:lnTo>
                    <a:pt x="19692" y="18031"/>
                  </a:lnTo>
                  <a:lnTo>
                    <a:pt x="19722" y="17938"/>
                  </a:lnTo>
                  <a:lnTo>
                    <a:pt x="19769" y="17846"/>
                  </a:lnTo>
                  <a:lnTo>
                    <a:pt x="19800" y="17754"/>
                  </a:lnTo>
                  <a:lnTo>
                    <a:pt x="19830" y="17631"/>
                  </a:lnTo>
                  <a:lnTo>
                    <a:pt x="19861" y="17538"/>
                  </a:lnTo>
                  <a:lnTo>
                    <a:pt x="19892" y="17415"/>
                  </a:lnTo>
                  <a:lnTo>
                    <a:pt x="19923" y="17323"/>
                  </a:lnTo>
                  <a:lnTo>
                    <a:pt x="19938" y="17200"/>
                  </a:lnTo>
                  <a:lnTo>
                    <a:pt x="19954" y="17108"/>
                  </a:lnTo>
                  <a:lnTo>
                    <a:pt x="19969" y="16985"/>
                  </a:lnTo>
                  <a:lnTo>
                    <a:pt x="19985" y="16862"/>
                  </a:lnTo>
                  <a:lnTo>
                    <a:pt x="19985" y="16738"/>
                  </a:lnTo>
                  <a:lnTo>
                    <a:pt x="19985" y="16646"/>
                  </a:lnTo>
                  <a:lnTo>
                    <a:pt x="20000" y="3323"/>
                  </a:lnTo>
                  <a:lnTo>
                    <a:pt x="20000" y="3323"/>
                  </a:lnTo>
                  <a:lnTo>
                    <a:pt x="19985" y="3200"/>
                  </a:lnTo>
                  <a:lnTo>
                    <a:pt x="19985" y="3077"/>
                  </a:lnTo>
                  <a:lnTo>
                    <a:pt x="19969" y="2954"/>
                  </a:lnTo>
                  <a:lnTo>
                    <a:pt x="19954" y="2831"/>
                  </a:lnTo>
                  <a:lnTo>
                    <a:pt x="19938" y="2738"/>
                  </a:lnTo>
                  <a:lnTo>
                    <a:pt x="19923" y="2615"/>
                  </a:lnTo>
                  <a:lnTo>
                    <a:pt x="19892" y="2523"/>
                  </a:lnTo>
                  <a:lnTo>
                    <a:pt x="19861" y="2400"/>
                  </a:lnTo>
                  <a:lnTo>
                    <a:pt x="19830" y="2308"/>
                  </a:lnTo>
                  <a:lnTo>
                    <a:pt x="19800" y="2185"/>
                  </a:lnTo>
                  <a:lnTo>
                    <a:pt x="19769" y="2092"/>
                  </a:lnTo>
                  <a:lnTo>
                    <a:pt x="19722" y="2000"/>
                  </a:lnTo>
                  <a:lnTo>
                    <a:pt x="19676" y="1908"/>
                  </a:lnTo>
                  <a:lnTo>
                    <a:pt x="19645" y="1815"/>
                  </a:lnTo>
                  <a:lnTo>
                    <a:pt x="19599" y="1723"/>
                  </a:lnTo>
                  <a:lnTo>
                    <a:pt x="19553" y="1662"/>
                  </a:lnTo>
                  <a:lnTo>
                    <a:pt x="19491" y="1569"/>
                  </a:lnTo>
                  <a:lnTo>
                    <a:pt x="19445" y="1477"/>
                  </a:lnTo>
                  <a:lnTo>
                    <a:pt x="19399" y="1415"/>
                  </a:lnTo>
                  <a:lnTo>
                    <a:pt x="19352" y="1354"/>
                  </a:lnTo>
                  <a:lnTo>
                    <a:pt x="19291" y="1292"/>
                  </a:lnTo>
                  <a:lnTo>
                    <a:pt x="19244" y="1200"/>
                  </a:lnTo>
                  <a:lnTo>
                    <a:pt x="19198" y="1138"/>
                  </a:lnTo>
                  <a:lnTo>
                    <a:pt x="19136" y="1077"/>
                  </a:lnTo>
                  <a:lnTo>
                    <a:pt x="19090" y="1046"/>
                  </a:lnTo>
                  <a:lnTo>
                    <a:pt x="19029" y="985"/>
                  </a:lnTo>
                  <a:lnTo>
                    <a:pt x="18982" y="923"/>
                  </a:lnTo>
                  <a:lnTo>
                    <a:pt x="18936" y="892"/>
                  </a:lnTo>
                  <a:lnTo>
                    <a:pt x="18874" y="831"/>
                  </a:lnTo>
                  <a:lnTo>
                    <a:pt x="18828" y="800"/>
                  </a:lnTo>
                  <a:lnTo>
                    <a:pt x="18782" y="738"/>
                  </a:lnTo>
                  <a:lnTo>
                    <a:pt x="18736" y="708"/>
                  </a:lnTo>
                  <a:lnTo>
                    <a:pt x="18674" y="677"/>
                  </a:lnTo>
                  <a:lnTo>
                    <a:pt x="18628" y="646"/>
                  </a:lnTo>
                  <a:lnTo>
                    <a:pt x="18581" y="585"/>
                  </a:lnTo>
                  <a:lnTo>
                    <a:pt x="18535" y="554"/>
                  </a:lnTo>
                  <a:lnTo>
                    <a:pt x="18489" y="523"/>
                  </a:lnTo>
                  <a:lnTo>
                    <a:pt x="18443" y="492"/>
                  </a:lnTo>
                  <a:lnTo>
                    <a:pt x="18396" y="462"/>
                  </a:lnTo>
                  <a:lnTo>
                    <a:pt x="18350" y="462"/>
                  </a:lnTo>
                  <a:lnTo>
                    <a:pt x="18304" y="431"/>
                  </a:lnTo>
                  <a:lnTo>
                    <a:pt x="18258" y="400"/>
                  </a:lnTo>
                  <a:lnTo>
                    <a:pt x="18227" y="369"/>
                  </a:lnTo>
                  <a:lnTo>
                    <a:pt x="18180" y="338"/>
                  </a:lnTo>
                  <a:lnTo>
                    <a:pt x="18134" y="338"/>
                  </a:lnTo>
                  <a:lnTo>
                    <a:pt x="18103" y="308"/>
                  </a:lnTo>
                  <a:lnTo>
                    <a:pt x="18057" y="308"/>
                  </a:lnTo>
                  <a:lnTo>
                    <a:pt x="18011" y="277"/>
                  </a:lnTo>
                  <a:lnTo>
                    <a:pt x="17980" y="246"/>
                  </a:lnTo>
                  <a:lnTo>
                    <a:pt x="17934" y="246"/>
                  </a:lnTo>
                  <a:lnTo>
                    <a:pt x="17903" y="215"/>
                  </a:lnTo>
                  <a:lnTo>
                    <a:pt x="17857" y="215"/>
                  </a:lnTo>
                  <a:lnTo>
                    <a:pt x="17826" y="185"/>
                  </a:lnTo>
                  <a:lnTo>
                    <a:pt x="17779" y="185"/>
                  </a:lnTo>
                  <a:lnTo>
                    <a:pt x="17749" y="185"/>
                  </a:lnTo>
                  <a:lnTo>
                    <a:pt x="17718" y="154"/>
                  </a:lnTo>
                  <a:lnTo>
                    <a:pt x="17672" y="154"/>
                  </a:lnTo>
                  <a:lnTo>
                    <a:pt x="17641" y="123"/>
                  </a:lnTo>
                  <a:lnTo>
                    <a:pt x="17610" y="123"/>
                  </a:lnTo>
                  <a:lnTo>
                    <a:pt x="17564" y="123"/>
                  </a:lnTo>
                  <a:lnTo>
                    <a:pt x="17533" y="92"/>
                  </a:lnTo>
                  <a:lnTo>
                    <a:pt x="17502" y="92"/>
                  </a:lnTo>
                  <a:lnTo>
                    <a:pt x="17471" y="92"/>
                  </a:lnTo>
                  <a:lnTo>
                    <a:pt x="17440" y="92"/>
                  </a:lnTo>
                  <a:lnTo>
                    <a:pt x="17409" y="62"/>
                  </a:lnTo>
                  <a:lnTo>
                    <a:pt x="17363" y="62"/>
                  </a:lnTo>
                  <a:lnTo>
                    <a:pt x="17332" y="62"/>
                  </a:lnTo>
                  <a:lnTo>
                    <a:pt x="17301" y="62"/>
                  </a:lnTo>
                  <a:lnTo>
                    <a:pt x="17271" y="31"/>
                  </a:lnTo>
                  <a:lnTo>
                    <a:pt x="17240" y="31"/>
                  </a:lnTo>
                  <a:lnTo>
                    <a:pt x="17209" y="31"/>
                  </a:lnTo>
                  <a:lnTo>
                    <a:pt x="17178" y="31"/>
                  </a:lnTo>
                  <a:lnTo>
                    <a:pt x="17147" y="31"/>
                  </a:lnTo>
                  <a:lnTo>
                    <a:pt x="17116" y="31"/>
                  </a:lnTo>
                  <a:lnTo>
                    <a:pt x="17086" y="0"/>
                  </a:lnTo>
                  <a:lnTo>
                    <a:pt x="17055" y="0"/>
                  </a:lnTo>
                  <a:lnTo>
                    <a:pt x="17024" y="0"/>
                  </a:lnTo>
                  <a:lnTo>
                    <a:pt x="16993" y="0"/>
                  </a:lnTo>
                  <a:lnTo>
                    <a:pt x="16962" y="0"/>
                  </a:lnTo>
                  <a:lnTo>
                    <a:pt x="16931" y="0"/>
                  </a:lnTo>
                  <a:lnTo>
                    <a:pt x="16916" y="0"/>
                  </a:lnTo>
                  <a:lnTo>
                    <a:pt x="16885" y="0"/>
                  </a:lnTo>
                  <a:lnTo>
                    <a:pt x="16854" y="0"/>
                  </a:lnTo>
                  <a:lnTo>
                    <a:pt x="16823" y="0"/>
                  </a:lnTo>
                  <a:lnTo>
                    <a:pt x="16793" y="0"/>
                  </a:lnTo>
                  <a:lnTo>
                    <a:pt x="16762" y="0"/>
                  </a:lnTo>
                  <a:lnTo>
                    <a:pt x="16731" y="0"/>
                  </a:lnTo>
                  <a:lnTo>
                    <a:pt x="16700" y="0"/>
                  </a:lnTo>
                  <a:lnTo>
                    <a:pt x="16669" y="0"/>
                  </a:lnTo>
                  <a:lnTo>
                    <a:pt x="16654" y="0"/>
                  </a:lnTo>
                  <a:lnTo>
                    <a:pt x="16654" y="0"/>
                  </a:lnTo>
                  <a:lnTo>
                    <a:pt x="3331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35480" y="4395600"/>
              <a:ext cx="1623960" cy="5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276720" y="3573360"/>
            <a:ext cx="0" cy="792360"/>
          </a:xfrm>
          <a:prstGeom prst="line">
            <a:avLst/>
          </a:prstGeom>
          <a:ln w="936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3573360"/>
            <a:ext cx="0" cy="792360"/>
          </a:xfrm>
          <a:prstGeom prst="line">
            <a:avLst/>
          </a:prstGeom>
          <a:ln w="936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09920" y="4292640"/>
            <a:ext cx="16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Закрыт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Garamond"/>
              </a:rPr>
              <a:t>клю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859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Garamond"/>
              </a:rPr>
              <a:t>Использование шифров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1413000"/>
          <a:ext cx="8229600" cy="528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Где использовался шифр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Назначение шифр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темати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ория чисел(НОД, решение задач, математические действия и т.п.)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нформатика и Интернет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иптосистема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SA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шифровка черновиков известных писателей (Пушкин)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ифры Цезаря, Августа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рской флот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збука Морзе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енное дело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едача сообщений и информации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Garamond"/>
              </a:rPr>
              <a:t>Средства защиты можно подразделить на следующие категори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1 -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средства собственной защи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2 -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средства защиты в составе вычислительной систем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3 -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средства защиты с запросом информац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4 -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средства активной защи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5 -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средства пассивной защи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501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Важно осознавать, что все эти огромные потоки информации без защиты  просто опасно, а защищать ее традиционными  средствами  почти  невозмож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5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5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50"/>
                            </p:stCondLst>
                            <p:childTnLst>
                              <p:par>
                                <p:cTn id="6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6050"/>
                            </p:stCondLst>
                            <p:childTnLst>
                              <p:par>
                                <p:cTn id="6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050"/>
                            </p:stCondLst>
                            <p:childTnLst>
                              <p:par>
                                <p:cTn id="6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710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260280"/>
            <a:ext cx="7272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апример в древней Спарте было изобретено специальное устройство для шифрования текстов –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сцитала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 Сцитала представляет собой стержень, на который плотно, виток к витку наматывали ленту. Затем на ней писали текст (в моем случае – «Занимаемся математикой и шифрами»), располагая его вдоль оси стержня. Когда ленту снимали с цилиндра, на ней оставалась цепочка бук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зстфаяирнмкаиаоммтйиаеиемшмаи), на первый взгляд, совершенно беспорядочная. У получателя шифровки был точно такой же цилиндр, на который он наматывал полученную ленту, после этого текст опять становился понятн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84480" cy="129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0258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710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ыло придумано устройство –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антисцитал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: длинный конус, на который наматывали перехваченную шифровку. В той части конуса, диаметр был близок к диаметру сциталы, разрозненные буквы складывались в связный текст. Так можно было определить этот диаметр и прочитать сообщ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4724280"/>
            <a:ext cx="1873440" cy="174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3600360" cy="17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4724280"/>
          <a:ext cx="8496000" cy="752760"/>
        </p:xfrm>
        <a:graphic>
          <a:graphicData uri="http://schemas.openxmlformats.org/drawingml/2006/table">
            <a:tbl>
              <a:tblPr/>
              <a:tblGrid>
                <a:gridCol w="531000"/>
                <a:gridCol w="529200"/>
                <a:gridCol w="531000"/>
                <a:gridCol w="531360"/>
                <a:gridCol w="530640"/>
                <a:gridCol w="529560"/>
                <a:gridCol w="530640"/>
                <a:gridCol w="531360"/>
                <a:gridCol w="531000"/>
                <a:gridCol w="529200"/>
                <a:gridCol w="531000"/>
                <a:gridCol w="531360"/>
                <a:gridCol w="531000"/>
                <a:gridCol w="532800"/>
                <a:gridCol w="532440"/>
                <a:gridCol w="53244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816360" cy="2795400"/>
          </a:xfrm>
          <a:prstGeom prst="rect">
            <a:avLst/>
          </a:prstGeom>
          <a:ln w="0">
            <a:noFill/>
          </a:ln>
        </p:spPr>
      </p:pic>
      <p:pic>
        <p:nvPicPr>
          <p:cNvPr id="112" name="1" descr=""/>
          <p:cNvPicPr/>
          <p:nvPr/>
        </p:nvPicPr>
        <p:blipFill>
          <a:blip r:embed="rId2"/>
          <a:stretch/>
        </p:blipFill>
        <p:spPr>
          <a:xfrm>
            <a:off x="0" y="2652840"/>
            <a:ext cx="190440" cy="75960"/>
          </a:xfrm>
          <a:prstGeom prst="rect">
            <a:avLst/>
          </a:prstGeom>
          <a:ln w="0">
            <a:noFill/>
          </a:ln>
        </p:spPr>
      </p:pic>
      <p:pic>
        <p:nvPicPr>
          <p:cNvPr id="113" name="1" descr=""/>
          <p:cNvPicPr/>
          <p:nvPr/>
        </p:nvPicPr>
        <p:blipFill>
          <a:blip r:embed="rId3"/>
          <a:stretch/>
        </p:blipFill>
        <p:spPr>
          <a:xfrm>
            <a:off x="0" y="2652840"/>
            <a:ext cx="285840" cy="75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27640" y="4748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  <a:ea typeface="MS Mincho"/>
              </a:rPr>
              <a:t>Цезарь</a:t>
            </a:r>
            <a:r>
              <a:rPr b="0" lang="ru-RU" sz="2400" spc="-1" strike="noStrike">
                <a:solidFill>
                  <a:srgbClr val="663300"/>
                </a:solidFill>
                <a:latin typeface="Georgia"/>
                <a:ea typeface="MS Mincho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  <a:ea typeface="MS Mincho"/>
              </a:rPr>
              <a:t>Гай</a:t>
            </a:r>
            <a:r>
              <a:rPr b="0" lang="ru-RU" sz="2400" spc="-1" strike="noStrike">
                <a:solidFill>
                  <a:srgbClr val="663300"/>
                </a:solidFill>
                <a:latin typeface="Georgia"/>
                <a:ea typeface="MS Mincho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  <a:ea typeface="MS Mincho"/>
              </a:rPr>
              <a:t>Юлий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067280" y="981000"/>
          <a:ext cx="6372000" cy="1369800"/>
        </p:xfrm>
        <a:graphic>
          <a:graphicData uri="http://schemas.openxmlformats.org/drawingml/2006/table">
            <a:tbl>
              <a:tblPr/>
              <a:tblGrid>
                <a:gridCol w="274320"/>
                <a:gridCol w="4838760"/>
                <a:gridCol w="12589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2.7.100 до н.э. - 15.3.44  до н.э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140360" y="1188360"/>
            <a:ext cx="500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ревнеримский государственный и политический деятель, полководец, писатель. Глава римского государства. Против него был организован заговор (более 80 чел.). В мартовские иды 44, во время заседания сената, он был уб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78828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мя Цезарь этим шифром запишется как «Щикгуэ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5734080"/>
          <a:ext cx="8424000" cy="730080"/>
        </p:xfrm>
        <a:graphic>
          <a:graphicData uri="http://schemas.openxmlformats.org/drawingml/2006/table">
            <a:tbl>
              <a:tblPr/>
              <a:tblGrid>
                <a:gridCol w="526320"/>
                <a:gridCol w="526320"/>
                <a:gridCol w="526320"/>
                <a:gridCol w="526680"/>
                <a:gridCol w="523440"/>
                <a:gridCol w="526320"/>
                <a:gridCol w="526320"/>
                <a:gridCol w="526680"/>
                <a:gridCol w="527040"/>
                <a:gridCol w="526320"/>
                <a:gridCol w="526680"/>
                <a:gridCol w="526320"/>
                <a:gridCol w="523440"/>
                <a:gridCol w="529200"/>
                <a:gridCol w="526680"/>
                <a:gridCol w="5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65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65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73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Октавиан Август"/>
          <p:cNvPicPr/>
          <p:nvPr/>
        </p:nvPicPr>
        <p:blipFill>
          <a:blip r:embed="rId1"/>
          <a:stretch/>
        </p:blipFill>
        <p:spPr>
          <a:xfrm>
            <a:off x="395280" y="189000"/>
            <a:ext cx="246384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84720" y="789480"/>
            <a:ext cx="41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  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густ Октавиан, римский император. Октавий родился в Риме 23 сентября 63 года до н.э. Римский император. Термин «Август» (лат. Возвеличенный богами) приобрел значение титула импера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1348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S Mincho"/>
                <a:ea typeface="MS Mincho"/>
              </a:rPr>
              <a:t>Август Октави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90684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3 г. до н.э.-14 г. н.э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4653000"/>
          <a:ext cx="8229600" cy="730080"/>
        </p:xfrm>
        <a:graphic>
          <a:graphicData uri="http://schemas.openxmlformats.org/drawingml/2006/table">
            <a:tbl>
              <a:tblPr/>
              <a:tblGrid>
                <a:gridCol w="514440"/>
                <a:gridCol w="512640"/>
                <a:gridCol w="514440"/>
                <a:gridCol w="514440"/>
                <a:gridCol w="514080"/>
                <a:gridCol w="513000"/>
                <a:gridCol w="514080"/>
                <a:gridCol w="514440"/>
                <a:gridCol w="514440"/>
                <a:gridCol w="512640"/>
                <a:gridCol w="514440"/>
                <a:gridCol w="514440"/>
                <a:gridCol w="514440"/>
                <a:gridCol w="515880"/>
                <a:gridCol w="515880"/>
                <a:gridCol w="51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5661000"/>
          <a:ext cx="8137440" cy="79236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7960"/>
                <a:gridCol w="509760"/>
                <a:gridCol w="507960"/>
                <a:gridCol w="507960"/>
                <a:gridCol w="507960"/>
                <a:gridCol w="507960"/>
                <a:gridCol w="508320"/>
                <a:gridCol w="507960"/>
                <a:gridCol w="507960"/>
                <a:gridCol w="509400"/>
                <a:gridCol w="509760"/>
                <a:gridCol w="511200"/>
                <a:gridCol w="5094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11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MS Mincho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50920" y="37580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мя Август этим шифром запишется как «Джзчхц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65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Garamond"/>
              </a:rPr>
              <a:t>Шифр простой подстановк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68518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Y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 = а х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i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b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(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mod g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),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некоторый постоянный десятичный коэффициен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b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коэффициент сдвиг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g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- длина используемого алфавит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хi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-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й символ открытого текста (номер буквы в алфавите)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358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Шифр перестановки с фиксированным </a:t>
            </a:r>
            <a:r>
              <a:rPr b="1" i="1" lang="en-US" sz="4000" spc="-1" strike="noStrike">
                <a:solidFill>
                  <a:srgbClr val="ffcc00"/>
                </a:solidFill>
                <a:latin typeface="Garamond"/>
              </a:rPr>
              <a:t>d</a:t>
            </a: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632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123456 – исходный тек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316524 – зашифрованный тек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именение этого шифра   приводит к тому , что все буквы исходного текста  сохраняются , но меняется порядок их следования  друг за друг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86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Шифр Вижинера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221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уi = х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i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ki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mod g</a:t>
            </a: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557360"/>
          <a:ext cx="7199280" cy="1460520"/>
        </p:xfrm>
        <a:graphic>
          <a:graphicData uri="http://schemas.openxmlformats.org/drawingml/2006/table">
            <a:tbl>
              <a:tblPr/>
              <a:tblGrid>
                <a:gridCol w="987840"/>
                <a:gridCol w="471600"/>
                <a:gridCol w="523080"/>
                <a:gridCol w="521280"/>
                <a:gridCol w="523080"/>
                <a:gridCol w="519840"/>
                <a:gridCol w="521280"/>
                <a:gridCol w="523080"/>
                <a:gridCol w="521280"/>
                <a:gridCol w="522720"/>
                <a:gridCol w="519840"/>
                <a:gridCol w="523080"/>
                <a:gridCol w="52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Бук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Бук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95280" y="2997360"/>
          <a:ext cx="7199280" cy="757080"/>
        </p:xfrm>
        <a:graphic>
          <a:graphicData uri="http://schemas.openxmlformats.org/drawingml/2006/table">
            <a:tbl>
              <a:tblPr/>
              <a:tblGrid>
                <a:gridCol w="955080"/>
                <a:gridCol w="540360"/>
                <a:gridCol w="541440"/>
                <a:gridCol w="523080"/>
                <a:gridCol w="521280"/>
                <a:gridCol w="521280"/>
                <a:gridCol w="521640"/>
                <a:gridCol w="541440"/>
                <a:gridCol w="521280"/>
                <a:gridCol w="20124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Бук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(пробе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0" y="31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8360" y="4149720"/>
          <a:ext cx="2755800" cy="73008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507960"/>
                <a:gridCol w="457200"/>
                <a:gridCol w="457200"/>
                <a:gridCol w="469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MS Mincho"/>
                          <a:ea typeface="MS Mincho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MS Mincho"/>
                          <a:ea typeface="MS Mincho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0" y="37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4110120"/>
            <a:ext cx="38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00000"/>
                <a:tab algn="l" pos="1711440"/>
                <a:tab algn="l" pos="1890720"/>
                <a:tab algn="l" pos="207000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Y1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ll(mod33)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19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fr-FR" sz="18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00000"/>
                <a:tab algn="l" pos="1711440"/>
                <a:tab algn="l" pos="1890720"/>
                <a:tab algn="l" pos="207000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Y2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l+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12(mod33)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13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fr-FR" sz="1800" spc="-1" strike="noStrike">
                <a:solidFill>
                  <a:srgbClr val="ffcc00"/>
                </a:solidFill>
                <a:latin typeface="Garamond"/>
              </a:rPr>
              <a:t>M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00000"/>
                <a:tab algn="l" pos="1711440"/>
                <a:tab algn="l" pos="1890720"/>
                <a:tab algn="l" pos="207000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Y3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13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31(mod 33)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11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cc00"/>
                </a:solidFill>
                <a:latin typeface="Garamond"/>
              </a:rPr>
              <a:t>К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00000"/>
                <a:tab algn="l" pos="1711440"/>
                <a:tab algn="l" pos="1890720"/>
                <a:tab algn="l" pos="207000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Y4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6+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24(mod 33)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1800" spc="-1" strike="noStrike">
                <a:solidFill>
                  <a:srgbClr val="ffcc00"/>
                </a:solidFill>
                <a:latin typeface="Garamond"/>
              </a:rPr>
              <a:t>Ю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00000"/>
                <a:tab algn="l" pos="1711440"/>
                <a:tab algn="l" pos="1890720"/>
                <a:tab algn="l" pos="207000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Y5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14+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11(mod 33)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25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1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00000"/>
                <a:tab algn="l" pos="1711440"/>
                <a:tab algn="l" pos="1890720"/>
                <a:tab algn="l" pos="207000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= 1+ 12(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mo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33) = 13 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1800" spc="-1" strike="noStrike">
                <a:solidFill>
                  <a:srgbClr val="ffcc00"/>
                </a:solidFill>
                <a:latin typeface="Garamond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5876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ифротекст: "</a:t>
            </a:r>
            <a:r>
              <a:rPr b="1" i="1" lang="ru-RU" sz="1800" spc="-1" strike="noStrike">
                <a:solidFill>
                  <a:srgbClr val="ffcc00"/>
                </a:solidFill>
                <a:latin typeface="Garamond"/>
              </a:rPr>
              <a:t>ТМКЮШ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02480" y="0"/>
            <a:ext cx="1541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3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3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0595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Garamond"/>
              </a:rPr>
              <a:t>Криптосистема RSA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74278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ональд  Райвес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ди Шамир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еонард Адлеман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-311760" y="5372640"/>
            <a:ext cx="98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6782230772849 –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это  четырнадцатая степень целого   чис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34268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Garamond"/>
              </a:rPr>
              <a:t>RSA –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криптографическая система открытого ключа, обеспечивающая такие механизмы защиты как шифрование и цифровая подпись (аутентификация – установление подлинност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34578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15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15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0:02:02Z</dcterms:created>
  <dc:creator>Максим</dc:creator>
  <dc:description/>
  <dc:language>en-US</dc:language>
  <cp:lastModifiedBy>User</cp:lastModifiedBy>
  <dcterms:modified xsi:type="dcterms:W3CDTF">2007-03-30T14:09:51Z</dcterms:modified>
  <cp:revision>77</cp:revision>
  <dc:subject/>
  <dc:title>Слайд 1</dc:title>
</cp:coreProperties>
</file>