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F78-288F-49C2-8831-8C73BBB4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E3C-5525-4F0F-B502-21189324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555-6983-4E3F-8AA8-0CB686B5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8AE-A115-44DE-BBC5-B6C8D2CD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84DD-74B3-4EFA-A5AC-2C9452D9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8B9C-A6A9-4EA3-89CE-089DF641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A865-E862-4FF7-8A48-8C265E99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315A-72A3-4E12-9E43-DA1E7FAD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8FE8-03A9-4677-B7C9-DCCD8712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B6DC-82E1-4D25-B267-C151370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5EFA-3F40-4960-9502-3C27018C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E67-3669-4EF7-A999-8437D5A8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708A-DD49-4768-9A34-F040006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015E-34EB-4B60-BC97-EB9A138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BB6D-862E-45EA-8C97-B7159951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F248-262F-4276-AFC2-D77B5645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4E44-2203-4DDF-B2D1-7574671D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AC7-54B7-413C-9A25-A7A77584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F67-BAAA-4A11-A2D8-14A16667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E56-1DC2-4BA0-98D2-65FFF0F6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A7A-1263-4A04-996E-53F58754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7C5-FA77-4D32-8FB7-973D3BB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3CC-2A79-4291-8962-B2B2F153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94C-989D-49CB-9DAA-B47DB15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DFDD-37A4-488D-8939-8774AF9D1D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B05A-1830-4740-BCCF-A840F59E01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71640" y="1557360"/>
            <a:ext cx="712944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гарифмы на эстра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692360" y="14126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влечь корень 31 степени из следующего 35 значного чис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13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521080" cy="2081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2700360" y="549360"/>
            <a:ext cx="3311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№1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му помогли логарифмы, двузначные логарифмы, которые он помнит наизусть для первых 15-20 чисе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Логарифм составного числа рав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умме логарифмов его простых множителей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1116000" y="260280"/>
          <a:ext cx="7462800" cy="6364440"/>
        </p:xfrm>
        <a:graphic>
          <a:graphicData uri="http://schemas.openxmlformats.org/drawingml/2006/table">
            <a:tbl>
              <a:tblPr/>
              <a:tblGrid>
                <a:gridCol w="1865160"/>
                <a:gridCol w="2022480"/>
                <a:gridCol w="1710000"/>
                <a:gridCol w="1865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гариф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ис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гариф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зумивший нас математический трюк состоял в следующем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39672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484360" y="1916280"/>
                <a:ext cx="34560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g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цифр</m:t>
                        </m:r>
                      </m:e>
                    </m:rad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3871080" y="2275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0840" y="299664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скомый логарифм может заключаться между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300720" y="2637000"/>
                <a:ext cx="187344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512640" y="3644280"/>
            <a:ext cx="29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ли между 1,09 и 1,13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4560" y="458100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им свойством обладает число 1.11 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.е. логарифм числа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900000" y="2349360"/>
                <a:ext cx="26640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g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цифр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114880" y="1599840"/>
            <a:ext cx="3260880" cy="21733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540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влечь корень 64 степени из 20-значного числ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2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скомый логарифм может заключаться между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.е. между         0,29 и 0,32. Такой логарифм для целого числа только один: 0,30…, т.е. логарифм числа 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 можете даже окончательно поразить загадчика, сообщив ему, какое число он собирался вам продиктова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627280" y="3357720"/>
                <a:ext cx="266400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705200" y="4017960"/>
                <a:ext cx="21600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79280" y="5373720"/>
                <a:ext cx="13669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638360" y="5950080"/>
            <a:ext cx="62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184467440737095516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124000" y="404640"/>
            <a:ext cx="482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№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41:18Z</dcterms:created>
  <dc:creator>Егор</dc:creator>
  <dc:description/>
  <dc:language>en-US</dc:language>
  <cp:lastModifiedBy>Живова Т.Ю.</cp:lastModifiedBy>
  <dcterms:modified xsi:type="dcterms:W3CDTF">2008-02-26T18:02:53Z</dcterms:modified>
  <cp:revision>15</cp:revision>
  <dc:subject/>
  <dc:title>Логарифмы на эстраде</dc:title>
</cp:coreProperties>
</file>