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DB7-D385-40CD-B3D0-8BCFDE94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488B-F3FD-40F8-8A67-6CF0CFAF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891-DF03-459E-A005-6D7D4C63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852-9042-4FCD-A160-F84D0393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8CD-9D21-47B0-BE1C-3A94B59C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8F21-3F22-49C5-AB3A-C97B04B3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B8F8-4A5C-4D31-BD08-D04193EA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3EE-68F5-4015-945F-1C79E5B5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B6B0-DA76-49C5-B2C6-F8B636AC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134-5174-4C52-85A5-118D9C67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492-7EA4-4029-8E25-4121C56E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AB5B-6FE7-44A0-8D56-55E244CC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8581-9289-42A0-8293-18C12D8D8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333360"/>
            <a:ext cx="6985080" cy="523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ёзды, шум и логарифмы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3141720"/>
            <a:ext cx="554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Шум и звезды объединяются здесь потому, что и громкость шума и яркость звезд оцениваются одинаковым образом — по логарифмической шк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2801880" cy="2102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651640" y="3213000"/>
            <a:ext cx="3078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316800"/>
            <a:ext cx="489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звёзды на небе имеют разную яркость. Наиболее яркие звёзды отнесли к звёздам первой величины, а едва различимые невооружённым глазом – 6-ой величины. Блеск звезды первой величины больше блеска звезды 6-ой величины ровно в сто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476280"/>
            <a:ext cx="2735280" cy="2052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26920" y="4437000"/>
            <a:ext cx="2822760" cy="2117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940360" y="3500280"/>
                <a:ext cx="2843280" cy="30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,4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3095640" cy="2571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867280" y="260280"/>
            <a:ext cx="2963880" cy="2759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375408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хий шелест листьев оценивается в 1 бел, громкая разговорная речь — в 6,5 бела, рычанье льва — в 8,7 бела. Отсюда следует, что по силе звука разговорная речь превышает шелест листьев 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; львиное рычанье сильнее громкой разговорной реч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,2=158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187280" y="5300640"/>
                <a:ext cx="39610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6,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5,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6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492360" y="5805360"/>
                <a:ext cx="30956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8,7-6,5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V="1" rot="10800000">
            <a:off x="3419640" y="1120320"/>
            <a:ext cx="5114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у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многих заводах превосходят норму: здесь бывают шумы в 10 и более бел; удары молотка в стальную плиту порождают шум в 11 бел. Шумы эти в 100 и 1000 раз сильнее допустимой нормы и в 10—100 раз громче самого шумного места Ниагарского водопада (9 бе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30960"/>
            <a:ext cx="82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Психофизический закон Фехнер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9900ff"/>
                </a:solidFill>
                <a:latin typeface="Times New Roman"/>
              </a:rPr>
              <a:t>величина ощущения пропорциональна логарифму величины раздражени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8:55:15Z</dcterms:created>
  <dc:creator>P@\/El_</dc:creator>
  <dc:description/>
  <dc:language>en-US</dc:language>
  <cp:lastModifiedBy>Живова </cp:lastModifiedBy>
  <dcterms:modified xsi:type="dcterms:W3CDTF">2008-12-16T17:27:23Z</dcterms:modified>
  <cp:revision>21</cp:revision>
  <dc:subject/>
  <dc:title>Слайд 1</dc:title>
</cp:coreProperties>
</file>