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3B0-F0D6-44F2-A8D6-238521CB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55E-B130-4946-9012-3DBAAA5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EF7-025D-49A8-9CA8-1D359EA4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452-5D6D-4D77-B6DB-5D8346E3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DEB1-76E8-4ACF-8469-6DB8C981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632-CC2F-4774-B6A6-536FFB7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B69E-6A3F-4360-ADDE-26CA6B4D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4868-7CA3-4AFC-8D81-C299E6AA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2D0E-C87A-47A9-BB06-6D55F8B1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FD9-37A9-4030-87DD-54EC2C7D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8549-F8BD-491E-B212-8742F98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462-0569-4E25-B745-EFA4CA76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84A-CDED-44DD-ACD1-CCD8AFAC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1B9-D144-4FA6-9FD5-EAE8C34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C83A-A1C8-4D3F-91C0-70F5AD7A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3927-7650-437B-8B0E-A017B5AA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7722-35FC-4DE6-93F3-4AF9E14B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0EB-BE66-42E4-9394-08F0BACB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8A7-D9D9-4662-8180-1B1C861D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7A8-B404-4D02-B798-A228F288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C7C-5C9F-415C-87D7-6EC4CB3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D05-CF93-41BA-8866-BC9527E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FAC-360A-4456-AD20-AB09F03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136-3259-48D2-BD5A-F862DC4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4245-E7AB-42B5-A7F6-E879D16397F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DC1-D119-4BFD-9758-3D8B32D0AD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63640" y="278136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Comic Sans MS"/>
              </a:rPr>
              <a:t>Логарифмы на животноводческой фе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1944720" cy="1620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38336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260280"/>
            <a:ext cx="4105080" cy="72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720720"/>
              <a:gd name="textAreaBottom" fmla="*/ 630720 h 720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476280"/>
            <a:ext cx="8640720" cy="619272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Количество так называем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«поддерживающего» корма пропорцион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аружной поверхности тела живот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Зная это, определите калори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поддерживающего корма для во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есящего 420 кг, если при тех же условиях 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весом 630 кг нуждается в 13500 калор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42920" y="1628640"/>
            <a:ext cx="7129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бы решить эту практическую задачу из области животноводства, понадобится, кроме алгебры, привлечь на помощь и геометрию. Согласно условию задачи искомая калорийнос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порциональна поверхност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а, т. 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48000" y="4292640"/>
                <a:ext cx="252108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2484360" y="476280"/>
            <a:ext cx="2737080" cy="792000"/>
          </a:xfrm>
          <a:custGeom>
            <a:avLst/>
            <a:gdLst>
              <a:gd name="textAreaLeft" fmla="*/ 0 w 2737080"/>
              <a:gd name="textAreaRight" fmla="*/ 2737440 w 2737080"/>
              <a:gd name="textAreaTop" fmla="*/ 102600 h 792000"/>
              <a:gd name="textAreaBottom" fmla="*/ 6894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627280" y="549360"/>
            <a:ext cx="2521080" cy="54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087640" cy="18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6000" y="692280"/>
            <a:ext cx="640872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поверхности тела вола, весящего 630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кг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Из геометрии мы знаем, что поверхности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) подобных тел относятся, как квадраты их линейных размеров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а объёмы (и, следовательно, веса)- как кубы линейных размеров. Поэтом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8360" y="2421000"/>
                <a:ext cx="2890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484360" y="2637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92360" y="2708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значи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48360" y="2349360"/>
                <a:ext cx="15112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0</m:t>
                            </m:r>
                          </m:e>
                        </m:rad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30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804000" y="2637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к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58920" y="3716280"/>
                <a:ext cx="669780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5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3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20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300720" y="5013360"/>
            <a:ext cx="180036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6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71640" y="620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помощью логарифмических таблиц наход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4221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л нуждается в 10300 калор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1700280"/>
            <a:ext cx="4752720" cy="1944720"/>
          </a:xfrm>
          <a:custGeom>
            <a:avLst/>
            <a:gdLst>
              <a:gd name="textAreaLeft" fmla="*/ 1085040 w 4752720"/>
              <a:gd name="textAreaRight" fmla="*/ 3667680 w 475272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f66"/>
                </a:solidFill>
                <a:latin typeface="Comic Sans MS"/>
              </a:rPr>
              <a:t>x</a:t>
            </a:r>
            <a:r>
              <a:rPr b="0" lang="ru-RU" sz="3600" spc="-1" strike="noStrike">
                <a:solidFill>
                  <a:srgbClr val="ffef66"/>
                </a:solidFill>
                <a:latin typeface="Comic Sans MS"/>
              </a:rPr>
              <a:t>=10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732720" y="3789360"/>
            <a:ext cx="17222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60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80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0:32:03Z</dcterms:created>
  <dc:creator>Гость</dc:creator>
  <dc:description/>
  <dc:language>en-US</dc:language>
  <cp:lastModifiedBy>Живова Т.Ю.</cp:lastModifiedBy>
  <dcterms:modified xsi:type="dcterms:W3CDTF">2008-02-26T18:06:10Z</dcterms:modified>
  <cp:revision>9</cp:revision>
  <dc:subject/>
  <dc:title>Слайд 1</dc:title>
</cp:coreProperties>
</file>