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gif" ContentType="image/gif"/>
  <Override PartName="/ppt/media/image7.png" ContentType="image/png"/>
  <Override PartName="/ppt/media/image4.gif" ContentType="image/gif"/>
  <Override PartName="/ppt/media/image5.gif" ContentType="image/gif"/>
  <Override PartName="/ppt/media/image9.png" ContentType="image/png"/>
  <Override PartName="/ppt/media/image6.gif" ContentType="image/gif"/>
  <Override PartName="/ppt/media/image8.gif" ContentType="image/gif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13383-6B6E-4849-AC02-DBB7DE146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9EA53-AB18-403D-A9DD-85BB88214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2DD17-CE56-4BA9-85A4-F0758F136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84EB7-88F7-4F05-8606-193B9F9C8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53B7F-E195-40E9-83D7-B9595A7CD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0AF9E-EFA1-433B-8B70-404E51CBE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F357B-934E-45E8-8F6A-ED3059D87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1EC3E-7D7F-4015-9D4C-5B41434B4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E23BE-C916-442D-BDE5-9E13998DE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38445-A2C0-4387-B1BF-826E57CD9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A0FBD-32C5-4B82-802F-62293CEDA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3DCD9-2BE5-43B0-A796-C0503086C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5D2EF-AEE9-4EA8-8646-79F43624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85FDB-FCE7-4FF0-B550-C4B84EB65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BFDCB-D850-43B4-A6D2-CEE0147D9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02E6C-5B86-48D1-A1B2-20BE47E4A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B0009-AC90-44FB-92A0-F5F3B7261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EEE6D-4027-4E50-AC0F-8BAF93FFB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8FA34-5845-412E-8816-75283AAA2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F8BAE-033A-45D2-9F47-F61BCA4DD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7DD58-8E77-4703-A945-C42C40F60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75DB6-A03F-4E87-B24D-DC4BF18D5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52E68-298A-4631-A629-0C0915DA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2F4E8-4837-48E4-938E-8D99B607B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2517A-2184-4417-BF83-E22648B76F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0812B-9307-4A6B-835E-40A6664FB4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2484360" y="1989000"/>
            <a:ext cx="6191280" cy="170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99ccff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Логарифмы в </a:t>
            </a:r>
            <a:endParaRPr b="0" lang="en-US" sz="1800" spc="1" strike="noStrike">
              <a:ln w="12600">
                <a:solidFill>
                  <a:srgbClr val="99ccff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99ccff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лектроосвещении</a:t>
            </a:r>
            <a:endParaRPr b="0" lang="en-US" sz="1800" spc="1" strike="noStrike">
              <a:ln w="12600">
                <a:solidFill>
                  <a:srgbClr val="99ccff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853272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50560" y="1341360"/>
            <a:ext cx="67690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9900cc"/>
                </a:solidFill>
                <a:latin typeface="Verdana"/>
              </a:rPr>
              <a:t>Определим, во сколько раз «полуваттная» (наполненная газом) лампа, температура нити накала которой 2500 градусов абсолютной шкалы испускает больше света, чем пустотная с нитью, накалённой до 2200</a:t>
            </a:r>
            <a:r>
              <a:rPr b="0" lang="en-US" sz="32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9900cc"/>
                </a:solidFill>
                <a:latin typeface="Verdana"/>
              </a:rPr>
              <a:t>градус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7020000" y="2276640"/>
            <a:ext cx="604800" cy="8650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7020000" y="4581360"/>
            <a:ext cx="641160" cy="10083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3132000" y="0"/>
            <a:ext cx="26640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дач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означив искомое отношение через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меем уравн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543480" y="2495520"/>
                <a:ext cx="2057400" cy="388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117440" y="3903840"/>
                <a:ext cx="172728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откуд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052720" y="2470320"/>
                <a:ext cx="4537080" cy="14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2500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200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1547640" y="5661000"/>
                <a:ext cx="237816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,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052720" y="4653000"/>
                <a:ext cx="468000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;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44400" y="5013360"/>
            <a:ext cx="844560" cy="1152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7236000" y="2492280"/>
            <a:ext cx="129672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24000" y="47592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ff"/>
                </a:solidFill>
                <a:latin typeface="Arbat-Bold"/>
              </a:rPr>
              <a:t>	</a:t>
            </a:r>
            <a:r>
              <a:rPr b="0" lang="en-US" sz="3600" spc="-1" strike="noStrike">
                <a:solidFill>
                  <a:srgbClr val="6600ff"/>
                </a:solidFill>
                <a:latin typeface="Arbat-Bold"/>
              </a:rPr>
              <a:t>	</a:t>
            </a:r>
            <a:r>
              <a:rPr b="1" lang="en-US" sz="3600" spc="-1" strike="noStrike">
                <a:solidFill>
                  <a:srgbClr val="6600ff"/>
                </a:solidFill>
                <a:latin typeface="Arbat-Bold"/>
              </a:rPr>
              <a:t>Наполненная газом лампа испускает света в 4,6 раза больше, чем пустотная. Значит, если пустотная даёт свет в 50 свечей, то наполненная газом при тех же условиях даст 230 свечей.</a:t>
            </a:r>
            <a:r>
              <a:rPr b="0" lang="en-US" sz="3600" spc="-1" strike="noStrike">
                <a:solidFill>
                  <a:srgbClr val="66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156360" y="3789360"/>
            <a:ext cx="2538360" cy="27367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835280" y="3789360"/>
            <a:ext cx="182700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Сделаем ещё расчёт</a:t>
            </a:r>
            <a:r>
              <a:rPr b="0" lang="en-US" sz="4400" spc="-1" strike="noStrike">
                <a:solidFill>
                  <a:srgbClr val="66ffff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6192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Какое повышение абсолютной температуры (в процентах) необходимо для удвоения яркости лампочк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227640" y="2205000"/>
            <a:ext cx="266868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оставим уравн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971640" y="1859040"/>
                <a:ext cx="259236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971640" y="3535200"/>
                <a:ext cx="158436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откуд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433440" y="4255920"/>
                <a:ext cx="8578800" cy="12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и, следовательно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%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580000" y="1916280"/>
            <a:ext cx="1887480" cy="20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Наконец, третье вычисл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50920" y="1844280"/>
            <a:ext cx="59054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Насколько – в процентах  - возрастёт яркость лампочки, если температура её нити поднимется на 1%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6084720" y="2970360"/>
            <a:ext cx="284508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ыполняя с помощью логарифмов вычисление находим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060720" y="2830680"/>
                <a:ext cx="302400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,01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,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900000" y="4084560"/>
                <a:ext cx="115884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или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3060720" y="5156280"/>
                <a:ext cx="28814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,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6864480" y="2924280"/>
            <a:ext cx="126972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00"/>
                </a:solidFill>
                <a:latin typeface="Arial"/>
              </a:rPr>
              <a:t>Итак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6920" y="907920"/>
            <a:ext cx="7570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2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9900ff"/>
                </a:solidFill>
                <a:latin typeface="Arbat-Bold"/>
              </a:rPr>
              <a:t>Повышение температуры на 2% приводит к увеличению яркости на 27%. Отсюда ясно, почему в технике изготовления электролампочек так заботятся о повышении температуры нити накала, дорожа каждым лишним градусом.</a:t>
            </a:r>
            <a:r>
              <a:rPr b="1" lang="en-US" sz="4000" spc="-1" strike="noStrike">
                <a:solidFill>
                  <a:srgbClr val="9900ff"/>
                </a:solidFill>
                <a:latin typeface="Arbat-Bold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4T18:07:16Z</dcterms:created>
  <dc:creator>K211</dc:creator>
  <dc:description/>
  <dc:language>en-US</dc:language>
  <cp:lastModifiedBy>Живова Т.Ю.</cp:lastModifiedBy>
  <dcterms:modified xsi:type="dcterms:W3CDTF">2008-02-26T18:07:24Z</dcterms:modified>
  <cp:revision>62</cp:revision>
  <dc:subject/>
  <dc:title>Приложения теории графов</dc:title>
</cp:coreProperties>
</file>