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18B76-8FD8-4319-ADE0-49A91D38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36D3-B912-4E01-A74D-680D9DE1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5857A-352A-42D8-9820-28FB057C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D96AD-8E03-4A40-9A2D-16F90A6F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18DE-6F61-401D-B1F0-6A8E06E2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BFB8-1163-4EB9-8D69-BA1029E7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F955-8B93-48AA-9F6A-F2C2C182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C9EF-57BB-4C8D-9262-0BD93E41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5E3D-0249-4EB2-9AD0-96B055E7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DBC7-5366-4CCE-8334-84D7FB4F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D704-B74E-45E1-A672-BF7022AD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FB517-6C6C-409C-9DBE-81ABB186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96A3-7A8B-42C1-B732-E93DAF28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C7EE-109A-468C-9BF9-0064D962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DACF-FDFA-4A73-B7F5-097A1E5A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5867-A262-4C12-846E-19147D58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3292-EC45-4A52-ABA5-DC571318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A763-BD31-4692-A984-9C320170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4F80-F60E-4725-A241-38BD28F6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547C2-A5BA-44AB-BDEE-A74197AA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2FB3-BA27-486A-B8B7-D2C646B6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417B-7871-493D-AB31-929D3894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711EB-993C-4779-AB0A-E5DFB3CD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F0CA-9FDC-434A-8B82-5FE5C2C7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FF7D-EF06-4497-AC10-A32A1571CF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41A1-48DA-4470-9C0C-E95872248E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Изучение загрязнения почвы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г. Чайковского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методом  качественного химического анализа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7432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Подготовил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Клементьева Татья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учащаяся 11-А класса                                                                                               МОУ Гимназ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2590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Используя универсальную индикаторную бумагу определила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рН пробы №1 -7,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рН пробы №2 – 6,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рН пробы №3 – 6,5.</a:t>
            </a:r>
            <a:r>
              <a:rPr b="1" lang="en-US" sz="4000" spc="-1" strike="noStrike">
                <a:solidFill>
                  <a:srgbClr val="dfd293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ри первом проведении качественных реакций на определение катионов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e </a:t>
            </a:r>
            <a:r>
              <a:rPr b="1" lang="ru-RU" sz="4400" spc="-1" strike="noStrike" baseline="30000">
                <a:solidFill>
                  <a:srgbClr val="ffffff"/>
                </a:solidFill>
                <a:latin typeface="Garamond"/>
              </a:rPr>
              <a:t>2+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1" lang="ru-RU" sz="4400" spc="-1" strike="noStrike" baseline="30000">
                <a:solidFill>
                  <a:srgbClr val="ffffff"/>
                </a:solidFill>
                <a:latin typeface="Garamond"/>
              </a:rPr>
              <a:t>3+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u</a:t>
            </a:r>
            <a:r>
              <a:rPr b="1" lang="ru-RU" sz="4400" spc="-1" strike="noStrike" baseline="30000">
                <a:solidFill>
                  <a:srgbClr val="ffffff"/>
                </a:solidFill>
                <a:latin typeface="Garamond"/>
              </a:rPr>
              <a:t>2+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,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b </a:t>
            </a:r>
            <a:r>
              <a:rPr b="1" lang="ru-RU" sz="4400" spc="-1" strike="noStrike" baseline="30000">
                <a:solidFill>
                  <a:srgbClr val="ffffff"/>
                </a:solidFill>
                <a:latin typeface="Garamond"/>
              </a:rPr>
              <a:t>2+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,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g </a:t>
            </a:r>
            <a:r>
              <a:rPr b="1" lang="ru-RU" sz="4400" spc="-1" strike="noStrike" baseline="30000">
                <a:solidFill>
                  <a:srgbClr val="ffffff"/>
                </a:solidFill>
                <a:latin typeface="Garamond"/>
              </a:rPr>
              <a:t>2+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и анионов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4400" spc="-1" strike="noStrike" baseline="30000">
                <a:solidFill>
                  <a:srgbClr val="ffffff"/>
                </a:solidFill>
                <a:latin typeface="Garamond"/>
              </a:rPr>
              <a:t>2-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l</a:t>
            </a:r>
            <a:r>
              <a:rPr b="1" lang="ru-RU" sz="4400" spc="-1" strike="noStrike" baseline="30000">
                <a:solidFill>
                  <a:srgbClr val="ffffff"/>
                </a:solidFill>
                <a:latin typeface="Garamond"/>
              </a:rPr>
              <a:t>-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с отфильтрованными водными почвенными вытяжками результаты реакций во всех пробах были отрицательными.</a:t>
            </a: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-90360"/>
            <a:ext cx="5756400" cy="69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Результаты химического анализа образцов почв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в концентрированных пробах</a:t>
            </a:r>
            <a:br>
              <a:rPr sz="4800"/>
            </a:br>
            <a:br>
              <a:rPr sz="4000"/>
            </a:br>
            <a:endParaRPr b="1" lang="en-US" sz="3200" spc="-1" strike="noStrike">
              <a:solidFill>
                <a:srgbClr val="dfd293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80880" y="1600200"/>
          <a:ext cx="8610840" cy="4932360"/>
        </p:xfrm>
        <a:graphic>
          <a:graphicData uri="http://schemas.openxmlformats.org/drawingml/2006/table">
            <a:tbl>
              <a:tblPr/>
              <a:tblGrid>
                <a:gridCol w="1851120"/>
                <a:gridCol w="1878120"/>
                <a:gridCol w="2065320"/>
                <a:gridCol w="2816280"/>
              </a:tblGrid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Проба №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(автотрасс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Проба №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(лесная зон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Проба №3              (детская площадк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Ионы</a:t>
                      </a: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r>
                        <a:rPr b="0" lang="en-US" sz="24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Ионы</a:t>
                      </a: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r>
                        <a:rPr b="0" lang="en-US" sz="24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Ионы  </a:t>
                      </a: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ru-RU" sz="24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после фильтрова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Ионы </a:t>
                      </a: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ru-RU" sz="24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после фильтрова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Ионы</a:t>
                      </a: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r>
                        <a:rPr b="0" lang="en-US" sz="24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Ионы </a:t>
                      </a: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ru-RU" sz="24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Ионы СО</a:t>
                      </a:r>
                      <a:r>
                        <a:rPr b="0" lang="en-US" sz="2400" spc="-1" strike="noStrike" baseline="-30000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Из результатов химического анализа следует, что химический состав почв в районе автотрассы, детской площадки и лесной зоны </a:t>
            </a:r>
            <a:br>
              <a:rPr sz="4000"/>
            </a:b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г. Чайковского различен. Обнаружено загрязнение почвы тяжелыми металлами, в частности, свинцом. Таким образом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моя гипотеза подтвердилась.</a:t>
            </a: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Выводы: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Garamond"/>
              </a:rPr>
              <a:t>1. Результаты химического анализа исследуемых образцов почвы  в целом свидетельствуют об экологическом благополучии.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4800" spc="-1" strike="noStrike">
                <a:solidFill>
                  <a:srgbClr val="ffffcc"/>
                </a:solidFill>
                <a:latin typeface="Garamond"/>
              </a:rPr>
              <a:t>. При исследовании образцов почв 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Garamond"/>
              </a:rPr>
              <a:t>г. Чайковского методами  качественного химического анализа  выявлено загрязнение почвы элементами </a:t>
            </a:r>
            <a:r>
              <a:rPr b="1" lang="en-US" sz="4800" spc="-1" strike="noStrike">
                <a:solidFill>
                  <a:srgbClr val="ffffcc"/>
                </a:solidFill>
                <a:latin typeface="Garamond"/>
              </a:rPr>
              <a:t>II</a:t>
            </a:r>
            <a:r>
              <a:rPr b="1" lang="ru-RU" sz="4800" spc="-1" strike="noStrike">
                <a:solidFill>
                  <a:srgbClr val="ffffcc"/>
                </a:solidFill>
                <a:latin typeface="Garamond"/>
              </a:rPr>
              <a:t> класса опасности (свинцом).</a:t>
            </a:r>
            <a:endParaRPr b="1" lang="en-US" sz="48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3. Необходимо шире использовать альтернативные виды топлива при эксплуатации  автомобильного транспорта.</a:t>
            </a:r>
            <a:r>
              <a:rPr b="1" lang="en-US" sz="4000" spc="-1" strike="noStrike">
                <a:solidFill>
                  <a:srgbClr val="dfd293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В 2002 году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на 55–й сессии Генеральной Ассамблеи ООН принята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Декларация Земли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(Хартия Земли)</a:t>
            </a:r>
            <a:r>
              <a:rPr b="1" lang="en-US" sz="4000" spc="-1" strike="noStrike">
                <a:solidFill>
                  <a:srgbClr val="dfd293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4. Необходимо вести постоянный контроль за химическим состоянием биосферы (мониторинг).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Garamond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5. Целесообразно проведение экологических конференций.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6.Отходы необходимо перерабатывать в экологически чистые органические и органоминеральные удобрения.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fd293"/>
                </a:solidFill>
                <a:latin typeface="Garamond"/>
              </a:rPr>
              <a:t>Спасибо </a:t>
            </a:r>
            <a:br>
              <a:rPr sz="9600"/>
            </a:br>
            <a:r>
              <a:rPr b="1" lang="en-US" sz="9600" spc="-1" strike="noStrike">
                <a:solidFill>
                  <a:srgbClr val="dfd293"/>
                </a:solidFill>
                <a:latin typeface="Garamond"/>
              </a:rPr>
              <a:t>за внимание!</a:t>
            </a:r>
            <a:endParaRPr b="1" lang="en-US" sz="96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Цель работы:</a:t>
            </a:r>
            <a:br>
              <a:rPr sz="5400"/>
            </a:b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Исследовать образцы почв города Чайковского, в том числе на наличие тяжелых металлов, и дать объективную экологическую характеристику по нескольким показателям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Garamond"/>
              </a:rPr>
              <a:t>Гипотеза:</a:t>
            </a:r>
            <a:br>
              <a:rPr sz="7200"/>
            </a:br>
            <a:endParaRPr b="1" lang="en-US" sz="72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Garamond"/>
              </a:rPr>
              <a:t>В результате деятельности человека происходит загрязнение почв города Чайковского тяжелыми металлами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Задачи: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3808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aramond"/>
              </a:rPr>
              <a:t>Изучение литературы по экологии и хими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aramond"/>
              </a:rPr>
              <a:t>Исследование отобранных почвенных проб путем проведения химического анализ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aramond"/>
              </a:rPr>
              <a:t>Сравнение полученных данных с данными литератур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aramond"/>
              </a:rPr>
              <a:t>Создание научной базы для принятия экологически целесообразных решений и их реализаци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Garamond"/>
              </a:rPr>
              <a:t>Ознакомление заинтересованных лиц с результатами исследования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Для исследования мной взяты образцы почв из различных мест города Чайковского:   автотрассы в районе автобусной остановки «Мичуринка»,  детской площадки «Гренада» в районе домов №3 и №5 по улице Карла Маркса и лесной зоны городского парка.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fd293"/>
                </a:solidFill>
                <a:latin typeface="Garamond"/>
              </a:rPr>
              <a:t>Работа носит прикладной (практический) характер</a:t>
            </a:r>
            <a:r>
              <a:rPr b="1" lang="en-US" sz="4000" spc="-1" strike="noStrike">
                <a:solidFill>
                  <a:srgbClr val="dfd293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Назначение  работы :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с помощью методов химического анализа исследовать состояние образцов почв в городе Чайковский, найти практические пути оздоровления экологической ситуации города и ознакомить с вытекающими из работы выводами заинтересованных лиц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Garamond"/>
              </a:rPr>
              <a:t>Практическая часть</a:t>
            </a:r>
            <a:endParaRPr b="1" lang="en-US" sz="72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8600" y="251460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Для исследования образцов почв г. Чайковского использовала визуальный метод,  макро- и полумикрометоды качественного химического анализа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ver</cp:lastModifiedBy>
  <dcterms:modified xsi:type="dcterms:W3CDTF">2007-11-20T12:20:4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