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BAD-259B-4B80-9A34-40671BCE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047-FFEC-4E6E-8FAF-420654D8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5AF-E5B8-4E7B-8956-95CD4012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A2C-D03A-4104-A8B8-4ECAD836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4D0E0-46EF-48A3-BFFC-09D6FAFF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0223A-DA2F-4CDF-9AFB-0FAA544A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CDC5C-D17D-4F80-8BB4-541F53AC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6085C-4774-40B2-9480-D9555A29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8FAE3-2A83-4FF9-8CFF-C84D9E0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E1903-1AAF-4A30-AC8B-D5EA1D9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DCF2A-7604-4E05-A2A2-CEEBB3A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75B-0B5D-4306-9D6C-1BD499F6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734B-42A9-481D-9A1E-376556C5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81EA5-052F-46F1-87EB-192825E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567C7-7188-4441-91EC-DA5DB4D6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C3814-A9B9-496B-B420-1492A0A4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22E7C-6ED8-4CEC-AF42-8BD38F9E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3907-9E49-41D1-9A14-D5ECD073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927B-818A-46D0-92DC-14EEBE38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6D4D-AC1B-46E1-85A4-55F39E2A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5CCE-F2F4-4A99-BE39-FF5B3CE6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0436-14ED-423F-A597-342AB6C7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33F-4BAE-4CAC-9D68-B108760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CA96-1243-4D7A-976F-58184F39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DFD5-0A29-4962-A243-68E30660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A688-3A92-4185-B08E-F9404540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92EAD-8990-4C2C-883B-C57AE356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8A68-7634-4EAB-8377-1AE9016D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DB324-E204-40A7-9D81-07D5F37F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473E-3A90-40CA-8C92-DAF71598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EF11D-B27D-4024-8EB4-CAA2ECDF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FAB62-B465-4522-84C2-F0381603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30000-6BC5-4FEA-BECE-5A48DA33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E1E-9427-4A20-A82A-B8B3AD5B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3B194-92A4-46F0-907F-0752C57C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76651-EB57-4913-9994-78D365D1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FBFFD-760A-4E7F-BE9D-65DC937D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067EC-FD0C-4202-8163-09C9D3C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43FFA4-7636-4BD5-89D8-A3B9B001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25591B-9C8C-42F7-AD55-5151086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5A959-4EC5-439E-A7C8-391410BC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CFC84-EBA6-4654-8B94-DDA649DD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76D9B-2551-413C-81D6-6CB86142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BB7-D2AF-4629-BE95-DF8E4E55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909-A018-4B58-ACE2-C556434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E98-1758-43E2-A918-7D27F121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9C1-C2E3-402D-9F4A-EC46A6E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992-5114-47E4-92DA-34231F5B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0803-CB7B-4669-B676-9F9ED1A5760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3CA-76D1-4221-AB5F-1A48B8C8BED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DD1F-FDFD-4C93-9BEE-793735F8B42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E544-BAC9-41C9-BEC5-DCF522F71EC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Ученик 9б класс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Сидоренко Дани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3" descr=""/>
          <p:cNvPicPr/>
          <p:nvPr/>
        </p:nvPicPr>
        <p:blipFill>
          <a:blip r:embed="rId1"/>
          <a:stretch/>
        </p:blipFill>
        <p:spPr>
          <a:xfrm>
            <a:off x="450720" y="706320"/>
            <a:ext cx="8321760" cy="2013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7120" y="285840"/>
            <a:ext cx="8429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№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рупный представитель отряда парнокопытных, ближайший родственник  американского биз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летний период основу пищевого рациона составляют травы и листья, а зимой почки и побеги различных древесных пород. Решите уравнения и прочитайте название этого животног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²-36=0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0;-9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²+9x=0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±6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²-2x+4=0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121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=11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1   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твет: </a:t>
            </a: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ЗУБР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7120" y="357120"/>
            <a:ext cx="84297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№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тория исчезновения странствующего голубя – один из самых жестоких и наглядных примеров, которые получил человек в отношениях с дикой природой. В  1914 году в зоопарке города Цинциннати умерла последняя странствующая голубка. Решите уравнения и прочитайте имя голуб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х²+13-7=0                 нет решений            Р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²-5х-50=0                         ±13                      Т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7х²-10х+7=0                       0;3                      А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²-160=9                           -5;10                     А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х²-6х=0                         -7;0,5                     М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твет: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МАРТ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           №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временник мамонта мускусный бык в древности обитал в северной части всей Евразии. Сегодня этот уникальный зверь сохранился лишь в Северной Америке, на северо-западе Канады. Внешним видом он напоминает большого длинношерстного барана, за что, видимо, и получил название … Решите уравнения и прочитайте название этого животного.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√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=0,8                                      ±√6                         Б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√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=10                                       18,49                        Е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√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=1,8                                      0,64                         О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√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=4,3                                      100                           В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²=6                                         ±0,3                         К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6+х²=0                                   3,24                          Ц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0,3х²=0,027                      нет решений                Ы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вет: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ОВЦЕБЫ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7120" y="357120"/>
            <a:ext cx="84297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№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 каждого народа есть свои любимые и особо почитаемые деревья. В России, конечно же, это берёза, однако у наших предков, восточных славян, святым деревом считался дуб, олицетворяющий силу и мощь. У германцев священной считалась ель, а у греков – кипарис. Алтайцы, как и многие другие народности, населяющие Сибирь, издавна почитают кормильца тайги - … Решите уравнения и прочитайте название этого раст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²=18                             ±0,2                   Р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²=0                              -1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;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7                    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х+4)²=9                       ±3√2                  К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²-0,01=0,03                  0                        Е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твет: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КЕД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3" descr=""/>
          <p:cNvPicPr/>
          <p:nvPr/>
        </p:nvPicPr>
        <p:blipFill>
          <a:blip r:embed="rId1"/>
          <a:stretch/>
        </p:blipFill>
        <p:spPr>
          <a:xfrm>
            <a:off x="517680" y="2425680"/>
            <a:ext cx="8162640" cy="1146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ово «Экология» прочно вошло в обиход. Его можно услышать по радио и в телепередачах, в разговорах на бытовую тему, прочитать в газете и журналах. Произошло это не случайно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 развитием цивилизации воздействие людей на природу становилось все более и более мощным и к концу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X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столетия приобрело планетарный характер. Природа сама уже не могла залечить раны. Первыми забили тревогу ученые, потом врачи, журналисты и политики. Слово «экология» стало модным. К сожалению, его стали употреблять к месту и не к месту, зачастую не понимая серьезности экологических пробле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7120" y="285840"/>
            <a:ext cx="84297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Цель проекта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:</a:t>
            </a: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  Познакомить людей с важными событиями и фактами из  истории экологии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92844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апреле 1986 года произошла авария на Чернобыльской АЭС. Решите устно уравнения и прочитайте на какой реке находилась АЭС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) 4х</a:t>
            </a:r>
            <a:r>
              <a:rPr b="0" lang="ru-RU" sz="26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– 16=0               16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)9х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- 14х +5=0        1; 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/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nstantia"/>
              </a:rPr>
              <a:t>9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)√х – 2=0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2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)2√х – 8=0   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2; -2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) х – (√16)</a:t>
            </a:r>
            <a:r>
              <a:rPr b="0" lang="ru-RU" sz="2600" spc="-1" strike="noStrike" baseline="30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=0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81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)2+х=0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7)2√х - 18 =0   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56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твет:  </a:t>
            </a:r>
            <a:r>
              <a:rPr b="0" lang="ru-RU" sz="3600" spc="-1" strike="noStrike">
                <a:solidFill>
                  <a:srgbClr val="344e6d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a324a"/>
                </a:solidFill>
                <a:latin typeface="Constantia"/>
              </a:rPr>
              <a:t>Припять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3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729640" cy="79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9997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шите уравнение и узнайте  в начале какого века   появилось учение о биосфер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х²-40х+400=0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30000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3600" spc="-1" strike="noStrike" baseline="30000">
                <a:solidFill>
                  <a:srgbClr val="ffffff"/>
                </a:solidFill>
                <a:latin typeface="Constantia"/>
              </a:rPr>
              <a:t>Д=40²-4·400=0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30000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х=40∕2=20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твет:  </a:t>
            </a:r>
            <a:r>
              <a:rPr b="1" lang="ru-RU" sz="3600" spc="-1" strike="noStrike">
                <a:solidFill>
                  <a:srgbClr val="0a324a"/>
                </a:solidFill>
                <a:latin typeface="Constantia"/>
              </a:rPr>
              <a:t>20 век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72440" cy="66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еке в Новой Зеландии были обнаружены останки гигантской летающей птицы. По внешнему виду она походила на огромного страус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ешив квадратное уравнение 2х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-12х-18=0, вы определите высоту этой птиц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х</a:t>
            </a:r>
            <a:r>
              <a:rPr b="0" lang="ru-RU" sz="36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-12х-18=0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Д=144-4∙2∙(-18)=0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Х=¹²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/₄=3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твет:  </a:t>
            </a:r>
            <a:r>
              <a:rPr b="1" lang="ru-RU" sz="3800" spc="-1" strike="noStrike">
                <a:solidFill>
                  <a:srgbClr val="0a324a"/>
                </a:solidFill>
                <a:latin typeface="Constantia"/>
              </a:rPr>
              <a:t>3 метра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6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7772400" cy="785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5840" y="78552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всемирной конференции Организации Объединенных Наций по окружающей среде, принявшая в Рио-де–Жанейро «Повестку дня на XXI век»- программу работ на следующее  столетие, предусматривающие гармоничное достижение двух целей: высокого качества окружающей среды и здоровой экономики для свех народов мира. Решите устно уравнения и прочитайте в каком году это было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²+4х=0              0;-4                     1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Х²-0,36=0             1                        9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√х-1=0                  9                         2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√х-3=0               ±0,6                      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твет:  </a:t>
            </a:r>
            <a:r>
              <a:rPr b="1" lang="ru-RU" sz="3600" spc="-1" strike="noStrike">
                <a:solidFill>
                  <a:srgbClr val="0a324a"/>
                </a:solidFill>
                <a:latin typeface="Constantia"/>
              </a:rPr>
              <a:t>1992 год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-6480" y="139680"/>
            <a:ext cx="7986960" cy="107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35712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№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циональный парк  Латвии «Гауя» относится к заповедникам особого типа, в которых охрана природы сочетается с интересами активного отдыха человека. В заповеднике произрастает почти пятая часть всех охраняемых в стране растений. Удивительно, что на территории заповедника есть город. Решите устно уравнения и прочитайте название этого город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²-16=0                     ±8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²-64=0                    25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-5=0                     ±4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²+7=0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9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-3=0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т решений                    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твет:  </a:t>
            </a: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ЦЕСИС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№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ители Земли проживают в условиях, где радиация    в несколько десятков раз превышает среднемировой уровень. В бразильском городке Гуарапи, где проживает примерно 12тысяч человек, уровень радиации превышает  средний уровень радиации. Решив уравнение , вы узнаете во сколько раз превышен средний радиационный уровень?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²-60X-900=0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=3600-900·4=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=60⁄2=3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твет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в 30 раз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5:00:42Z</dcterms:created>
  <dc:creator>Atomic</dc:creator>
  <dc:description/>
  <dc:language>en-US</dc:language>
  <cp:lastModifiedBy>Salomon</cp:lastModifiedBy>
  <dcterms:modified xsi:type="dcterms:W3CDTF">2009-01-22T06:26:35Z</dcterms:modified>
  <cp:revision>56</cp:revision>
  <dc:subject/>
  <dc:title>Слайд 1</dc:title>
</cp:coreProperties>
</file>