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634663" cy="76819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2F58-9389-49FE-AD1D-20EDDC83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3800" y="310680"/>
            <a:ext cx="9037440" cy="12812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ctr">
            <a:noAutofit/>
          </a:bodyPr>
          <a:p>
            <a:pPr indent="0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3800" y="1792440"/>
            <a:ext cx="903744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3800" y="4444200"/>
            <a:ext cx="903744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911A-F827-4250-BAE2-D5221739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3800" y="310680"/>
            <a:ext cx="9037440" cy="12812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ctr">
            <a:noAutofit/>
          </a:bodyPr>
          <a:p>
            <a:pPr indent="0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3800" y="1792440"/>
            <a:ext cx="441000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94840" y="1792440"/>
            <a:ext cx="441000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3800" y="4444200"/>
            <a:ext cx="441000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94840" y="4444200"/>
            <a:ext cx="441000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A088-9DCB-42F1-8FD1-F1A51154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3800" y="310680"/>
            <a:ext cx="9037440" cy="12812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ctr">
            <a:noAutofit/>
          </a:bodyPr>
          <a:p>
            <a:pPr indent="0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3800" y="1792440"/>
            <a:ext cx="290988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19480" y="1792440"/>
            <a:ext cx="290988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175160" y="1792440"/>
            <a:ext cx="290988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3800" y="4444200"/>
            <a:ext cx="290988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119480" y="4444200"/>
            <a:ext cx="290988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175160" y="4444200"/>
            <a:ext cx="290988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F62F-2174-408E-8D11-5223D0B2F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98C0-9508-443E-9C06-52578576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3800" y="310680"/>
            <a:ext cx="9037440" cy="12812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ctr">
            <a:noAutofit/>
          </a:bodyPr>
          <a:p>
            <a:pPr indent="0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3800" y="1792440"/>
            <a:ext cx="9037440" cy="50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BDBA-6F9B-44D7-BDD5-0B018B09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3800" y="310680"/>
            <a:ext cx="9037440" cy="12812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ctr">
            <a:noAutofit/>
          </a:bodyPr>
          <a:p>
            <a:pPr indent="0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3800" y="1792440"/>
            <a:ext cx="9037440" cy="5076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E304-AC3C-486A-850C-27551644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3800" y="310680"/>
            <a:ext cx="9037440" cy="12812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ctr">
            <a:noAutofit/>
          </a:bodyPr>
          <a:p>
            <a:pPr indent="0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3800" y="1792440"/>
            <a:ext cx="4410000" cy="5076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94840" y="1792440"/>
            <a:ext cx="4410000" cy="5076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3E6C-0CD4-4D8E-A997-7B4ACD27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3800" y="310680"/>
            <a:ext cx="9037440" cy="12812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ctr">
            <a:noAutofit/>
          </a:bodyPr>
          <a:p>
            <a:pPr indent="0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E3D4-D118-429E-875A-1575278E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3800" y="310680"/>
            <a:ext cx="903744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9E4F-4D0F-40FC-8438-1ABA6569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3800" y="310680"/>
            <a:ext cx="9037440" cy="12812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ctr">
            <a:noAutofit/>
          </a:bodyPr>
          <a:p>
            <a:pPr indent="0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3800" y="1792440"/>
            <a:ext cx="441000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4840" y="1792440"/>
            <a:ext cx="4410000" cy="5076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3800" y="4444200"/>
            <a:ext cx="441000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0828-FC6D-4423-988B-AFAD7C33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3800" y="310680"/>
            <a:ext cx="9037440" cy="12812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ctr">
            <a:noAutofit/>
          </a:bodyPr>
          <a:p>
            <a:pPr indent="0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3800" y="1792440"/>
            <a:ext cx="9037440" cy="50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DB5C-294F-43C5-9349-5198C2FF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3800" y="310680"/>
            <a:ext cx="9037440" cy="12812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ctr">
            <a:noAutofit/>
          </a:bodyPr>
          <a:p>
            <a:pPr indent="0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3800" y="1792440"/>
            <a:ext cx="4410000" cy="5076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94840" y="1792440"/>
            <a:ext cx="441000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4840" y="4444200"/>
            <a:ext cx="441000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B28F-213F-468E-AE53-86706D45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3800" y="310680"/>
            <a:ext cx="9037440" cy="12812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ctr">
            <a:noAutofit/>
          </a:bodyPr>
          <a:p>
            <a:pPr indent="0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3800" y="1792440"/>
            <a:ext cx="441000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694840" y="1792440"/>
            <a:ext cx="441000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3800" y="4444200"/>
            <a:ext cx="903744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A9D4-7391-406E-B4A6-8630CBF6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3800" y="310680"/>
            <a:ext cx="9037440" cy="12812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ctr">
            <a:noAutofit/>
          </a:bodyPr>
          <a:p>
            <a:pPr indent="0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3800" y="1792440"/>
            <a:ext cx="903744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3800" y="4444200"/>
            <a:ext cx="903744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86A9-FAC7-4BA5-B245-74325231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3800" y="310680"/>
            <a:ext cx="9037440" cy="12812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ctr">
            <a:noAutofit/>
          </a:bodyPr>
          <a:p>
            <a:pPr indent="0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3800" y="1792440"/>
            <a:ext cx="441000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694840" y="1792440"/>
            <a:ext cx="441000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3800" y="4444200"/>
            <a:ext cx="441000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694840" y="4444200"/>
            <a:ext cx="441000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633E-92F6-49FC-8820-E6C69BCB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3800" y="310680"/>
            <a:ext cx="9037440" cy="12812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ctr">
            <a:noAutofit/>
          </a:bodyPr>
          <a:p>
            <a:pPr indent="0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3800" y="1792440"/>
            <a:ext cx="290988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119480" y="1792440"/>
            <a:ext cx="290988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175160" y="1792440"/>
            <a:ext cx="290988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3800" y="4444200"/>
            <a:ext cx="290988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119480" y="4444200"/>
            <a:ext cx="290988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7175160" y="4444200"/>
            <a:ext cx="290988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C13C-A14B-413B-A5D7-155F4E62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3800" y="310680"/>
            <a:ext cx="9037440" cy="12812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ctr">
            <a:noAutofit/>
          </a:bodyPr>
          <a:p>
            <a:pPr indent="0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3800" y="1792440"/>
            <a:ext cx="9037440" cy="5076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7F45-325B-43DC-849A-EC3EFFCC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3800" y="310680"/>
            <a:ext cx="9037440" cy="12812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ctr">
            <a:noAutofit/>
          </a:bodyPr>
          <a:p>
            <a:pPr indent="0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3800" y="1792440"/>
            <a:ext cx="4410000" cy="5076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94840" y="1792440"/>
            <a:ext cx="4410000" cy="5076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DB01-4569-40D9-B1C6-8C639F39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3800" y="310680"/>
            <a:ext cx="9037440" cy="12812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ctr">
            <a:noAutofit/>
          </a:bodyPr>
          <a:p>
            <a:pPr indent="0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3721-5495-40CB-A0E9-27976F37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3800" y="310680"/>
            <a:ext cx="903744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17F0-EF0B-4352-94D1-10536F06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3800" y="310680"/>
            <a:ext cx="9037440" cy="12812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ctr">
            <a:noAutofit/>
          </a:bodyPr>
          <a:p>
            <a:pPr indent="0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3800" y="1792440"/>
            <a:ext cx="441000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94840" y="1792440"/>
            <a:ext cx="4410000" cy="5076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3800" y="4444200"/>
            <a:ext cx="441000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502B-5869-4D06-B745-28B31D23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3800" y="310680"/>
            <a:ext cx="9037440" cy="12812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ctr">
            <a:noAutofit/>
          </a:bodyPr>
          <a:p>
            <a:pPr indent="0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3800" y="1792440"/>
            <a:ext cx="4410000" cy="5076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94840" y="1792440"/>
            <a:ext cx="441000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94840" y="4444200"/>
            <a:ext cx="441000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990B-5725-4E9B-B48C-3D39BE5A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3800" y="310680"/>
            <a:ext cx="9037440" cy="12812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ctr">
            <a:noAutofit/>
          </a:bodyPr>
          <a:p>
            <a:pPr indent="0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3800" y="1792440"/>
            <a:ext cx="441000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94840" y="1792440"/>
            <a:ext cx="441000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3800" y="4444200"/>
            <a:ext cx="9037440" cy="24213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00C6-03E8-45CB-B500-39CBFCC9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100520" cy="5463720"/>
            <a:chOff x="0" y="0"/>
            <a:chExt cx="10100520" cy="54637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08480" cy="54637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200" bIns="52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46160"/>
                  <a:tab algn="l" pos="2092320"/>
                  <a:tab algn="l" pos="3138480"/>
                  <a:tab algn="l" pos="4184640"/>
                  <a:tab algn="l" pos="5230800"/>
                  <a:tab algn="l" pos="6276960"/>
                  <a:tab algn="l" pos="7323120"/>
                  <a:tab algn="l" pos="8369280"/>
                  <a:tab algn="l" pos="9415440"/>
                  <a:tab algn="l" pos="10461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42800" y="1588320"/>
              <a:ext cx="9657720" cy="204120"/>
              <a:chOff x="442800" y="1588320"/>
              <a:chExt cx="9657720" cy="204120"/>
            </a:xfrm>
          </p:grpSpPr>
          <p:sp>
            <p:nvSpPr>
              <p:cNvPr id="3" name=""/>
              <p:cNvSpPr/>
              <p:nvPr/>
            </p:nvSpPr>
            <p:spPr>
              <a:xfrm>
                <a:off x="7974000" y="1588320"/>
                <a:ext cx="2126160" cy="2041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4760" rIns="104760" tIns="52200" bIns="52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46160"/>
                    <a:tab algn="l" pos="2092320"/>
                    <a:tab algn="l" pos="3138480"/>
                    <a:tab algn="l" pos="4184640"/>
                    <a:tab algn="l" pos="5230800"/>
                    <a:tab algn="l" pos="6276960"/>
                    <a:tab algn="l" pos="7323120"/>
                    <a:tab algn="l" pos="8369280"/>
                    <a:tab algn="l" pos="9415440"/>
                    <a:tab algn="l" pos="104616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42800" y="1673640"/>
                <a:ext cx="96577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3800" y="310680"/>
            <a:ext cx="9037440" cy="12812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ctr">
            <a:noAutofit/>
          </a:bodyPr>
          <a:p>
            <a:pPr indent="0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063800" y="1792440"/>
            <a:ext cx="9037440" cy="5076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marL="392040" indent="-392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272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8240" indent="-26208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32040" indent="-262080">
              <a:spcBef>
                <a:spcPts val="7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54400" indent="-260640">
              <a:spcBef>
                <a:spcPts val="7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54400" indent="-260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54400" indent="-260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1063800" y="7004160"/>
            <a:ext cx="2303280" cy="5126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Autofit/>
          </a:bodyPr>
          <a:lstStyle>
            <a:lvl1pPr marL="216000" indent="0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898800" y="7000920"/>
            <a:ext cx="3456000" cy="511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Autofit/>
          </a:bodyPr>
          <a:lstStyle>
            <a:lvl1pPr marL="216000" indent="0" algn="ct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886520" y="7000920"/>
            <a:ext cx="2214360" cy="511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Autofit/>
          </a:bodyPr>
          <a:lstStyle>
            <a:lvl1pPr marL="216000" indent="0" algn="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fld id="{E875E8EB-13D1-4A52-AC7B-3A1C91E4B67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5464080"/>
            <a:ext cx="70956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10189440" cy="6658560"/>
            <a:chOff x="0" y="0"/>
            <a:chExt cx="10189440" cy="66585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2037600" cy="5464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200" bIns="52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46160"/>
                  <a:tab algn="l" pos="2092320"/>
                  <a:tab algn="l" pos="3138480"/>
                  <a:tab algn="l" pos="4184640"/>
                  <a:tab algn="l" pos="5230800"/>
                  <a:tab algn="l" pos="6276960"/>
                  <a:tab algn="l" pos="7323120"/>
                  <a:tab algn="l" pos="8369280"/>
                  <a:tab algn="l" pos="9415440"/>
                  <a:tab algn="l" pos="10461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927240"/>
              <a:ext cx="10189440" cy="2731320"/>
              <a:chOff x="0" y="3927240"/>
              <a:chExt cx="10189440" cy="2731320"/>
            </a:xfrm>
          </p:grpSpPr>
          <p:sp>
            <p:nvSpPr>
              <p:cNvPr id="50" name=""/>
              <p:cNvSpPr/>
              <p:nvPr/>
            </p:nvSpPr>
            <p:spPr>
              <a:xfrm>
                <a:off x="1152000" y="3927240"/>
                <a:ext cx="9037440" cy="273132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4760" rIns="104760" tIns="52200" bIns="52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46160"/>
                    <a:tab algn="l" pos="2092320"/>
                    <a:tab algn="l" pos="3138480"/>
                    <a:tab algn="l" pos="4184640"/>
                    <a:tab algn="l" pos="5230800"/>
                    <a:tab algn="l" pos="6276960"/>
                    <a:tab algn="l" pos="7323120"/>
                    <a:tab algn="l" pos="8369280"/>
                    <a:tab algn="l" pos="9415440"/>
                    <a:tab algn="l" pos="104616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207080" y="4183200"/>
                <a:ext cx="8893440" cy="239544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4760" rIns="104760" tIns="52200" bIns="52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46160"/>
                    <a:tab algn="l" pos="2092320"/>
                    <a:tab algn="l" pos="3138480"/>
                    <a:tab algn="l" pos="4184640"/>
                    <a:tab algn="l" pos="5230800"/>
                    <a:tab algn="l" pos="6276960"/>
                    <a:tab algn="l" pos="7323120"/>
                    <a:tab algn="l" pos="8369280"/>
                    <a:tab algn="l" pos="9415440"/>
                    <a:tab algn="l" pos="104616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5463720"/>
                <a:ext cx="115200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738360" y="597600"/>
              <a:ext cx="9392040" cy="340560"/>
              <a:chOff x="738360" y="597600"/>
              <a:chExt cx="9392040" cy="340560"/>
            </a:xfrm>
          </p:grpSpPr>
          <p:sp>
            <p:nvSpPr>
              <p:cNvPr id="54" name=""/>
              <p:cNvSpPr/>
              <p:nvPr/>
            </p:nvSpPr>
            <p:spPr>
              <a:xfrm>
                <a:off x="7295040" y="597600"/>
                <a:ext cx="2835360" cy="340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4760" rIns="104760" tIns="52200" bIns="52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46160"/>
                    <a:tab algn="l" pos="2092320"/>
                    <a:tab algn="l" pos="3138480"/>
                    <a:tab algn="l" pos="4184640"/>
                    <a:tab algn="l" pos="5230800"/>
                    <a:tab algn="l" pos="6276960"/>
                    <a:tab algn="l" pos="7323120"/>
                    <a:tab algn="l" pos="8369280"/>
                    <a:tab algn="l" pos="9415440"/>
                    <a:tab algn="l" pos="104616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38360" y="767880"/>
                <a:ext cx="939204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92200" y="1281240"/>
            <a:ext cx="7709040" cy="24746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ctr">
            <a:noAutofit/>
          </a:bodyPr>
          <a:p>
            <a:pPr indent="0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55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1062000" y="7004160"/>
            <a:ext cx="2214720" cy="5126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Autofit/>
          </a:bodyPr>
          <a:lstStyle>
            <a:lvl1pPr marL="216000" indent="0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900240" y="7000920"/>
            <a:ext cx="3367080" cy="511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Autofit/>
          </a:bodyPr>
          <a:lstStyle>
            <a:lvl1pPr marL="216000" indent="0" algn="ct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7886520" y="7000920"/>
            <a:ext cx="2214360" cy="511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Autofit/>
          </a:bodyPr>
          <a:lstStyle>
            <a:lvl1pPr marL="216000" indent="0" algn="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fld id="{7CDFFA92-BEA1-417F-ADB1-D784088EC6A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531720" y="1797480"/>
            <a:ext cx="9570600" cy="445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0" algn="ctr">
              <a:spcBef>
                <a:spcPts val="751"/>
              </a:spcBef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46160" algn="ctr">
              <a:spcBef>
                <a:spcPts val="64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9960" algn="ctr">
              <a:spcBef>
                <a:spcPts val="575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093760" algn="ctr">
              <a:spcBef>
                <a:spcPts val="575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093760">
              <a:spcBef>
                <a:spcPts val="5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093760">
              <a:spcBef>
                <a:spcPts val="5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20840" y="1248840"/>
            <a:ext cx="8097840" cy="24750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6000" spc="-1" strike="noStrike">
                <a:solidFill>
                  <a:srgbClr val="330033"/>
                </a:solidFill>
                <a:latin typeface="Comic Sans MS"/>
              </a:rPr>
              <a:t>Владимир Высоцкий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595520" y="4438440"/>
            <a:ext cx="7974000" cy="17938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 кино и на экр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96480" y="385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5603760" cy="76834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18" name=""/>
          <p:cNvSpPr/>
          <p:nvPr/>
        </p:nvSpPr>
        <p:spPr>
          <a:xfrm>
            <a:off x="5603760" y="1754280"/>
            <a:ext cx="4753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енькие трагеди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«Мосфильм» по заказ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стелерадио СССР, 1979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жиссёр М. Швейц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н Гуан – В. Высоц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8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5819760" cy="76834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20" name=""/>
          <p:cNvSpPr/>
          <p:nvPr/>
        </p:nvSpPr>
        <p:spPr>
          <a:xfrm>
            <a:off x="5964120" y="1897200"/>
            <a:ext cx="4537080" cy="30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о встречи изменить                             нельз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десская киностудия по заказу Гостелерадио СССР, 1979 г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ежиссёр С. Говорухи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Жеглов – В. Высоцк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8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8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8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63400" y="241200"/>
            <a:ext cx="4802400" cy="7081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460840" y="1969560"/>
            <a:ext cx="4910400" cy="15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5 июля 1980 года, в 4:10 утра, Высоцкий скончался во сне в своей московской квартир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76120" y="385920"/>
            <a:ext cx="10080720" cy="6984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200" bIns="52200" anchor="t">
            <a:norm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Владимир Высоцкий прожил сорок два с половиной года – ровно день в день. Кто-то из его поклонников подсчитал, что составило это 15520 дне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Какая это скорбная арифметика, какая грустная статистика! Как удручающе мал срок жизни художника… ведь их возраст нельзя измерить анкетной хронологией – их жизненный срок имеет другую насыщенность, каждый прожитый ими день имеет другой удельный вес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Вместили же эти немногочисленные , в общем-то, дни сотни написанных стихотворений, тысячу песен, десятки сыгранных ролей в театре и в кино, бессчетные концерты и выступ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2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4" nodeType="afterEffect" fill="hold" presetClass="entr" presetID="25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52480" y="1969920"/>
            <a:ext cx="9001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втор презентаций: Малый Артур, ученик 9 класса «Б» МОУ СОШ №15 станицы Роговской Тимашевского района Краснодарского к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уководитель: Гайдарова Хадижат Гайдаровна,  учитель информатики МОУ СОШ №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дрес школы: Краснодарский край, Тимашевский район, станица Роговская, ул. Длинная, 5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лефон 8-86130-66437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-mail: school15@tim.kubannet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" descr=""/>
          <p:cNvPicPr/>
          <p:nvPr/>
        </p:nvPicPr>
        <p:blipFill>
          <a:blip r:embed="rId1"/>
          <a:stretch/>
        </p:blipFill>
        <p:spPr>
          <a:xfrm>
            <a:off x="203040" y="385920"/>
            <a:ext cx="5400720" cy="71024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01" name=""/>
          <p:cNvSpPr/>
          <p:nvPr/>
        </p:nvSpPr>
        <p:spPr>
          <a:xfrm flipV="1" rot="10783200">
            <a:off x="5603400" y="1680480"/>
            <a:ext cx="4753080" cy="36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целью своего творчества – и в кино, и в театре, и в песне – ставлю человеческое волнение. Только оно может помочь духовному совершенств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ладимир Высоц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" descr=""/>
          <p:cNvPicPr/>
          <p:nvPr/>
        </p:nvPicPr>
        <p:blipFill>
          <a:blip r:embed="rId1"/>
          <a:stretch/>
        </p:blipFill>
        <p:spPr>
          <a:xfrm>
            <a:off x="563400" y="312840"/>
            <a:ext cx="5113440" cy="6850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03" name=""/>
          <p:cNvSpPr/>
          <p:nvPr/>
        </p:nvSpPr>
        <p:spPr>
          <a:xfrm>
            <a:off x="5748480" y="1608480"/>
            <a:ext cx="4608360" cy="15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ладимир Высоцкий родился 25 января 1938 года в Моск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6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" descr=""/>
          <p:cNvPicPr/>
          <p:nvPr/>
        </p:nvPicPr>
        <p:blipFill>
          <a:blip r:embed="rId1"/>
          <a:stretch/>
        </p:blipFill>
        <p:spPr>
          <a:xfrm>
            <a:off x="708120" y="817560"/>
            <a:ext cx="8366040" cy="59292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05" name=""/>
          <p:cNvSpPr/>
          <p:nvPr/>
        </p:nvSpPr>
        <p:spPr>
          <a:xfrm>
            <a:off x="708120" y="241200"/>
            <a:ext cx="90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ЕРТИК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010280"/>
            <a:ext cx="10632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Одесская киностудия, 1967г. Режиссёры С. Говорухин, Б. Дуров,  Радист – В. Высоцкий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" descr=""/>
          <p:cNvPicPr/>
          <p:nvPr/>
        </p:nvPicPr>
        <p:blipFill>
          <a:blip r:embed="rId1"/>
          <a:stretch/>
        </p:blipFill>
        <p:spPr>
          <a:xfrm>
            <a:off x="563400" y="1465200"/>
            <a:ext cx="9577440" cy="60022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08" name=""/>
          <p:cNvSpPr/>
          <p:nvPr/>
        </p:nvSpPr>
        <p:spPr>
          <a:xfrm>
            <a:off x="762120" y="241200"/>
            <a:ext cx="421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ЛУЖИЛИ ДВА ТОВАРИЩ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Мосфильм», 196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русенцов – В. Высоц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5748480" cy="76834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10" name=""/>
          <p:cNvSpPr/>
          <p:nvPr/>
        </p:nvSpPr>
        <p:spPr>
          <a:xfrm>
            <a:off x="5892840" y="2185920"/>
            <a:ext cx="4464000" cy="24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ОХОЙ ХОРОШИЙ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«Ленфильм», 1973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Режиссёр И. Хейфи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Фон Корен – В. Высоцк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5603760" cy="76834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12" name=""/>
          <p:cNvSpPr/>
          <p:nvPr/>
        </p:nvSpPr>
        <p:spPr>
          <a:xfrm>
            <a:off x="5603760" y="1681200"/>
            <a:ext cx="518472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каз про то, как царь Пётр арапа жени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«Мосфильм», 1976г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Режиссёр А. Митт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Ибрагим Ганнибал – В. Высоцки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5821200" cy="76834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14" name=""/>
          <p:cNvSpPr/>
          <p:nvPr/>
        </p:nvSpPr>
        <p:spPr>
          <a:xfrm>
            <a:off x="5821200" y="1897200"/>
            <a:ext cx="4608720" cy="29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тервен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Ленфильм» 1968г. (восстановлен в 1987г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Режиссёр Г. Полок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Воронов – В. Высоцки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8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8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5676840" cy="76834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16" name=""/>
          <p:cNvSpPr/>
          <p:nvPr/>
        </p:nvSpPr>
        <p:spPr>
          <a:xfrm>
            <a:off x="5676840" y="1681200"/>
            <a:ext cx="511344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динственная дорог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Мосфильм» (СССР), Филмски Студио Титоград (СФРЮ), 1976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жиссёр В. Павл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лодов – В. Высоц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8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8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8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2:53:44Z</dcterms:created>
  <dc:creator>Учитель</dc:creator>
  <dc:description/>
  <dc:language>en-US</dc:language>
  <cp:lastModifiedBy>Учитель</cp:lastModifiedBy>
  <dcterms:modified xsi:type="dcterms:W3CDTF">2008-05-27T14:36:36Z</dcterms:modified>
  <cp:revision>9</cp:revision>
  <dc:subject/>
  <dc:title>Слайд 1</dc:title>
</cp:coreProperties>
</file>